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957-5840-4289-9B43-D172EF99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2C4-385A-4EF6-8496-52AAB57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541-5657-490D-B1A8-991334C3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015-8869-4D82-AAB7-8AE8E5CE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D6E6-F403-40B0-B4EA-77BFC046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5B6-9945-4F8D-91A1-076C0E6F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A9FD-AE08-4CDB-902A-6D447FC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9524-5C74-4D00-9377-E7B103AB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5482-9AB4-4911-84FA-EE388E9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F53-BB28-4A08-BF19-9401589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0517-5041-4901-A1F7-CB945F3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833-E8E7-4803-AE9E-51A0ADA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50F9-9683-46BF-A2CE-ABFFD08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5E34-8200-44BF-989F-EAE3E86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F3B0-CEA8-471C-B6C0-4D190547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7FBE-08FC-45CE-8F27-AF598A84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654-5B4E-47D6-AAEC-FCFC917F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A35A-4A18-42BD-B774-8C647947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B638-057F-42B4-8076-DC38C9EF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1D4E-8D91-469C-B9C8-452FD825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508E-C740-4640-BA08-52613E6C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BB76-DD61-4202-A814-8FBD4020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BA6-CF0A-4DF9-A74A-B2BDEB5D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1E9A-4993-416A-B0D1-E0B573BB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3994-9AFE-415D-84AE-A4B3CC3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67C5-87A5-4149-828D-FEBA5C3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BD64-26DE-4D21-A8D4-53857A2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B60D-A6C6-4B59-BEDD-A60984E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6A88-75F1-47FC-B8C4-684B1E46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CE51-C353-4171-AD79-5FC5DBD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2B73-E20D-4E7C-9A13-1EC92DC5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C0AF-35D2-4169-B036-07A994B8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D602-546B-445B-8F94-9D0ADF44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DBB-3AF4-47E0-8671-FBDAB80C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AB3F-D8D1-4E12-9F4B-D67390C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DC47-7A30-49CD-90B1-3F9B736F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CFFB-AB3E-40EC-BDDD-E40AEE0B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5A4E-872D-4090-AEAA-7D16E6B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034D-F659-4457-9E17-5C40313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CC18E-F537-41A1-887A-5AABFB7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EAE2-FD1B-4F57-BA66-2D33ABAC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B1D1-4336-4C39-82B2-D997F938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E6C0-4393-43CE-BCAC-6340F52C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2D183-1A09-4C89-AB72-4D03BAA6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7CC-1817-4DFC-B555-F9DCB7ED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5F9A-48CF-48C5-A2EA-49E6719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F0C4-548E-4148-B3A0-5E9D3DA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48FC-2F2A-4102-9DCE-555E52D3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186B-0DFA-40D6-98D2-3B2E028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EDC7-3E56-4ABC-A4C0-F5112A3B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6AA1-EDB0-4355-9BE6-CCF81AD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63E2-BFDF-46EF-A9DA-89D0DF2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526B-1525-47CE-9A67-1A73E69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B34A-F394-4C7B-BE08-B88CC89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67214-CE29-4D62-BE54-91AF3624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6B6-3628-4136-8088-5CC3406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557E-78BA-4128-AD10-80EA4031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B24-280D-41BD-88D8-9FBD7C77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75E-3D0A-4D47-991C-4E9A7A59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BF6-9956-4AEB-9F28-EA145E1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9E0-299A-437D-86DA-870BEB3AA7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416C-7B7B-49E2-9DA7-8A1E7CCCF9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02B-871B-422E-9117-6D8CAAB018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0C4A-045F-48F3-9157-DA7E4D870C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A34-89AF-47B0-B42B-DFC4098289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hyperlink" Target="file:///&#1088;&#1072;&#1079;&#1088;&#1072;&#1073;&#1086;&#1090;&#1082;&#1080;%20&#1091;&#1088;&#1086;&#1082;&#1086;&#1074;/&#1091;&#1088;&#1086;&#1082;&#1080;%20&#1055;&#1086;&#1087;&#1086;&#1074;&#1086;&#1081;%20&#1042;.%20&#1053;/&#1059;&#1088;&#1086;&#1082;%20&#1072;&#1091;&#1082;&#1094;&#1080;&#1086;&#1085;.doc" TargetMode="External"/><Relationship Id="rId7" Type="http://schemas.openxmlformats.org/officeDocument/2006/relationships/hyperlink" Target="file:///&#1088;&#1072;&#1079;&#1088;&#1072;&#1073;&#1086;&#1090;&#1082;&#1080;%20&#1091;&#1088;&#1086;&#1082;&#1086;&#1074;/&#1091;&#1088;&#1086;&#1082;&#1080;%20&#1055;&#1086;&#1087;&#1086;&#1074;&#1086;&#1081;%20&#1042;.%20&#1053;/&#1091;&#1088;&#1086;&#1082;%20&#1101;&#1082;&#1089;&#1091;&#1088;&#1089;&#1080;&#1103;" TargetMode="External"/><Relationship Id="rId8" Type="http://schemas.openxmlformats.org/officeDocument/2006/relationships/hyperlink" Target="file:///&#1088;&#1072;&#1079;&#1088;&#1072;&#1073;&#1086;&#1090;&#1082;&#1080;%20&#1091;&#1088;&#1086;&#1082;&#1086;&#1074;/&#1091;&#1088;&#1086;&#1082;&#1080;%20&#1045;&#1088;&#1077;&#1084;&#1077;&#1077;&#1074;&#1086;&#1081;%20&#1042;.%20&#1040;/&#1091;&#1088;&#1086;&#1082;%20&#1084;&#1072;&#1090;&#1077;&#1084;&#1072;&#1090;&#1080;&#1082;&#1080;%20&#1074;%206%20&#1082;&#1083;&#1072;&#1089;&#1089;&#1077;%20&#1045;&#1088;&#1077;&#1084;&#1077;&#1077;&#1074;&#1086;&#1081;%20&#1042;.&#1040;..ppt" TargetMode="External"/><Relationship Id="rId9" Type="http://schemas.openxmlformats.org/officeDocument/2006/relationships/hyperlink" Target="file:///&#1088;&#1072;&#1079;&#1088;&#1072;&#1073;&#1086;&#1090;&#1082;&#1080;%20&#1091;&#1088;&#1086;&#1082;&#1086;&#1074;/&#1091;&#1088;&#1086;&#1082;&#1080;%20&#1055;&#1086;&#1087;&#1086;&#1074;&#1086;&#1081;%20&#1042;.%20&#1053;/&#1087;&#1088;&#1077;&#1079;&#1077;&#1085;&#1090;&#1072;&#1094;&#1080;&#1103;%20&#1088;&#1072;&#1079;&#1088;&#1072;&#1073;&#1086;&#1090;&#1082;&#1080;%20&#1055;&#1086;&#1087;&#1086;&#1074;&#1086;&#1081;%20&#1042;.%20&#1053;.%20&#1076;&#1083;&#1103;%20&#1082;&#1086;&#1085;&#1082;&#1091;&#1088;&#1089;&#1072;%20&#1087;&#1088;&#1077;&#1079;&#1077;&#1085;&#1090;&#1072;&#1094;&#1080;&#1081;%20&#1082;%20&#1091;&#1088;&#1086;&#1082;&#1091;.pptx" TargetMode="External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file:///&#1091;&#1095;&#1072;&#1089;&#1090;&#1080;&#1077;%20&#1074;%20&#1053;&#1055;&#1050;/&#1055;&#1088;&#1077;&#1079;&#1077;&#1085;&#1090;&#1072;&#1094;&#1080;&#1103;%20&#1057;&#1090;&#1072;&#1090;&#1080;&#1089;&#1090;&#1080;&#1082;&#1072;%20&#1074;%20&#1085;&#1072;&#1096;&#1077;&#1081;%20&#1096;&#1082;&#1086;&#1083;&#1077;.ppt" TargetMode="External"/><Relationship Id="rId3" Type="http://schemas.openxmlformats.org/officeDocument/2006/relationships/hyperlink" Target="file:///&#1091;&#1095;&#1072;&#1089;&#1090;&#1080;&#1077;%20&#1074;%20&#1053;&#1055;&#1050;/&#1055;&#1088;&#1077;&#1079;&#1077;&#1085;&#1090;&#1072;&#1094;&#1080;&#1103;%20&#1055;&#1042;&#1040;.pptx" TargetMode="External"/><Relationship Id="rId4" Type="http://schemas.openxmlformats.org/officeDocument/2006/relationships/hyperlink" Target="file:///&#1091;&#1095;&#1072;&#1089;&#1090;&#1080;&#1077;%20&#1074;%20&#1053;&#1055;&#1050;/&#1087;&#1088;&#1077;&#1079;&#1077;&#1085;&#1090;&#1072;&#1094;&#1080;&#1103;%20&#1069;&#1092;&#1092;&#1077;&#1082;&#1090;&#1080;&#1074;&#1085;&#1086;&#1089;&#1090;&#1100;%20&#1087;&#1088;&#1077;&#1076;&#1087;&#1088;&#1080;&#1085;&#1080;&#1084;&#1072;&#1090;&#1077;&#1083;&#1100;&#1089;&#1082;&#1086;&#1081;%20&#1076;&#1103;&#1077;&#1090;&#1077;&#1083;&#1100;&#1085;&#1086;&#1089;&#1090;&#1080;%20&#1082;&#1092;&#1093;%20&#1041;&#1086;&#1081;&#1091;&#1086;&#1090;.ppt" TargetMode="External"/><Relationship Id="rId5" Type="http://schemas.openxmlformats.org/officeDocument/2006/relationships/hyperlink" Target="file:///&#1091;&#1095;&#1072;&#1089;&#1090;&#1080;&#1077;%20&#1074;%20&#1053;&#1055;&#1050;/&#1071;&#1082;&#1091;&#1090;&#1089;&#1082;&#1080;&#1077;%20&#1083;&#1086;&#1096;&#1072;&#1076;&#1080;%20&#1080;%20&#1080;&#1093;%20&#1088;&#1086;&#1083;&#1100;%20&#1074;%20&#1089;&#1077;&#1083;&#1100;&#1089;&#1082;&#1086;&#1084;%20&#1093;&#1086;&#1079;&#1103;&#1081;&#1089;&#1090;&#1074;&#1077;.pptx" TargetMode="External"/><Relationship Id="rId6" Type="http://schemas.openxmlformats.org/officeDocument/2006/relationships/hyperlink" Target="file:///&#1091;&#1095;&#1072;&#1089;&#1090;&#1080;&#1077;%20&#1074;%20&#1053;&#1055;&#1050;/&#1055;&#1088;&#1077;&#1079;&#1077;&#1085;&#1090;&#1072;&#1094;&#1080;&#1103;%20&#1042;&#1083;&#1080;&#1103;&#1085;&#1080;&#1077;%20&#1074;&#1077;&#1095;&#1085;&#1086;&#1081;%20&#1084;&#1077;&#1088;&#1079;&#1083;&#1086;&#1090;&#1099;%20&#1088;&#1072;&#1073;&#1086;&#1090;&#1072;%20&#1091;&#1095;&#1077;&#1085;&#1080;&#1082;&#1072;%207%20&#1082;&#1083;%20&#1052;&#1041;&#1054;&#1059;%20&#1040;&#1073;&#1072;&#1075;&#1080;&#1085;&#1089;&#1082;&#1072;&#1103;%20&#1057;&#1054;&#1064;%20&#1040;&#1084;&#1075;&#1080;&#1085;&#1089;&#1082;&#1086;&#1075;&#1086;%20&#1091;&#1083;&#1091;&#1089;&#1072;%20&#1040;&#1090;&#1083;&#1072;&#1089;&#1086;&#1074;&#1072;%20&#1040;&#1085;&#1090;&#1086;&#1085;&#1072;.pptx" TargetMode="External"/><Relationship Id="rId7" Type="http://schemas.openxmlformats.org/officeDocument/2006/relationships/hyperlink" Target="file:///&#1091;&#1095;&#1072;&#1089;&#1090;&#1080;&#1077;%20&#1074;%20&#1053;&#1055;&#1050;/&#1087;&#1088;&#1077;&#1079;&#1077;&#1085;&#1090;&#1072;&#1094;&#1080;&#1103;%20&#1046;&#1080;&#1074;&#1086;&#1090;&#1085;&#1099;&#1081;%20&#1084;&#1080;&#1088;%20&#1040;&#1084;&#1075;&#1080;&#1085;&#1089;&#1082;&#1086;&#1075;&#1086;%20&#1091;&#1083;&#1091;&#1089;&#1072;.ppt" TargetMode="External"/><Relationship Id="rId8" Type="http://schemas.openxmlformats.org/officeDocument/2006/relationships/hyperlink" Target="file:///&#1091;&#1095;&#1072;&#1089;&#1090;&#1080;&#1077;%20&#1074;%20&#1053;&#1055;&#1050;/&#1041;&#1080;&#1079;&#1085;&#1077;&#1089;%20&#1087;&#1083;&#1072;&#1085;%20&#1082;&#1092;&#1093;%20&#171;&#1069;&#1056;&#1069;&#1051;&#187;%202003%20&#1057;%20&#1057;&#1077;&#1088;&#1075;&#1077;&#1081;.ppt" TargetMode="External"/><Relationship Id="rId9" Type="http://schemas.openxmlformats.org/officeDocument/2006/relationships/hyperlink" Target="file:///&#1091;&#1095;&#1072;&#1089;&#1090;&#1080;&#1077;%20&#1074;%20&#1053;&#1055;&#1050;/2%20&#1073;&#1080;&#1079;&#1085;&#1077;&#1089;%20&#1087;&#1088;&#1086;&#1077;&#1082;&#1090;%20&#1041;&#1077;&#1083;&#1099;&#1081;%20&#1052;&#1072;&#1084;&#1086;&#1085;&#1090;%20.ppt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оставил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МБОУ «Абагинская СОШ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опова Виктория Николаев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 в агрошкол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Admin\Desktop\кондратьевские чтения 2021\осипов.jpg"/>
          <p:cNvPicPr/>
          <p:nvPr/>
        </p:nvPicPr>
        <p:blipFill>
          <a:blip r:embed="rId1"/>
          <a:stretch/>
        </p:blipFill>
        <p:spPr>
          <a:xfrm>
            <a:off x="5367240" y="81000"/>
            <a:ext cx="3684600" cy="2622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Admin\Desktop\кондратьевские чтения 2021\настя.jpg"/>
          <p:cNvPicPr/>
          <p:nvPr/>
        </p:nvPicPr>
        <p:blipFill>
          <a:blip r:embed="rId2"/>
          <a:stretch/>
        </p:blipFill>
        <p:spPr>
          <a:xfrm>
            <a:off x="22320" y="3716280"/>
            <a:ext cx="3703680" cy="278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Admin\Desktop\кондратьевские чтения 2021\вика саша.jpg"/>
          <p:cNvPicPr/>
          <p:nvPr/>
        </p:nvPicPr>
        <p:blipFill>
          <a:blip r:embed="rId3"/>
          <a:stretch/>
        </p:blipFill>
        <p:spPr>
          <a:xfrm>
            <a:off x="22320" y="-1440"/>
            <a:ext cx="3686040" cy="2787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Users\Admin\Desktop\кондратьевские чтения 2021\процент.jpg"/>
          <p:cNvPicPr/>
          <p:nvPr/>
        </p:nvPicPr>
        <p:blipFill>
          <a:blip r:embed="rId4"/>
          <a:stretch/>
        </p:blipFill>
        <p:spPr>
          <a:xfrm>
            <a:off x="5495760" y="4021200"/>
            <a:ext cx="3648240" cy="27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C:\Users\Admin\Desktop\кондратьевские чтения 2021\процент2.jpg"/>
          <p:cNvPicPr/>
          <p:nvPr/>
        </p:nvPicPr>
        <p:blipFill>
          <a:blip r:embed="rId5"/>
          <a:stretch/>
        </p:blipFill>
        <p:spPr>
          <a:xfrm>
            <a:off x="3276720" y="1989000"/>
            <a:ext cx="2660400" cy="3880080"/>
          </a:xfrm>
          <a:prstGeom prst="rect">
            <a:avLst/>
          </a:prstGeom>
          <a:ln w="0">
            <a:noFill/>
          </a:ln>
        </p:spPr>
      </p:pic>
      <p:sp>
        <p:nvSpPr>
          <p:cNvPr id="257" name="Стрелка вправо 6"/>
          <p:cNvSpPr/>
          <p:nvPr/>
        </p:nvSpPr>
        <p:spPr>
          <a:xfrm>
            <a:off x="7839000" y="6138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Результаты ЕГЭ</a:t>
            </a:r>
            <a:r>
              <a:rPr b="0" lang="ru-RU" sz="3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50920" y="1447920"/>
          <a:ext cx="8642160" cy="3636720"/>
        </p:xfrm>
        <a:graphic>
          <a:graphicData uri="http://schemas.openxmlformats.org/drawingml/2006/table">
            <a:tbl>
              <a:tblPr/>
              <a:tblGrid>
                <a:gridCol w="287280"/>
                <a:gridCol w="673200"/>
                <a:gridCol w="479160"/>
                <a:gridCol w="481320"/>
                <a:gridCol w="479160"/>
                <a:gridCol w="480960"/>
                <a:gridCol w="479520"/>
                <a:gridCol w="480960"/>
                <a:gridCol w="479520"/>
                <a:gridCol w="479520"/>
                <a:gridCol w="480960"/>
                <a:gridCol w="479520"/>
                <a:gridCol w="480960"/>
                <a:gridCol w="479520"/>
                <a:gridCol w="480960"/>
                <a:gridCol w="479160"/>
                <a:gridCol w="481320"/>
                <a:gridCol w="479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12240">
                      <a:solidFill>
                        <a:srgbClr val="a28e6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 с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спев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1224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(базовый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noFill/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(профиль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a28e6a"/>
                      </a:solidFill>
                    </a:lnL>
                    <a:lnR w="5760">
                      <a:solidFill>
                        <a:srgbClr val="a28e6a"/>
                      </a:solidFill>
                    </a:lnR>
                    <a:lnT w="5760">
                      <a:solidFill>
                        <a:srgbClr val="a28e6a"/>
                      </a:solidFill>
                    </a:lnT>
                    <a:lnB w="5760">
                      <a:solidFill>
                        <a:srgbClr val="a28e6a"/>
                      </a:solidFill>
                    </a:lnB>
                    <a:solidFill>
                      <a:srgbClr val="a28e6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5280" y="1268280"/>
          <a:ext cx="8077320" cy="4837320"/>
        </p:xfrm>
        <a:graphic>
          <a:graphicData uri="http://schemas.openxmlformats.org/drawingml/2006/table">
            <a:tbl>
              <a:tblPr/>
              <a:tblGrid>
                <a:gridCol w="1019160"/>
                <a:gridCol w="925560"/>
                <a:gridCol w="1100160"/>
                <a:gridCol w="1285920"/>
                <a:gridCol w="1101600"/>
                <a:gridCol w="1542960"/>
                <a:gridCol w="110196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матем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п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з.(матем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3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(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(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(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8-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(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1270"/>
          <p:cNvSpPr/>
          <p:nvPr/>
        </p:nvSpPr>
        <p:spPr>
          <a:xfrm>
            <a:off x="395280" y="2714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Сравнительный анализ поступления выпускников в ВУЗы и СС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Участие в НПК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50920" y="836640"/>
          <a:ext cx="8642160" cy="5959440"/>
        </p:xfrm>
        <a:graphic>
          <a:graphicData uri="http://schemas.openxmlformats.org/drawingml/2006/table">
            <a:tbl>
              <a:tblPr/>
              <a:tblGrid>
                <a:gridCol w="325440"/>
                <a:gridCol w="3832200"/>
                <a:gridCol w="466560"/>
                <a:gridCol w="3040200"/>
                <a:gridCol w="97776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амилия и имя учащего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нокурова Сардаа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йт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ашников Але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лан «Продукция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 этап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sah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ой интеллектуальной игры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чинающий фермер»,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в номинации «За развитие традиционной отрасл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нокурова Сардаа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йт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лан «Продукция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ая НПК  молодых исследователей «Интеллектуальный потенциал молодежи – сел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I</a:t>
                      </a:r>
                      <a:r>
                        <a:rPr b="1" lang="sah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», 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1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нокурова Сардаа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йт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харова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ипов С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лан «Продукция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 этап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sah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ой интеллектуальной игры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чинающий фермер», 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397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Виолет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а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ь из пчелиного во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нский НПК «Чугуновские чтения»,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ипов С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роект «Продукции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е Кочневские чтения,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тифик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а Виолет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а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ь из пчелиного во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лусный НПК «Шаг будущее»,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тифик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ипов С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знес проект «Продукции коневод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е Кочневские чтения, 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8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копьев  Га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ов Арс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лсная НПК «Шаг в будуще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снование идеи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9440" y="1469880"/>
            <a:ext cx="37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ейших задач в образовании является подготовка учащихся к жизни, выбору верного профессионального пути;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выпускников и их родителей недостаточны о рынке труда и востребованных профессиях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нашей школы – агротехнологическо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4992840" y="1197000"/>
            <a:ext cx="3827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Часто ли вы применяете математику в жизни? Каким образом?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Гипотез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з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ния математических формул выручают в различных жизненных ситуациях и поэтому математика служит во благо челове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6440" y="26028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440" y="918720"/>
            <a:ext cx="87854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моей работы заключ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том, что возникает проблема, когда сельскому жителю необходимы математические знания, например: массы тела животного и заготовленного сена и много другог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696960" y="203832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376200" y="2637000"/>
            <a:ext cx="856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данные и обработать информацию о применении математических формул в сельском хозя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696960" y="3716280"/>
            <a:ext cx="77724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378000" y="4365720"/>
            <a:ext cx="8410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литературу о математических форму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 обработать информацию о применении математических формул в различн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нения обучающихся и родителей об использовании математических формул в сельск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Объектом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в моей работе являются задачи сельскохозяйственной тем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едмет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 – взаимодействие знаний и умений использования математических формул в решении практических задач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Методы исследовани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нализ литературы и Интернет – источник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иагностически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личественный анализ результат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чественный анализ результат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1" action="ppaction://hlinksldjump"/>
              </a:rPr>
              <a:t>Рабочие программ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2" action="ppaction://hlinksldjump"/>
              </a:rPr>
              <a:t>Элективные курсы по предпринимательству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3" action="ppaction://hlinksldjump"/>
              </a:rPr>
              <a:t>Элективный курс по математик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4" action="ppaction://hlinksldjump"/>
              </a:rPr>
              <a:t>Пособие агрозадач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5" action="ppaction://hlinksldjump"/>
              </a:rPr>
              <a:t>Открытые уро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6"/>
              </a:rPr>
              <a:t>Урок аукцио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7"/>
              </a:rPr>
              <a:t>Урок экскурсия по теме «Процент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8"/>
              </a:rPr>
              <a:t>Решение задач «Мир вокруг нас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9900"/>
                </a:solidFill>
                <a:uFillTx/>
                <a:latin typeface="Cambria"/>
                <a:hlinkClick r:id="rId9"/>
              </a:rPr>
              <a:t>Урок по теме «Симметрия вокруг нас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Стрелка вправо 3">
            <a:hlinkClick r:id="rId10" action="ppaction://hlinksldjump"/>
          </p:cNvPr>
          <p:cNvSpPr/>
          <p:nvPr/>
        </p:nvSpPr>
        <p:spPr>
          <a:xfrm>
            <a:off x="7839000" y="6138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 action="ppaction://hlinksldjump"/>
              </a:rPr>
              <a:t>Проекты учащихс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920" y="119700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Статистика в нашей школ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3"/>
              </a:rPr>
              <a:t>Симметрия вокруг нас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4"/>
              </a:rPr>
              <a:t>Эффективность предпринимательской деятельности КФХ «Бойуот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5"/>
              </a:rPr>
              <a:t>Якутские лошади и их роль в сельском хозяйств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6"/>
              </a:rPr>
              <a:t>Влияние вечной мерзлоты на окружающую среду в окрестности села Абаг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7"/>
              </a:rPr>
              <a:t>Животный мир Амгинского улус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8"/>
              </a:rPr>
              <a:t>Бизнес план «продукции коневодств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Cambria"/>
                <a:hlinkClick r:id="rId9"/>
              </a:rPr>
              <a:t>Бизнес проект «Белый мамонт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готовление сапсыыка из конского волос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готовление мази из пчелиного вос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изнес проект «Якутские настольные игры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Admin\Desktop\кондратьевские чтения 2021\а-9.jpg"/>
          <p:cNvPicPr/>
          <p:nvPr/>
        </p:nvPicPr>
        <p:blipFill>
          <a:blip r:embed="rId1"/>
          <a:stretch/>
        </p:blipFill>
        <p:spPr>
          <a:xfrm>
            <a:off x="250920" y="565200"/>
            <a:ext cx="8810640" cy="570060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право 1"/>
          <p:cNvSpPr/>
          <p:nvPr/>
        </p:nvSpPr>
        <p:spPr>
          <a:xfrm>
            <a:off x="7839000" y="6138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Admin\Desktop\кондратьевские чтения 2021\м-8 э-к.jpg"/>
          <p:cNvPicPr/>
          <p:nvPr/>
        </p:nvPicPr>
        <p:blipFill>
          <a:blip r:embed="rId1"/>
          <a:stretch/>
        </p:blipFill>
        <p:spPr>
          <a:xfrm>
            <a:off x="3564000" y="2997360"/>
            <a:ext cx="5511600" cy="36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Admin\Desktop\кондратьевские чтения 2021\пр-10.jpg"/>
          <p:cNvPicPr/>
          <p:nvPr/>
        </p:nvPicPr>
        <p:blipFill>
          <a:blip r:embed="rId2"/>
          <a:stretch/>
        </p:blipFill>
        <p:spPr>
          <a:xfrm>
            <a:off x="-7920" y="23760"/>
            <a:ext cx="5898960" cy="4189320"/>
          </a:xfrm>
          <a:prstGeom prst="rect">
            <a:avLst/>
          </a:prstGeom>
          <a:ln w="0">
            <a:noFill/>
          </a:ln>
        </p:spPr>
      </p:pic>
      <p:sp>
        <p:nvSpPr>
          <p:cNvPr id="248" name="Стрелка вправо 4"/>
          <p:cNvSpPr/>
          <p:nvPr/>
        </p:nvSpPr>
        <p:spPr>
          <a:xfrm>
            <a:off x="324000" y="58579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C:\Users\Admin\Desktop\кондратьевские чтения 2021\агрозада.jpg"/>
          <p:cNvPicPr/>
          <p:nvPr/>
        </p:nvPicPr>
        <p:blipFill>
          <a:blip r:embed="rId1"/>
          <a:stretch/>
        </p:blipFill>
        <p:spPr>
          <a:xfrm>
            <a:off x="179280" y="189000"/>
            <a:ext cx="6210360" cy="4228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Admin\Desktop\кондратьевские чтения 2021\агрозада 2.jpg"/>
          <p:cNvPicPr/>
          <p:nvPr/>
        </p:nvPicPr>
        <p:blipFill>
          <a:blip r:embed="rId2"/>
          <a:stretch/>
        </p:blipFill>
        <p:spPr>
          <a:xfrm>
            <a:off x="4356000" y="189000"/>
            <a:ext cx="4803840" cy="6537240"/>
          </a:xfrm>
          <a:prstGeom prst="rect">
            <a:avLst/>
          </a:prstGeom>
          <a:ln w="0">
            <a:noFill/>
          </a:ln>
        </p:spPr>
      </p:pic>
      <p:sp>
        <p:nvSpPr>
          <p:cNvPr id="251" name="Стрелка вправо 3"/>
          <p:cNvSpPr/>
          <p:nvPr/>
        </p:nvSpPr>
        <p:spPr>
          <a:xfrm>
            <a:off x="468360" y="5681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6T03:24:21Z</dcterms:created>
  <dc:creator>Администратор</dc:creator>
  <dc:description/>
  <dc:language>en-US</dc:language>
  <cp:lastModifiedBy>Admin</cp:lastModifiedBy>
  <dcterms:modified xsi:type="dcterms:W3CDTF">2023-04-21T08:50:55Z</dcterms:modified>
  <cp:revision>47</cp:revision>
  <dc:subject/>
  <dc:title>Задачи агротехнологического направления</dc:title>
</cp:coreProperties>
</file>