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AF04-F091-4F60-B224-8CF3CD46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6C2-5BB4-4256-AC5A-A5CD42AA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73AA-C117-46EE-B243-6B38AFBE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8AF7-79F3-49DB-8778-ED998C2A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80CD-9936-48C7-A669-85A961B6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E61A-E0F9-4157-8630-D8606E06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344A-87BE-41BF-9175-83B1567A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5AF6-435E-408C-A5F4-F0CD80E3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8482-1BD4-40BE-9F22-82CAAF6C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1A05-6AE6-41CC-925A-C952AB5F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235A-E95B-45C0-97B2-62824650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276-92EB-4FD7-A9CD-058F07DD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1669-FBFF-4DA8-A533-2216723E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BEDA-6525-4BC0-8C6E-6F379220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DE08-61D4-471D-87BF-4C02205C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E430-96D7-44AB-8EF4-6E0ED9EA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B864-8EB4-4B0E-BCC0-6437BD2E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A61D3-DEB4-496F-AD03-FFEBA876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52422-F07F-4D8D-A8D0-EAB79FF3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3BCD5-6AD4-4DB1-BF4E-8BDF9646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2A9DD-0777-4C88-AA51-67D74114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F6ED3-AFF4-4015-B2CF-EDCDD1DB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554B-C56E-4299-BC1B-B3CF2DF1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D9BEB-BB66-401F-B438-5D849E69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1962D-AED0-4B22-A187-1FFAF715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030B1-9848-47EF-82FB-08535B9A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EDC92-1EB6-4A45-A061-0AC4A52E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F7CC8-8722-4227-BB1C-3FD295F4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58949-371D-4779-A5A8-A4B5B332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44F7B-861E-41B5-81F9-A7266AE4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878F0-80C2-4ED7-86A7-4B1DF112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10AAD-8E83-48F4-B5C6-95DAED43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01917-1DC9-48BA-A32D-F99CBEC8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C46-4FD2-4BEA-9CA6-CE5488A2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C9651-DA62-4636-91F6-7FD4BB2A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4FD6B-5936-4550-8D3F-ED141A41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F4B34-751B-44BE-B409-A3A80593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28EE3-30B6-4D05-B67E-DC52C2E3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12674-EE57-4E25-A12C-C8E365DD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E08D2-175A-4510-801D-E9AC6E53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5AD34-BA30-4000-B520-E8A750B5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09D47-2F5F-4440-A455-0F2647D0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7D7AB-701E-4657-8E6D-BF483AFC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B169A-5163-470D-941A-5427687D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A8A-74FD-49D1-AF4D-7FF9F598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B20AF-0AB9-4CA1-BB55-429DB2BF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1EB65-8308-48C3-8976-4523B26A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3A250-44A2-4A4D-8BE9-A9EFD5E6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005E2-83E3-46A0-874D-CEBAA5B4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E49E3-2679-42BB-8651-A40B5CC9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53192-DB44-4226-95F6-C067C753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DC6B5-5E0D-4C02-BE61-2D863C5E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8A065-CDA6-4869-A2FD-67F1B3B1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1247C-18EE-4C18-9026-A4F9AC6F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CFF87-034C-47F1-AE48-71C69A97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4623-D24B-4CBC-B1F2-11A3F110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339F8-0ED4-4096-86C7-E64CBEEE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3E5-1880-4AC0-8FC4-9DB3BC68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87F-11C5-46CD-9D65-C17D7D6D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1F8D-B2DC-4B1C-BA25-2945461C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9B2B-F1E4-45A4-9F71-9AE4A78691D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6337-4FCE-4DE2-9A6B-9057197DDAD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9668-D625-4DB3-A786-0E478983855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0422-5E34-4C44-BA80-CB88FFD89C3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462D-2289-4DF9-96D3-CF5083F36DF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hyperlink" Target="file:///&#1088;&#1072;&#1079;&#1088;&#1072;&#1073;&#1086;&#1090;&#1082;&#1080;%20&#1091;&#1088;&#1086;&#1082;&#1086;&#1074;/&#1091;&#1088;&#1086;&#1082;&#1080;%20&#1055;&#1086;&#1087;&#1086;&#1074;&#1086;&#1081;%20&#1042;.%20&#1053;/&#1059;&#1088;&#1086;&#1082;%20&#1072;&#1091;&#1082;&#1094;&#1080;&#1086;&#1085;.doc" TargetMode="External"/><Relationship Id="rId7" Type="http://schemas.openxmlformats.org/officeDocument/2006/relationships/hyperlink" Target="file:///&#1088;&#1072;&#1079;&#1088;&#1072;&#1073;&#1086;&#1090;&#1082;&#1080;%20&#1091;&#1088;&#1086;&#1082;&#1086;&#1074;/&#1091;&#1088;&#1086;&#1082;&#1080;%20&#1055;&#1086;&#1087;&#1086;&#1074;&#1086;&#1081;%20&#1042;.%20&#1053;/&#1091;&#1088;&#1086;&#1082;%20&#1101;&#1082;&#1089;&#1091;&#1088;&#1089;&#1080;&#1103;" TargetMode="External"/><Relationship Id="rId8" Type="http://schemas.openxmlformats.org/officeDocument/2006/relationships/hyperlink" Target="file:///&#1088;&#1072;&#1079;&#1088;&#1072;&#1073;&#1086;&#1090;&#1082;&#1080;%20&#1091;&#1088;&#1086;&#1082;&#1086;&#1074;/&#1091;&#1088;&#1086;&#1082;&#1080;%20&#1045;&#1088;&#1077;&#1084;&#1077;&#1077;&#1074;&#1086;&#1081;%20&#1042;.%20&#1040;/&#1091;&#1088;&#1086;&#1082;%20&#1084;&#1072;&#1090;&#1077;&#1084;&#1072;&#1090;&#1080;&#1082;&#1080;%20&#1074;%206%20&#1082;&#1083;&#1072;&#1089;&#1089;&#1077;%20&#1045;&#1088;&#1077;&#1084;&#1077;&#1077;&#1074;&#1086;&#1081;%20&#1042;.&#1040;..ppt" TargetMode="External"/><Relationship Id="rId9" Type="http://schemas.openxmlformats.org/officeDocument/2006/relationships/hyperlink" Target="file:///&#1088;&#1072;&#1079;&#1088;&#1072;&#1073;&#1086;&#1090;&#1082;&#1080;%20&#1091;&#1088;&#1086;&#1082;&#1086;&#1074;/&#1091;&#1088;&#1086;&#1082;&#1080;%20&#1055;&#1086;&#1087;&#1086;&#1074;&#1086;&#1081;%20&#1042;.%20&#1053;/&#1087;&#1088;&#1077;&#1079;&#1077;&#1085;&#1090;&#1072;&#1094;&#1080;&#1103;%20&#1088;&#1072;&#1079;&#1088;&#1072;&#1073;&#1086;&#1090;&#1082;&#1080;%20&#1055;&#1086;&#1087;&#1086;&#1074;&#1086;&#1081;%20&#1042;.%20&#1053;.%20&#1076;&#1083;&#1103;%20&#1082;&#1086;&#1085;&#1082;&#1091;&#1088;&#1089;&#1072;%20&#1087;&#1088;&#1077;&#1079;&#1077;&#1085;&#1090;&#1072;&#1094;&#1080;&#1081;%20&#1082;%20&#1091;&#1088;&#1086;&#1082;&#1091;.pptx" TargetMode="External"/><Relationship Id="rId10" Type="http://schemas.openxmlformats.org/officeDocument/2006/relationships/slide" Target="slide6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hyperlink" Target="file:///&#1091;&#1095;&#1072;&#1089;&#1090;&#1080;&#1077;%20&#1074;%20&#1053;&#1055;&#1050;/&#1055;&#1088;&#1077;&#1079;&#1077;&#1085;&#1090;&#1072;&#1094;&#1080;&#1103;%20&#1057;&#1090;&#1072;&#1090;&#1080;&#1089;&#1090;&#1080;&#1082;&#1072;%20&#1074;%20&#1085;&#1072;&#1096;&#1077;&#1081;%20&#1096;&#1082;&#1086;&#1083;&#1077;.ppt" TargetMode="External"/><Relationship Id="rId3" Type="http://schemas.openxmlformats.org/officeDocument/2006/relationships/hyperlink" Target="file:///&#1091;&#1095;&#1072;&#1089;&#1090;&#1080;&#1077;%20&#1074;%20&#1053;&#1055;&#1050;/&#1055;&#1088;&#1077;&#1079;&#1077;&#1085;&#1090;&#1072;&#1094;&#1080;&#1103;%20&#1055;&#1042;&#1040;.pptx" TargetMode="External"/><Relationship Id="rId4" Type="http://schemas.openxmlformats.org/officeDocument/2006/relationships/hyperlink" Target="file:///&#1091;&#1095;&#1072;&#1089;&#1090;&#1080;&#1077;%20&#1074;%20&#1053;&#1055;&#1050;/&#1087;&#1088;&#1077;&#1079;&#1077;&#1085;&#1090;&#1072;&#1094;&#1080;&#1103;%20&#1069;&#1092;&#1092;&#1077;&#1082;&#1090;&#1080;&#1074;&#1085;&#1086;&#1089;&#1090;&#1100;%20&#1087;&#1088;&#1077;&#1076;&#1087;&#1088;&#1080;&#1085;&#1080;&#1084;&#1072;&#1090;&#1077;&#1083;&#1100;&#1089;&#1082;&#1086;&#1081;%20&#1076;&#1103;&#1077;&#1090;&#1077;&#1083;&#1100;&#1085;&#1086;&#1089;&#1090;&#1080;%20&#1082;&#1092;&#1093;%20&#1041;&#1086;&#1081;&#1091;&#1086;&#1090;.ppt" TargetMode="External"/><Relationship Id="rId5" Type="http://schemas.openxmlformats.org/officeDocument/2006/relationships/hyperlink" Target="file:///&#1091;&#1095;&#1072;&#1089;&#1090;&#1080;&#1077;%20&#1074;%20&#1053;&#1055;&#1050;/&#1071;&#1082;&#1091;&#1090;&#1089;&#1082;&#1080;&#1077;%20&#1083;&#1086;&#1096;&#1072;&#1076;&#1080;%20&#1080;%20&#1080;&#1093;%20&#1088;&#1086;&#1083;&#1100;%20&#1074;%20&#1089;&#1077;&#1083;&#1100;&#1089;&#1082;&#1086;&#1084;%20&#1093;&#1086;&#1079;&#1103;&#1081;&#1089;&#1090;&#1074;&#1077;.pptx" TargetMode="External"/><Relationship Id="rId6" Type="http://schemas.openxmlformats.org/officeDocument/2006/relationships/hyperlink" Target="file:///&#1091;&#1095;&#1072;&#1089;&#1090;&#1080;&#1077;%20&#1074;%20&#1053;&#1055;&#1050;/&#1055;&#1088;&#1077;&#1079;&#1077;&#1085;&#1090;&#1072;&#1094;&#1080;&#1103;%20&#1042;&#1083;&#1080;&#1103;&#1085;&#1080;&#1077;%20&#1074;&#1077;&#1095;&#1085;&#1086;&#1081;%20&#1084;&#1077;&#1088;&#1079;&#1083;&#1086;&#1090;&#1099;%20&#1088;&#1072;&#1073;&#1086;&#1090;&#1072;%20&#1091;&#1095;&#1077;&#1085;&#1080;&#1082;&#1072;%207%20&#1082;&#1083;%20&#1052;&#1041;&#1054;&#1059;%20&#1040;&#1073;&#1072;&#1075;&#1080;&#1085;&#1089;&#1082;&#1072;&#1103;%20&#1057;&#1054;&#1064;%20&#1040;&#1084;&#1075;&#1080;&#1085;&#1089;&#1082;&#1086;&#1075;&#1086;%20&#1091;&#1083;&#1091;&#1089;&#1072;%20&#1040;&#1090;&#1083;&#1072;&#1089;&#1086;&#1074;&#1072;%20&#1040;&#1085;&#1090;&#1086;&#1085;&#1072;.pptx" TargetMode="External"/><Relationship Id="rId7" Type="http://schemas.openxmlformats.org/officeDocument/2006/relationships/hyperlink" Target="file:///&#1091;&#1095;&#1072;&#1089;&#1090;&#1080;&#1077;%20&#1074;%20&#1053;&#1055;&#1050;/&#1087;&#1088;&#1077;&#1079;&#1077;&#1085;&#1090;&#1072;&#1094;&#1080;&#1103;%20&#1046;&#1080;&#1074;&#1086;&#1090;&#1085;&#1099;&#1081;%20&#1084;&#1080;&#1088;%20&#1040;&#1084;&#1075;&#1080;&#1085;&#1089;&#1082;&#1086;&#1075;&#1086;%20&#1091;&#1083;&#1091;&#1089;&#1072;.ppt" TargetMode="External"/><Relationship Id="rId8" Type="http://schemas.openxmlformats.org/officeDocument/2006/relationships/hyperlink" Target="file:///&#1091;&#1095;&#1072;&#1089;&#1090;&#1080;&#1077;%20&#1074;%20&#1053;&#1055;&#1050;/&#1041;&#1080;&#1079;&#1085;&#1077;&#1089;%20&#1087;&#1083;&#1072;&#1085;%20&#1082;&#1092;&#1093;%20&#171;&#1069;&#1056;&#1069;&#1051;&#187;%202003%20&#1057;%20&#1057;&#1077;&#1088;&#1075;&#1077;&#1081;.ppt" TargetMode="External"/><Relationship Id="rId9" Type="http://schemas.openxmlformats.org/officeDocument/2006/relationships/hyperlink" Target="file:///&#1091;&#1095;&#1072;&#1089;&#1090;&#1080;&#1077;%20&#1074;%20&#1053;&#1055;&#1050;/2%20&#1073;&#1080;&#1079;&#1085;&#1077;&#1089;%20&#1087;&#1088;&#1086;&#1077;&#1082;&#1090;%20&#1041;&#1077;&#1083;&#1099;&#1081;%20&#1052;&#1072;&#1084;&#1086;&#1085;&#1090;%20.ppt" TargetMode="Externa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Составила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учитель математики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МБОУ «Абагинская СОШ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Попова Виктория Николаевн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матика в агрошкол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C:\Users\Admin\Desktop\кондратьевские чтения 2021\осипов.jpg"/>
          <p:cNvPicPr/>
          <p:nvPr/>
        </p:nvPicPr>
        <p:blipFill>
          <a:blip r:embed="rId1"/>
          <a:stretch/>
        </p:blipFill>
        <p:spPr>
          <a:xfrm>
            <a:off x="5367240" y="81000"/>
            <a:ext cx="3684600" cy="2622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C:\Users\Admin\Desktop\кондратьевские чтения 2021\настя.jpg"/>
          <p:cNvPicPr/>
          <p:nvPr/>
        </p:nvPicPr>
        <p:blipFill>
          <a:blip r:embed="rId2"/>
          <a:stretch/>
        </p:blipFill>
        <p:spPr>
          <a:xfrm>
            <a:off x="22320" y="3716280"/>
            <a:ext cx="3703680" cy="278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Users\Admin\Desktop\кондратьевские чтения 2021\вика саша.jpg"/>
          <p:cNvPicPr/>
          <p:nvPr/>
        </p:nvPicPr>
        <p:blipFill>
          <a:blip r:embed="rId3"/>
          <a:stretch/>
        </p:blipFill>
        <p:spPr>
          <a:xfrm>
            <a:off x="22320" y="-1440"/>
            <a:ext cx="3686040" cy="2787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C:\Users\Admin\Desktop\кондратьевские чтения 2021\процент.jpg"/>
          <p:cNvPicPr/>
          <p:nvPr/>
        </p:nvPicPr>
        <p:blipFill>
          <a:blip r:embed="rId4"/>
          <a:stretch/>
        </p:blipFill>
        <p:spPr>
          <a:xfrm>
            <a:off x="5495760" y="4021200"/>
            <a:ext cx="3648240" cy="2736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C:\Users\Admin\Desktop\кондратьевские чтения 2021\процент2.jpg"/>
          <p:cNvPicPr/>
          <p:nvPr/>
        </p:nvPicPr>
        <p:blipFill>
          <a:blip r:embed="rId5"/>
          <a:stretch/>
        </p:blipFill>
        <p:spPr>
          <a:xfrm>
            <a:off x="3276720" y="1989000"/>
            <a:ext cx="2660400" cy="3880080"/>
          </a:xfrm>
          <a:prstGeom prst="rect">
            <a:avLst/>
          </a:prstGeom>
          <a:ln w="0">
            <a:noFill/>
          </a:ln>
        </p:spPr>
      </p:pic>
      <p:sp>
        <p:nvSpPr>
          <p:cNvPr id="257" name="Стрелка вправо 6"/>
          <p:cNvSpPr/>
          <p:nvPr/>
        </p:nvSpPr>
        <p:spPr>
          <a:xfrm>
            <a:off x="7839000" y="61387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Результаты ЕГЭ</a:t>
            </a:r>
            <a:r>
              <a:rPr b="0" lang="ru-RU" sz="3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50920" y="1447920"/>
          <a:ext cx="8642160" cy="3636720"/>
        </p:xfrm>
        <a:graphic>
          <a:graphicData uri="http://schemas.openxmlformats.org/drawingml/2006/table">
            <a:tbl>
              <a:tblPr/>
              <a:tblGrid>
                <a:gridCol w="287280"/>
                <a:gridCol w="673200"/>
                <a:gridCol w="479160"/>
                <a:gridCol w="481320"/>
                <a:gridCol w="479160"/>
                <a:gridCol w="480960"/>
                <a:gridCol w="479520"/>
                <a:gridCol w="480960"/>
                <a:gridCol w="479520"/>
                <a:gridCol w="479520"/>
                <a:gridCol w="480960"/>
                <a:gridCol w="479520"/>
                <a:gridCol w="480960"/>
                <a:gridCol w="479520"/>
                <a:gridCol w="480960"/>
                <a:gridCol w="479160"/>
                <a:gridCol w="481320"/>
                <a:gridCol w="4791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1224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12240">
                      <a:solidFill>
                        <a:srgbClr val="a28e6a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12240">
                      <a:solidFill>
                        <a:srgbClr val="a28e6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18-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12240">
                      <a:solidFill>
                        <a:srgbClr val="a28e6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12240">
                      <a:solidFill>
                        <a:srgbClr val="a28e6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12240">
                      <a:solidFill>
                        <a:srgbClr val="a28e6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сего у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д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е сд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спев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сего у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д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е сд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спев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сего у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д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е сд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спев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сего у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д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е сд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спев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</a:tr>
              <a:tr h="1224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тематика (базовый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</a:tr>
              <a:tr h="146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тематика (профильны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395280" y="1268280"/>
          <a:ext cx="8077320" cy="4837320"/>
        </p:xfrm>
        <a:graphic>
          <a:graphicData uri="http://schemas.openxmlformats.org/drawingml/2006/table">
            <a:tbl>
              <a:tblPr/>
              <a:tblGrid>
                <a:gridCol w="1019160"/>
                <a:gridCol w="925560"/>
                <a:gridCol w="1100160"/>
                <a:gridCol w="1285920"/>
                <a:gridCol w="1101600"/>
                <a:gridCol w="1542960"/>
                <a:gridCol w="110196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у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 матем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по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з.(матем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-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(3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(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(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(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 (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8-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(3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(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(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(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61" name="Text Box 1270"/>
          <p:cNvSpPr/>
          <p:nvPr/>
        </p:nvSpPr>
        <p:spPr>
          <a:xfrm>
            <a:off x="395280" y="2714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Сравнительный анализ поступления выпускников в ВУЗы и ССУ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640" y="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Участие в НПК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50920" y="836640"/>
          <a:ext cx="8642160" cy="5959440"/>
        </p:xfrm>
        <a:graphic>
          <a:graphicData uri="http://schemas.openxmlformats.org/drawingml/2006/table">
            <a:tbl>
              <a:tblPr/>
              <a:tblGrid>
                <a:gridCol w="325440"/>
                <a:gridCol w="3832200"/>
                <a:gridCol w="466560"/>
                <a:gridCol w="3040200"/>
                <a:gridCol w="977760"/>
              </a:tblGrid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Фамилия и имя учащего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езуль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109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нокурова Сардаан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пов Айта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лашников Але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знес план «Продукция коневодств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нский этап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sah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российской интеллектуальной игры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ачинающий фермер», 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в номинации «За развитие традиционной отрасл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73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нокурова Сардаан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пов Айта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знес план «Продукция коневодств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нская НПК  молодых исследователей «Интеллектуальный потенциал молодежи – сел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I</a:t>
                      </a:r>
                      <a:r>
                        <a:rPr b="1" lang="sah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а»,  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916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нокурова Сардаан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пов Айта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харова Нас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ипов Се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знес план «Продукция коневодств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нский этап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sah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российской интеллектуальной игры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ачинающий фермер»,  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63972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ва Виолет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пова Нас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зь из пчелиного во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спубликанский НПК «Чугуновские чтения», 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59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ипов Се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знес проект «Продукции коневодств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российские Кочневские чтения, 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ртифик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64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ва Виолет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пова Нас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зь из пчелиного во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лусный НПК «Шаг будущее», 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ртифик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ипов Се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знес проект «Продукции коневодств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российские Кочневские чтения, 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8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копьев  Га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пов Арс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лсная НПК «Шаг в будуще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основание идеи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79440" y="1469880"/>
            <a:ext cx="374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из важнейших задач в образовании является подготовка учащихся к жизни, выбору верного профессионального пути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 выпускников и их родителей недостаточны о рынке труда и востребованных профессиях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нашей школы – агротехнологическое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Содержимое 2"/>
          <p:cNvSpPr/>
          <p:nvPr/>
        </p:nvSpPr>
        <p:spPr>
          <a:xfrm>
            <a:off x="4992840" y="1197000"/>
            <a:ext cx="3827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Часто ли вы применяете математику в жизни? Каким образом?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Гипотез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з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ания математических формул выручают в различных жизненных ситуациях и поэтому математика служит во благо челове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6440" y="260280"/>
            <a:ext cx="7772400" cy="566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 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440" y="918720"/>
            <a:ext cx="878544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моей работы заключае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 том, что возникает проблема, когда сельскому жителю необходимы математические знания, например: массы тела животного и заготовленного сена и много другого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Заголовок 1"/>
          <p:cNvSpPr/>
          <p:nvPr/>
        </p:nvSpPr>
        <p:spPr>
          <a:xfrm>
            <a:off x="696960" y="203832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одержимое 2"/>
          <p:cNvSpPr/>
          <p:nvPr/>
        </p:nvSpPr>
        <p:spPr>
          <a:xfrm>
            <a:off x="376200" y="2637000"/>
            <a:ext cx="85676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ть данные и обработать информацию о применении математических формул в сельском хозяй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Заголовок 1"/>
          <p:cNvSpPr/>
          <p:nvPr/>
        </p:nvSpPr>
        <p:spPr>
          <a:xfrm>
            <a:off x="696960" y="3716280"/>
            <a:ext cx="77724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одержимое 2"/>
          <p:cNvSpPr/>
          <p:nvPr/>
        </p:nvSpPr>
        <p:spPr>
          <a:xfrm>
            <a:off x="378000" y="4365720"/>
            <a:ext cx="8410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литературу о математических форму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ть и обработать информацию о применении математических формул в различных жизненных ситу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мнения обучающихся и родителей об использовании математических формул в сельском хозяй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Объектом исследования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в моей работе являются задачи сельскохозяйственной темы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Предмет исследования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– взаимодействие знаний и умений использования математических формул в решении практических задач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Методы исследований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нализ литературы и Интернет – источнико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иагностический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личественный анализ результато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ачественный анализ результато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9900"/>
                </a:solidFill>
                <a:uFillTx/>
                <a:latin typeface="Cambria"/>
                <a:hlinkClick r:id="rId1" action="ppaction://hlinksldjump"/>
              </a:rPr>
              <a:t>Рабочие программ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9900"/>
                </a:solidFill>
                <a:uFillTx/>
                <a:latin typeface="Cambria"/>
                <a:hlinkClick r:id="rId2" action="ppaction://hlinksldjump"/>
              </a:rPr>
              <a:t>Элективные курсы по предпринимательству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9900"/>
                </a:solidFill>
                <a:uFillTx/>
                <a:latin typeface="Cambria"/>
                <a:hlinkClick r:id="rId3" action="ppaction://hlinksldjump"/>
              </a:rPr>
              <a:t>Элективный курс по математик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9900"/>
                </a:solidFill>
                <a:uFillTx/>
                <a:latin typeface="Cambria"/>
                <a:hlinkClick r:id="rId4" action="ppaction://hlinksldjump"/>
              </a:rPr>
              <a:t>Пособие агрозадач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9900"/>
                </a:solidFill>
                <a:uFillTx/>
                <a:latin typeface="Cambria"/>
                <a:hlinkClick r:id="rId5" action="ppaction://hlinksldjump"/>
              </a:rPr>
              <a:t>Открытые урок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9900"/>
                </a:solidFill>
                <a:uFillTx/>
                <a:latin typeface="Cambria"/>
                <a:hlinkClick r:id="rId6"/>
              </a:rPr>
              <a:t>Урок аукцио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9900"/>
                </a:solidFill>
                <a:uFillTx/>
                <a:latin typeface="Cambria"/>
                <a:hlinkClick r:id="rId7"/>
              </a:rPr>
              <a:t>Урок экскурсия по теме «Проценты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9900"/>
                </a:solidFill>
                <a:uFillTx/>
                <a:latin typeface="Cambria"/>
                <a:hlinkClick r:id="rId8"/>
              </a:rPr>
              <a:t>Решение задач «Мир вокруг нас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9900"/>
                </a:solidFill>
                <a:uFillTx/>
                <a:latin typeface="Cambria"/>
                <a:hlinkClick r:id="rId9"/>
              </a:rPr>
              <a:t>Урок по теме «Симметрия вокруг нас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Стрелка вправо 3">
            <a:hlinkClick r:id="rId10" action="ppaction://hlinksldjump"/>
          </p:cNvPr>
          <p:cNvSpPr/>
          <p:nvPr/>
        </p:nvSpPr>
        <p:spPr>
          <a:xfrm>
            <a:off x="7839000" y="61387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9900"/>
                </a:solidFill>
                <a:uFillTx/>
                <a:latin typeface="Calibri"/>
                <a:hlinkClick r:id="rId1" action="ppaction://hlinksldjump"/>
              </a:rPr>
              <a:t>Проекты учащихс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26920" y="1197000"/>
            <a:ext cx="77724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Cambria"/>
                <a:hlinkClick r:id="rId2"/>
              </a:rPr>
              <a:t>Статистика в нашей школ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Cambria"/>
                <a:hlinkClick r:id="rId3"/>
              </a:rPr>
              <a:t>Симметрия вокруг нас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Cambria"/>
                <a:hlinkClick r:id="rId4"/>
              </a:rPr>
              <a:t>Эффективность предпринимательской деятельности КФХ «Бойуот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Cambria"/>
                <a:hlinkClick r:id="rId5"/>
              </a:rPr>
              <a:t>Якутские лошади и их роль в сельском хозяйств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Cambria"/>
                <a:hlinkClick r:id="rId6"/>
              </a:rPr>
              <a:t>Влияние вечной мерзлоты на окружающую среду в окрестности села Абаг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Cambria"/>
                <a:hlinkClick r:id="rId7"/>
              </a:rPr>
              <a:t>Животный мир Амгинского улус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Cambria"/>
                <a:hlinkClick r:id="rId8"/>
              </a:rPr>
              <a:t>Бизнес план «продукции коневодства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Cambria"/>
                <a:hlinkClick r:id="rId9"/>
              </a:rPr>
              <a:t>Бизнес проект «Белый мамонт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зготовление сапсыыка из конского волос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зготовление мази из пчелиного воск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Бизнес проект «Якутские настольные игры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C:\Users\Admin\Desktop\кондратьевские чтения 2021\а-9.jpg"/>
          <p:cNvPicPr/>
          <p:nvPr/>
        </p:nvPicPr>
        <p:blipFill>
          <a:blip r:embed="rId1"/>
          <a:stretch/>
        </p:blipFill>
        <p:spPr>
          <a:xfrm>
            <a:off x="250920" y="565200"/>
            <a:ext cx="8810640" cy="5700600"/>
          </a:xfrm>
          <a:prstGeom prst="rect">
            <a:avLst/>
          </a:prstGeom>
          <a:ln w="0">
            <a:noFill/>
          </a:ln>
        </p:spPr>
      </p:pic>
      <p:sp>
        <p:nvSpPr>
          <p:cNvPr id="245" name="Стрелка вправо 1"/>
          <p:cNvSpPr/>
          <p:nvPr/>
        </p:nvSpPr>
        <p:spPr>
          <a:xfrm>
            <a:off x="7839000" y="61387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:\Users\Admin\Desktop\кондратьевские чтения 2021\м-8 э-к.jpg"/>
          <p:cNvPicPr/>
          <p:nvPr/>
        </p:nvPicPr>
        <p:blipFill>
          <a:blip r:embed="rId1"/>
          <a:stretch/>
        </p:blipFill>
        <p:spPr>
          <a:xfrm>
            <a:off x="3564000" y="2997360"/>
            <a:ext cx="5511600" cy="3644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Users\Admin\Desktop\кондратьевские чтения 2021\пр-10.jpg"/>
          <p:cNvPicPr/>
          <p:nvPr/>
        </p:nvPicPr>
        <p:blipFill>
          <a:blip r:embed="rId2"/>
          <a:stretch/>
        </p:blipFill>
        <p:spPr>
          <a:xfrm>
            <a:off x="-7920" y="23760"/>
            <a:ext cx="5898960" cy="4189320"/>
          </a:xfrm>
          <a:prstGeom prst="rect">
            <a:avLst/>
          </a:prstGeom>
          <a:ln w="0">
            <a:noFill/>
          </a:ln>
        </p:spPr>
      </p:pic>
      <p:sp>
        <p:nvSpPr>
          <p:cNvPr id="248" name="Стрелка вправо 4"/>
          <p:cNvSpPr/>
          <p:nvPr/>
        </p:nvSpPr>
        <p:spPr>
          <a:xfrm>
            <a:off x="324000" y="58579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C:\Users\Admin\Desktop\кондратьевские чтения 2021\агрозада.jpg"/>
          <p:cNvPicPr/>
          <p:nvPr/>
        </p:nvPicPr>
        <p:blipFill>
          <a:blip r:embed="rId1"/>
          <a:stretch/>
        </p:blipFill>
        <p:spPr>
          <a:xfrm>
            <a:off x="179280" y="189000"/>
            <a:ext cx="6210360" cy="4228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C:\Users\Admin\Desktop\кондратьевские чтения 2021\агрозада 2.jpg"/>
          <p:cNvPicPr/>
          <p:nvPr/>
        </p:nvPicPr>
        <p:blipFill>
          <a:blip r:embed="rId2"/>
          <a:stretch/>
        </p:blipFill>
        <p:spPr>
          <a:xfrm>
            <a:off x="4356000" y="189000"/>
            <a:ext cx="4803840" cy="6537240"/>
          </a:xfrm>
          <a:prstGeom prst="rect">
            <a:avLst/>
          </a:prstGeom>
          <a:ln w="0">
            <a:noFill/>
          </a:ln>
        </p:spPr>
      </p:pic>
      <p:sp>
        <p:nvSpPr>
          <p:cNvPr id="251" name="Стрелка вправо 3"/>
          <p:cNvSpPr/>
          <p:nvPr/>
        </p:nvSpPr>
        <p:spPr>
          <a:xfrm>
            <a:off x="468360" y="56815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6T03:24:21Z</dcterms:created>
  <dc:creator>Администратор</dc:creator>
  <dc:description/>
  <dc:language>en-US</dc:language>
  <cp:lastModifiedBy>Admin</cp:lastModifiedBy>
  <dcterms:modified xsi:type="dcterms:W3CDTF">2023-04-21T08:50:55Z</dcterms:modified>
  <cp:revision>47</cp:revision>
  <dc:subject/>
  <dc:title>Задачи агротехнологического направления</dc:title>
</cp:coreProperties>
</file>