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73F3DC-4D70-41FD-909C-761E679C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4C3C4E-1198-43A5-8686-9A26037B50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18F-4FB9-45BD-97F8-4A134599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438-3039-4F5A-BC27-195608D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CA5-968E-4E33-B2C4-5A0404C9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6E6-E209-49F3-8B8A-35D692CE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25B2-F289-4044-95FC-71444816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F6D8-FF55-4976-B2A7-EDEA9F03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C99-26B0-4C25-8D4C-D362AFE9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656C-A05C-4F67-828D-B4855C3B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B331-707D-49A0-A4C6-578E0FA1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7CDE-69A8-42EB-BDA2-85F6F93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B22B-F3C7-429E-89FA-13DAF03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9B1-76FD-4135-9525-F262B135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C831-1EB0-4EEA-A03A-A6463F28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7F0C-DEC0-4B2B-83E1-3CDA714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BF4C-0946-4FC4-A2FC-F32A8208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98D5-776A-4626-B9A8-5691B314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9FAE-DBDE-4F3F-918B-55410D68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52F6-B6A6-4B68-A054-0388367F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54D3-0CE9-4B4C-9D13-0ED2CF8E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FF23-83E6-4924-B4B9-D9B283DD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27E1-77F8-49CA-905B-4A43383B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4DB5-64C7-4BEF-834F-43EC2717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60F-923C-45D3-877F-444C0774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5811-174D-401C-A6B8-0B1D38E0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2FA2-CC02-4574-BEA7-F9C9398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798D-4F21-4A6D-8735-C94BB8D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CA49-272C-48CC-A6E5-3720ADB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BCCB-4855-4E99-9873-E3755DF0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6ABB-5BA4-4411-96C6-65FA2C67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8A8A-4000-40EE-8E89-64A5289B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44E-93D5-4AE1-8EA1-21A4162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FCB-E922-4D35-8B91-6AAC80CF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4B1-4BD6-4000-8EC3-DA098F25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3A3-AA12-4830-8C26-E88B19D3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90A-91F5-462D-AF92-D945150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1FD-E400-4380-9B64-EA7E86E0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7"/>
          <p:cNvSpPr/>
          <p:nvPr/>
        </p:nvSpPr>
        <p:spPr>
          <a:xfrm>
            <a:off x="179640" y="188640"/>
            <a:ext cx="1511640" cy="65523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Прямоугольник 20"/>
          <p:cNvSpPr/>
          <p:nvPr/>
        </p:nvSpPr>
        <p:spPr>
          <a:xfrm>
            <a:off x="1835640" y="188640"/>
            <a:ext cx="7146720" cy="6526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1"/>
          <p:cNvSpPr/>
          <p:nvPr/>
        </p:nvSpPr>
        <p:spPr>
          <a:xfrm>
            <a:off x="7524360" y="1080"/>
            <a:ext cx="161928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3">
                    <a:lumMod val="75000"/>
                  </a:schemeClr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http://www.playcast.ru/uploads/2015/02/09/12027652.png"/>
          <p:cNvPicPr/>
          <p:nvPr/>
        </p:nvPicPr>
        <p:blipFill>
          <a:blip r:embed="rId3"/>
          <a:stretch/>
        </p:blipFill>
        <p:spPr>
          <a:xfrm>
            <a:off x="179640" y="332640"/>
            <a:ext cx="3235320" cy="6408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" descr="http://img-fotki.yandex.ru/get/5409/47407354.274/0_8e961_2109d486_S.png"/>
          <p:cNvPicPr/>
          <p:nvPr/>
        </p:nvPicPr>
        <p:blipFill>
          <a:blip r:embed="rId4"/>
          <a:stretch/>
        </p:blipFill>
        <p:spPr>
          <a:xfrm>
            <a:off x="7524360" y="5733360"/>
            <a:ext cx="1428480" cy="894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6A6D652-EE3E-4248-BFE5-CA07BAA2850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"/>
          <p:cNvSpPr/>
          <p:nvPr/>
        </p:nvSpPr>
        <p:spPr>
          <a:xfrm>
            <a:off x="179640" y="6447960"/>
            <a:ext cx="15084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2"/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7"/>
          <p:cNvSpPr/>
          <p:nvPr/>
        </p:nvSpPr>
        <p:spPr>
          <a:xfrm>
            <a:off x="179640" y="188640"/>
            <a:ext cx="1511640" cy="65523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Прямоугольник 20"/>
          <p:cNvSpPr/>
          <p:nvPr/>
        </p:nvSpPr>
        <p:spPr>
          <a:xfrm>
            <a:off x="1835640" y="188640"/>
            <a:ext cx="7146720" cy="6526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7524360" y="1080"/>
            <a:ext cx="161928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3">
                    <a:lumMod val="75000"/>
                  </a:schemeClr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playcast.ru/uploads/2015/02/09/12027652.png"/>
          <p:cNvPicPr/>
          <p:nvPr/>
        </p:nvPicPr>
        <p:blipFill>
          <a:blip r:embed="rId3"/>
          <a:stretch/>
        </p:blipFill>
        <p:spPr>
          <a:xfrm>
            <a:off x="179640" y="332640"/>
            <a:ext cx="3235320" cy="64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g-fotki.yandex.ru/get/5409/47407354.274/0_8e961_2109d486_S.png"/>
          <p:cNvPicPr/>
          <p:nvPr/>
        </p:nvPicPr>
        <p:blipFill>
          <a:blip r:embed="rId4"/>
          <a:stretch/>
        </p:blipFill>
        <p:spPr>
          <a:xfrm>
            <a:off x="7524360" y="5733360"/>
            <a:ext cx="1428480" cy="894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8046FCD-83DC-442B-ADD3-DA33DFC50EE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7"/>
          <p:cNvSpPr/>
          <p:nvPr/>
        </p:nvSpPr>
        <p:spPr>
          <a:xfrm>
            <a:off x="179640" y="188640"/>
            <a:ext cx="1511640" cy="65523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1835640" y="188640"/>
            <a:ext cx="7146720" cy="6526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9bbb59">
                <a:lumMod val="75000"/>
              </a:srgbClr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7524360" y="1080"/>
            <a:ext cx="1619280" cy="21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800" spc="-1" strike="noStrike">
                <a:solidFill>
                  <a:schemeClr val="accent3">
                    <a:lumMod val="75000"/>
                  </a:schemeClr>
                </a:solidFill>
                <a:latin typeface="Tahoma"/>
                <a:ea typeface="Calibri"/>
              </a:rPr>
              <a:t>© Фокина Лидия Петровн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playcast.ru/uploads/2015/02/09/12027652.png"/>
          <p:cNvPicPr/>
          <p:nvPr/>
        </p:nvPicPr>
        <p:blipFill>
          <a:blip r:embed="rId3"/>
          <a:stretch/>
        </p:blipFill>
        <p:spPr>
          <a:xfrm>
            <a:off x="179640" y="332640"/>
            <a:ext cx="3235320" cy="64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img-fotki.yandex.ru/get/5409/47407354.274/0_8e961_2109d486_S.png"/>
          <p:cNvPicPr/>
          <p:nvPr/>
        </p:nvPicPr>
        <p:blipFill>
          <a:blip r:embed="rId4"/>
          <a:stretch/>
        </p:blipFill>
        <p:spPr>
          <a:xfrm>
            <a:off x="7524360" y="5733360"/>
            <a:ext cx="1428480" cy="894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D78BF1D-CD1F-4888-8F71-16923DA95E9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1640" y="148320"/>
            <a:ext cx="6768360" cy="63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ы          друг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а           ов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при        рач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483640" y="188640"/>
            <a:ext cx="6120360" cy="12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. На какие вопросы отвечают имена существительные в винительном падеже?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то? Что?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ем? Чем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о? Что?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Кого? Чего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. С какими предлогами употребляются имена существительные в именительном падеже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, на, через;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Без предлогов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, по;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У, из, до, около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II. Каким членом предложения является имя существительное в винительном падеже?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лежащим.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казуемым.                        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торостепенным членом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IV. В каком падеже стоит выделенное имя существительное в предложени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нило солнц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уч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олотой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.п.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.п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.п.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.п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0" y="0"/>
            <a:ext cx="9143640" cy="74631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Users\321\Downloads\2022-11-22_11-54-30.png"/>
          <p:cNvPicPr/>
          <p:nvPr/>
        </p:nvPicPr>
        <p:blipFill>
          <a:blip r:embed="rId1"/>
          <a:stretch/>
        </p:blipFill>
        <p:spPr>
          <a:xfrm>
            <a:off x="3369600" y="4551480"/>
            <a:ext cx="3295440" cy="180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ры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г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пара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капр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чок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979640" y="404640"/>
            <a:ext cx="7272360" cy="59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оп, завод, праздник, лесник, багаж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о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, пра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, л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к, бага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808720" y="5067360"/>
            <a:ext cx="479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327840" y="5067360"/>
            <a:ext cx="429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920760" y="5067360"/>
            <a:ext cx="466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4532400" y="5067360"/>
            <a:ext cx="429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5076000" y="5067360"/>
            <a:ext cx="43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0" y="0"/>
            <a:ext cx="9143640" cy="74631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4"/>
          <p:cNvSpPr/>
          <p:nvPr/>
        </p:nvSpPr>
        <p:spPr>
          <a:xfrm>
            <a:off x="8028360" y="141264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8028360" y="1338120"/>
            <a:ext cx="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олнце, яркое, взошло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Туча, солнце,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крыла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267640" y="1124640"/>
            <a:ext cx="612036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2267640" y="1845000"/>
            <a:ext cx="6858720" cy="4783680"/>
          </a:xfrm>
          <a:prstGeom prst="rect">
            <a:avLst/>
          </a:prstGeom>
          <a:noFill/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anchor="t">
            <a:sp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й в группе дружно, помни – вы одна ком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имай активное участие в работе, не будь в сторо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бойся высказывать своё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й тихо, не старайся всех перекричать. Уважай мнение других участников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начаем того, кто будет отве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яем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ваем раб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979640" y="188640"/>
            <a:ext cx="6984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Правила работы в групп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0" y="0"/>
            <a:ext cx="9143640" cy="746316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ча закрыла солнц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5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шло ярк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Туча закрыл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Тема Office">
  <a:themeElements>
    <a:clrScheme name="Другая 38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Другая 38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Тема Office">
  <a:themeElements>
    <a:clrScheme name="Другая 38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76923c"/>
      </a:hlink>
      <a:folHlink>
        <a:srgbClr val="76923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lemental</Template>
  <TotalTime>2175</TotalTime>
  <Application>LibreOffice/7.4.7.2$Linux_X86_64 LibreOffice_project/40$Build-2</Application>
  <AppVersion>15.0000</AppVersion>
  <Words>150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User</dc:creator>
  <dc:description/>
  <dc:language>en-US</dc:language>
  <cp:lastModifiedBy>321</cp:lastModifiedBy>
  <dcterms:modified xsi:type="dcterms:W3CDTF">2022-11-24T14:28:11Z</dcterms:modified>
  <cp:revision>1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