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A24FA3-F4EE-4370-BBC1-D216D4CD6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C615E8-B8AF-41B3-9742-8964F5B589C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F86-4A69-4BC8-A604-286E3F9C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B0D-DD09-44D4-805E-A375CAC1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E8B-304F-4DFF-899A-7B625CDB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9E9-750D-4A95-8BBD-B192A35B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C63A-BC4C-4147-A4BE-A10A0A0F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D874-683E-4BE7-8393-52F2F0C4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D183-BE5E-4524-ADB7-56505DA4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05CA-C391-4DA0-8E49-6C30FA98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26A8-87B0-47A4-A2FA-BCF54AAA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EB73-EAB4-4E21-98BF-19C5740C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BE5B-86E2-42DD-BA04-1A71ADD2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847-0EB8-4F01-9C19-0F4E8F28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DCBA-A48E-4A4A-85EF-6731CDEA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D94F-97C9-41BF-BEB8-5367FBD3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A926-9877-4D9C-84CD-F46C0FF7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7E21-7B7D-4E15-ADE5-E9F9A158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9BFD-8143-4145-BACF-DAD40966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D0E31-DBD4-4C08-8887-B3D6060D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44BAE-039E-4414-A458-F65C85E4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4EA9D-8273-4174-BF77-B310414F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0C5CD-F290-4BC9-AE97-0B6FD891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A1088-DFCA-4906-A5E9-9E57B298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B3EA-213C-41D3-9E9B-E7D1AF94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FA1AB-92B2-4038-9D83-C70C06D4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05662-1888-47FC-AFFB-48B53208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1203D-8E1C-4A6C-9D0A-C3A11639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8943-C702-4887-A357-AC3CE1AF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058C-6219-47CD-B5B7-6908E13F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35BF4-6437-4AEC-B688-E61246A5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64658-3870-4DEB-8B94-8EEE7AA0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FC9-A64F-4BB4-9DA5-5E7456DB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7B8-129B-40B9-BDE2-CB726B2B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C70-F20B-4E3A-9F91-E6DDFE5C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ABB0-D106-46CC-952C-A5E921E3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6FB-A438-4EB7-BB0E-65A84099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DE5-E444-4324-AB8F-CAF534F3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7"/>
          <p:cNvSpPr/>
          <p:nvPr/>
        </p:nvSpPr>
        <p:spPr>
          <a:xfrm>
            <a:off x="179640" y="188640"/>
            <a:ext cx="1511640" cy="65523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  <a:effectLst>
            <a:glow rad="63360">
              <a:srgbClr val="a8e034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Прямоугольник 20"/>
          <p:cNvSpPr/>
          <p:nvPr/>
        </p:nvSpPr>
        <p:spPr>
          <a:xfrm>
            <a:off x="1835640" y="188640"/>
            <a:ext cx="7146720" cy="652608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solidFill>
              <a:srgbClr val="9bbb59">
                <a:lumMod val="75000"/>
              </a:srgbClr>
            </a:solidFill>
            <a:round/>
          </a:ln>
          <a:effectLst>
            <a:glow rad="63360">
              <a:srgbClr val="a8e034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1"/>
          <p:cNvSpPr/>
          <p:nvPr/>
        </p:nvSpPr>
        <p:spPr>
          <a:xfrm>
            <a:off x="7524360" y="1080"/>
            <a:ext cx="1619280" cy="21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800" spc="-1" strike="noStrike">
                <a:solidFill>
                  <a:schemeClr val="accent3">
                    <a:lumMod val="75000"/>
                  </a:schemeClr>
                </a:solidFill>
                <a:latin typeface="Tahoma"/>
                <a:ea typeface="Calibri"/>
              </a:rPr>
              <a:t>© Фокина Лидия Петровн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4" descr="http://www.playcast.ru/uploads/2015/02/09/12027652.png"/>
          <p:cNvPicPr/>
          <p:nvPr/>
        </p:nvPicPr>
        <p:blipFill>
          <a:blip r:embed="rId3"/>
          <a:stretch/>
        </p:blipFill>
        <p:spPr>
          <a:xfrm>
            <a:off x="179640" y="332640"/>
            <a:ext cx="3235320" cy="64083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" descr="http://img-fotki.yandex.ru/get/5409/47407354.274/0_8e961_2109d486_S.png"/>
          <p:cNvPicPr/>
          <p:nvPr/>
        </p:nvPicPr>
        <p:blipFill>
          <a:blip r:embed="rId4"/>
          <a:stretch/>
        </p:blipFill>
        <p:spPr>
          <a:xfrm>
            <a:off x="7524360" y="5733360"/>
            <a:ext cx="1428480" cy="894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E4B7B5E-9D57-4209-AE72-EB028DAF6C5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"/>
          <p:cNvSpPr/>
          <p:nvPr/>
        </p:nvSpPr>
        <p:spPr>
          <a:xfrm>
            <a:off x="179640" y="6447960"/>
            <a:ext cx="1508400" cy="33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800" spc="-1" strike="noStrike">
                <a:solidFill>
                  <a:schemeClr val="accent2"/>
                </a:solidFill>
                <a:latin typeface="Tahoma"/>
                <a:ea typeface="Calibri"/>
              </a:rPr>
              <a:t>© Фокина Лидия Петровн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7"/>
          <p:cNvSpPr/>
          <p:nvPr/>
        </p:nvSpPr>
        <p:spPr>
          <a:xfrm>
            <a:off x="179640" y="188640"/>
            <a:ext cx="1511640" cy="65523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  <a:effectLst>
            <a:glow rad="63360">
              <a:srgbClr val="a8e034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Прямоугольник 20"/>
          <p:cNvSpPr/>
          <p:nvPr/>
        </p:nvSpPr>
        <p:spPr>
          <a:xfrm>
            <a:off x="1835640" y="188640"/>
            <a:ext cx="7146720" cy="652608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solidFill>
              <a:srgbClr val="9bbb59">
                <a:lumMod val="75000"/>
              </a:srgbClr>
            </a:solidFill>
            <a:round/>
          </a:ln>
          <a:effectLst>
            <a:glow rad="63360">
              <a:srgbClr val="a8e034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7524360" y="1080"/>
            <a:ext cx="1619280" cy="21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800" spc="-1" strike="noStrike">
                <a:solidFill>
                  <a:schemeClr val="accent3">
                    <a:lumMod val="75000"/>
                  </a:schemeClr>
                </a:solidFill>
                <a:latin typeface="Tahoma"/>
                <a:ea typeface="Calibri"/>
              </a:rPr>
              <a:t>© Фокина Лидия Петровн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://www.playcast.ru/uploads/2015/02/09/12027652.png"/>
          <p:cNvPicPr/>
          <p:nvPr/>
        </p:nvPicPr>
        <p:blipFill>
          <a:blip r:embed="rId3"/>
          <a:stretch/>
        </p:blipFill>
        <p:spPr>
          <a:xfrm>
            <a:off x="179640" y="332640"/>
            <a:ext cx="3235320" cy="640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img-fotki.yandex.ru/get/5409/47407354.274/0_8e961_2109d486_S.png"/>
          <p:cNvPicPr/>
          <p:nvPr/>
        </p:nvPicPr>
        <p:blipFill>
          <a:blip r:embed="rId4"/>
          <a:stretch/>
        </p:blipFill>
        <p:spPr>
          <a:xfrm>
            <a:off x="7524360" y="5733360"/>
            <a:ext cx="1428480" cy="894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F1EF85B-4DA5-4D67-81FC-AEED450F8A1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7"/>
          <p:cNvSpPr/>
          <p:nvPr/>
        </p:nvSpPr>
        <p:spPr>
          <a:xfrm>
            <a:off x="179640" y="188640"/>
            <a:ext cx="1511640" cy="65523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  <a:effectLst>
            <a:glow rad="63360">
              <a:srgbClr val="a8e034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Прямоугольник 20"/>
          <p:cNvSpPr/>
          <p:nvPr/>
        </p:nvSpPr>
        <p:spPr>
          <a:xfrm>
            <a:off x="1835640" y="188640"/>
            <a:ext cx="7146720" cy="652608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solidFill>
              <a:srgbClr val="9bbb59">
                <a:lumMod val="75000"/>
              </a:srgbClr>
            </a:solidFill>
            <a:round/>
          </a:ln>
          <a:effectLst>
            <a:glow rad="63360">
              <a:srgbClr val="a8e034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7524360" y="1080"/>
            <a:ext cx="1619280" cy="21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800" spc="-1" strike="noStrike">
                <a:solidFill>
                  <a:schemeClr val="accent3">
                    <a:lumMod val="75000"/>
                  </a:schemeClr>
                </a:solidFill>
                <a:latin typeface="Tahoma"/>
                <a:ea typeface="Calibri"/>
              </a:rPr>
              <a:t>© Фокина Лидия Петровн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ttp://www.playcast.ru/uploads/2015/02/09/12027652.png"/>
          <p:cNvPicPr/>
          <p:nvPr/>
        </p:nvPicPr>
        <p:blipFill>
          <a:blip r:embed="rId3"/>
          <a:stretch/>
        </p:blipFill>
        <p:spPr>
          <a:xfrm>
            <a:off x="179640" y="332640"/>
            <a:ext cx="3235320" cy="64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img-fotki.yandex.ru/get/5409/47407354.274/0_8e961_2109d486_S.png"/>
          <p:cNvPicPr/>
          <p:nvPr/>
        </p:nvPicPr>
        <p:blipFill>
          <a:blip r:embed="rId4"/>
          <a:stretch/>
        </p:blipFill>
        <p:spPr>
          <a:xfrm>
            <a:off x="7524360" y="5733360"/>
            <a:ext cx="1428480" cy="8949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90CFBD7-779D-491E-9733-B3422174692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1640" y="148320"/>
            <a:ext cx="6768360" cy="63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ры          друг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ара           овод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при        рачок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483640" y="188640"/>
            <a:ext cx="6120360" cy="12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I. На какие вопросы отвечают имена существительные в винительном падеже?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то? Что?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ем? Чем?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го? Что?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Кого? Чего?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II. С какими предлогами употребляются имена существительные в именительном падеже?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, на, через;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Без предлогов;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, по;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У, из, до, около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III. Каким членом предложения является имя существительное в винительном падеже?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лежащим.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казуемым.                          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Второстепенным членом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IV. В каком падеже стоит выделенное имя существительное в предложении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нило солнц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уч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олотой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И.п.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.п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Т.п.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В.п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0" y="0"/>
            <a:ext cx="9143640" cy="746316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зошло яркое солнц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уча закрыла солнце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C:\Users\321\Downloads\2022-11-22_11-54-30.png"/>
          <p:cNvPicPr/>
          <p:nvPr/>
        </p:nvPicPr>
        <p:blipFill>
          <a:blip r:embed="rId1"/>
          <a:stretch/>
        </p:blipFill>
        <p:spPr>
          <a:xfrm>
            <a:off x="3369600" y="4551480"/>
            <a:ext cx="3295440" cy="1800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ры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уг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пара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од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капри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з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з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чок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979640" y="404640"/>
            <a:ext cx="7272360" cy="59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оп, завод, праздник, лесник, багаж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о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з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, праз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к, л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ик, бага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2808720" y="5067360"/>
            <a:ext cx="4798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3327840" y="5067360"/>
            <a:ext cx="4294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3920760" y="5067360"/>
            <a:ext cx="4662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4532400" y="5067360"/>
            <a:ext cx="4294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5076000" y="5067360"/>
            <a:ext cx="431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0" y="0"/>
            <a:ext cx="9143640" cy="746316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зошло яркое солнц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уча закрыла солнце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4"/>
          <p:cNvSpPr/>
          <p:nvPr/>
        </p:nvSpPr>
        <p:spPr>
          <a:xfrm>
            <a:off x="8028360" y="141264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8028360" y="1338120"/>
            <a:ext cx="14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48640"/>
            <a:ext cx="822924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олнце, яркое, взошло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Туча, солнце, 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закрыла 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2267640" y="1124640"/>
            <a:ext cx="612036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зошло яркое солнц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Туча закрыла солнц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2267640" y="1845000"/>
            <a:ext cx="6858720" cy="4783680"/>
          </a:xfrm>
          <a:prstGeom prst="rect">
            <a:avLst/>
          </a:prstGeom>
          <a:noFill/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anchor="t">
            <a:spAutoFit/>
          </a:bodyPr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й в группе дружно, помни – вы одна кома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имай активное участие в работе, не будь в сторо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бойся высказывать своё м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й тихо, не старайся всех перекричать. Уважай мнение других участников груп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начаем того, кто будет отвеч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тавляем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цениваем рабо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1979640" y="188640"/>
            <a:ext cx="69843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Правила работы в групп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0" y="0"/>
            <a:ext cx="9143640" cy="746316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зошло яркое солнц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уча закрыла солнце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5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зошло яркое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  Туча закрыла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Тема Office">
  <a:themeElements>
    <a:clrScheme name="Другая 38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76923c"/>
      </a:hlink>
      <a:folHlink>
        <a:srgbClr val="76923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Тема Office">
  <a:themeElements>
    <a:clrScheme name="Другая 38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76923c"/>
      </a:hlink>
      <a:folHlink>
        <a:srgbClr val="76923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Тема Office">
  <a:themeElements>
    <a:clrScheme name="Другая 38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76923c"/>
      </a:hlink>
      <a:folHlink>
        <a:srgbClr val="76923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76923c"/>
      </a:hlink>
      <a:folHlink>
        <a:srgbClr val="76923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lemental</Template>
  <TotalTime>2175</TotalTime>
  <Application>LibreOffice/7.4.7.2$Linux_X86_64 LibreOffice_project/40$Build-2</Application>
  <AppVersion>15.0000</AppVersion>
  <Words>150</Words>
  <Paragraphs>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6T18:18:01Z</dcterms:created>
  <dc:creator>User</dc:creator>
  <dc:description/>
  <dc:language>en-US</dc:language>
  <cp:lastModifiedBy>321</cp:lastModifiedBy>
  <dcterms:modified xsi:type="dcterms:W3CDTF">2022-11-24T14:28:11Z</dcterms:modified>
  <cp:revision>1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1</vt:r8>
  </property>
</Properties>
</file>