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8A7-FABC-40F2-BA6C-C48FF532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7EC-307A-4C77-B350-960E555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D0E-A982-40E0-BCD6-0F39D727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FAC-4D3C-42D9-8712-BB4B1FE5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689-BAFE-4CD9-9810-23DBC855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F40-0AAC-43EE-BAAE-8A839B2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EA9-6D65-405C-BF77-E6E9A2A8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498-F607-4A56-B31B-3B917203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B80-C2DE-4DE3-9A75-55017BC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F30-F077-4726-A24D-50928F41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F82-A79A-450A-A2C3-398B337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003-91DD-4D5A-8E98-86F544D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4572-71CF-47E2-8653-93BA64C46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8888400" y="2266920"/>
            <a:ext cx="3370320" cy="2142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682640" y="3906720"/>
            <a:ext cx="7680600" cy="3006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3"/>
          <a:stretch/>
        </p:blipFill>
        <p:spPr>
          <a:xfrm>
            <a:off x="-182520" y="310356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4"/>
          <a:stretch/>
        </p:blipFill>
        <p:spPr>
          <a:xfrm>
            <a:off x="176040" y="6480"/>
            <a:ext cx="6847200" cy="267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1035000" y="692280"/>
            <a:ext cx="7128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оды, использованные  в работе над проектом: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, информационный, твор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 представления проект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ая 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70036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алерий Инкиж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944720" cy="3078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1612800" y="4519440"/>
            <a:ext cx="1871640" cy="1982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" name="Рисунок 4" descr=""/>
          <p:cNvPicPr/>
          <p:nvPr/>
        </p:nvPicPr>
        <p:blipFill>
          <a:blip r:embed="rId3"/>
          <a:stretch/>
        </p:blipFill>
        <p:spPr>
          <a:xfrm>
            <a:off x="6450120" y="2205000"/>
            <a:ext cx="2449440" cy="183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Рисунок 5" descr=""/>
          <p:cNvPicPr/>
          <p:nvPr/>
        </p:nvPicPr>
        <p:blipFill>
          <a:blip r:embed="rId4"/>
          <a:stretch/>
        </p:blipFill>
        <p:spPr>
          <a:xfrm>
            <a:off x="3487680" y="3336840"/>
            <a:ext cx="2928960" cy="223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TextBox 7"/>
          <p:cNvSpPr/>
          <p:nvPr/>
        </p:nvSpPr>
        <p:spPr>
          <a:xfrm>
            <a:off x="3851280" y="1008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895-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708360" y="476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уда Вамп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952720" cy="397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1316160" y="5013360"/>
            <a:ext cx="2208240" cy="165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Рисунок 4" descr=""/>
          <p:cNvPicPr/>
          <p:nvPr/>
        </p:nvPicPr>
        <p:blipFill>
          <a:blip r:embed="rId3"/>
          <a:stretch/>
        </p:blipFill>
        <p:spPr>
          <a:xfrm>
            <a:off x="3579840" y="3813120"/>
            <a:ext cx="2271600" cy="170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Рисунок 5" descr=""/>
          <p:cNvPicPr/>
          <p:nvPr/>
        </p:nvPicPr>
        <p:blipFill>
          <a:blip r:embed="rId4"/>
          <a:stretch/>
        </p:blipFill>
        <p:spPr>
          <a:xfrm>
            <a:off x="5886360" y="2492280"/>
            <a:ext cx="2975040" cy="219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Box 6"/>
          <p:cNvSpPr/>
          <p:nvPr/>
        </p:nvSpPr>
        <p:spPr>
          <a:xfrm>
            <a:off x="3403440" y="198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нимался в фильмах «Пропажа свидетеля» и «Сибиря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716360" y="105408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920-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851280" y="5745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иктор Жалс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309840" cy="209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1547640" y="4724280"/>
            <a:ext cx="2700360" cy="188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Рисунок 6" descr=""/>
          <p:cNvPicPr/>
          <p:nvPr/>
        </p:nvPicPr>
        <p:blipFill>
          <a:blip r:embed="rId3"/>
          <a:stretch/>
        </p:blipFill>
        <p:spPr>
          <a:xfrm>
            <a:off x="3267000" y="4005360"/>
            <a:ext cx="2540160" cy="1904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Рисунок 7" descr=""/>
          <p:cNvPicPr/>
          <p:nvPr/>
        </p:nvPicPr>
        <p:blipFill>
          <a:blip r:embed="rId4"/>
          <a:stretch/>
        </p:blipFill>
        <p:spPr>
          <a:xfrm>
            <a:off x="5364000" y="3328920"/>
            <a:ext cx="2521080" cy="189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" name="TextBox 8"/>
          <p:cNvSpPr/>
          <p:nvPr/>
        </p:nvSpPr>
        <p:spPr>
          <a:xfrm>
            <a:off x="4356000" y="61182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дры из фильма «Террито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19640" y="11588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770400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" descr=""/>
          <p:cNvPicPr/>
          <p:nvPr/>
        </p:nvPicPr>
        <p:blipFill>
          <a:blip r:embed="rId2"/>
          <a:stretch/>
        </p:blipFill>
        <p:spPr>
          <a:xfrm>
            <a:off x="-274680" y="-324000"/>
            <a:ext cx="9796680" cy="6018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132520" y="-3024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1" descr=""/>
          <p:cNvPicPr/>
          <p:nvPr/>
        </p:nvPicPr>
        <p:blipFill>
          <a:blip r:embed="rId2"/>
          <a:stretch/>
        </p:blipFill>
        <p:spPr>
          <a:xfrm>
            <a:off x="566640" y="1170000"/>
            <a:ext cx="813276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0920" y="765000"/>
            <a:ext cx="8694720" cy="6093000"/>
          </a:xfrm>
          <a:prstGeom prst="rect">
            <a:avLst/>
          </a:prstGeom>
          <a:gradFill rotWithShape="0">
            <a:gsLst>
              <a:gs pos="0">
                <a:srgbClr val="9fb2b3"/>
              </a:gs>
              <a:gs pos="100000">
                <a:srgbClr val="d1eaec">
                  <a:alpha val="17254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85640" y="1158840"/>
            <a:ext cx="846000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ая цель проект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я актеров бурятского кино, для сохранения культурного наследия отечестве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ематограф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395280" y="907920"/>
            <a:ext cx="8424720" cy="5616720"/>
          </a:xfrm>
          <a:prstGeom prst="rect">
            <a:avLst/>
          </a:prstGeom>
          <a:gradFill rotWithShape="0">
            <a:gsLst>
              <a:gs pos="0">
                <a:srgbClr val="9fb2b3"/>
              </a:gs>
              <a:gs pos="100000">
                <a:srgbClr val="d1eaec">
                  <a:alpha val="17254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8240" y="925560"/>
            <a:ext cx="821844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ознакомления с актёрами и фильмами бурятского кинематогра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алендарь с актёрами бурятского 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34920" y="3636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3560" y="14842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бор и анализ материа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здание  календар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 предст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убличная презент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611280" y="5540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46240" y="836280"/>
            <a:ext cx="869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а мак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ьно-техническая база для создания проду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у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595440" y="26028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ы реализаци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а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857160" y="907920"/>
            <a:ext cx="7777080" cy="5437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826920" y="1028880"/>
            <a:ext cx="3889440" cy="2447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3"/>
          <a:stretch/>
        </p:blipFill>
        <p:spPr>
          <a:xfrm>
            <a:off x="4911840" y="4005360"/>
            <a:ext cx="36734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246240" y="476280"/>
            <a:ext cx="8694720" cy="6094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4313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7720" y="129348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хранение культурного наследия кинематограф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Популяризация бурятских  филь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042920" y="52380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539640" y="333360"/>
            <a:ext cx="8134560" cy="6335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>
                  <a:alpha val="49019"/>
                </a:srgbClr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-27000" y="38160"/>
            <a:ext cx="9144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доминирующей в проекте деятельности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-конструкторский с заранее выработанным  представлением о проду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й деятельности (календ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предметно-содержательной област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количеству участников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широте охвата содерж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едмет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11:45Z</dcterms:created>
  <dc:creator>pupil4</dc:creator>
  <dc:description>Корпорация Майкрософт</dc:description>
  <cp:keywords>Корпорация Майкрософт</cp:keywords>
  <dc:language>en-US</dc:language>
  <cp:lastModifiedBy>User5</cp:lastModifiedBy>
  <dcterms:modified xsi:type="dcterms:W3CDTF">2023-04-05T11:56:21Z</dcterms:modified>
  <cp:revision>114</cp:revision>
  <dc:subject>Шаблон оформлен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