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3BFC-75E6-49CD-8BF8-792DC406A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C4DA-D0C0-4A03-8C62-CF349037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5D7A-0D4B-418C-8B86-7D687F2F1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7969-B1F4-4FEE-AF38-173C9CDA3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25DE-0549-4B62-9FC6-8FD3F177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D156-BC99-433A-9173-98898C59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2099-168F-4E50-8DC1-7297B37B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A8E9-C268-4194-9648-6AB9E718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831B-773C-4214-8F03-668DD273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BAFE-1A6A-426D-86FA-216A900A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909A-3D5A-4D3B-84F8-204C025E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91D4-E060-415C-BE5D-5E8DE906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5448-14F5-4694-922C-71CAC62CDC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8888400" y="2266920"/>
            <a:ext cx="3370320" cy="2142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1682640" y="3906720"/>
            <a:ext cx="7680600" cy="300672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2" descr=""/>
          <p:cNvPicPr/>
          <p:nvPr/>
        </p:nvPicPr>
        <p:blipFill>
          <a:blip r:embed="rId3"/>
          <a:stretch/>
        </p:blipFill>
        <p:spPr>
          <a:xfrm>
            <a:off x="-182520" y="310356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5" descr=""/>
          <p:cNvPicPr/>
          <p:nvPr/>
        </p:nvPicPr>
        <p:blipFill>
          <a:blip r:embed="rId4"/>
          <a:stretch/>
        </p:blipFill>
        <p:spPr>
          <a:xfrm>
            <a:off x="176040" y="6480"/>
            <a:ext cx="6847200" cy="2676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2"/>
          <p:cNvSpPr/>
          <p:nvPr/>
        </p:nvSpPr>
        <p:spPr>
          <a:xfrm>
            <a:off x="246240" y="476280"/>
            <a:ext cx="8694720" cy="609444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>
                  <a:alpha val="44313"/>
                </a:srgbClr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"/>
          <p:cNvSpPr/>
          <p:nvPr/>
        </p:nvSpPr>
        <p:spPr>
          <a:xfrm>
            <a:off x="1035000" y="692280"/>
            <a:ext cx="712800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Методы, использованные  в работе над проектом: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ий, информационный, творче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Форма представления проекта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бличная презент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2700360" y="47628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алерий Инкижи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2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1944720" cy="3078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1" name="Рисунок 3" descr=""/>
          <p:cNvPicPr/>
          <p:nvPr/>
        </p:nvPicPr>
        <p:blipFill>
          <a:blip r:embed="rId2"/>
          <a:stretch/>
        </p:blipFill>
        <p:spPr>
          <a:xfrm>
            <a:off x="1612800" y="4519440"/>
            <a:ext cx="1871640" cy="1982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2" name="Рисунок 4" descr=""/>
          <p:cNvPicPr/>
          <p:nvPr/>
        </p:nvPicPr>
        <p:blipFill>
          <a:blip r:embed="rId3"/>
          <a:stretch/>
        </p:blipFill>
        <p:spPr>
          <a:xfrm>
            <a:off x="6450120" y="2205000"/>
            <a:ext cx="2449440" cy="1836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3" name="Рисунок 5" descr=""/>
          <p:cNvPicPr/>
          <p:nvPr/>
        </p:nvPicPr>
        <p:blipFill>
          <a:blip r:embed="rId4"/>
          <a:stretch/>
        </p:blipFill>
        <p:spPr>
          <a:xfrm>
            <a:off x="3487680" y="3336840"/>
            <a:ext cx="2928960" cy="223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74" name="TextBox 7"/>
          <p:cNvSpPr/>
          <p:nvPr/>
        </p:nvSpPr>
        <p:spPr>
          <a:xfrm>
            <a:off x="3851280" y="100800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895-19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3708360" y="47628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Буда Вампил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2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2952720" cy="3973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7" name="Рисунок 3" descr=""/>
          <p:cNvPicPr/>
          <p:nvPr/>
        </p:nvPicPr>
        <p:blipFill>
          <a:blip r:embed="rId2"/>
          <a:stretch/>
        </p:blipFill>
        <p:spPr>
          <a:xfrm>
            <a:off x="1316160" y="5013360"/>
            <a:ext cx="2208240" cy="16556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8" name="Рисунок 4" descr=""/>
          <p:cNvPicPr/>
          <p:nvPr/>
        </p:nvPicPr>
        <p:blipFill>
          <a:blip r:embed="rId3"/>
          <a:stretch/>
        </p:blipFill>
        <p:spPr>
          <a:xfrm>
            <a:off x="3579840" y="3813120"/>
            <a:ext cx="2271600" cy="1703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9" name="Рисунок 5" descr=""/>
          <p:cNvPicPr/>
          <p:nvPr/>
        </p:nvPicPr>
        <p:blipFill>
          <a:blip r:embed="rId4"/>
          <a:stretch/>
        </p:blipFill>
        <p:spPr>
          <a:xfrm>
            <a:off x="5886360" y="2492280"/>
            <a:ext cx="2975040" cy="2197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80" name="TextBox 6"/>
          <p:cNvSpPr/>
          <p:nvPr/>
        </p:nvSpPr>
        <p:spPr>
          <a:xfrm>
            <a:off x="3403440" y="198900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нимался в фильмах «Пропажа свидетеля» и «Сибиряч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>
            <a:off x="4716360" y="1054080"/>
            <a:ext cx="33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920-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3851280" y="574560"/>
            <a:ext cx="40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иктор Жалса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3309840" cy="2092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4" name="Рисунок 5" descr=""/>
          <p:cNvPicPr/>
          <p:nvPr/>
        </p:nvPicPr>
        <p:blipFill>
          <a:blip r:embed="rId2"/>
          <a:stretch/>
        </p:blipFill>
        <p:spPr>
          <a:xfrm>
            <a:off x="1547640" y="4724280"/>
            <a:ext cx="2700360" cy="1887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5" name="Рисунок 6" descr=""/>
          <p:cNvPicPr/>
          <p:nvPr/>
        </p:nvPicPr>
        <p:blipFill>
          <a:blip r:embed="rId3"/>
          <a:stretch/>
        </p:blipFill>
        <p:spPr>
          <a:xfrm>
            <a:off x="3267000" y="4005360"/>
            <a:ext cx="2540160" cy="19047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6" name="Рисунок 7" descr=""/>
          <p:cNvPicPr/>
          <p:nvPr/>
        </p:nvPicPr>
        <p:blipFill>
          <a:blip r:embed="rId4"/>
          <a:stretch/>
        </p:blipFill>
        <p:spPr>
          <a:xfrm>
            <a:off x="5364000" y="3328920"/>
            <a:ext cx="2521080" cy="1890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87" name="TextBox 8"/>
          <p:cNvSpPr/>
          <p:nvPr/>
        </p:nvSpPr>
        <p:spPr>
          <a:xfrm>
            <a:off x="4356000" y="61182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дры из фильма «Территор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5219640" y="115884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468360" y="3357720"/>
            <a:ext cx="7704000" cy="3500280"/>
          </a:xfrm>
          <a:prstGeom prst="rect">
            <a:avLst/>
          </a:prstGeom>
          <a:ln w="0">
            <a:noFill/>
          </a:ln>
        </p:spPr>
      </p:pic>
      <p:pic>
        <p:nvPicPr>
          <p:cNvPr id="90" name="TextBox 1" descr=""/>
          <p:cNvPicPr/>
          <p:nvPr/>
        </p:nvPicPr>
        <p:blipFill>
          <a:blip r:embed="rId2"/>
          <a:stretch/>
        </p:blipFill>
        <p:spPr>
          <a:xfrm>
            <a:off x="-274680" y="-324000"/>
            <a:ext cx="9796680" cy="6018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5132520" y="-30240"/>
            <a:ext cx="3779640" cy="3780000"/>
          </a:xfrm>
          <a:prstGeom prst="rect">
            <a:avLst/>
          </a:prstGeom>
          <a:ln w="0">
            <a:noFill/>
          </a:ln>
        </p:spPr>
      </p:pic>
      <p:pic>
        <p:nvPicPr>
          <p:cNvPr id="46" name="TextBox 1" descr=""/>
          <p:cNvPicPr/>
          <p:nvPr/>
        </p:nvPicPr>
        <p:blipFill>
          <a:blip r:embed="rId2"/>
          <a:stretch/>
        </p:blipFill>
        <p:spPr>
          <a:xfrm>
            <a:off x="566640" y="1170000"/>
            <a:ext cx="8132760" cy="46576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250920" y="765000"/>
            <a:ext cx="8694720" cy="6093000"/>
          </a:xfrm>
          <a:prstGeom prst="rect">
            <a:avLst/>
          </a:prstGeom>
          <a:gradFill rotWithShape="0">
            <a:gsLst>
              <a:gs pos="0">
                <a:srgbClr val="9fb2b3"/>
              </a:gs>
              <a:gs pos="100000">
                <a:srgbClr val="d1eaec">
                  <a:alpha val="17254"/>
                </a:srgbClr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485640" y="1158840"/>
            <a:ext cx="8460000" cy="55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лавная цель проекта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з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лендаря актеров бурятского кино, для сохранения культурного наследия отечественног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инематограф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3"/>
          <p:cNvSpPr/>
          <p:nvPr/>
        </p:nvSpPr>
        <p:spPr>
          <a:xfrm>
            <a:off x="395280" y="907920"/>
            <a:ext cx="8424720" cy="5616720"/>
          </a:xfrm>
          <a:prstGeom prst="rect">
            <a:avLst/>
          </a:prstGeom>
          <a:gradFill rotWithShape="0">
            <a:gsLst>
              <a:gs pos="0">
                <a:srgbClr val="9fb2b3"/>
              </a:gs>
              <a:gs pos="100000">
                <a:srgbClr val="d1eaec">
                  <a:alpha val="17254"/>
                </a:srgbClr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98240" y="925560"/>
            <a:ext cx="821844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условия для ознакомления с актёрами и фильмами бурятского кинематогра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ь календарь с актёрами бурятского ки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934920" y="36360"/>
            <a:ext cx="734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дачи проекта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3"/>
          <p:cNvSpPr/>
          <p:nvPr/>
        </p:nvSpPr>
        <p:spPr>
          <a:xfrm>
            <a:off x="246240" y="476280"/>
            <a:ext cx="8694720" cy="609444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>
                  <a:alpha val="44313"/>
                </a:srgbClr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93560" y="1484280"/>
            <a:ext cx="8229600" cy="47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готовительный эта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бор и анализ материал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ой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а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здание  календаря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ап представл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убличная презентац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611280" y="55404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тапы реализации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3"/>
          <p:cNvSpPr/>
          <p:nvPr/>
        </p:nvSpPr>
        <p:spPr>
          <a:xfrm>
            <a:off x="246240" y="476280"/>
            <a:ext cx="8694720" cy="609444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>
                  <a:alpha val="44313"/>
                </a:srgbClr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46240" y="836280"/>
            <a:ext cx="869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работка мак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териально-техническая база для создания проду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пус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зента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"/>
          <p:cNvSpPr/>
          <p:nvPr/>
        </p:nvSpPr>
        <p:spPr>
          <a:xfrm>
            <a:off x="595440" y="260280"/>
            <a:ext cx="79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ханизмы реализации проект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3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Мак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Объект 5" descr=""/>
          <p:cNvPicPr/>
          <p:nvPr/>
        </p:nvPicPr>
        <p:blipFill>
          <a:blip r:embed="rId1"/>
          <a:stretch/>
        </p:blipFill>
        <p:spPr>
          <a:xfrm>
            <a:off x="857160" y="907920"/>
            <a:ext cx="7777080" cy="54374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6" descr=""/>
          <p:cNvPicPr/>
          <p:nvPr/>
        </p:nvPicPr>
        <p:blipFill>
          <a:blip r:embed="rId2"/>
          <a:stretch/>
        </p:blipFill>
        <p:spPr>
          <a:xfrm>
            <a:off x="826920" y="1028880"/>
            <a:ext cx="3889440" cy="24476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7" descr=""/>
          <p:cNvPicPr/>
          <p:nvPr/>
        </p:nvPicPr>
        <p:blipFill>
          <a:blip r:embed="rId3"/>
          <a:stretch/>
        </p:blipFill>
        <p:spPr>
          <a:xfrm>
            <a:off x="4911840" y="4005360"/>
            <a:ext cx="3673440" cy="2303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3"/>
          <p:cNvSpPr/>
          <p:nvPr/>
        </p:nvSpPr>
        <p:spPr>
          <a:xfrm>
            <a:off x="246240" y="476280"/>
            <a:ext cx="8694720" cy="609444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>
                  <a:alpha val="44313"/>
                </a:srgbClr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77720" y="1293480"/>
            <a:ext cx="822960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хранение культурного наследия кинематограф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Популяризация бурятских  фильм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1042920" y="52380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жидаемые результа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2"/>
          <p:cNvSpPr/>
          <p:nvPr/>
        </p:nvSpPr>
        <p:spPr>
          <a:xfrm>
            <a:off x="539640" y="333360"/>
            <a:ext cx="8134560" cy="633564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>
                  <a:alpha val="49019"/>
                </a:srgbClr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-27000" y="38160"/>
            <a:ext cx="914400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ип проек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 доминирующей в проекте деятельности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                         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о-конструкторский с заранее выработанным  представлением о продук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ой деятельности (календар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 предметно-содержательной области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 количеству участников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 широте охвата содержан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предметн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01:11:45Z</dcterms:created>
  <dc:creator>pupil4</dc:creator>
  <dc:description>Корпорация Майкрософт</dc:description>
  <cp:keywords>Корпорация Майкрософт</cp:keywords>
  <dc:language>en-US</dc:language>
  <cp:lastModifiedBy>User5</cp:lastModifiedBy>
  <dcterms:modified xsi:type="dcterms:W3CDTF">2023-04-05T11:56:21Z</dcterms:modified>
  <cp:revision>114</cp:revision>
  <dc:subject>Шаблон оформления</dc:subject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31791049</vt:lpwstr>
  </property>
</Properties>
</file>