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23DA-FE5B-4ED6-B6A6-F98B570C2AFE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EAB9-A6DE-4690-93D7-B5443D39D88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219B-F690-49BE-9EFC-0B2655D7C88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3ADE-A7B0-4FC1-95CA-02335640C4B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0F8E-FCB4-48AE-B307-2378E27D4A0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939F-76B0-4D8F-A689-2AB89ED0F58F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D345-F934-4BBF-AA0F-A194AA0C80AF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1155-E885-48CF-876C-35628FDF85A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F554-7BC7-465A-84BA-8EE12B103E5F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9EC5-5792-4F2A-9DFD-D64C2AC6159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3263-7B3B-486E-BBB3-331FAD6E2110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B0BF-26F4-42F6-A0E3-255BD9AC12F9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B72B-AB57-444D-9FCB-AD32CB65305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9DE7-7BAE-4FD7-A99C-22C5FDF64C40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B0E3-33D7-496E-A062-60A0D035BBC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7FFF-CB91-4168-851F-980D246DA22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24B8-3CBE-460C-AC7E-53043E16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F5FD0-E899-42C6-B922-321546FF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60C1-290B-42E8-9EA7-EE383EAF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1F5C-6B04-4D78-8AE8-29CA188B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82253-69B0-4B75-BD79-27DE4BF4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1D0A3-C755-4DAF-9FED-74E41499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93131-43C1-4FA0-8F75-0347F511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DB77E-273C-489B-B218-78F1C9B2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91B06-3FF6-4C37-8C03-ECD5FFDB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2D94A-F48E-4DF1-8748-9E28B570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6F7BB-946A-4EEE-B2C9-EE4CF1B6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23D8C-C40B-4F3E-949F-57267FD0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89B02-5061-47E3-90C5-DDEFAA66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26125-CD90-4DEB-864C-8D97691A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22C17-0008-4405-AB0E-6CB9C49E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E44F3-2F40-4F78-A0DD-5B105555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E3B4F-B0F3-4E39-8371-E7E0C161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79E0-3353-4563-82F0-495D94C2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F5336-347D-4CB9-BD11-6A26FCC3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60C0-E2E4-4489-B1DB-9F86F47A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2F1BF-6435-433D-B220-7D2236C8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50993-D9A9-4AF1-9333-5D31E186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C90F5-FB53-4888-BF08-75B87370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54C1-E50F-4C17-AB58-E59CC45B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1" name="Group 2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2" name="AutoShape 3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>
                  <a:gd name="textAreaLeft" fmla="*/ 0 w 4573440"/>
                  <a:gd name="textAreaRight" fmla="*/ 4573800 w 4573440"/>
                  <a:gd name="textAreaTop" fmla="*/ 0 h 2651400"/>
                  <a:gd name="textAreaBottom" fmla="*/ 2651760 h 2651400"/>
                </a:gdLst>
                <a:ahLst/>
                <a:rect l="textAreaLeft" t="textAreaTop" r="textAreaRight" b="textAreaBottom"/>
                <a:pathLst>
                  <a:path w="2881" h="1670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c4272"/>
                  </a:gs>
                  <a:gs pos="100000">
                    <a:srgbClr val="1f497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" name="AutoShape 4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>
                  <a:gd name="textAreaLeft" fmla="*/ 0 w 1996920"/>
                  <a:gd name="textAreaRight" fmla="*/ 1997280 w 199692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8" h="810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c4272"/>
                  </a:gs>
                  <a:gs pos="100000">
                    <a:srgbClr val="1f497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" name="AutoShape 5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536840"/>
                  <a:gd name="textAreaBottom" fmla="*/ 1537200 h 1536840"/>
                </a:gdLst>
                <a:ahLst/>
                <a:rect l="textAreaLeft" t="textAreaTop" r="textAreaRight" b="textAreaBottom"/>
                <a:pathLst>
                  <a:path w="2848" h="968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" name="AutoShape 6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>
                  <a:gd name="textAreaLeft" fmla="*/ 0 w 4772160"/>
                  <a:gd name="textAreaRight" fmla="*/ 4772520 w 4772160"/>
                  <a:gd name="textAreaTop" fmla="*/ 0 h 3308400"/>
                  <a:gd name="textAreaBottom" fmla="*/ 3308760 h 3308400"/>
                </a:gdLst>
                <a:ahLst/>
                <a:rect l="textAreaLeft" t="textAreaTop" r="textAreaRight" b="textAreaBottom"/>
                <a:pathLst>
                  <a:path w="3006" h="2084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>
                  <a:gd name="textAreaLeft" fmla="*/ 0 w 1979640"/>
                  <a:gd name="textAreaRight" fmla="*/ 1980000 w 1979640"/>
                  <a:gd name="textAreaTop" fmla="*/ 0 h 854280"/>
                  <a:gd name="textAreaBottom" fmla="*/ 854640 h 854280"/>
                </a:gdLst>
                <a:ahLst/>
                <a:rect l="textAreaLeft" t="textAreaTop" r="textAreaRight" b="textAreaBottom"/>
                <a:pathLst>
                  <a:path w="1247" h="538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b406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7" name="AutoShape 8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1824" h="1536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1a3e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2817720"/>
                <a:gd name="textAreaBottom" fmla="*/ 2818080 h 2817720"/>
              </a:gdLst>
              <a:ahLst/>
              <a:rect l="textAreaLeft" t="textAreaTop" r="textAreaRight" b="textAreaBottom"/>
              <a:pathLst>
                <a:path w="5757" h="1775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ftr" idx="1"/>
          </p:nvPr>
        </p:nvSpPr>
        <p:spPr>
          <a:xfrm>
            <a:off x="3123720" y="625104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ldNum" idx="2"/>
          </p:nvPr>
        </p:nvSpPr>
        <p:spPr>
          <a:xfrm>
            <a:off x="6552720" y="625428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C167-1A27-49BE-8492-21A0E21EA3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3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52" name="AutoShape 3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>
                  <a:gd name="textAreaLeft" fmla="*/ 0 w 4573440"/>
                  <a:gd name="textAreaRight" fmla="*/ 4573800 w 4573440"/>
                  <a:gd name="textAreaTop" fmla="*/ 0 h 2651400"/>
                  <a:gd name="textAreaBottom" fmla="*/ 2651760 h 2651400"/>
                </a:gdLst>
                <a:ahLst/>
                <a:rect l="textAreaLeft" t="textAreaTop" r="textAreaRight" b="textAreaBottom"/>
                <a:pathLst>
                  <a:path w="2881" h="1670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c4272"/>
                  </a:gs>
                  <a:gs pos="100000">
                    <a:srgbClr val="1f497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" name="AutoShape 4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>
                  <a:gd name="textAreaLeft" fmla="*/ 0 w 1996920"/>
                  <a:gd name="textAreaRight" fmla="*/ 1997280 w 199692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8" h="810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c4272"/>
                  </a:gs>
                  <a:gs pos="100000">
                    <a:srgbClr val="1f497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" name="AutoShape 5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536840"/>
                  <a:gd name="textAreaBottom" fmla="*/ 1537200 h 1536840"/>
                </a:gdLst>
                <a:ahLst/>
                <a:rect l="textAreaLeft" t="textAreaTop" r="textAreaRight" b="textAreaBottom"/>
                <a:pathLst>
                  <a:path w="2848" h="968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" name="AutoShape 6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>
                  <a:gd name="textAreaLeft" fmla="*/ 0 w 4772160"/>
                  <a:gd name="textAreaRight" fmla="*/ 4772520 w 4772160"/>
                  <a:gd name="textAreaTop" fmla="*/ 0 h 3308400"/>
                  <a:gd name="textAreaBottom" fmla="*/ 3308760 h 3308400"/>
                </a:gdLst>
                <a:ahLst/>
                <a:rect l="textAreaLeft" t="textAreaTop" r="textAreaRight" b="textAreaBottom"/>
                <a:pathLst>
                  <a:path w="3006" h="2084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" name="AutoShape 7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>
                  <a:gd name="textAreaLeft" fmla="*/ 0 w 1979640"/>
                  <a:gd name="textAreaRight" fmla="*/ 1980000 w 1979640"/>
                  <a:gd name="textAreaTop" fmla="*/ 0 h 854280"/>
                  <a:gd name="textAreaBottom" fmla="*/ 854640 h 854280"/>
                </a:gdLst>
                <a:ahLst/>
                <a:rect l="textAreaLeft" t="textAreaTop" r="textAreaRight" b="textAreaBottom"/>
                <a:pathLst>
                  <a:path w="1247" h="538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b406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57" name="AutoShape 8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1824" h="1536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1a3e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58" name="AutoShape 9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2817720"/>
                <a:gd name="textAreaBottom" fmla="*/ 2818080 h 2817720"/>
              </a:gdLst>
              <a:ahLst/>
              <a:rect l="textAreaLeft" t="textAreaTop" r="textAreaRight" b="textAreaBottom"/>
              <a:pathLst>
                <a:path w="5757" h="1775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ftr" idx="4"/>
          </p:nvPr>
        </p:nvSpPr>
        <p:spPr>
          <a:xfrm>
            <a:off x="3123720" y="624852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89EC-BE63-4179-A0FD-283BC6EC0F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6"/>
          </p:nvPr>
        </p:nvSpPr>
        <p:spPr>
          <a:xfrm>
            <a:off x="457200" y="625104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5580000" y="115920"/>
            <a:ext cx="34480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ПОУ ТО «ЩПК»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3894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711680" y="3562200"/>
            <a:ext cx="4432320" cy="332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5775480" y="115920"/>
            <a:ext cx="2304720" cy="21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4"/>
          <a:srcRect l="0" t="13383" r="0" b="0"/>
          <a:stretch/>
        </p:blipFill>
        <p:spPr>
          <a:xfrm>
            <a:off x="6480" y="3794040"/>
            <a:ext cx="4705200" cy="3056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293760" y="836640"/>
            <a:ext cx="72864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Назовите русскую народную сказку,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ересказанную К.Ушинским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оторая имеет 16 русских вариантов, 8 – украинских, 5 – белорусских. А похожий герой и сюжет известны в фольклоре балтских, скандинавских, германских народов, а также в узбекском и татарском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ОБОК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3304" t="4059" r="14612" b="2919"/>
          <a:stretch/>
        </p:blipFill>
        <p:spPr>
          <a:xfrm>
            <a:off x="6548400" y="3522600"/>
            <a:ext cx="2595600" cy="334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50920" y="1052640"/>
            <a:ext cx="8143920" cy="48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на стала первым учителем и жизненным наставником А.С. Пушкина, хоть и не имела совершенно никакого образования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яня Арина Родионовн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4643280" y="3789360"/>
            <a:ext cx="4160880" cy="2711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16000" y="963720"/>
            <a:ext cx="8640720" cy="56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имя великого деятеля России и мира, который один из первых открыл  бесплатную школу для крестьянских детей, создал для них Азбуку и программу обучения в начальной школе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в Николаевич Толстой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59 год основал школу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Ясной Поляне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4873680" y="3303720"/>
            <a:ext cx="4067280" cy="3340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395280" y="765000"/>
            <a:ext cx="80010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прос: </a:t>
            </a:r>
            <a:r>
              <a:rPr b="0" lang="ru-RU" sz="2800" spc="-1" strike="noStrike">
                <a:solidFill>
                  <a:srgbClr val="ffffff"/>
                </a:solidFill>
                <a:latin typeface="PT Sans"/>
              </a:rPr>
              <a:t>Одна из основных наград этого великого русского деятеля, конечно же педагога и наставника, — основание Московского университета, в котором могли обучаться не только представители высших сословий, но и крестьяне, так как и сам он был из семьи крестьянин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хаил Васильевич ЛОМОНОСОВ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5651640" y="4127400"/>
            <a:ext cx="2966760" cy="2543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857160" y="1143000"/>
            <a:ext cx="764388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Назовите имя знаменитого  педагога и наставника великого царя и завоевателя Александра Македонского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истотель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4275000" y="3933720"/>
            <a:ext cx="487368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500040" y="1785960"/>
            <a:ext cx="86439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2d050"/>
                </a:solidFill>
                <a:uFillTx/>
                <a:latin typeface="Garamond"/>
              </a:rPr>
              <a:t>Подведение итогов виктори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143160" y="2786040"/>
            <a:ext cx="2990880" cy="2847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08000" y="189000"/>
          <a:ext cx="8858160" cy="6383160"/>
        </p:xfrm>
        <a:graphic>
          <a:graphicData uri="http://schemas.openxmlformats.org/drawingml/2006/table">
            <a:tbl>
              <a:tblPr/>
              <a:tblGrid>
                <a:gridCol w="4408560"/>
                <a:gridCol w="1172880"/>
                <a:gridCol w="1170000"/>
                <a:gridCol w="1052640"/>
                <a:gridCol w="105408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Жизнь и деятельнос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. Ушинског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ccccff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Ушинский  - добрый сказочн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еликие педагоги и наставники ми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4" name="AutoShape 55"/>
          <p:cNvSpPr/>
          <p:nvPr/>
        </p:nvSpPr>
        <p:spPr>
          <a:xfrm>
            <a:off x="642960" y="6286680"/>
            <a:ext cx="357120" cy="285480"/>
          </a:xfrm>
          <a:custGeom>
            <a:avLst/>
            <a:gdLst>
              <a:gd name="textAreaLeft" fmla="*/ 0 w 357120"/>
              <a:gd name="textAreaRight" fmla="*/ 357480 w 35712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57187" h="28575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365040" y="1125360"/>
            <a:ext cx="803592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  <a:ea typeface="Calibri"/>
              </a:rPr>
              <a:t>10 баллов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Calibri"/>
              </a:rPr>
              <a:t>Вопрос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Детство и юность К. Ушинского прошли в украинском городке Новгороде Северском. А в каком городе родился деятель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Calibri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уле в 1823 году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788000" y="3983040"/>
            <a:ext cx="4336920" cy="2874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68360" y="1197000"/>
            <a:ext cx="807228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  <a:ea typeface="Calibri"/>
              </a:rPr>
              <a:t>20 баллов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прос: Кем был К.Ушинский по образованию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Calibri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был юристо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289480" y="3213000"/>
            <a:ext cx="3267000" cy="2944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50920" y="1074600"/>
            <a:ext cx="73580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  <a:ea typeface="Calibri"/>
              </a:rPr>
              <a:t>30 баллов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прос: Работая в каком учебном заведении К. Ушинскому удалось реализовать свои педагогические реформы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Calibri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859 году Ушинский был назначен инспектором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льного институт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родных девиц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11623" t="0" r="0" b="0"/>
          <a:stretch/>
        </p:blipFill>
        <p:spPr>
          <a:xfrm>
            <a:off x="5565600" y="3782880"/>
            <a:ext cx="361008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571680" y="1049400"/>
            <a:ext cx="821520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  <a:ea typeface="Calibri"/>
              </a:rPr>
              <a:t>50 баллов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прос: Как называется, созданная К.Ушинским «азбука и первая после азбуки книга для чтения, с прописями… и картинками в тексте», служившая основой  обучения в начальной школе вплоть до основания СССР. Применяется и в                             современном образовани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Calibri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«РОДНОЕ СЛОВО»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033960" y="3747960"/>
            <a:ext cx="3110040" cy="3110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08000" y="692280"/>
            <a:ext cx="7572240" cy="60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Название притчи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едушка и внучек»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rcRect l="10064" t="21544" r="14058" b="9541"/>
          <a:stretch/>
        </p:blipFill>
        <p:spPr>
          <a:xfrm>
            <a:off x="3203640" y="2060640"/>
            <a:ext cx="5689440" cy="3879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50920" y="765000"/>
            <a:ext cx="878508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Какая стихия стала СУДЬЁЙ в споре между Огнём и Водой в сказке К.Ушинского                       «Спор Воды с Огнём»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ТЕР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3851280" y="2897280"/>
            <a:ext cx="528012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642960" y="919080"/>
            <a:ext cx="785808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прос: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место где произошла беседа отца и сына из рассказа К. Ушинского «Паук»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НОГРАДНИК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356000" y="3665520"/>
            <a:ext cx="4784760" cy="3189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05-05T09:39:26Z</dcterms:modified>
  <cp:revision>1</cp:revision>
  <dc:subject/>
  <dc:title>Презентация PowerPoint</dc:title>
</cp:coreProperties>
</file>