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341B-B985-4263-A06B-FAD28ACA2F4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685D-FABB-4937-AFED-D514AD54ACA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9033-6A1B-4F8A-96EA-7AEBA316461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372D-D6C2-4D47-9266-D8045386DD4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B28B-A888-4A38-8242-EBDB558E4D6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667F-1CC0-40DA-B7EE-1346EE05ABD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FE8D-8BF1-4635-838E-607C30257F8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3A4E-8D02-4983-8B7C-23B8C8198DB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8F97-7033-4CB1-BA7B-75BA61F2423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C86D-D523-412F-999E-109E0541939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1D55-E3F7-4758-BA1D-5790EA6E647C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9611-74EF-48F2-8A04-981324D0B6E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99CD-D1AF-4167-ABEF-6B011DC535D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F4FD-EBAE-4903-8A7E-B8761C24431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8CFA-D8D5-4BEC-AF3C-56B85369F6E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0CC9-E888-4E68-B426-BBE8ED3046D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5D05-9CCD-4879-B0E5-BEA8888D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2A1A-AEBD-4246-BEB6-D4C7D926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8EF8-9B53-4716-91E4-E7F4233C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E5DE-9817-4183-AB3B-9470EC11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711D1-5C08-484B-AF75-1E8CA3E1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130D4-4881-414D-A671-5CCF1730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059BF-C384-44C2-8841-9B15C741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EE79F-4287-4D81-AE99-500DE186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C25BA-CD4B-4140-9DAF-6E8E865B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2FE35-86E1-4007-8C73-1847F953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4AC0B-A185-4CD2-A219-159BF05C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747FC-35AE-4FD8-994B-1F9D5C08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38CA1-753C-43CB-B537-EB0E8C81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31C00-8269-491A-999F-5738E90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12351-80CA-4287-94DC-1FFCB2E3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FBFB8-92E6-47DB-A05E-8D77A3AB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23A1E-2213-4A6F-B198-BA8C983F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C58D-CEB1-4652-8B56-F5BBFA86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2742-2ACE-4DCB-934D-F222D7C9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E6F8-B959-4639-A64F-03F25C08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B812-8B1E-4C1A-A77A-FE315C5A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4A85-BD98-41FE-A228-AA1D5FB8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7330-2E40-4B54-BD26-646B27B7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FB50-D9FA-4410-9FB5-97F12955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1" name="Group 2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2" name="AutoShape 3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>
                  <a:gd name="textAreaLeft" fmla="*/ 0 w 4573440"/>
                  <a:gd name="textAreaRight" fmla="*/ 4573800 w 4573440"/>
                  <a:gd name="textAreaTop" fmla="*/ 0 h 2651400"/>
                  <a:gd name="textAreaBottom" fmla="*/ 2651760 h 2651400"/>
                </a:gdLst>
                <a:ahLst/>
                <a:rect l="textAreaLeft" t="textAreaTop" r="textAreaRight" b="textAreaBottom"/>
                <a:pathLst>
                  <a:path w="2881" h="1670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" name="AutoShape 4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>
                  <a:gd name="textAreaLeft" fmla="*/ 0 w 1996920"/>
                  <a:gd name="textAreaRight" fmla="*/ 1997280 w 199692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8" h="810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" name="AutoShape 5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536840"/>
                  <a:gd name="textAreaBottom" fmla="*/ 1537200 h 1536840"/>
                </a:gdLst>
                <a:ahLst/>
                <a:rect l="textAreaLeft" t="textAreaTop" r="textAreaRight" b="textAreaBottom"/>
                <a:pathLst>
                  <a:path w="2848" h="968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>
                  <a:gd name="textAreaLeft" fmla="*/ 0 w 4772160"/>
                  <a:gd name="textAreaRight" fmla="*/ 4772520 w 4772160"/>
                  <a:gd name="textAreaTop" fmla="*/ 0 h 3308400"/>
                  <a:gd name="textAreaBottom" fmla="*/ 3308760 h 3308400"/>
                </a:gdLst>
                <a:ahLst/>
                <a:rect l="textAreaLeft" t="textAreaTop" r="textAreaRight" b="textAreaBottom"/>
                <a:pathLst>
                  <a:path w="3006" h="2084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>
                  <a:gd name="textAreaLeft" fmla="*/ 0 w 1979640"/>
                  <a:gd name="textAreaRight" fmla="*/ 1980000 w 19796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1247" h="538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b40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7" name="AutoShape 8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1824" h="1536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1a3e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817720"/>
                <a:gd name="textAreaBottom" fmla="*/ 2818080 h 2817720"/>
              </a:gdLst>
              <a:ahLst/>
              <a:rect l="textAreaLeft" t="textAreaTop" r="textAreaRight" b="textAreaBottom"/>
              <a:pathLst>
                <a:path w="5757" h="1775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ftr" idx="1"/>
          </p:nvPr>
        </p:nvSpPr>
        <p:spPr>
          <a:xfrm>
            <a:off x="3123720" y="625104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2"/>
          </p:nvPr>
        </p:nvSpPr>
        <p:spPr>
          <a:xfrm>
            <a:off x="6552720" y="62542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2753-37FC-4103-9468-239134CB2E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3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AutoShape 3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>
                  <a:gd name="textAreaLeft" fmla="*/ 0 w 4573440"/>
                  <a:gd name="textAreaRight" fmla="*/ 4573800 w 4573440"/>
                  <a:gd name="textAreaTop" fmla="*/ 0 h 2651400"/>
                  <a:gd name="textAreaBottom" fmla="*/ 2651760 h 2651400"/>
                </a:gdLst>
                <a:ahLst/>
                <a:rect l="textAreaLeft" t="textAreaTop" r="textAreaRight" b="textAreaBottom"/>
                <a:pathLst>
                  <a:path w="2881" h="1670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" name="AutoShape 4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>
                  <a:gd name="textAreaLeft" fmla="*/ 0 w 1996920"/>
                  <a:gd name="textAreaRight" fmla="*/ 1997280 w 199692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8" h="810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" name="AutoShape 5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536840"/>
                  <a:gd name="textAreaBottom" fmla="*/ 1537200 h 1536840"/>
                </a:gdLst>
                <a:ahLst/>
                <a:rect l="textAreaLeft" t="textAreaTop" r="textAreaRight" b="textAreaBottom"/>
                <a:pathLst>
                  <a:path w="2848" h="968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" name="AutoShape 6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>
                  <a:gd name="textAreaLeft" fmla="*/ 0 w 4772160"/>
                  <a:gd name="textAreaRight" fmla="*/ 4772520 w 4772160"/>
                  <a:gd name="textAreaTop" fmla="*/ 0 h 3308400"/>
                  <a:gd name="textAreaBottom" fmla="*/ 3308760 h 3308400"/>
                </a:gdLst>
                <a:ahLst/>
                <a:rect l="textAreaLeft" t="textAreaTop" r="textAreaRight" b="textAreaBottom"/>
                <a:pathLst>
                  <a:path w="3006" h="2084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" name="AutoShape 7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>
                  <a:gd name="textAreaLeft" fmla="*/ 0 w 1979640"/>
                  <a:gd name="textAreaRight" fmla="*/ 1980000 w 19796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1247" h="538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b40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57" name="AutoShape 8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1824" h="1536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1a3e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8" name="AutoShape 9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817720"/>
                <a:gd name="textAreaBottom" fmla="*/ 2818080 h 2817720"/>
              </a:gdLst>
              <a:ahLst/>
              <a:rect l="textAreaLeft" t="textAreaTop" r="textAreaRight" b="textAreaBottom"/>
              <a:pathLst>
                <a:path w="5757" h="1775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ftr" idx="4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34BA-4977-4130-877E-0DBFAD230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6"/>
          </p:nvPr>
        </p:nvSpPr>
        <p:spPr>
          <a:xfrm>
            <a:off x="457200" y="625104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5580000" y="115920"/>
            <a:ext cx="34480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ПОУ ТО «ЩПК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3894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711680" y="3562200"/>
            <a:ext cx="4432320" cy="332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5775480" y="115920"/>
            <a:ext cx="2304720" cy="21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4"/>
          <a:srcRect l="0" t="13383" r="0" b="0"/>
          <a:stretch/>
        </p:blipFill>
        <p:spPr>
          <a:xfrm>
            <a:off x="6480" y="3794040"/>
            <a:ext cx="4705200" cy="305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93760" y="836640"/>
            <a:ext cx="72864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Назовите русскую народную сказку,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ересказанную К.Ушинским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оторая имеет 16 русских вариантов, 8 – украинских, 5 – белорусских. А похожий герой и сюжет известны в фольклоре балтских, скандинавских, германских народов, а также в узбекском и татарском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БОК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3304" t="4059" r="14612" b="2919"/>
          <a:stretch/>
        </p:blipFill>
        <p:spPr>
          <a:xfrm>
            <a:off x="6548400" y="3522600"/>
            <a:ext cx="259560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50920" y="1052640"/>
            <a:ext cx="814392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на стала первым учителем и жизненным наставником А.С. Пушкина, хоть и не имела совершенно никакого образования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яня Арина Родионовн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4160880" cy="2711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16000" y="963720"/>
            <a:ext cx="8640720" cy="56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имя великого деятеля России и мира, который один из первых открыл  бесплатную школу для крестьянских детей, создал для них Азбуку и программу обучения в начальной школ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в Николаевич Толстой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59 год основал школу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Ясной Полян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873680" y="3303720"/>
            <a:ext cx="4067280" cy="3340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395280" y="765000"/>
            <a:ext cx="80010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800" spc="-1" strike="noStrike">
                <a:solidFill>
                  <a:srgbClr val="ffffff"/>
                </a:solidFill>
                <a:latin typeface="PT Sans"/>
              </a:rPr>
              <a:t>Одна из основных наград этого великого русского деятеля, конечно же педагога и наставника, — основание Московского университета, в котором могли обучаться не только представители высших сословий, но и крестьяне, так как и сам он был из семьи крестьянин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ил Васильевич ЛОМОНОСОВ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5651640" y="4127400"/>
            <a:ext cx="2966760" cy="2543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857160" y="1143000"/>
            <a:ext cx="76438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Назовите имя знаменитого  педагога и наставника великого царя и завоевателя Александра Македонского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истотел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4275000" y="3933720"/>
            <a:ext cx="487368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50004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2d050"/>
                </a:solidFill>
                <a:uFillTx/>
                <a:latin typeface="Garamond"/>
              </a:rPr>
              <a:t>Подведение итогов виктори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143160" y="2786040"/>
            <a:ext cx="299088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08000" y="189000"/>
          <a:ext cx="8858160" cy="6383160"/>
        </p:xfrm>
        <a:graphic>
          <a:graphicData uri="http://schemas.openxmlformats.org/drawingml/2006/table">
            <a:tbl>
              <a:tblPr/>
              <a:tblGrid>
                <a:gridCol w="4408560"/>
                <a:gridCol w="1172880"/>
                <a:gridCol w="1170000"/>
                <a:gridCol w="1052640"/>
                <a:gridCol w="105408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Жизнь и деятель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. Ушинско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Ушинский  - добрый сказочн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еликие педагоги и наставники ми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AutoShape 55"/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0 w 357120"/>
              <a:gd name="textAreaRight" fmla="*/ 357480 w 3571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57187" h="28575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365040" y="1125360"/>
            <a:ext cx="803592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  <a:ea typeface="Calibri"/>
              </a:rPr>
              <a:t>10 баллов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Вопрос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Детство и юность К. Ушинского прошли в украинском городке Новгороде Северском. А в каком городе родился деятель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уле в 1823 году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788000" y="3983040"/>
            <a:ext cx="4336920" cy="2874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68360" y="1197000"/>
            <a:ext cx="807228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  <a:ea typeface="Calibri"/>
              </a:rPr>
              <a:t>20 баллов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прос: Кем был К.Ушинский по образованию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был юристо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289480" y="3213000"/>
            <a:ext cx="326700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50920" y="1074600"/>
            <a:ext cx="73580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  <a:ea typeface="Calibri"/>
              </a:rPr>
              <a:t>30 баллов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прос: Работая в каком учебном заведении К. Ушинскому удалось реализовать свои педагогические реформы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859 году Ушинский был назначен инспектором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льного институт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родных девиц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11623" t="0" r="0" b="0"/>
          <a:stretch/>
        </p:blipFill>
        <p:spPr>
          <a:xfrm>
            <a:off x="5565600" y="3782880"/>
            <a:ext cx="361008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571680" y="1049400"/>
            <a:ext cx="821520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  <a:ea typeface="Calibri"/>
              </a:rPr>
              <a:t>50 баллов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прос: Как называется, созданная К.Ушинским «азбука и первая после азбуки книга для чтения, с прописями… и картинками в тексте», служившая основой  обучения в начальной школе вплоть до основания СССР. Применяется и в                             современном образовани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«РОДНОЕ СЛОВО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033960" y="3747960"/>
            <a:ext cx="3110040" cy="3110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08000" y="692280"/>
            <a:ext cx="7572240" cy="60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Название притчи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едушка и внучек»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10064" t="21544" r="14058" b="9541"/>
          <a:stretch/>
        </p:blipFill>
        <p:spPr>
          <a:xfrm>
            <a:off x="3203640" y="2060640"/>
            <a:ext cx="5689440" cy="3879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50920" y="765000"/>
            <a:ext cx="878508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Какая стихия стала СУДЬЁЙ в споре между Огнём и Водой в сказке К.Ушинского                       «Спор Воды с Огнём»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ЕР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3851280" y="2897280"/>
            <a:ext cx="52801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642960" y="919080"/>
            <a:ext cx="785808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: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место где произошла беседа отца и сына из рассказа К. Ушинского «Паук»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НОГРАДНИК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356000" y="3665520"/>
            <a:ext cx="4784760" cy="3189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5-05T09:39:26Z</dcterms:modified>
  <cp:revision>1</cp:revision>
  <dc:subject/>
  <dc:title>Презентация PowerPoint</dc:title>
</cp:coreProperties>
</file>