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28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50B-857A-402E-A2B7-C5F0E7F2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94A-B87C-4174-B6A4-A4D3993A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6FD-3A1B-4C43-9DBA-5340AF63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FD2-92AA-4FA7-A64E-D793420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B69-B3D5-434C-9725-C0218468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1C3-00F2-424C-BE0C-EA324475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456-ECAE-4895-807E-D8E9977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D33-E03F-4214-B4B9-F79AC44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DAC-0C87-4DC4-9EC8-0FE9409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BF5-0971-4BF1-8C24-80E8D50B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0D9-D4D7-4A6D-BE70-2EB5EC2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98A-B4D1-47A8-AE8C-598A14B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FD3-C29A-4E33-9AD3-1D984DBE2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4160" y="785880"/>
            <a:ext cx="61898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3240" y="2071800"/>
            <a:ext cx="43531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аливание не лечит, а предупреждает болезнь, и в этом его важнейшая профилактическая 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94.jpg"/>
          <p:cNvPicPr/>
          <p:nvPr/>
        </p:nvPicPr>
        <p:blipFill>
          <a:blip r:embed="rId1"/>
          <a:stretch/>
        </p:blipFill>
        <p:spPr>
          <a:xfrm>
            <a:off x="357120" y="1071720"/>
            <a:ext cx="35546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4305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полководец Александр Васильевич Суворов считал баню лучшим способом закалки. Современники вспоминали: «…в бане Суворов выдерживал ужасный жар, после чего на него выливали вёдер десять холодной воды, и всегда два ведра вдруг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55219_1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1469465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356000" y="1600200"/>
            <a:ext cx="4330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си победителям в соревновании дарили ве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ёзовый – при болях в мышцах, для заживления ран, для курильщ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овый – для успокоения и для людей с жирной ко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38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вый веник – при прост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ховый при ломоте в мыш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хтовый при радикул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пивный при болях в мыш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banya"/>
          <p:cNvPicPr/>
          <p:nvPr/>
        </p:nvPicPr>
        <p:blipFill>
          <a:blip r:embed="rId1"/>
          <a:stretch/>
        </p:blipFill>
        <p:spPr>
          <a:xfrm>
            <a:off x="500040" y="2071800"/>
            <a:ext cx="40384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3225417"/>
          <p:cNvPicPr/>
          <p:nvPr/>
        </p:nvPicPr>
        <p:blipFill>
          <a:blip r:embed="rId1"/>
          <a:stretch/>
        </p:blipFill>
        <p:spPr>
          <a:xfrm>
            <a:off x="468360" y="1700280"/>
            <a:ext cx="4174920" cy="2782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4797000"/>
            <a:ext cx="403848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торый день паришься, тот день не стари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масса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вает кровообращ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вает обмен вещест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нциды веника убивают микро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ирные масла препятствуют старению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178381167120"/>
          <p:cNvPicPr/>
          <p:nvPr/>
        </p:nvPicPr>
        <p:blipFill>
          <a:blip r:embed="rId1"/>
          <a:stretch/>
        </p:blipFill>
        <p:spPr>
          <a:xfrm>
            <a:off x="2556000" y="128916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ые (2-3 минуты), прохладные (ниже 3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ные процедуры повышают возбудимость, увеличивают силу мышц. Также действуют кратковременные (1-2 минуты) очень горячие процедуры (выше 4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Тёплая вода(36-4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онижает мышечную напряженность, вызывает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71920" y="999720"/>
            <a:ext cx="5338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йствии холодной воды можно отметить три ф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фаза. Кожа бледнеет. Это связано с резким сужением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фаза. Через некоторое время сосуды расширяются, появляется ощущение тепла,  порозовение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фаза. Если холодная вода продолжает действовать дальше, то она вызывает застой крови, кожа си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каливания используют первые две фазы. Третью нельзя допуск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66313m"/>
          <p:cNvPicPr/>
          <p:nvPr/>
        </p:nvPicPr>
        <p:blipFill>
          <a:blip r:embed="rId1"/>
          <a:stretch/>
        </p:blipFill>
        <p:spPr>
          <a:xfrm>
            <a:off x="684360" y="1413000"/>
            <a:ext cx="270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рядке возрастающей интенсивности водные процедуры делятся на умывания, обтирания, души, ванны, купания. Высшая степень - обмывание ледяной водой и морже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Васильевич Суворов сказал кратко и метко: «Ледяная вода полезна для тела и у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pictureview7-pid-118cf-et-5c14573"/>
          <p:cNvPicPr/>
          <p:nvPr/>
        </p:nvPicPr>
        <p:blipFill>
          <a:blip r:embed="rId1"/>
          <a:stretch/>
        </p:blipFill>
        <p:spPr>
          <a:xfrm>
            <a:off x="684360" y="1484280"/>
            <a:ext cx="3989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9"/>
          <p:cNvSpPr/>
          <p:nvPr/>
        </p:nvSpPr>
        <p:spPr>
          <a:xfrm>
            <a:off x="1785960" y="3571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2.bp.blogspot.com/-Nb0wQZvpeQ4/TtDUJrOzGxI/AAAAAAAACZs/PA77tYSNpSk/s1600/IMGP2031.JPG"/>
          <p:cNvPicPr/>
          <p:nvPr/>
        </p:nvPicPr>
        <p:blipFill>
          <a:blip r:embed="rId1"/>
          <a:stretch/>
        </p:blipFill>
        <p:spPr>
          <a:xfrm>
            <a:off x="142920" y="1071720"/>
            <a:ext cx="4405320" cy="330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festival.1september.ru/articles/513588/img2.gif"/>
          <p:cNvPicPr/>
          <p:nvPr/>
        </p:nvPicPr>
        <p:blipFill>
          <a:blip r:embed="rId2"/>
          <a:stretch/>
        </p:blipFill>
        <p:spPr>
          <a:xfrm>
            <a:off x="4572000" y="3429000"/>
            <a:ext cx="4308480" cy="31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maaam.ru/upload/blogs/1683e05e900f5d60f8180aa6986c3506.jpg.jpg"/>
          <p:cNvPicPr/>
          <p:nvPr/>
        </p:nvPicPr>
        <p:blipFill>
          <a:blip r:embed="rId1"/>
          <a:stretch/>
        </p:blipFill>
        <p:spPr>
          <a:xfrm>
            <a:off x="785880" y="14292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Закаливание детей"/>
          <p:cNvPicPr/>
          <p:nvPr/>
        </p:nvPicPr>
        <p:blipFill>
          <a:blip r:embed="rId2"/>
          <a:stretch/>
        </p:blipFill>
        <p:spPr>
          <a:xfrm>
            <a:off x="1785960" y="3786120"/>
            <a:ext cx="282096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После 2-4 недель систематических обтираний перейти к обливанию водой"/>
          <p:cNvPicPr/>
          <p:nvPr/>
        </p:nvPicPr>
        <p:blipFill>
          <a:blip r:embed="rId3"/>
          <a:stretch/>
        </p:blipFill>
        <p:spPr>
          <a:xfrm>
            <a:off x="5643720" y="1071720"/>
            <a:ext cx="30002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гимнаст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4076640"/>
            <a:ext cx="9001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известно, что физические упражнения очень полезны. Некоторые учёные считают, что 80% людей находятся в состоянии стресса, а при стрессе просто необходима двигательная активность. Самая первая зарядка (из известных) была создана более двух тысяч лет назад древнеегипетским жрецом Гермесом Трисмегистом. Современные ученые были поражены высокой эффективностью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5" descr="Зарядка-для-ленивых.jpg"/>
          <p:cNvPicPr/>
          <p:nvPr/>
        </p:nvPicPr>
        <p:blipFill>
          <a:blip r:embed="rId1"/>
          <a:stretch/>
        </p:blipFill>
        <p:spPr>
          <a:xfrm>
            <a:off x="2786040" y="1285920"/>
            <a:ext cx="32241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4329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итый русский полководец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Васильевич Сувор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 детстве очень слабым и болезненным. Чтобы не болеть, он закалялся. Сначала он обтирал тело смоченным полотенцем. Это очень укрепило его организм. Потом он начал обливаться холодной водой и делал это каждый день. За долгую службу Александр Васильевич ни разу не болел. Он был всегда бодр и энергичен. Закаливание помогло А.В.Суворову победить болезни и стать одним из самых великих полководцев в 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260px-Suvorov_Alex_V.jpg"/>
          <p:cNvPicPr/>
          <p:nvPr/>
        </p:nvPicPr>
        <p:blipFill>
          <a:blip r:embed="rId1"/>
          <a:stretch/>
        </p:blipFill>
        <p:spPr>
          <a:xfrm>
            <a:off x="5213520" y="642960"/>
            <a:ext cx="3406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i (1).jpg"/>
          <p:cNvPicPr/>
          <p:nvPr/>
        </p:nvPicPr>
        <p:blipFill>
          <a:blip r:embed="rId1"/>
          <a:stretch/>
        </p:blipFill>
        <p:spPr>
          <a:xfrm>
            <a:off x="642960" y="571680"/>
            <a:ext cx="76438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i (3).jpg"/>
          <p:cNvPicPr/>
          <p:nvPr/>
        </p:nvPicPr>
        <p:blipFill>
          <a:blip r:embed="rId1"/>
          <a:stretch/>
        </p:blipFill>
        <p:spPr>
          <a:xfrm>
            <a:off x="714240" y="571680"/>
            <a:ext cx="73533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6" descr="i.jpg"/>
          <p:cNvPicPr/>
          <p:nvPr/>
        </p:nvPicPr>
        <p:blipFill>
          <a:blip r:embed="rId1"/>
          <a:stretch/>
        </p:blipFill>
        <p:spPr>
          <a:xfrm>
            <a:off x="714240" y="571680"/>
            <a:ext cx="7929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i (2).jpg"/>
          <p:cNvPicPr/>
          <p:nvPr/>
        </p:nvPicPr>
        <p:blipFill>
          <a:blip r:embed="rId1"/>
          <a:stretch/>
        </p:blipFill>
        <p:spPr>
          <a:xfrm>
            <a:off x="857160" y="571680"/>
            <a:ext cx="771048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ы закал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1640" y="1483920"/>
            <a:ext cx="411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- Соизмерять нагрузки        и собственные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- Постеп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- Регуляр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- Посоветуйся с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– комплекс мероприятий. Способов закаливания очень много, каждый может выбрать то, что ему по д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5" descr="zakalka.jpg"/>
          <p:cNvPicPr/>
          <p:nvPr/>
        </p:nvPicPr>
        <p:blipFill>
          <a:blip r:embed="rId1"/>
          <a:stretch/>
        </p:blipFill>
        <p:spPr>
          <a:xfrm>
            <a:off x="928800" y="150012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сол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известен закаливающий эффект солнечных ванн. Чтобы получить хороший загар русские на севере пили чай из зверобоя, который повышает чувствительность кожи. Однако и здесь необходимо соблюдать меру, учитывая особенности своего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7" descr="20080804120002.jpg"/>
          <p:cNvPicPr/>
          <p:nvPr/>
        </p:nvPicPr>
        <p:blipFill>
          <a:blip r:embed="rId1"/>
          <a:stretch/>
        </p:blipFill>
        <p:spPr>
          <a:xfrm>
            <a:off x="4286160" y="1143000"/>
            <a:ext cx="3738600" cy="2479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8" descr="38932541_34c196b8adb4.gif"/>
          <p:cNvPicPr/>
          <p:nvPr/>
        </p:nvPicPr>
        <p:blipFill>
          <a:blip r:embed="rId2"/>
          <a:stretch/>
        </p:blipFill>
        <p:spPr>
          <a:xfrm>
            <a:off x="1000080" y="1071720"/>
            <a:ext cx="2712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зд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здухом спасает человека от сквозняков. При данном виде закаливания на человека действует комплекс факторов: атмосферное электричество, скорость движения воздуха, температура. Начинают закаливаться с воздушных полуванн, затем принимают полные воздушные ванны при комнатной температуре по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5" descr="zakalivanie-rebenka-kak-eto-delat-do-goda.jpg"/>
          <p:cNvPicPr/>
          <p:nvPr/>
        </p:nvPicPr>
        <p:blipFill>
          <a:blip r:embed="rId1"/>
          <a:stretch/>
        </p:blipFill>
        <p:spPr>
          <a:xfrm>
            <a:off x="2786040" y="1285920"/>
            <a:ext cx="3476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big32491"/>
          <p:cNvPicPr/>
          <p:nvPr/>
        </p:nvPicPr>
        <p:blipFill>
          <a:blip r:embed="rId1"/>
          <a:stretch/>
        </p:blipFill>
        <p:spPr>
          <a:xfrm>
            <a:off x="2987640" y="1268280"/>
            <a:ext cx="3240000" cy="260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, ежедневно прибавляя по 5 минут, доводят процедуру до 35-40 минут. Затем переходят на открытый воздух. По мнению специалистов, человек должен не менее 2 часов в день быть в обнаженном состоянии. Вот почему скифы при выполнении физических упражнений полностью снимали одеж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zakalivanie.ru/upload/iblock/849/banya.gif"/>
          <p:cNvPicPr/>
          <p:nvPr/>
        </p:nvPicPr>
        <p:blipFill>
          <a:blip r:embed="rId1"/>
          <a:stretch/>
        </p:blipFill>
        <p:spPr>
          <a:xfrm>
            <a:off x="6143760" y="7142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sir35.ru/Karla/33.jpg"/>
          <p:cNvPicPr/>
          <p:nvPr/>
        </p:nvPicPr>
        <p:blipFill>
          <a:blip r:embed="rId2"/>
          <a:stretch/>
        </p:blipFill>
        <p:spPr>
          <a:xfrm>
            <a:off x="4572000" y="3429000"/>
            <a:ext cx="4357800" cy="319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ozedu.ru/files/u1046/P1050038.JPG"/>
          <p:cNvPicPr/>
          <p:nvPr/>
        </p:nvPicPr>
        <p:blipFill>
          <a:blip r:embed="rId3"/>
          <a:stretch/>
        </p:blipFill>
        <p:spPr>
          <a:xfrm>
            <a:off x="357120" y="214200"/>
            <a:ext cx="4548240" cy="341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t0.gstatic.com/images?q=tbn:ANd9GcTxEPBFyK_xVDZjvRPkpDoJDAg3wjdG9vZ5fNHbniwCpRKKR9iVjw"/>
          <p:cNvPicPr/>
          <p:nvPr/>
        </p:nvPicPr>
        <p:blipFill>
          <a:blip r:embed="rId4"/>
          <a:stretch/>
        </p:blipFill>
        <p:spPr>
          <a:xfrm>
            <a:off x="642960" y="414324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ющим эффектом обладают прогулки на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фирий Корнеевич Иванов в 85 лет мог часами гулять без обуви и одежды на сильном морозе. Он более 50 лет занимался закали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Ivanov_foto_3"/>
          <p:cNvPicPr/>
          <p:nvPr/>
        </p:nvPicPr>
        <p:blipFill>
          <a:blip r:embed="rId1"/>
          <a:stretch/>
        </p:blipFill>
        <p:spPr>
          <a:xfrm>
            <a:off x="1908000" y="1720800"/>
            <a:ext cx="47516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ющим эффектом обладают прогулки на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2062696"/>
          <p:cNvPicPr/>
          <p:nvPr/>
        </p:nvPicPr>
        <p:blipFill>
          <a:blip r:embed="rId1"/>
          <a:stretch/>
        </p:blipFill>
        <p:spPr>
          <a:xfrm>
            <a:off x="250920" y="1600200"/>
            <a:ext cx="4176720" cy="28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31-3"/>
          <p:cNvPicPr/>
          <p:nvPr/>
        </p:nvPicPr>
        <p:blipFill>
          <a:blip r:embed="rId2"/>
          <a:stretch/>
        </p:blipFill>
        <p:spPr>
          <a:xfrm>
            <a:off x="4572000" y="1600200"/>
            <a:ext cx="3887640" cy="2827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начинают заниматься закаливанием с детства, конечно, под пристальным внимани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6:37:11Z</dcterms:created>
  <dc:creator>Большаков С.В.</dc:creator>
  <dc:description/>
  <dc:language>en-US</dc:language>
  <cp:lastModifiedBy>Искам</cp:lastModifiedBy>
  <dcterms:modified xsi:type="dcterms:W3CDTF">2015-04-07T17:56:05Z</dcterms:modified>
  <cp:revision>45</cp:revision>
  <dc:subject/>
  <dc:title>Закалив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50300207f7000400038000</vt:lpwstr>
  </property>
</Properties>
</file>