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28.jpeg" ContentType="image/jpeg"/>
  <Override PartName="/ppt/media/image5.gif" ContentType="image/gif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8C5B-D55A-4B16-815A-2569B670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180A-8D27-4881-A2EB-7AAB7B4B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51B-A2C6-4500-ACF6-F16C723E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857F-A163-4294-9751-485472FA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A272-872D-4465-B9C8-E6ABC4C2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2FED-6581-450D-A1C3-BC62D0D7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F018-A5B4-4316-B127-53C43040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05AB-8F44-49C9-B440-F3F33F34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2D57-C5EB-4B5F-92C6-72E37670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1DA0-F8D0-4C93-AC8A-7BD50C10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1D1-EB11-44C3-8CA1-3DAF2D9F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1562-C71D-41A5-A4C8-452BBBA2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3035-FCAC-404D-A21A-F87E5149BD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54160" y="785880"/>
            <a:ext cx="61898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акалив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43240" y="2071800"/>
            <a:ext cx="43531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аливание не лечит, а предупреждает болезнь, и в этом его важнейшая профилактическая р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7" descr="94.jpg"/>
          <p:cNvPicPr/>
          <p:nvPr/>
        </p:nvPicPr>
        <p:blipFill>
          <a:blip r:embed="rId1"/>
          <a:stretch/>
        </p:blipFill>
        <p:spPr>
          <a:xfrm>
            <a:off x="357120" y="1071720"/>
            <a:ext cx="35546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ливание па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7280" y="1412640"/>
            <a:ext cx="443052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й полководец Александр Васильевич Суворов считал баню лучшим способом закалки. Современники вспоминали: «…в бане Суворов выдерживал ужасный жар, после чего на него выливали вёдер десять холодной воды, и всегда два ведра вдруг…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55219_1"/>
          <p:cNvPicPr/>
          <p:nvPr/>
        </p:nvPicPr>
        <p:blipFill>
          <a:blip r:embed="rId1"/>
          <a:stretch/>
        </p:blipFill>
        <p:spPr>
          <a:xfrm>
            <a:off x="45720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аливание па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1469465"/>
          <p:cNvPicPr/>
          <p:nvPr/>
        </p:nvPicPr>
        <p:blipFill>
          <a:blip r:embed="rId1"/>
          <a:stretch/>
        </p:blipFill>
        <p:spPr>
          <a:xfrm>
            <a:off x="82692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356000" y="1600200"/>
            <a:ext cx="43308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уси победителям в соревновании дарили ве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рёзовый – при болях в мышцах, для заживления ран, для курильщ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бовый – для успокоения и для людей с жирной кож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аливание па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3856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повый веник – при просту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льховый при ломоте в мышц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хтовый при радикул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пивный при болях в мышц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banya"/>
          <p:cNvPicPr/>
          <p:nvPr/>
        </p:nvPicPr>
        <p:blipFill>
          <a:blip r:embed="rId1"/>
          <a:stretch/>
        </p:blipFill>
        <p:spPr>
          <a:xfrm>
            <a:off x="500040" y="2071800"/>
            <a:ext cx="403848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аливание па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23225417"/>
          <p:cNvPicPr/>
          <p:nvPr/>
        </p:nvPicPr>
        <p:blipFill>
          <a:blip r:embed="rId1"/>
          <a:stretch/>
        </p:blipFill>
        <p:spPr>
          <a:xfrm>
            <a:off x="468360" y="1700280"/>
            <a:ext cx="4174920" cy="2782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68360" y="4797000"/>
            <a:ext cx="4038480" cy="14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торый день паришься, тот день не старишьс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859280" y="1600200"/>
            <a:ext cx="38275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ёт массаж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ливает кровообращ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ливает обмен вещест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тонциды веника убивают микроб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ирные масла препятствуют старению к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аливание вод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1178381167120"/>
          <p:cNvPicPr/>
          <p:nvPr/>
        </p:nvPicPr>
        <p:blipFill>
          <a:blip r:embed="rId1"/>
          <a:stretch/>
        </p:blipFill>
        <p:spPr>
          <a:xfrm>
            <a:off x="2556000" y="1289160"/>
            <a:ext cx="3887640" cy="2916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4220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временные (2-3 минуты), прохладные (ниже 30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одные процедуры повышают возбудимость, увеличивают силу мышц. Также действуют кратковременные (1-2 минуты) очень горячие процедуры (выше 40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Тёплая вода(36-40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онижает мышечную напряженность, вызывает с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ливание вод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571920" y="999720"/>
            <a:ext cx="5338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йствии холодной воды можно отметить три фаз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фаза. Кожа бледнеет. Это связано с резким сужением кровеносных сосу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фаза. Через некоторое время сосуды расширяются, появляется ощущение тепла,  порозовение к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фаза. Если холодная вода продолжает действовать дальше, то она вызывает застой крови, кожа син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каливания используют первые две фазы. Третью нельзя допуск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66313m"/>
          <p:cNvPicPr/>
          <p:nvPr/>
        </p:nvPicPr>
        <p:blipFill>
          <a:blip r:embed="rId1"/>
          <a:stretch/>
        </p:blipFill>
        <p:spPr>
          <a:xfrm>
            <a:off x="684360" y="1413000"/>
            <a:ext cx="2705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аливание вод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2920" y="1484280"/>
            <a:ext cx="40388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рядке возрастающей интенсивности водные процедуры делятся на умывания, обтирания, души, ванны, купания. Высшая степень - обмывание ледяной водой и морже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ксандр Васильевич Суворов сказал кратко и метко: «Ледяная вода полезна для тела и ум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pictureview7-pid-118cf-et-5c14573"/>
          <p:cNvPicPr/>
          <p:nvPr/>
        </p:nvPicPr>
        <p:blipFill>
          <a:blip r:embed="rId1"/>
          <a:stretch/>
        </p:blipFill>
        <p:spPr>
          <a:xfrm>
            <a:off x="684360" y="1484280"/>
            <a:ext cx="3989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9"/>
          <p:cNvSpPr/>
          <p:nvPr/>
        </p:nvSpPr>
        <p:spPr>
          <a:xfrm>
            <a:off x="1785960" y="35712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ЛИВАНИЕ ВОД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http://2.bp.blogspot.com/-Nb0wQZvpeQ4/TtDUJrOzGxI/AAAAAAAACZs/PA77tYSNpSk/s1600/IMGP2031.JPG"/>
          <p:cNvPicPr/>
          <p:nvPr/>
        </p:nvPicPr>
        <p:blipFill>
          <a:blip r:embed="rId1"/>
          <a:stretch/>
        </p:blipFill>
        <p:spPr>
          <a:xfrm>
            <a:off x="142920" y="1071720"/>
            <a:ext cx="4405320" cy="3303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ttp://festival.1september.ru/articles/513588/img2.gif"/>
          <p:cNvPicPr/>
          <p:nvPr/>
        </p:nvPicPr>
        <p:blipFill>
          <a:blip r:embed="rId2"/>
          <a:stretch/>
        </p:blipFill>
        <p:spPr>
          <a:xfrm>
            <a:off x="4572000" y="3429000"/>
            <a:ext cx="4308480" cy="31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www.maaam.ru/upload/blogs/1683e05e900f5d60f8180aa6986c3506.jpg.jpg"/>
          <p:cNvPicPr/>
          <p:nvPr/>
        </p:nvPicPr>
        <p:blipFill>
          <a:blip r:embed="rId1"/>
          <a:stretch/>
        </p:blipFill>
        <p:spPr>
          <a:xfrm>
            <a:off x="785880" y="14292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Закаливание детей"/>
          <p:cNvPicPr/>
          <p:nvPr/>
        </p:nvPicPr>
        <p:blipFill>
          <a:blip r:embed="rId2"/>
          <a:stretch/>
        </p:blipFill>
        <p:spPr>
          <a:xfrm>
            <a:off x="1785960" y="3786120"/>
            <a:ext cx="2820960" cy="28576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3" descr="После 2-4 недель систематических обтираний перейти к обливанию водой"/>
          <p:cNvPicPr/>
          <p:nvPr/>
        </p:nvPicPr>
        <p:blipFill>
          <a:blip r:embed="rId3"/>
          <a:stretch/>
        </p:blipFill>
        <p:spPr>
          <a:xfrm>
            <a:off x="5643720" y="1071720"/>
            <a:ext cx="3000240" cy="45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аливание гимнасти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4076640"/>
            <a:ext cx="9001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 известно, что физические упражнения очень полезны. Некоторые учёные считают, что 80% людей находятся в состоянии стресса, а при стрессе просто необходима двигательная активность. Самая первая зарядка (из известных) была создана более двух тысяч лет назад древнеегипетским жрецом Гермесом Трисмегистом. Современные ученые были поражены высокой эффективностью упраж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Содержимое 5" descr="Зарядка-для-ленивых.jpg"/>
          <p:cNvPicPr/>
          <p:nvPr/>
        </p:nvPicPr>
        <p:blipFill>
          <a:blip r:embed="rId1"/>
          <a:stretch/>
        </p:blipFill>
        <p:spPr>
          <a:xfrm>
            <a:off x="2786040" y="1285920"/>
            <a:ext cx="32241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43290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менитый русский полководец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Васильевич Суворо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в детстве очень слабым и болезненным. Чтобы не болеть, он закалялся. Сначала он обтирал тело смоченным полотенцем. Это очень укрепило его организм. Потом он начал обливаться холодной водой и делал это каждый день. За долгую службу Александр Васильевич ни разу не болел. Он был всегда бодр и энергичен. Закаливание помогло А.В.Суворову победить болезни и стать одним из самых великих полководцев в ми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2" descr="260px-Suvorov_Alex_V.jpg"/>
          <p:cNvPicPr/>
          <p:nvPr/>
        </p:nvPicPr>
        <p:blipFill>
          <a:blip r:embed="rId1"/>
          <a:stretch/>
        </p:blipFill>
        <p:spPr>
          <a:xfrm>
            <a:off x="5213520" y="642960"/>
            <a:ext cx="34066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7" descr="i (1).jpg"/>
          <p:cNvPicPr/>
          <p:nvPr/>
        </p:nvPicPr>
        <p:blipFill>
          <a:blip r:embed="rId1"/>
          <a:stretch/>
        </p:blipFill>
        <p:spPr>
          <a:xfrm>
            <a:off x="642960" y="571680"/>
            <a:ext cx="76438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одержимое 3" descr="i (3).jpg"/>
          <p:cNvPicPr/>
          <p:nvPr/>
        </p:nvPicPr>
        <p:blipFill>
          <a:blip r:embed="rId1"/>
          <a:stretch/>
        </p:blipFill>
        <p:spPr>
          <a:xfrm>
            <a:off x="714240" y="571680"/>
            <a:ext cx="735336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Содержимое 6" descr="i.jpg"/>
          <p:cNvPicPr/>
          <p:nvPr/>
        </p:nvPicPr>
        <p:blipFill>
          <a:blip r:embed="rId1"/>
          <a:stretch/>
        </p:blipFill>
        <p:spPr>
          <a:xfrm>
            <a:off x="714240" y="571680"/>
            <a:ext cx="79297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3" descr="i (2).jpg"/>
          <p:cNvPicPr/>
          <p:nvPr/>
        </p:nvPicPr>
        <p:blipFill>
          <a:blip r:embed="rId1"/>
          <a:stretch/>
        </p:blipFill>
        <p:spPr>
          <a:xfrm>
            <a:off x="857160" y="571680"/>
            <a:ext cx="7710480" cy="57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ципы закал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1640" y="1483920"/>
            <a:ext cx="4110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- Соизмерять нагрузки        и собственные возмо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- Постеп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- Регулярност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- Посоветуйся с врач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ливание – комплекс мероприятий. Способов закаливания очень много, каждый может выбрать то, что ему по ду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одержимое 5" descr="zakalka.jpg"/>
          <p:cNvPicPr/>
          <p:nvPr/>
        </p:nvPicPr>
        <p:blipFill>
          <a:blip r:embed="rId1"/>
          <a:stretch/>
        </p:blipFill>
        <p:spPr>
          <a:xfrm>
            <a:off x="928800" y="1500120"/>
            <a:ext cx="373860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аливание солнц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 известен закаливающий эффект солнечных ванн. Чтобы получить хороший загар русские на севере пили чай из зверобоя, который повышает чувствительность кожи. Однако и здесь необходимо соблюдать меру, учитывая особенности своего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одержимое 7" descr="20080804120002.jpg"/>
          <p:cNvPicPr/>
          <p:nvPr/>
        </p:nvPicPr>
        <p:blipFill>
          <a:blip r:embed="rId1"/>
          <a:stretch/>
        </p:blipFill>
        <p:spPr>
          <a:xfrm>
            <a:off x="4286160" y="1143000"/>
            <a:ext cx="3738600" cy="247968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8" descr="38932541_34c196b8adb4.gif"/>
          <p:cNvPicPr/>
          <p:nvPr/>
        </p:nvPicPr>
        <p:blipFill>
          <a:blip r:embed="rId2"/>
          <a:stretch/>
        </p:blipFill>
        <p:spPr>
          <a:xfrm>
            <a:off x="1000080" y="1071720"/>
            <a:ext cx="271296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ливание воздух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ливание воздухом спасает человека от сквозняков. При данном виде закаливания на человека действует комплекс факторов: атмосферное электричество, скорость движения воздуха, температура. Начинают закаливаться с воздушных полуванн, затем принимают полные воздушные ванны при комнатной температуре по 10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одержимое 5" descr="zakalivanie-rebenka-kak-eto-delat-do-goda.jpg"/>
          <p:cNvPicPr/>
          <p:nvPr/>
        </p:nvPicPr>
        <p:blipFill>
          <a:blip r:embed="rId1"/>
          <a:stretch/>
        </p:blipFill>
        <p:spPr>
          <a:xfrm>
            <a:off x="2786040" y="1285920"/>
            <a:ext cx="347652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ливание возду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big32491"/>
          <p:cNvPicPr/>
          <p:nvPr/>
        </p:nvPicPr>
        <p:blipFill>
          <a:blip r:embed="rId1"/>
          <a:stretch/>
        </p:blipFill>
        <p:spPr>
          <a:xfrm>
            <a:off x="2987640" y="1268280"/>
            <a:ext cx="3240000" cy="26002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6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, ежедневно прибавляя по 5 минут, доводят процедуру до 35-40 минут. Затем переходят на открытый воздух. По мнению специалистов, человек должен не менее 2 часов в день быть в обнаженном состоянии. Вот почему скифы при выполнении физических упражнений полностью снимали одеж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http://zakalivanie.ru/upload/iblock/849/banya.gif"/>
          <p:cNvPicPr/>
          <p:nvPr/>
        </p:nvPicPr>
        <p:blipFill>
          <a:blip r:embed="rId1"/>
          <a:stretch/>
        </p:blipFill>
        <p:spPr>
          <a:xfrm>
            <a:off x="6143760" y="71424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sir35.ru/Karla/33.jpg"/>
          <p:cNvPicPr/>
          <p:nvPr/>
        </p:nvPicPr>
        <p:blipFill>
          <a:blip r:embed="rId2"/>
          <a:stretch/>
        </p:blipFill>
        <p:spPr>
          <a:xfrm>
            <a:off x="4572000" y="3429000"/>
            <a:ext cx="4357800" cy="3193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www.ozedu.ru/files/u1046/P1050038.JPG"/>
          <p:cNvPicPr/>
          <p:nvPr/>
        </p:nvPicPr>
        <p:blipFill>
          <a:blip r:embed="rId3"/>
          <a:stretch/>
        </p:blipFill>
        <p:spPr>
          <a:xfrm>
            <a:off x="357120" y="214200"/>
            <a:ext cx="4548240" cy="3411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t0.gstatic.com/images?q=tbn:ANd9GcTxEPBFyK_xVDZjvRPkpDoJDAg3wjdG9vZ5fNHbniwCpRKKR9iVjw"/>
          <p:cNvPicPr/>
          <p:nvPr/>
        </p:nvPicPr>
        <p:blipFill>
          <a:blip r:embed="rId4"/>
          <a:stretch/>
        </p:blipFill>
        <p:spPr>
          <a:xfrm>
            <a:off x="642960" y="4143240"/>
            <a:ext cx="3143160" cy="23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аливающим эффектом обладают прогулки на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фирий Корнеевич Иванов в 85 лет мог часами гулять без обуви и одежды на сильном морозе. Он более 50 лет занимался закалива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Ivanov_foto_3"/>
          <p:cNvPicPr/>
          <p:nvPr/>
        </p:nvPicPr>
        <p:blipFill>
          <a:blip r:embed="rId1"/>
          <a:stretch/>
        </p:blipFill>
        <p:spPr>
          <a:xfrm>
            <a:off x="1908000" y="1720800"/>
            <a:ext cx="475164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аливающим эффектом обладают прогулки на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2062696"/>
          <p:cNvPicPr/>
          <p:nvPr/>
        </p:nvPicPr>
        <p:blipFill>
          <a:blip r:embed="rId1"/>
          <a:stretch/>
        </p:blipFill>
        <p:spPr>
          <a:xfrm>
            <a:off x="250920" y="1600200"/>
            <a:ext cx="4176720" cy="2805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31-3"/>
          <p:cNvPicPr/>
          <p:nvPr/>
        </p:nvPicPr>
        <p:blipFill>
          <a:blip r:embed="rId2"/>
          <a:stretch/>
        </p:blipFill>
        <p:spPr>
          <a:xfrm>
            <a:off x="4572000" y="1600200"/>
            <a:ext cx="3887640" cy="28274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начинают заниматься закаливанием с детства, конечно, под пристальным вниманием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06:37:11Z</dcterms:created>
  <dc:creator>Большаков С.В.</dc:creator>
  <dc:description/>
  <dc:language>en-US</dc:language>
  <cp:lastModifiedBy>Искам</cp:lastModifiedBy>
  <dcterms:modified xsi:type="dcterms:W3CDTF">2015-04-07T17:56:05Z</dcterms:modified>
  <cp:revision>45</cp:revision>
  <dc:subject/>
  <dc:title>Закалива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b0000000000010250300207f7000400038000</vt:lpwstr>
  </property>
</Properties>
</file>