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48D-C559-40D9-93F6-67B59D65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C78-C457-4610-A355-3955310D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65D-BD9C-429E-A31F-4A3043C7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E70-DC65-4D50-8037-50552FDE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938-D460-480A-B93B-07FBD0B9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6CF-B556-4CB0-AFF9-1CC61AC0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99D-D4AE-4877-864C-BB515EBA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456-6C28-4FAC-AC1D-E07CC8D7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23C-F812-4E2B-BFFD-37D66B78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1F7-2C43-4B99-A51B-81EC9FF2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580-53C6-4B1C-AB29-27C874A3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12C-B41B-4F05-A929-7B8803F3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FB3-C7D4-495D-98D4-DF004C8FB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381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360" y="691920"/>
            <a:ext cx="5492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ици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ростковой сред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суицидов            среди дет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гармония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формированное понимание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утствие идеологии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разрушающе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няя половая жизнь, приводящая к разочар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а 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9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ая  попытка суици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альные угрозы, прямые или завуалирован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нденции к самоповрежд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ы в семь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коголизм, употребление наркот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онические или смертельные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мейные пробл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хкритичные к себе подростк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ца, страдающие от недавно испытанных унижений или трагических ут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ростки, фрустрированные несоответствием между ожидавшимися успехами в жизни и реальными достиже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основных критериев          суицидального риска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осток злоупотребляет алкоголем, наркотическими  веществ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меется  акцентуации характер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нее получал психиатрическое леч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живает отдельно от род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мимо данного эпизода у подростка уже был суицидальный эпизод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есные призна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говоры о смерти: “Я собираюсь покончить с собой”; “Я не могу так дальше жит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мёки  о своем намерении: “Я больше не буду ни для кого проблемой”; “Тебе больше не придется обо мне волноваться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9ca3f2fd1180c9c6083799ea9c5a008"/>
          <p:cNvPicPr/>
          <p:nvPr/>
        </p:nvPicPr>
        <p:blipFill>
          <a:blip r:embed="rId1"/>
          <a:stretch/>
        </p:blipFill>
        <p:spPr>
          <a:xfrm>
            <a:off x="5076720" y="3573360"/>
            <a:ext cx="3667320" cy="2795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332000" y="3789360"/>
            <a:ext cx="3692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шутят на тему самоуби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еденческие призна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дают другим вещи, имеющие большую личную значимость, приводят в порядок дела, мирятся с давними вра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монстрируют радикальные перемены в поведе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_14990"/>
          <p:cNvPicPr/>
          <p:nvPr/>
        </p:nvPicPr>
        <p:blipFill>
          <a:blip r:embed="rId1"/>
          <a:stretch/>
        </p:blipFill>
        <p:spPr>
          <a:xfrm>
            <a:off x="4716360" y="342900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332000" y="4076640"/>
            <a:ext cx="3456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являют признаки беспомощности, безнадежности и отча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онные призна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циально изолирован), чувствует себя отверж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Живет в нестабильном 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Ощущает себя жертвой насил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принимал раньше попытки суиц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Имеет склонность к самоубий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еренес тяжелую поте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ишком критически настроен по отношению к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210079445_4003791_2237554"/>
          <p:cNvPicPr/>
          <p:nvPr/>
        </p:nvPicPr>
        <p:blipFill>
          <a:blip r:embed="rId1"/>
          <a:stretch/>
        </p:blipFill>
        <p:spPr>
          <a:xfrm>
            <a:off x="5867280" y="1557360"/>
            <a:ext cx="301968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638520" y="6206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3280" y="1773360"/>
            <a:ext cx="741672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выслушайте решившегося на самоубийство подрост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Оцените серьезность намерений и чувств решившегося на самоубийство челове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цените глубину эмоционального кризис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отнеситесь ко всем, даже самым незначительным обидам и жалобам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бойтесь прямо спросить, не думают ли он или она о самоубийств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10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doni MT Black"/>
              </a:rPr>
              <a:t>Чтобы ценить жизнь, необходимо знать две основных вещ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2924280"/>
            <a:ext cx="81723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, чтобы нас люби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 хорошо к себе относиться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52266908"/>
          <p:cNvPicPr/>
          <p:nvPr/>
        </p:nvPicPr>
        <p:blipFill>
          <a:blip r:embed="rId1"/>
          <a:stretch/>
        </p:blipFill>
        <p:spPr>
          <a:xfrm>
            <a:off x="4211640" y="5445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690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994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Мы голосуе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за жиз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214960" y="4714920"/>
            <a:ext cx="3646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ахурова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63640" y="981000"/>
            <a:ext cx="712944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р, вероятно, спасти уже    не удастся, но отдельного человека всегда можно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осиф Брод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37-1"/>
          <p:cNvPicPr/>
          <p:nvPr/>
        </p:nvPicPr>
        <p:blipFill>
          <a:blip r:embed="rId1"/>
          <a:stretch/>
        </p:blipFill>
        <p:spPr>
          <a:xfrm>
            <a:off x="6588000" y="333360"/>
            <a:ext cx="2241720" cy="605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6120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выбираем жизнь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пишем письма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мерт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строим планы на будущее,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у них…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них – н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ущ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ется, что мы и они – и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ых ми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0852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год кончают жизнь самоубийством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000 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suicid-30"/>
          <p:cNvPicPr/>
          <p:nvPr/>
        </p:nvPicPr>
        <p:blipFill>
          <a:blip r:embed="rId1"/>
          <a:stretch/>
        </p:blipFill>
        <p:spPr>
          <a:xfrm>
            <a:off x="5219640" y="306864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71640" y="270828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80 тысяч китай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0 тысяч америка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5 тысяч япо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0 тысяч француз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50 тысяч рус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6000" y="836280"/>
            <a:ext cx="7834320" cy="55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самоубийств среди молодежи выросло в 3 раз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двенадцатый подросток в возрасте 13-17 лет пытается совершить попытку самоубий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законченных суицидов среди юношей в среднем в 3 раза больше, чем среди девуше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ушки пытаются покончить с собой в 4 раза чаще, чем юно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я к размышлени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29840" y="162864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частой причиной попытки самоубийств среди подростков - семейные конфликты с род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тором месте – угроза потери близкого человека (неразделенная любов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ретьем месте – несправедливое отношение, обв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% суицидов предпринимали повторные попытки самоуби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ицид – акт лишения себя жизни, при котором человек действует целенаправленно, преднамеренно, осознан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13000"/>
            <a:ext cx="8353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rganization Chart 6"/>
          <p:cNvGrpSpPr/>
          <p:nvPr/>
        </p:nvGrpSpPr>
        <p:grpSpPr>
          <a:xfrm>
            <a:off x="1332000" y="2205000"/>
            <a:ext cx="7632000" cy="3886920"/>
            <a:chOff x="1332000" y="2205000"/>
            <a:chExt cx="7632000" cy="3886920"/>
          </a:xfrm>
        </p:grpSpPr>
        <p:cxnSp>
          <p:nvCxnSpPr>
            <p:cNvPr id="55" name="_s1028"/>
            <p:cNvCxnSpPr>
              <a:stCxn id="56" idx="0"/>
              <a:endCxn id="57" idx="2"/>
            </p:cNvCxnSpPr>
            <p:nvPr/>
          </p:nvCxnSpPr>
          <p:spPr>
            <a:xfrm flipV="1" rot="16200000">
              <a:off x="6094440" y="2811960"/>
              <a:ext cx="777960" cy="267192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9"/>
            <p:cNvCxnSpPr>
              <a:stCxn id="59" idx="0"/>
              <a:endCxn id="57" idx="2"/>
            </p:cNvCxnSpPr>
            <p:nvPr/>
          </p:nvCxnSpPr>
          <p:spPr>
            <a:xfrm flipV="1">
              <a:off x="5148000" y="3759120"/>
              <a:ext cx="2880" cy="77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0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3424320" y="2813400"/>
              <a:ext cx="777960" cy="266940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1031"/>
            <p:cNvSpPr/>
            <p:nvPr/>
          </p:nvSpPr>
          <p:spPr>
            <a:xfrm>
              <a:off x="4003200" y="220500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уицидальн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ис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2"/>
            <p:cNvSpPr/>
            <p:nvPr/>
          </p:nvSpPr>
          <p:spPr>
            <a:xfrm>
              <a:off x="13320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нет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3"/>
            <p:cNvSpPr/>
            <p:nvPr/>
          </p:nvSpPr>
          <p:spPr>
            <a:xfrm>
              <a:off x="40032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сихолог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сихиатр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4"/>
            <p:cNvSpPr/>
            <p:nvPr/>
          </p:nvSpPr>
          <p:spPr>
            <a:xfrm>
              <a:off x="66744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редов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2480" y="476280"/>
            <a:ext cx="829152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                  суицидальной активности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ицидальные мысли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суицидальные попыт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завершенный суицид</a:t>
            </a:r>
            <a:br>
              <a:rPr sz="32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                   суицидального поведения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онстративно – шантаж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амоповреждающе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стинно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28352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деляют 5 ведущих мотивов суицидального поведения</a:t>
            </a:r>
            <a:br>
              <a:rPr sz="36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изы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тес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збега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амонаказа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тказ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41:01Z</dcterms:created>
  <dc:creator>Светлана</dc:creator>
  <dc:description/>
  <dc:language>en-US</dc:language>
  <cp:lastModifiedBy>1277483</cp:lastModifiedBy>
  <dcterms:modified xsi:type="dcterms:W3CDTF">2023-02-01T16:16:39Z</dcterms:modified>
  <cp:revision>41</cp:revision>
  <dc:subject/>
  <dc:title>Что такое суицид и как с ним бороться?</dc:title>
</cp:coreProperties>
</file>