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B51-067A-4B79-AE0A-C30A47F9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7EB-27B9-40EF-BD9B-02CFCFB6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C4C-10CC-47FC-B684-49ED334A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3F8-31F2-44F4-B471-1EAEE40F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A94-2268-46C1-B5E9-1C1D51A5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6C7-C82F-42F6-9432-18B46BB9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493-C6E1-47EB-B815-B63B8B6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8DD-B2F6-482F-A32C-AF785B9A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4EB-6DAB-40C7-864D-FF84630E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D6B-C9B1-437C-AD8B-1A54CE1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331-9F47-4320-9C9F-D6F0C09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112-F561-4640-9A50-8F853D7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668-98E4-4D56-B1BC-C3C83527C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381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360" y="691920"/>
            <a:ext cx="5492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ици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остковой сре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суицидов            среди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армони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формированное понимание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ие идеологии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разрушающе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яя половая жизнь, приводящая к разочар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9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ая  попытка суици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альные угрозы, прямые или завуалирован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нденции к самоповрежд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ы в сем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коголизм, употребление наркот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онические или смертельные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мейные пробл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хкритичные к себе подростк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ца, страдающие от недавно испытанных унижений или трагических ут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, фрустрированные несоответствием между ожидавшимися успехами в жизни и реальными достиж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основных критериев          суицидального риск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сток злоупотребляет алкоголем, наркотическими  веществ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меется  акцентуации характе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нее получал психиатрическое л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живает отдельно от род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мимо данного эпизода у подростка уже был суицидальный эпизод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есные 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9ca3f2fd1180c9c6083799ea9c5a008"/>
          <p:cNvPicPr/>
          <p:nvPr/>
        </p:nvPicPr>
        <p:blipFill>
          <a:blip r:embed="rId1"/>
          <a:stretch/>
        </p:blipFill>
        <p:spPr>
          <a:xfrm>
            <a:off x="5076720" y="3573360"/>
            <a:ext cx="3667320" cy="2795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332000" y="3789360"/>
            <a:ext cx="3692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дают другим вещи, имеющие большую личную значимость, приводят в порядок дела, мирятся с давними вра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монстрируют радикальные перемены в повед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_14990"/>
          <p:cNvPicPr/>
          <p:nvPr/>
        </p:nvPicPr>
        <p:blipFill>
          <a:blip r:embed="rId1"/>
          <a:stretch/>
        </p:blipFill>
        <p:spPr>
          <a:xfrm>
            <a:off x="4716360" y="342900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332000" y="4076640"/>
            <a:ext cx="3456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являют признаки беспомощности, безнадежности и отча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циально изолирован), чувствует себя отверж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Живет в нестабильном 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щущает себя жертвой наси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принимал раньше попытки суиц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Имеет склонность к самоубий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еренес тяжелую поте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ишком критически настроен по отношению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638520" y="620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3280" y="1773360"/>
            <a:ext cx="741672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выслушайте решившегося на самоубийство подрост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Оцените серьезность намерений и чувств решившегося на самоубийство челове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отнеситесь ко всем, даже самым незначительным обидам и жалобам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10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doni MT Black"/>
              </a:rPr>
              <a:t>Чтобы ценить жизнь, необходимо знать две основных ве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81723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, чтобы нас люби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 хорошо к себе относиться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52266908"/>
          <p:cNvPicPr/>
          <p:nvPr/>
        </p:nvPicPr>
        <p:blipFill>
          <a:blip r:embed="rId1"/>
          <a:stretch/>
        </p:blipFill>
        <p:spPr>
          <a:xfrm>
            <a:off x="4211640" y="5445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690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994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Мы голосу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 жиз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214960" y="4714920"/>
            <a:ext cx="3646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ахуров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63640" y="981000"/>
            <a:ext cx="712944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р, вероятно, спасти уже    не удастся, но отдельного человека всегда можно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7-1"/>
          <p:cNvPicPr/>
          <p:nvPr/>
        </p:nvPicPr>
        <p:blipFill>
          <a:blip r:embed="rId1"/>
          <a:stretch/>
        </p:blipFill>
        <p:spPr>
          <a:xfrm>
            <a:off x="658800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6120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выбираем жизнь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ишем письма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мерт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строим планы на будущее,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у них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них – н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ется, что мы и они – 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х м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085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год кончают жизнь самоубийством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suicid-30"/>
          <p:cNvPicPr/>
          <p:nvPr/>
        </p:nvPicPr>
        <p:blipFill>
          <a:blip r:embed="rId1"/>
          <a:stretch/>
        </p:blipFill>
        <p:spPr>
          <a:xfrm>
            <a:off x="5219640" y="306864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71640" y="2708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80 тысяч китай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0 тысяч америка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5 тысяч япо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0 тысяч француз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50 тысяч рус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836280"/>
            <a:ext cx="783432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самоубийств среди молодежи выросло в 3 р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венадцатый подросток в возрасте 13-17 лет пытается совершить попытку самоубий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законченных суицидов среди юношей в среднем в 3 раза больше, чем среди девуше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ушки пытаются покончить с собой в 4 раза чаще, чем юно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29840" y="162864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м месте – угроза потери близкого человека (неразделенная любов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етьем месте – несправедливое отношение, обв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ицид – акт лишения себя жизни, при котором человек действует целенаправленно, преднамеренно, осознан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13000"/>
            <a:ext cx="8353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6"/>
          <p:cNvGrpSpPr/>
          <p:nvPr/>
        </p:nvGrpSpPr>
        <p:grpSpPr>
          <a:xfrm>
            <a:off x="1332000" y="2205000"/>
            <a:ext cx="7632000" cy="3886920"/>
            <a:chOff x="1332000" y="2205000"/>
            <a:chExt cx="7632000" cy="388692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094440" y="2811960"/>
              <a:ext cx="777960" cy="2671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V="1">
              <a:off x="5148000" y="3759120"/>
              <a:ext cx="2880" cy="77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3424320" y="2813400"/>
              <a:ext cx="777960" cy="26694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1031"/>
            <p:cNvSpPr/>
            <p:nvPr/>
          </p:nvSpPr>
          <p:spPr>
            <a:xfrm>
              <a:off x="4003200" y="220500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уицидальн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ис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13320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нет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40032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ихолог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сихиатр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66744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редов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2480" y="47628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                  суицидальной активности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ицидальные мысли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суицидальные попы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завершенный суицид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                   суицидального поведения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нстративно – шантаж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амоповреждающ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стинно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28352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яют 5 ведущих мотивов суицидального поведения</a:t>
            </a:r>
            <a:br>
              <a:rPr sz="36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изы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тес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збега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амонаказа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тк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1:01Z</dcterms:created>
  <dc:creator>Светлана</dc:creator>
  <dc:description/>
  <dc:language>en-US</dc:language>
  <cp:lastModifiedBy>1277483</cp:lastModifiedBy>
  <dcterms:modified xsi:type="dcterms:W3CDTF">2023-02-01T16:16:39Z</dcterms:modified>
  <cp:revision>41</cp:revision>
  <dc:subject/>
  <dc:title>Что такое суицид и как с ним бороться?</dc:title>
</cp:coreProperties>
</file>