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93B4-0AD2-47EE-A646-7F37DDEF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B445-5082-4AEE-94EA-AEFEBEE0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0A31-CC7E-4D4D-9FB3-ABE59A26B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EC69-7C2F-40E1-B488-2169D8B6E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B7C6-781F-405E-9C39-385B1838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9EEF-04FE-4253-AAA2-0D11A6E5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FF0E-C264-427C-9E0F-750C91B2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55F1-E422-4610-887E-51B0C674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E5CD-7E33-4E88-BBD0-431BFC6F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28BD-E082-4F6D-895F-AF5D3E38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188D-BEDB-4705-B273-521B420C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BCF8-A27F-416E-939B-BEFBEB03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FA64-C269-4109-891E-09605A20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7BBE-38BB-4354-A541-FA293B26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C0FB-EA2F-4970-99B7-B7692F36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27D3-B737-4F9A-890F-1055695E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1131-6680-4641-88DD-6F4D91B7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7568-7805-4520-A9C3-1BB832EA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F9FF-7C52-4D8A-8B9D-4A03F7F9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CCDB-D407-47D6-8C4B-11ACEC72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3CBB-5345-44B9-A9D4-0DEAE046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27CB-3E84-4761-8964-1C39AA94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BD5B-A6EB-4CF7-8CC2-7512732B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C227-3385-4888-99BB-B3D0DC12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1482-7286-40E7-A604-83652F1D556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CD67-F846-49F3-9F7D-15C5238F4F3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cfea8"/>
                </a:solidFill>
                <a:latin typeface="Tahoma"/>
              </a:rPr>
              <a:t>Приложение к устному журналу</a:t>
            </a: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3352320"/>
            <a:ext cx="8686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Tahoma"/>
              </a:rPr>
              <a:t>«Чтоб защитить Москву свою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Tahoma"/>
              </a:rPr>
              <a:t>ты должен отстоять Воронеж!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ahoma"/>
              </a:rPr>
              <a:t>Все для фронта! Все для победы!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0" name="Picture 4" descr="front"/>
          <p:cNvPicPr/>
          <p:nvPr/>
        </p:nvPicPr>
        <p:blipFill>
          <a:blip r:embed="rId1"/>
          <a:stretch/>
        </p:blipFill>
        <p:spPr>
          <a:xfrm>
            <a:off x="1676520" y="2438280"/>
            <a:ext cx="533376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54097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ahoma"/>
              </a:rPr>
              <a:t>Маршал Тимошенко С. К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2" name="Picture 4" descr="muhin_twau1_person_sktimoshenko"/>
          <p:cNvPicPr/>
          <p:nvPr/>
        </p:nvPicPr>
        <p:blipFill>
          <a:blip r:embed="rId1"/>
          <a:stretch/>
        </p:blipFill>
        <p:spPr>
          <a:xfrm>
            <a:off x="2819520" y="228600"/>
            <a:ext cx="3468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04920" y="5181120"/>
            <a:ext cx="25905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А. Твардовский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04m0529"/>
          <p:cNvPicPr/>
          <p:nvPr/>
        </p:nvPicPr>
        <p:blipFill>
          <a:blip r:embed="rId1"/>
          <a:stretch/>
        </p:blipFill>
        <p:spPr>
          <a:xfrm>
            <a:off x="304920" y="533520"/>
            <a:ext cx="2544480" cy="4038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dolmatowsky"/>
          <p:cNvPicPr/>
          <p:nvPr/>
        </p:nvPicPr>
        <p:blipFill>
          <a:blip r:embed="rId2"/>
          <a:stretch/>
        </p:blipFill>
        <p:spPr>
          <a:xfrm>
            <a:off x="3048120" y="533520"/>
            <a:ext cx="3120840" cy="4038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bezymenski"/>
          <p:cNvPicPr/>
          <p:nvPr/>
        </p:nvPicPr>
        <p:blipFill>
          <a:blip r:embed="rId3"/>
          <a:stretch/>
        </p:blipFill>
        <p:spPr>
          <a:xfrm>
            <a:off x="6324480" y="533520"/>
            <a:ext cx="2619360" cy="40384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3124080" y="51055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Е.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Долматов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6082200" y="5105520"/>
            <a:ext cx="29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А.И. Безыменский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ahoma"/>
              </a:rPr>
              <a:t>Наступление немцев на воронежском направле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Picture 4" descr="41-nast-06"/>
          <p:cNvPicPr/>
          <p:nvPr/>
        </p:nvPicPr>
        <p:blipFill>
          <a:blip r:embed="rId1"/>
          <a:stretch/>
        </p:blipFill>
        <p:spPr>
          <a:xfrm>
            <a:off x="762120" y="1752480"/>
            <a:ext cx="763884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495320" y="533520"/>
            <a:ext cx="441972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ahoma"/>
              </a:rPr>
              <a:t>6 июля 1942 года фашисты ворвались в западную часть Воронеж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2" name="Picture 5" descr="0_12f2e_7eba391_XL"/>
          <p:cNvPicPr/>
          <p:nvPr/>
        </p:nvPicPr>
        <p:blipFill>
          <a:blip r:embed="rId1"/>
          <a:stretch/>
        </p:blipFill>
        <p:spPr>
          <a:xfrm>
            <a:off x="304920" y="304920"/>
            <a:ext cx="4038480" cy="2842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20"/>
          <p:cNvPicPr/>
          <p:nvPr/>
        </p:nvPicPr>
        <p:blipFill>
          <a:blip r:embed="rId2"/>
          <a:stretch/>
        </p:blipFill>
        <p:spPr>
          <a:xfrm>
            <a:off x="4648320" y="4038480"/>
            <a:ext cx="4267080" cy="2624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ruin"/>
          <p:cNvPicPr/>
          <p:nvPr/>
        </p:nvPicPr>
        <p:blipFill>
          <a:blip r:embed="rId3"/>
          <a:stretch/>
        </p:blipFill>
        <p:spPr>
          <a:xfrm>
            <a:off x="1066680" y="3276720"/>
            <a:ext cx="25624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1640" y="533520"/>
            <a:ext cx="4419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Генерал-лейтенант Ватутин Н.Ф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6" name="Picture 4" descr="vatutin"/>
          <p:cNvPicPr/>
          <p:nvPr/>
        </p:nvPicPr>
        <p:blipFill>
          <a:blip r:embed="rId1"/>
          <a:stretch/>
        </p:blipFill>
        <p:spPr>
          <a:xfrm>
            <a:off x="5021280" y="1600200"/>
            <a:ext cx="3606840" cy="4952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golikov_fi"/>
          <p:cNvPicPr/>
          <p:nvPr/>
        </p:nvPicPr>
        <p:blipFill>
          <a:blip r:embed="rId2"/>
          <a:stretch/>
        </p:blipFill>
        <p:spPr>
          <a:xfrm>
            <a:off x="380880" y="1600200"/>
            <a:ext cx="3292560" cy="49449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762120" y="38088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Генера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Голиков Ф.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ahoma"/>
              </a:rPr>
              <a:t>А.И. Безыменски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Picture 4" descr="bezymenski"/>
          <p:cNvPicPr/>
          <p:nvPr/>
        </p:nvPicPr>
        <p:blipFill>
          <a:blip r:embed="rId1"/>
          <a:stretch/>
        </p:blipFill>
        <p:spPr>
          <a:xfrm>
            <a:off x="2895480" y="1676520"/>
            <a:ext cx="32133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ahoma"/>
              </a:rPr>
              <a:t>212 дней и ночей бился с немецко-фашистскими захватчиками Воронеж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2" name="Picture 4" descr="tmp11B-65"/>
          <p:cNvPicPr/>
          <p:nvPr/>
        </p:nvPicPr>
        <p:blipFill>
          <a:blip r:embed="rId1"/>
          <a:stretch/>
        </p:blipFill>
        <p:spPr>
          <a:xfrm>
            <a:off x="228600" y="3048120"/>
            <a:ext cx="2571840" cy="3538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tmp389B-44b"/>
          <p:cNvPicPr/>
          <p:nvPr/>
        </p:nvPicPr>
        <p:blipFill>
          <a:blip r:embed="rId2"/>
          <a:stretch/>
        </p:blipFill>
        <p:spPr>
          <a:xfrm>
            <a:off x="3200400" y="3048120"/>
            <a:ext cx="567684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ahoma"/>
              </a:rPr>
              <a:t>Уличные бои в Воронеж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Picture 4" descr="img1_1-13"/>
          <p:cNvPicPr/>
          <p:nvPr/>
        </p:nvPicPr>
        <p:blipFill>
          <a:blip r:embed="rId1"/>
          <a:stretch/>
        </p:blipFill>
        <p:spPr>
          <a:xfrm>
            <a:off x="4648320" y="4021200"/>
            <a:ext cx="4495680" cy="2836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img1_1-15"/>
          <p:cNvPicPr/>
          <p:nvPr/>
        </p:nvPicPr>
        <p:blipFill>
          <a:blip r:embed="rId2"/>
          <a:stretch/>
        </p:blipFill>
        <p:spPr>
          <a:xfrm>
            <a:off x="0" y="2286000"/>
            <a:ext cx="457200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ahoma"/>
              </a:rPr>
              <a:t>Чижовский плацдарм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Picture 4" descr="119_1922"/>
          <p:cNvPicPr/>
          <p:nvPr/>
        </p:nvPicPr>
        <p:blipFill>
          <a:blip r:embed="rId1"/>
          <a:stretch/>
        </p:blipFill>
        <p:spPr>
          <a:xfrm>
            <a:off x="152280" y="1295280"/>
            <a:ext cx="5334120" cy="4003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242"/>
          <p:cNvPicPr/>
          <p:nvPr/>
        </p:nvPicPr>
        <p:blipFill>
          <a:blip r:embed="rId2"/>
          <a:stretch/>
        </p:blipFill>
        <p:spPr>
          <a:xfrm>
            <a:off x="5486400" y="3809880"/>
            <a:ext cx="350532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48320" y="685800"/>
            <a:ext cx="449568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ahoma"/>
              </a:rPr>
              <a:t>22 июня 1941 года нацистская Германия вероломно напала на нашу Родину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Picture 5" descr="c51df39ff05a"/>
          <p:cNvPicPr/>
          <p:nvPr/>
        </p:nvPicPr>
        <p:blipFill>
          <a:blip r:embed="rId1"/>
          <a:stretch/>
        </p:blipFill>
        <p:spPr>
          <a:xfrm>
            <a:off x="3276720" y="4200480"/>
            <a:ext cx="5562360" cy="2459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nach02"/>
          <p:cNvPicPr/>
          <p:nvPr/>
        </p:nvPicPr>
        <p:blipFill>
          <a:blip r:embed="rId2"/>
          <a:stretch/>
        </p:blipFill>
        <p:spPr>
          <a:xfrm>
            <a:off x="228600" y="685800"/>
            <a:ext cx="4648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ahoma"/>
              </a:rPr>
              <a:t>Операция « Малый Сатурн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1" name="Picture 5" descr="foto38"/>
          <p:cNvPicPr/>
          <p:nvPr/>
        </p:nvPicPr>
        <p:blipFill>
          <a:blip r:embed="rId1"/>
          <a:stretch/>
        </p:blipFill>
        <p:spPr>
          <a:xfrm>
            <a:off x="1600200" y="2362320"/>
            <a:ext cx="5791320" cy="37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ahoma"/>
              </a:rPr>
              <a:t>Памятник участникам операции Малый Сатурн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3" name="Picture 4" descr="074_-_2009_08_16__17-00_Mamon-Serafimovich_pamyatnik_V-Mamon_pered_parkom"/>
          <p:cNvPicPr/>
          <p:nvPr/>
        </p:nvPicPr>
        <p:blipFill>
          <a:blip r:embed="rId1"/>
          <a:stretch/>
        </p:blipFill>
        <p:spPr>
          <a:xfrm>
            <a:off x="1295280" y="1600200"/>
            <a:ext cx="68580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228960" y="304920"/>
            <a:ext cx="5257800" cy="49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Tahoma"/>
              </a:rPr>
              <a:t>генерал-майор </a:t>
            </a:r>
            <a:br>
              <a:rPr sz="3600"/>
            </a:br>
            <a:br>
              <a:rPr sz="3600"/>
            </a:br>
            <a:r>
              <a:rPr b="0" lang="ru-RU" sz="4000" spc="-1" strike="noStrike">
                <a:solidFill>
                  <a:srgbClr val="ffcc66"/>
                </a:solidFill>
                <a:latin typeface="Tahoma"/>
              </a:rPr>
              <a:t>Черняховский И.Д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Picture 6" descr="11111"/>
          <p:cNvPicPr/>
          <p:nvPr/>
        </p:nvPicPr>
        <p:blipFill>
          <a:blip r:embed="rId1"/>
          <a:stretch/>
        </p:blipFill>
        <p:spPr>
          <a:xfrm>
            <a:off x="4800600" y="533520"/>
            <a:ext cx="41529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00240" y="1904760"/>
            <a:ext cx="396252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ahoma"/>
              </a:rPr>
              <a:t>генерал-майор </a:t>
            </a:r>
            <a:br>
              <a:rPr sz="4000"/>
            </a:br>
            <a:br>
              <a:rPr sz="4000"/>
            </a:br>
            <a:r>
              <a:rPr b="0" lang="ru-RU" sz="4400" spc="-1" strike="noStrike">
                <a:solidFill>
                  <a:srgbClr val="ffcc66"/>
                </a:solidFill>
                <a:latin typeface="Tahoma"/>
              </a:rPr>
              <a:t>Лизюков А.И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Picture 4" descr="lizyukov_ai"/>
          <p:cNvPicPr/>
          <p:nvPr/>
        </p:nvPicPr>
        <p:blipFill>
          <a:blip r:embed="rId1"/>
          <a:stretch/>
        </p:blipFill>
        <p:spPr>
          <a:xfrm>
            <a:off x="304920" y="380880"/>
            <a:ext cx="40640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Tahoma"/>
              </a:rPr>
              <a:t>генерал-лейтенант</a:t>
            </a:r>
            <a:r>
              <a:rPr b="0" lang="ru-RU" sz="4400" spc="-1" strike="noStrike">
                <a:solidFill>
                  <a:srgbClr val="ffcc66"/>
                </a:solidFill>
                <a:latin typeface="Tahoma"/>
              </a:rPr>
              <a:t> Попов М.М. </a:t>
            </a:r>
            <a:r>
              <a:rPr b="0" lang="ru-RU" sz="3600" spc="-1" strike="noStrike">
                <a:solidFill>
                  <a:srgbClr val="ffcc66"/>
                </a:solidFill>
                <a:latin typeface="Tahoma"/>
              </a:rPr>
              <a:t>(второй слева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Picture 5" descr="115b"/>
          <p:cNvPicPr/>
          <p:nvPr/>
        </p:nvPicPr>
        <p:blipFill>
          <a:blip r:embed="rId1"/>
          <a:stretch/>
        </p:blipFill>
        <p:spPr>
          <a:xfrm>
            <a:off x="1371600" y="2362320"/>
            <a:ext cx="662940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2209320"/>
            <a:ext cx="4800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Tahoma"/>
              </a:rPr>
              <a:t>генерал-майор</a:t>
            </a:r>
            <a:br>
              <a:rPr sz="3600"/>
            </a:br>
            <a:br>
              <a:rPr sz="3600"/>
            </a:br>
            <a:r>
              <a:rPr b="0" lang="ru-RU" sz="4400" spc="-1" strike="noStrike">
                <a:solidFill>
                  <a:srgbClr val="ffcc66"/>
                </a:solidFill>
                <a:latin typeface="Tahoma"/>
              </a:rPr>
              <a:t> Красовский С.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Picture 6" descr="krasovskij"/>
          <p:cNvPicPr/>
          <p:nvPr/>
        </p:nvPicPr>
        <p:blipFill>
          <a:blip r:embed="rId1"/>
          <a:stretch/>
        </p:blipFill>
        <p:spPr>
          <a:xfrm>
            <a:off x="4876920" y="685800"/>
            <a:ext cx="3962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ahoma"/>
              </a:rPr>
              <a:t>Савин, награжден орденом Красной Звезды за бои на Воронежском фронт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3" name="Picture 4" descr="img1_1-09"/>
          <p:cNvPicPr/>
          <p:nvPr/>
        </p:nvPicPr>
        <p:blipFill>
          <a:blip r:embed="rId1"/>
          <a:stretch/>
        </p:blipFill>
        <p:spPr>
          <a:xfrm>
            <a:off x="2895480" y="2438280"/>
            <a:ext cx="336096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Tahoma"/>
              </a:rPr>
              <a:t>Указом Президента Российской Федерации от 16 февраля 2008 г. за мужество, стойкость и массовый героизм, проявленные защитниками города в борьбе за свободу и независимость Отечества в годы Великой Отечественной войны, Воронежу присвоено почетное звание Российской Федерации «Город воинской славы»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5" name="Picture 4" descr="putin_02"/>
          <p:cNvPicPr/>
          <p:nvPr/>
        </p:nvPicPr>
        <p:blipFill>
          <a:blip r:embed="rId1"/>
          <a:stretch/>
        </p:blipFill>
        <p:spPr>
          <a:xfrm>
            <a:off x="1447920" y="205740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ahoma"/>
              </a:rPr>
              <a:t>Символы присвоения звания "Воронеж - город воинской славы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7" name="Picture 5" descr="3659"/>
          <p:cNvPicPr/>
          <p:nvPr/>
        </p:nvPicPr>
        <p:blipFill>
          <a:blip r:embed="rId1"/>
          <a:stretch/>
        </p:blipFill>
        <p:spPr>
          <a:xfrm>
            <a:off x="2133720" y="1905120"/>
            <a:ext cx="495288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voyna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6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66720" y="457200"/>
            <a:ext cx="487692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ahoma"/>
              </a:rPr>
              <a:t>22 июня 1941 , Президиумом Верховного Совета принят указ о мобилизации в Красную Армию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5" name="Picture 5" descr="11425"/>
          <p:cNvPicPr/>
          <p:nvPr/>
        </p:nvPicPr>
        <p:blipFill>
          <a:blip r:embed="rId1"/>
          <a:stretch/>
        </p:blipFill>
        <p:spPr>
          <a:xfrm>
            <a:off x="228600" y="380880"/>
            <a:ext cx="40845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2880" y="274320"/>
            <a:ext cx="37339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ahoma"/>
              </a:rPr>
              <a:t>Отправление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Tahoma"/>
              </a:rPr>
              <a:t> на фрон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7" name="Picture 4" descr="27921"/>
          <p:cNvPicPr/>
          <p:nvPr/>
        </p:nvPicPr>
        <p:blipFill>
          <a:blip r:embed="rId1"/>
          <a:stretch/>
        </p:blipFill>
        <p:spPr>
          <a:xfrm>
            <a:off x="4572000" y="3276720"/>
            <a:ext cx="4419720" cy="3416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2803996249"/>
          <p:cNvPicPr/>
          <p:nvPr/>
        </p:nvPicPr>
        <p:blipFill>
          <a:blip r:embed="rId2"/>
          <a:stretch/>
        </p:blipFill>
        <p:spPr>
          <a:xfrm>
            <a:off x="152280" y="152280"/>
            <a:ext cx="441972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cc66"/>
                </a:solidFill>
                <a:latin typeface="Tahoma"/>
              </a:rPr>
              <a:t>Вайцеховский М.Е. (в центре) </a:t>
            </a:r>
            <a:br>
              <a:rPr sz="2800"/>
            </a:br>
            <a:r>
              <a:rPr b="0" lang="ru-RU" sz="2800" spc="-1" strike="noStrike">
                <a:solidFill>
                  <a:srgbClr val="ffcc66"/>
                </a:solidFill>
                <a:latin typeface="Tahoma"/>
              </a:rPr>
              <a:t>                                          Латышев Н.П. (справа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0" name="Picture 4" descr="15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00240" y="12949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ahoma"/>
              </a:rPr>
              <a:t>РС -132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Tahoma"/>
              </a:rPr>
              <a:t>(катюша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" name="Picture 4" descr="958ec48eef2c"/>
          <p:cNvPicPr/>
          <p:nvPr/>
        </p:nvPicPr>
        <p:blipFill>
          <a:blip r:embed="rId1"/>
          <a:stretch/>
        </p:blipFill>
        <p:spPr>
          <a:xfrm>
            <a:off x="228600" y="533520"/>
            <a:ext cx="4519440" cy="5867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14117582"/>
          <p:cNvPicPr/>
          <p:nvPr/>
        </p:nvPicPr>
        <p:blipFill>
          <a:blip r:embed="rId2"/>
          <a:stretch/>
        </p:blipFill>
        <p:spPr>
          <a:xfrm>
            <a:off x="4952880" y="3581280"/>
            <a:ext cx="39625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ahoma"/>
              </a:rPr>
              <a:t>Катюша в бою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Picture 4" descr="image049"/>
          <p:cNvPicPr/>
          <p:nvPr/>
        </p:nvPicPr>
        <p:blipFill>
          <a:blip r:embed="rId1"/>
          <a:stretch/>
        </p:blipFill>
        <p:spPr>
          <a:xfrm>
            <a:off x="1295280" y="1828800"/>
            <a:ext cx="662940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ahoma"/>
              </a:rPr>
              <a:t>Штурмовик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Tahoma"/>
              </a:rPr>
              <a:t>Ил-2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" name="Picture 5" descr="1244273588_il-2_5"/>
          <p:cNvPicPr/>
          <p:nvPr/>
        </p:nvPicPr>
        <p:blipFill>
          <a:blip r:embed="rId1"/>
          <a:stretch/>
        </p:blipFill>
        <p:spPr>
          <a:xfrm>
            <a:off x="304920" y="3344760"/>
            <a:ext cx="4800600" cy="3171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49460"/>
          <p:cNvPicPr/>
          <p:nvPr/>
        </p:nvPicPr>
        <p:blipFill>
          <a:blip r:embed="rId2"/>
          <a:stretch/>
        </p:blipFill>
        <p:spPr>
          <a:xfrm>
            <a:off x="4419720" y="152280"/>
            <a:ext cx="434340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sa2707@outlook.com</cp:lastModifiedBy>
  <dcterms:modified xsi:type="dcterms:W3CDTF">2023-05-06T06:28:2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