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5E01-BEE3-4C52-8C6C-F6A05E481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BC0-BAE8-4E0E-B714-E0C7B76DA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AC4-0404-4209-910F-AB5C0F0A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7A2-46C5-4F66-A021-6EA8707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80C-6E98-4FAB-AA46-FC82E6F9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664-C4CE-49EB-8904-7E305DD6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EAF-690D-4D9C-9C8E-84BADE69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1EB-B9F3-49BE-B49D-48459B6F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55D-FA0E-4A7E-97F0-11DE47D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978-1C3D-4C1C-8E82-DED62C44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8DE-B8AB-43D4-AA57-DE4F096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2FA-A04E-4A3E-8F7F-A0197BC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615-727B-48F0-A0CB-437D608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6DE-B056-43AC-8770-89314B8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816-9D8E-470A-B1CA-B442A2B01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8" descr="Вырезка экрана"/>
          <p:cNvPicPr/>
          <p:nvPr/>
        </p:nvPicPr>
        <p:blipFill>
          <a:blip r:embed="rId1"/>
          <a:stretch/>
        </p:blipFill>
        <p:spPr>
          <a:xfrm>
            <a:off x="582480" y="1600200"/>
            <a:ext cx="797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Объект 3" descr="Вырезка экрана"/>
          <p:cNvPicPr/>
          <p:nvPr/>
        </p:nvPicPr>
        <p:blipFill>
          <a:blip r:embed="rId1"/>
          <a:stretch/>
        </p:blipFill>
        <p:spPr>
          <a:xfrm>
            <a:off x="743040" y="609480"/>
            <a:ext cx="8153280" cy="5516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Вырезка экрана"/>
          <p:cNvPicPr/>
          <p:nvPr/>
        </p:nvPicPr>
        <p:blipFill>
          <a:blip r:embed="rId2"/>
          <a:stretch/>
        </p:blipFill>
        <p:spPr>
          <a:xfrm>
            <a:off x="76320" y="1646280"/>
            <a:ext cx="4743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258920" y="189000"/>
            <a:ext cx="7705800" cy="7189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 ошибку!  Объяс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0920" y="1959120"/>
          <a:ext cx="42498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59120"/>
                    <a:ext cx="42498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4"/>
          <p:cNvGraphicFramePr/>
          <p:nvPr/>
        </p:nvGraphicFramePr>
        <p:xfrm>
          <a:off x="4643280" y="1954080"/>
          <a:ext cx="4319640" cy="40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54080"/>
                    <a:ext cx="43196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5" descr="CRCTR496"/>
          <p:cNvPicPr/>
          <p:nvPr/>
        </p:nvPicPr>
        <p:blipFill>
          <a:blip r:embed="rId5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5003640" y="1052640"/>
            <a:ext cx="3095640" cy="614160"/>
          </a:xfrm>
          <a:prstGeom prst="rect">
            <a:avLst/>
          </a:prstGeom>
          <a:solidFill>
            <a:srgbClr val="ffccff">
              <a:alpha val="42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1258920" y="189000"/>
            <a:ext cx="7705800" cy="7189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 ошибку!  Объяс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250920" y="1989000"/>
          <a:ext cx="4249800" cy="39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249800" cy="39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4643280" y="1954080"/>
          <a:ext cx="4319640" cy="40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54080"/>
                    <a:ext cx="43196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5" descr="CRCTR496"/>
          <p:cNvPicPr/>
          <p:nvPr/>
        </p:nvPicPr>
        <p:blipFill>
          <a:blip r:embed="rId5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003640" y="1052640"/>
            <a:ext cx="3095640" cy="614160"/>
          </a:xfrm>
          <a:prstGeom prst="rect">
            <a:avLst/>
          </a:prstGeom>
          <a:solidFill>
            <a:srgbClr val="ffccff">
              <a:alpha val="42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6084720" y="2125800"/>
            <a:ext cx="26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2749680" y="112536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1452600" y="2181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1449360" y="2171880"/>
            <a:ext cx="2603520" cy="12600"/>
          </a:xfrm>
          <a:custGeom>
            <a:avLst/>
            <a:gdLst>
              <a:gd name="textAreaLeft" fmla="*/ 0 w 2603520"/>
              <a:gd name="textAreaRight" fmla="*/ 2603880 w 2603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40" h="8">
                <a:moveTo>
                  <a:pt x="0" y="8"/>
                </a:moveTo>
                <a:lnTo>
                  <a:pt x="16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2744640" y="774720"/>
            <a:ext cx="5040" cy="2727360"/>
          </a:xfrm>
          <a:custGeom>
            <a:avLst/>
            <a:gdLst>
              <a:gd name="textAreaLeft" fmla="*/ 0 w 5040"/>
              <a:gd name="textAreaRight" fmla="*/ 5400 w 5040"/>
              <a:gd name="textAreaTop" fmla="*/ 0 h 2727360"/>
              <a:gd name="textAreaBottom" fmla="*/ 2727720 h 2727360"/>
            </a:gdLst>
            <a:ahLst/>
            <a:rect l="textAreaLeft" t="textAreaTop" r="textAreaRight" b="textAreaBottom"/>
            <a:pathLst>
              <a:path w="3" h="1718">
                <a:moveTo>
                  <a:pt x="3" y="171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"/>
          <p:cNvSpPr/>
          <p:nvPr/>
        </p:nvSpPr>
        <p:spPr>
          <a:xfrm>
            <a:off x="1511280" y="1028880"/>
            <a:ext cx="1968480" cy="134604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1240" h="848">
                <a:moveTo>
                  <a:pt x="0" y="848"/>
                </a:moveTo>
                <a:lnTo>
                  <a:pt x="124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83112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34180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"/>
          <p:cNvSpPr/>
          <p:nvPr/>
        </p:nvSpPr>
        <p:spPr>
          <a:xfrm>
            <a:off x="1447920" y="5308560"/>
            <a:ext cx="2692440" cy="2556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96" h="16">
                <a:moveTo>
                  <a:pt x="0" y="0"/>
                </a:moveTo>
                <a:lnTo>
                  <a:pt x="1696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2771640" y="385920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5"/>
          <p:cNvSpPr/>
          <p:nvPr/>
        </p:nvSpPr>
        <p:spPr>
          <a:xfrm>
            <a:off x="1460520" y="4673520"/>
            <a:ext cx="2387520" cy="194328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1504" h="1224">
                <a:moveTo>
                  <a:pt x="0" y="0"/>
                </a:moveTo>
                <a:lnTo>
                  <a:pt x="1504" y="122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85308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459160" y="37879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534040" y="522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9"/>
          <p:cNvSpPr/>
          <p:nvPr/>
        </p:nvSpPr>
        <p:spPr>
          <a:xfrm>
            <a:off x="6070680" y="5232240"/>
            <a:ext cx="2692440" cy="1296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6629400" y="4280040"/>
            <a:ext cx="1994040" cy="1625400"/>
          </a:xfrm>
          <a:custGeom>
            <a:avLst/>
            <a:gdLst>
              <a:gd name="textAreaLeft" fmla="*/ 0 w 1994040"/>
              <a:gd name="textAreaRight" fmla="*/ 1994040 w 1994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1256" h="1024">
                <a:moveTo>
                  <a:pt x="0" y="0"/>
                </a:moveTo>
                <a:lnTo>
                  <a:pt x="1256" y="102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7166160" y="514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738180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5"/>
          <p:cNvSpPr/>
          <p:nvPr/>
        </p:nvSpPr>
        <p:spPr>
          <a:xfrm>
            <a:off x="7381800" y="755640"/>
            <a:ext cx="3240" cy="2673360"/>
          </a:xfrm>
          <a:custGeom>
            <a:avLst/>
            <a:gdLst>
              <a:gd name="textAreaLeft" fmla="*/ 0 w 3240"/>
              <a:gd name="textAreaRight" fmla="*/ 3600 w 3240"/>
              <a:gd name="textAreaTop" fmla="*/ 0 h 2673360"/>
              <a:gd name="textAreaBottom" fmla="*/ 2673720 h 2673360"/>
            </a:gdLst>
            <a:ahLst/>
            <a:rect l="textAreaLeft" t="textAreaTop" r="textAreaRight" b="textAreaBottom"/>
            <a:pathLst>
              <a:path w="2" h="1684">
                <a:moveTo>
                  <a:pt x="0" y="1684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6"/>
          <p:cNvSpPr/>
          <p:nvPr/>
        </p:nvSpPr>
        <p:spPr>
          <a:xfrm>
            <a:off x="6877080" y="1351080"/>
            <a:ext cx="1727280" cy="22222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222280"/>
              <a:gd name="textAreaBottom" fmla="*/ 2222640 h 2222280"/>
            </a:gdLst>
            <a:ahLst/>
            <a:rect l="textAreaLeft" t="textAreaTop" r="textAreaRight" b="textAreaBottom"/>
            <a:pathLst>
              <a:path w="1088" h="1400">
                <a:moveTo>
                  <a:pt x="1088" y="0"/>
                </a:moveTo>
                <a:lnTo>
                  <a:pt x="0" y="140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7142400" y="20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8534880" y="20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611280" y="189000"/>
            <a:ext cx="85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Установите  соответствие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36000" y="10526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34200" y="1608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36000" y="225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34200" y="2903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4715640" y="27813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4717440" y="1463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4717440" y="2111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715640" y="9586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108720" y="4149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108720" y="60008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108720" y="53514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08720" y="47750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4717440" y="4221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717440" y="47768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g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4717440" y="54244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4717440" y="6072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&lt;0, b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6296E-006 L 0.13784 -0.03032 E">
                                      <p:cBhvr>
                                        <p:cTn id="41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13941 0.02546 E">
                                      <p:cBhvr>
                                        <p:cTn id="44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L 0.29531 -0.09306 E">
                                      <p:cBhvr>
                                        <p:cTn id="47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29532 -0.27176 E">
                                      <p:cBhvr>
                                        <p:cTn id="50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конч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годня на уроке я 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Моя позици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лидер,              ведо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лушатель,      крит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мощник,       зр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творческая лич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акая-то другая (укажите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403280" y="765000"/>
            <a:ext cx="62658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66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66ff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843200" y="2859120"/>
            <a:ext cx="54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ункция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нейная фун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Ц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Посмотрите на таблицу и выделите то, что на ваш взгляд лично вам надо повторить, в течение урока не забывайте делать отметку о выполнении. В таблице есть пустые строки, заполните их</a:t>
            </a: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самостоятельно, если на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RCTR142"/>
          <p:cNvPicPr/>
          <p:nvPr/>
        </p:nvPicPr>
        <p:blipFill>
          <a:blip r:embed="rId1"/>
          <a:stretch/>
        </p:blipFill>
        <p:spPr>
          <a:xfrm>
            <a:off x="6556320" y="3886200"/>
            <a:ext cx="25909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1163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RCTR496"/>
          <p:cNvPicPr/>
          <p:nvPr/>
        </p:nvPicPr>
        <p:blipFill>
          <a:blip r:embed="rId1"/>
          <a:stretch/>
        </p:blipFill>
        <p:spPr>
          <a:xfrm flipH="1">
            <a:off x="323640" y="260280"/>
            <a:ext cx="102852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189080" y="189000"/>
            <a:ext cx="136332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ику функции 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её область опред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ий функции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5"/>
          <p:cNvGraphicFramePr/>
          <p:nvPr/>
        </p:nvGraphicFramePr>
        <p:xfrm>
          <a:off x="2627280" y="2205000"/>
          <a:ext cx="449748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205000"/>
                    <a:ext cx="4497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17" descr="CRCTR142"/>
          <p:cNvPicPr/>
          <p:nvPr/>
        </p:nvPicPr>
        <p:blipFill>
          <a:blip r:embed="rId4"/>
          <a:stretch/>
        </p:blipFill>
        <p:spPr>
          <a:xfrm>
            <a:off x="6948360" y="3500280"/>
            <a:ext cx="27576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276720" y="2997000"/>
            <a:ext cx="3095640" cy="3313440"/>
            <a:chOff x="3276720" y="2997000"/>
            <a:chExt cx="3095640" cy="3313440"/>
          </a:xfrm>
        </p:grpSpPr>
        <p:sp>
          <p:nvSpPr>
            <p:cNvPr id="70" name="Freeform 18"/>
            <p:cNvSpPr/>
            <p:nvPr/>
          </p:nvSpPr>
          <p:spPr>
            <a:xfrm>
              <a:off x="3348000" y="3068640"/>
              <a:ext cx="2952720" cy="316872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w="1860" h="1996">
                  <a:moveTo>
                    <a:pt x="0" y="1996"/>
                  </a:moveTo>
                  <a:cubicBezTo>
                    <a:pt x="30" y="1799"/>
                    <a:pt x="69" y="1597"/>
                    <a:pt x="136" y="1406"/>
                  </a:cubicBezTo>
                  <a:cubicBezTo>
                    <a:pt x="203" y="1215"/>
                    <a:pt x="269" y="1026"/>
                    <a:pt x="403" y="851"/>
                  </a:cubicBezTo>
                  <a:cubicBezTo>
                    <a:pt x="537" y="676"/>
                    <a:pt x="696" y="497"/>
                    <a:pt x="939" y="355"/>
                  </a:cubicBezTo>
                  <a:cubicBezTo>
                    <a:pt x="1182" y="213"/>
                    <a:pt x="1668" y="74"/>
                    <a:pt x="186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 flipV="1">
              <a:off x="3276720" y="6165720"/>
              <a:ext cx="14436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 flipV="1">
              <a:off x="6227640" y="2996640"/>
              <a:ext cx="144720" cy="144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22"/>
          <p:cNvSpPr/>
          <p:nvPr/>
        </p:nvSpPr>
        <p:spPr>
          <a:xfrm flipV="1">
            <a:off x="3348000" y="56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 flipV="1">
            <a:off x="6300720" y="31413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3327480" y="5613480"/>
            <a:ext cx="2971800" cy="126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72" h="8">
                <a:moveTo>
                  <a:pt x="0" y="0"/>
                </a:moveTo>
                <a:lnTo>
                  <a:pt x="1872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>
            <a:off x="3419640" y="623736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0"/>
          <p:cNvSpPr/>
          <p:nvPr/>
        </p:nvSpPr>
        <p:spPr>
          <a:xfrm>
            <a:off x="4317840" y="3111480"/>
            <a:ext cx="1968840" cy="1440"/>
          </a:xfrm>
          <a:custGeom>
            <a:avLst/>
            <a:gdLst>
              <a:gd name="textAreaLeft" fmla="*/ 0 w 1968840"/>
              <a:gd name="textAreaRight" fmla="*/ 1969200 w 1968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4213080" y="3141720"/>
            <a:ext cx="3240" cy="3093840"/>
          </a:xfrm>
          <a:custGeom>
            <a:avLst/>
            <a:gdLst>
              <a:gd name="textAreaLeft" fmla="*/ 0 w 3240"/>
              <a:gd name="textAreaRight" fmla="*/ 3600 w 324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2" h="1949">
                <a:moveTo>
                  <a:pt x="2" y="1949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851280" y="2708280"/>
          <a:ext cx="482616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08280"/>
                    <a:ext cx="48261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7" descr="CRCTR496"/>
          <p:cNvPicPr/>
          <p:nvPr/>
        </p:nvPicPr>
        <p:blipFill>
          <a:blip r:embed="rId3"/>
          <a:stretch/>
        </p:blipFill>
        <p:spPr>
          <a:xfrm flipH="1">
            <a:off x="323640" y="260280"/>
            <a:ext cx="1028520" cy="2565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1189080" y="189000"/>
            <a:ext cx="136332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763640" y="692280"/>
            <a:ext cx="6983640" cy="22269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ику функции, изображённому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исунке, 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значение функции пр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значение  аргумента при кото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4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179280" y="371628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828720" y="3645000"/>
            <a:ext cx="100656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2124000" y="3645000"/>
            <a:ext cx="1008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6400800" y="4775040"/>
            <a:ext cx="1440" cy="1130400"/>
          </a:xfrm>
          <a:custGeom>
            <a:avLst/>
            <a:gdLst>
              <a:gd name="textAreaLeft" fmla="*/ 0 w 1440"/>
              <a:gd name="textAreaRight" fmla="*/ 1800 w 144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1" h="712">
                <a:moveTo>
                  <a:pt x="0" y="7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4716360" y="4724280"/>
            <a:ext cx="165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229440" y="595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4357800" y="4581360"/>
            <a:ext cx="333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"/>
          <p:cNvSpPr/>
          <p:nvPr/>
        </p:nvSpPr>
        <p:spPr>
          <a:xfrm>
            <a:off x="179280" y="501336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826920" y="4941720"/>
            <a:ext cx="100836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35780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4716360" y="357336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6948360" y="3573360"/>
            <a:ext cx="71640" cy="2303640"/>
          </a:xfrm>
          <a:custGeom>
            <a:avLst/>
            <a:gdLst>
              <a:gd name="textAreaLeft" fmla="*/ 0 w 71640"/>
              <a:gd name="textAreaRight" fmla="*/ 72000 w 716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" h="712">
                <a:moveTo>
                  <a:pt x="0" y="7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6734160" y="5950080"/>
            <a:ext cx="333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2124000" y="4941720"/>
            <a:ext cx="100800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 изображены 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ункций. Укажите, какая форму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ответствует каждому  из 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5867280" y="2349360"/>
            <a:ext cx="2089080" cy="614520"/>
            <a:chOff x="5867280" y="2349360"/>
            <a:chExt cx="2089080" cy="614520"/>
          </a:xfrm>
        </p:grpSpPr>
        <p:sp>
          <p:nvSpPr>
            <p:cNvPr id="104" name="Rectangle 5"/>
            <p:cNvSpPr/>
            <p:nvPr/>
          </p:nvSpPr>
          <p:spPr>
            <a:xfrm>
              <a:off x="5867280" y="2349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6"/>
                <p:cNvSpPr txBox="1"/>
                <p:nvPr/>
              </p:nvSpPr>
              <p:spPr>
                <a:xfrm>
                  <a:off x="6291360" y="2387520"/>
                  <a:ext cx="12888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" name="Group 7"/>
          <p:cNvGrpSpPr/>
          <p:nvPr/>
        </p:nvGrpSpPr>
        <p:grpSpPr>
          <a:xfrm>
            <a:off x="5867280" y="4005360"/>
            <a:ext cx="2089080" cy="614160"/>
            <a:chOff x="5867280" y="4005360"/>
            <a:chExt cx="2089080" cy="614160"/>
          </a:xfrm>
        </p:grpSpPr>
        <p:sp>
          <p:nvSpPr>
            <p:cNvPr id="107" name="Rectangle 8"/>
            <p:cNvSpPr/>
            <p:nvPr/>
          </p:nvSpPr>
          <p:spPr>
            <a:xfrm>
              <a:off x="5867280" y="400536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6159600" y="4043160"/>
                  <a:ext cx="155412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" name="Group 10"/>
          <p:cNvGrpSpPr/>
          <p:nvPr/>
        </p:nvGrpSpPr>
        <p:grpSpPr>
          <a:xfrm>
            <a:off x="5867280" y="5661000"/>
            <a:ext cx="2089080" cy="614520"/>
            <a:chOff x="5867280" y="5661000"/>
            <a:chExt cx="2089080" cy="614520"/>
          </a:xfrm>
        </p:grpSpPr>
        <p:sp>
          <p:nvSpPr>
            <p:cNvPr id="110" name="Rectangle 11"/>
            <p:cNvSpPr/>
            <p:nvPr/>
          </p:nvSpPr>
          <p:spPr>
            <a:xfrm>
              <a:off x="5867280" y="566100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12"/>
                <p:cNvSpPr txBox="1"/>
                <p:nvPr/>
              </p:nvSpPr>
              <p:spPr>
                <a:xfrm>
                  <a:off x="6083280" y="5699160"/>
                  <a:ext cx="1706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2" name="Object 13"/>
          <p:cNvGraphicFramePr/>
          <p:nvPr/>
        </p:nvGraphicFramePr>
        <p:xfrm>
          <a:off x="611280" y="2170080"/>
          <a:ext cx="4968720" cy="43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70080"/>
                    <a:ext cx="49687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Oval 14"/>
          <p:cNvSpPr/>
          <p:nvPr/>
        </p:nvSpPr>
        <p:spPr>
          <a:xfrm>
            <a:off x="8172360" y="234936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8172360" y="400536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8172360" y="5661000"/>
            <a:ext cx="647640" cy="62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ыпишите  линейные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4076640"/>
            <a:ext cx="8785440" cy="720720"/>
          </a:xfrm>
          <a:prstGeom prst="rect">
            <a:avLst/>
          </a:prstGeom>
          <a:solidFill>
            <a:srgbClr val="d6f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инейные 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372360" y="1284120"/>
                <a:ext cx="2447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2195640" y="1268280"/>
                <a:ext cx="1726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9,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4788000" y="1916280"/>
                <a:ext cx="2361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539640" y="1488960"/>
                <a:ext cx="1224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5"/>
              <p:cNvSpPr txBox="1"/>
              <p:nvPr/>
            </p:nvSpPr>
            <p:spPr>
              <a:xfrm>
                <a:off x="2700360" y="2205000"/>
                <a:ext cx="1728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6"/>
              <p:cNvSpPr txBox="1"/>
              <p:nvPr/>
            </p:nvSpPr>
            <p:spPr>
              <a:xfrm>
                <a:off x="5219640" y="2852640"/>
                <a:ext cx="20890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9"/>
              <p:cNvSpPr txBox="1"/>
              <p:nvPr/>
            </p:nvSpPr>
            <p:spPr>
              <a:xfrm>
                <a:off x="2268360" y="3206880"/>
                <a:ext cx="273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1"/>
              <p:cNvSpPr txBox="1"/>
              <p:nvPr/>
            </p:nvSpPr>
            <p:spPr>
              <a:xfrm>
                <a:off x="324000" y="2781360"/>
                <a:ext cx="15746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" name="Text Box 22"/>
          <p:cNvSpPr/>
          <p:nvPr/>
        </p:nvSpPr>
        <p:spPr>
          <a:xfrm>
            <a:off x="3511080" y="4724280"/>
            <a:ext cx="378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 +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y = k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4"/>
              <p:cNvSpPr txBox="1"/>
              <p:nvPr/>
            </p:nvSpPr>
            <p:spPr>
              <a:xfrm>
                <a:off x="5940360" y="3456000"/>
                <a:ext cx="216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AutoShape 25"/>
          <p:cNvSpPr/>
          <p:nvPr/>
        </p:nvSpPr>
        <p:spPr>
          <a:xfrm>
            <a:off x="1979640" y="5734080"/>
            <a:ext cx="5184720" cy="914400"/>
          </a:xfrm>
          <a:prstGeom prst="smileyFace">
            <a:avLst>
              <a:gd name="adj" fmla="val 9282"/>
            </a:avLst>
          </a:prstGeom>
          <a:solidFill>
            <a:srgbClr val="d6f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Вер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588 C 0.06597 0.16551 0.13351 0.29537 0.13351 0.41134 C 0.13351 0.52732 0.1309 0.69769 -0.00156 0.73125 C -0.13403 0.76528 -0.55122 0.63496 -0.66146 0.61366 E">
                                      <p:cBhvr>
                                        <p:cTn id="30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-0.19514 -0.2118 -0.39011 -0.42338 -0.50677 -0.40463 C -0.62344 -0.38588 -0.70469 -0.02824 -0.7 0.1132 C -0.69531 0.25463 -0.60018 0.42246 -0.47847 0.44445 C -0.35677 0.46644 -0.07552 0.28727 0.03055 0.24584 E">
                                      <p:cBhvr>
                                        <p:cTn id="30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1366 C -0.00747 -0.05069 -0.01754 -0.11481 -0.0408 -0.15509 C -0.06406 -0.19537 -0.08194 -0.21435 -0.1375 -0.22847 C -0.19306 -0.24259 -0.30451 -0.24652 -0.37413 -0.23958 C -0.44375 -0.23264 -0.51441 -0.21481 -0.55573 -0.18634 C -0.59705 -0.15787 -0.61875 -0.11227 -0.6224 -0.06852 C -0.62604 -0.02477 -0.59236 0.03033 -0.57743 0.07593 C -0.5625 0.12153 -0.53385 0.13866 -0.53247 0.20486 C -0.53108 0.27084 -0.56302 0.42894 -0.5691 0.47338 E">
                                      <p:cBhvr>
                                        <p:cTn id="31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C 0.06597 -0.01528 0.12882 -0.025 0.17326 -0.03102 C 0.21771 -0.03704 0.22795 -0.04005 0.26719 -0.03634 C 0.30642 -0.03264 0.37309 -0.03287 0.40833 -0.0088 C 0.44358 0.01528 0.46667 0.05509 0.4783 0.1088 C 0.48993 0.1625 0.48941 0.26157 0.4783 0.31343 C 0.46719 0.36528 0.39844 0.35787 0.41163 0.41991 C 0.42483 0.48194 0.52691 0.63032 0.55712 0.68565 E">
                                      <p:cBhvr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92600" y="1711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43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889520" y="2286000"/>
            <a:ext cx="4267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8</cp:lastModifiedBy>
  <dcterms:modified xsi:type="dcterms:W3CDTF">2023-03-16T09:18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