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4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media/image8.png" ContentType="image/pn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1244-922F-41ED-B47E-2D04137624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EFB6-EEF3-49A1-A5D7-C9448B0E1E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онт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EE2-6E77-417E-B8DC-098C130B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6D8-1254-42E8-8E94-4C662FF8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5FE-D5B4-4E5A-AD20-8E967BD2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243-FD6C-4E8F-92AE-DFFAD9E5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A6A-C72F-4C6B-9C87-10F26ED8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C1B-FD7F-4B67-86EA-8BC64BD8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0B1-2E19-472F-8A19-1F46E183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944-754C-4C0B-B559-36D82585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F86-E0A6-45EE-BB2F-7C454EF8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7B8-1F92-4327-97B8-4427CC24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FE3-CB59-4484-B5AC-EC28C9BF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3A3-FD89-45C1-9B6E-446071E9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7CA6-BA9D-4171-9D20-6712D5463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Объект 8" descr="Вырезка экрана"/>
          <p:cNvPicPr/>
          <p:nvPr/>
        </p:nvPicPr>
        <p:blipFill>
          <a:blip r:embed="rId1"/>
          <a:stretch/>
        </p:blipFill>
        <p:spPr>
          <a:xfrm>
            <a:off x="582480" y="1600200"/>
            <a:ext cx="797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Объект 3" descr="Вырезка экрана"/>
          <p:cNvPicPr/>
          <p:nvPr/>
        </p:nvPicPr>
        <p:blipFill>
          <a:blip r:embed="rId1"/>
          <a:stretch/>
        </p:blipFill>
        <p:spPr>
          <a:xfrm>
            <a:off x="743040" y="609480"/>
            <a:ext cx="8153280" cy="55166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Вырезка экрана"/>
          <p:cNvPicPr/>
          <p:nvPr/>
        </p:nvPicPr>
        <p:blipFill>
          <a:blip r:embed="rId2"/>
          <a:stretch/>
        </p:blipFill>
        <p:spPr>
          <a:xfrm>
            <a:off x="76320" y="1646280"/>
            <a:ext cx="47433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1258920" y="189000"/>
            <a:ext cx="7705800" cy="71892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йди ошибку!  Объяс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250920" y="1959120"/>
          <a:ext cx="4249800" cy="39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59120"/>
                    <a:ext cx="424980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4"/>
          <p:cNvGraphicFramePr/>
          <p:nvPr/>
        </p:nvGraphicFramePr>
        <p:xfrm>
          <a:off x="4643280" y="1954080"/>
          <a:ext cx="4319640" cy="40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54080"/>
                    <a:ext cx="431964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Picture 5" descr="CRCTR496"/>
          <p:cNvPicPr/>
          <p:nvPr/>
        </p:nvPicPr>
        <p:blipFill>
          <a:blip r:embed="rId5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5003640" y="1052640"/>
            <a:ext cx="3095640" cy="614160"/>
          </a:xfrm>
          <a:prstGeom prst="rect">
            <a:avLst/>
          </a:prstGeom>
          <a:solidFill>
            <a:srgbClr val="ffccff">
              <a:alpha val="42000"/>
            </a:srgbClr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ави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/>
          <p:cNvSpPr/>
          <p:nvPr/>
        </p:nvSpPr>
        <p:spPr>
          <a:xfrm>
            <a:off x="1258920" y="189000"/>
            <a:ext cx="7705800" cy="71892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йди ошибку!  Объяс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250920" y="1989000"/>
          <a:ext cx="4249800" cy="39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249800" cy="39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4"/>
          <p:cNvGraphicFramePr/>
          <p:nvPr/>
        </p:nvGraphicFramePr>
        <p:xfrm>
          <a:off x="4643280" y="1954080"/>
          <a:ext cx="4319640" cy="40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54080"/>
                    <a:ext cx="431964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5" descr="CRCTR496"/>
          <p:cNvPicPr/>
          <p:nvPr/>
        </p:nvPicPr>
        <p:blipFill>
          <a:blip r:embed="rId5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5003640" y="1052640"/>
            <a:ext cx="3095640" cy="614160"/>
          </a:xfrm>
          <a:prstGeom prst="rect">
            <a:avLst/>
          </a:prstGeom>
          <a:solidFill>
            <a:srgbClr val="ffccff">
              <a:alpha val="42000"/>
            </a:srgbClr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ави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6084720" y="2125800"/>
            <a:ext cx="266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2749680" y="1125360"/>
            <a:ext cx="0" cy="237492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1452600" y="218124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5"/>
          <p:cNvSpPr/>
          <p:nvPr/>
        </p:nvSpPr>
        <p:spPr>
          <a:xfrm>
            <a:off x="1449360" y="2171880"/>
            <a:ext cx="2603520" cy="12600"/>
          </a:xfrm>
          <a:custGeom>
            <a:avLst/>
            <a:gdLst>
              <a:gd name="textAreaLeft" fmla="*/ 0 w 2603520"/>
              <a:gd name="textAreaRight" fmla="*/ 2603880 w 2603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640" h="8">
                <a:moveTo>
                  <a:pt x="0" y="8"/>
                </a:moveTo>
                <a:lnTo>
                  <a:pt x="164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6"/>
          <p:cNvSpPr/>
          <p:nvPr/>
        </p:nvSpPr>
        <p:spPr>
          <a:xfrm>
            <a:off x="2744640" y="774720"/>
            <a:ext cx="5040" cy="2727360"/>
          </a:xfrm>
          <a:custGeom>
            <a:avLst/>
            <a:gdLst>
              <a:gd name="textAreaLeft" fmla="*/ 0 w 5040"/>
              <a:gd name="textAreaRight" fmla="*/ 5400 w 5040"/>
              <a:gd name="textAreaTop" fmla="*/ 0 h 2727360"/>
              <a:gd name="textAreaBottom" fmla="*/ 2727720 h 2727360"/>
            </a:gdLst>
            <a:ahLst/>
            <a:rect l="textAreaLeft" t="textAreaTop" r="textAreaRight" b="textAreaBottom"/>
            <a:pathLst>
              <a:path w="3" h="1718">
                <a:moveTo>
                  <a:pt x="3" y="1718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"/>
          <p:cNvSpPr/>
          <p:nvPr/>
        </p:nvSpPr>
        <p:spPr>
          <a:xfrm>
            <a:off x="1511280" y="1028880"/>
            <a:ext cx="1968480" cy="1346040"/>
          </a:xfrm>
          <a:custGeom>
            <a:avLst/>
            <a:gdLst>
              <a:gd name="textAreaLeft" fmla="*/ 0 w 1968480"/>
              <a:gd name="textAreaRight" fmla="*/ 1968840 w 1968480"/>
              <a:gd name="textAreaTop" fmla="*/ 0 h 1346040"/>
              <a:gd name="textAreaBottom" fmla="*/ 1346040 h 1346040"/>
            </a:gdLst>
            <a:ahLst/>
            <a:rect l="textAreaLeft" t="textAreaTop" r="textAreaRight" b="textAreaBottom"/>
            <a:pathLst>
              <a:path w="1240" h="848">
                <a:moveTo>
                  <a:pt x="0" y="848"/>
                </a:moveTo>
                <a:lnTo>
                  <a:pt x="1240" y="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831120" y="212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341800" y="6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73566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3"/>
          <p:cNvSpPr/>
          <p:nvPr/>
        </p:nvSpPr>
        <p:spPr>
          <a:xfrm>
            <a:off x="1447920" y="5308560"/>
            <a:ext cx="2692440" cy="25560"/>
          </a:xfrm>
          <a:custGeom>
            <a:avLst/>
            <a:gdLst>
              <a:gd name="textAreaLeft" fmla="*/ 0 w 2692440"/>
              <a:gd name="textAreaRight" fmla="*/ 2692440 w 26924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96" h="16">
                <a:moveTo>
                  <a:pt x="0" y="0"/>
                </a:moveTo>
                <a:lnTo>
                  <a:pt x="1696" y="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2771640" y="385920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5"/>
          <p:cNvSpPr/>
          <p:nvPr/>
        </p:nvSpPr>
        <p:spPr>
          <a:xfrm>
            <a:off x="1460520" y="4673520"/>
            <a:ext cx="2387520" cy="1943280"/>
          </a:xfrm>
          <a:custGeom>
            <a:avLst/>
            <a:gdLst>
              <a:gd name="textAreaLeft" fmla="*/ 0 w 2387520"/>
              <a:gd name="textAreaRight" fmla="*/ 2387880 w 238752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1504" h="1224">
                <a:moveTo>
                  <a:pt x="0" y="0"/>
                </a:moveTo>
                <a:lnTo>
                  <a:pt x="1504" y="1224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3853080" y="530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2459160" y="37879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534040" y="522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9"/>
          <p:cNvSpPr/>
          <p:nvPr/>
        </p:nvSpPr>
        <p:spPr>
          <a:xfrm>
            <a:off x="6070680" y="5232240"/>
            <a:ext cx="2692440" cy="12960"/>
          </a:xfrm>
          <a:custGeom>
            <a:avLst/>
            <a:gdLst>
              <a:gd name="textAreaLeft" fmla="*/ 0 w 2692440"/>
              <a:gd name="textAreaRight" fmla="*/ 2692440 w 26924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696" h="8">
                <a:moveTo>
                  <a:pt x="0" y="8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0"/>
          <p:cNvSpPr/>
          <p:nvPr/>
        </p:nvSpPr>
        <p:spPr>
          <a:xfrm flipV="1">
            <a:off x="7381800" y="378936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1"/>
          <p:cNvSpPr/>
          <p:nvPr/>
        </p:nvSpPr>
        <p:spPr>
          <a:xfrm>
            <a:off x="6629400" y="4280040"/>
            <a:ext cx="1994040" cy="1625400"/>
          </a:xfrm>
          <a:custGeom>
            <a:avLst/>
            <a:gdLst>
              <a:gd name="textAreaLeft" fmla="*/ 0 w 1994040"/>
              <a:gd name="textAreaRight" fmla="*/ 1994040 w 1994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1256" h="1024">
                <a:moveTo>
                  <a:pt x="0" y="0"/>
                </a:moveTo>
                <a:lnTo>
                  <a:pt x="1256" y="1024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853488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7166160" y="514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7381800" y="1052640"/>
            <a:ext cx="0" cy="237492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5"/>
          <p:cNvSpPr/>
          <p:nvPr/>
        </p:nvSpPr>
        <p:spPr>
          <a:xfrm>
            <a:off x="7381800" y="755640"/>
            <a:ext cx="3240" cy="2673360"/>
          </a:xfrm>
          <a:custGeom>
            <a:avLst/>
            <a:gdLst>
              <a:gd name="textAreaLeft" fmla="*/ 0 w 3240"/>
              <a:gd name="textAreaRight" fmla="*/ 3600 w 3240"/>
              <a:gd name="textAreaTop" fmla="*/ 0 h 2673360"/>
              <a:gd name="textAreaBottom" fmla="*/ 2673720 h 2673360"/>
            </a:gdLst>
            <a:ahLst/>
            <a:rect l="textAreaLeft" t="textAreaTop" r="textAreaRight" b="textAreaBottom"/>
            <a:pathLst>
              <a:path w="2" h="1684">
                <a:moveTo>
                  <a:pt x="0" y="1684"/>
                </a:moveTo>
                <a:lnTo>
                  <a:pt x="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6"/>
          <p:cNvSpPr/>
          <p:nvPr/>
        </p:nvSpPr>
        <p:spPr>
          <a:xfrm>
            <a:off x="6877080" y="1351080"/>
            <a:ext cx="1727280" cy="22222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222280"/>
              <a:gd name="textAreaBottom" fmla="*/ 2222640 h 2222280"/>
            </a:gdLst>
            <a:ahLst/>
            <a:rect l="textAreaLeft" t="textAreaTop" r="textAreaRight" b="textAreaBottom"/>
            <a:pathLst>
              <a:path w="1088" h="1400">
                <a:moveTo>
                  <a:pt x="1088" y="0"/>
                </a:moveTo>
                <a:lnTo>
                  <a:pt x="0" y="140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7142400" y="2054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7094880" y="83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8534880" y="2054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611280" y="189000"/>
            <a:ext cx="853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Установите  соответствие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36000" y="105264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lt;0, b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34200" y="16081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lt;0, b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3"/>
          <p:cNvSpPr/>
          <p:nvPr/>
        </p:nvSpPr>
        <p:spPr>
          <a:xfrm>
            <a:off x="36000" y="22557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gt;0, b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4"/>
          <p:cNvSpPr/>
          <p:nvPr/>
        </p:nvSpPr>
        <p:spPr>
          <a:xfrm>
            <a:off x="34200" y="29034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gt;0, b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5"/>
          <p:cNvSpPr/>
          <p:nvPr/>
        </p:nvSpPr>
        <p:spPr>
          <a:xfrm>
            <a:off x="4715640" y="27813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lt;0, b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4717440" y="14637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gt;0, b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4717440" y="21114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lt;0, b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715640" y="9586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gt;0, b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108720" y="41497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lt;0, b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108720" y="600084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gt;0, b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1"/>
          <p:cNvSpPr/>
          <p:nvPr/>
        </p:nvSpPr>
        <p:spPr>
          <a:xfrm>
            <a:off x="108720" y="53514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gt;0, b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2"/>
          <p:cNvSpPr/>
          <p:nvPr/>
        </p:nvSpPr>
        <p:spPr>
          <a:xfrm>
            <a:off x="108720" y="477504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lt;0, b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4717440" y="42210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gt;0, b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4717440" y="477684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gt;0, b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4717440" y="54244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lt;0, b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4717440" y="60721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lt;0, b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07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96296E-006 L 0.13784 -0.03032 E">
                                      <p:cBhvr>
                                        <p:cTn id="417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35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42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L 0.13941 0.02546 E">
                                      <p:cBhvr>
                                        <p:cTn id="445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5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70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7 L 0.29531 -0.09306 E">
                                      <p:cBhvr>
                                        <p:cTn id="47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498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29532 -0.27176 E">
                                      <p:cBhvr>
                                        <p:cTn id="501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кончите предл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годня на уроке я 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Моя позиция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лидер,              ведо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лушатель,      крит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омощник,       зр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творческая лич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какая-то другая (укажите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1403280" y="765000"/>
            <a:ext cx="62658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66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66ff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66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66ff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843200" y="2859120"/>
            <a:ext cx="5457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ункция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нейная функ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Ц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Посмотрите на таблицу и выделите то, что на ваш взгляд лично вам надо повторить, в течение урока не забывайте делать отметку о выполнении. В таблице есть пустые строки, заполните их</a:t>
            </a: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самостоятельно, если над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RCTR142"/>
          <p:cNvPicPr/>
          <p:nvPr/>
        </p:nvPicPr>
        <p:blipFill>
          <a:blip r:embed="rId1"/>
          <a:stretch/>
        </p:blipFill>
        <p:spPr>
          <a:xfrm>
            <a:off x="6556320" y="3886200"/>
            <a:ext cx="25909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51163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RCTR496"/>
          <p:cNvPicPr/>
          <p:nvPr/>
        </p:nvPicPr>
        <p:blipFill>
          <a:blip r:embed="rId1"/>
          <a:stretch/>
        </p:blipFill>
        <p:spPr>
          <a:xfrm flipH="1">
            <a:off x="323640" y="260280"/>
            <a:ext cx="1028520" cy="2565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1189080" y="189000"/>
            <a:ext cx="136332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763640" y="692280"/>
            <a:ext cx="6983640" cy="13737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графику функции найд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её область опреде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область значений функции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9"/>
          <p:cNvSpPr/>
          <p:nvPr/>
        </p:nvSpPr>
        <p:spPr>
          <a:xfrm>
            <a:off x="108000" y="3357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108000" y="4365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15"/>
          <p:cNvGraphicFramePr/>
          <p:nvPr/>
        </p:nvGraphicFramePr>
        <p:xfrm>
          <a:off x="2627280" y="2205000"/>
          <a:ext cx="4497480" cy="45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205000"/>
                    <a:ext cx="44974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17" descr="CRCTR142"/>
          <p:cNvPicPr/>
          <p:nvPr/>
        </p:nvPicPr>
        <p:blipFill>
          <a:blip r:embed="rId4"/>
          <a:stretch/>
        </p:blipFill>
        <p:spPr>
          <a:xfrm>
            <a:off x="6948360" y="3500280"/>
            <a:ext cx="2757600" cy="3357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276720" y="2997000"/>
            <a:ext cx="3095640" cy="3313440"/>
            <a:chOff x="3276720" y="2997000"/>
            <a:chExt cx="3095640" cy="3313440"/>
          </a:xfrm>
        </p:grpSpPr>
        <p:sp>
          <p:nvSpPr>
            <p:cNvPr id="70" name="Freeform 18"/>
            <p:cNvSpPr/>
            <p:nvPr/>
          </p:nvSpPr>
          <p:spPr>
            <a:xfrm>
              <a:off x="3348000" y="3068640"/>
              <a:ext cx="2952720" cy="3168720"/>
            </a:xfrm>
            <a:custGeom>
              <a:avLst/>
              <a:gdLst>
                <a:gd name="textAreaLeft" fmla="*/ 0 w 2952720"/>
                <a:gd name="textAreaRight" fmla="*/ 2953080 w 2952720"/>
                <a:gd name="textAreaTop" fmla="*/ 0 h 3168720"/>
                <a:gd name="textAreaBottom" fmla="*/ 3169080 h 3168720"/>
              </a:gdLst>
              <a:ahLst/>
              <a:rect l="textAreaLeft" t="textAreaTop" r="textAreaRight" b="textAreaBottom"/>
              <a:pathLst>
                <a:path w="1860" h="1996">
                  <a:moveTo>
                    <a:pt x="0" y="1996"/>
                  </a:moveTo>
                  <a:cubicBezTo>
                    <a:pt x="30" y="1799"/>
                    <a:pt x="69" y="1597"/>
                    <a:pt x="136" y="1406"/>
                  </a:cubicBezTo>
                  <a:cubicBezTo>
                    <a:pt x="203" y="1215"/>
                    <a:pt x="269" y="1026"/>
                    <a:pt x="403" y="851"/>
                  </a:cubicBezTo>
                  <a:cubicBezTo>
                    <a:pt x="537" y="676"/>
                    <a:pt x="696" y="497"/>
                    <a:pt x="939" y="355"/>
                  </a:cubicBezTo>
                  <a:cubicBezTo>
                    <a:pt x="1182" y="213"/>
                    <a:pt x="1668" y="74"/>
                    <a:pt x="1860" y="0"/>
                  </a:cubicBezTo>
                </a:path>
              </a:pathLst>
            </a:custGeom>
            <a:noFill/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9"/>
            <p:cNvSpPr/>
            <p:nvPr/>
          </p:nvSpPr>
          <p:spPr>
            <a:xfrm flipV="1">
              <a:off x="3276720" y="6165720"/>
              <a:ext cx="144360" cy="1447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 flipV="1">
              <a:off x="6227640" y="2996640"/>
              <a:ext cx="144720" cy="144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22"/>
          <p:cNvSpPr/>
          <p:nvPr/>
        </p:nvSpPr>
        <p:spPr>
          <a:xfrm flipV="1">
            <a:off x="3348000" y="566064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3"/>
          <p:cNvSpPr/>
          <p:nvPr/>
        </p:nvSpPr>
        <p:spPr>
          <a:xfrm flipV="1">
            <a:off x="6300720" y="314136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4"/>
          <p:cNvSpPr/>
          <p:nvPr/>
        </p:nvSpPr>
        <p:spPr>
          <a:xfrm>
            <a:off x="3327480" y="5613480"/>
            <a:ext cx="2971800" cy="126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872" h="8">
                <a:moveTo>
                  <a:pt x="0" y="0"/>
                </a:moveTo>
                <a:lnTo>
                  <a:pt x="1872" y="8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684360" y="3357720"/>
            <a:ext cx="2158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9"/>
          <p:cNvSpPr/>
          <p:nvPr/>
        </p:nvSpPr>
        <p:spPr>
          <a:xfrm>
            <a:off x="3419640" y="6237360"/>
            <a:ext cx="865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0"/>
          <p:cNvSpPr/>
          <p:nvPr/>
        </p:nvSpPr>
        <p:spPr>
          <a:xfrm>
            <a:off x="4317840" y="3111480"/>
            <a:ext cx="1968840" cy="1440"/>
          </a:xfrm>
          <a:custGeom>
            <a:avLst/>
            <a:gdLst>
              <a:gd name="textAreaLeft" fmla="*/ 0 w 1968840"/>
              <a:gd name="textAreaRight" fmla="*/ 1969200 w 1968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40" h="1">
                <a:moveTo>
                  <a:pt x="0" y="0"/>
                </a:moveTo>
                <a:lnTo>
                  <a:pt x="124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1"/>
          <p:cNvSpPr/>
          <p:nvPr/>
        </p:nvSpPr>
        <p:spPr>
          <a:xfrm>
            <a:off x="4213080" y="3141720"/>
            <a:ext cx="3240" cy="3093840"/>
          </a:xfrm>
          <a:custGeom>
            <a:avLst/>
            <a:gdLst>
              <a:gd name="textAreaLeft" fmla="*/ 0 w 3240"/>
              <a:gd name="textAreaRight" fmla="*/ 3600 w 3240"/>
              <a:gd name="textAreaTop" fmla="*/ 0 h 3093840"/>
              <a:gd name="textAreaBottom" fmla="*/ 3094200 h 3093840"/>
            </a:gdLst>
            <a:ahLst/>
            <a:rect l="textAreaLeft" t="textAreaTop" r="textAreaRight" b="textAreaBottom"/>
            <a:pathLst>
              <a:path w="2" h="1949">
                <a:moveTo>
                  <a:pt x="2" y="1949"/>
                </a:moveTo>
                <a:lnTo>
                  <a:pt x="0" y="0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2"/>
          <p:cNvSpPr/>
          <p:nvPr/>
        </p:nvSpPr>
        <p:spPr>
          <a:xfrm>
            <a:off x="684360" y="4365720"/>
            <a:ext cx="2158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3851280" y="2708280"/>
          <a:ext cx="482616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08280"/>
                    <a:ext cx="482616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7" descr="CRCTR496"/>
          <p:cNvPicPr/>
          <p:nvPr/>
        </p:nvPicPr>
        <p:blipFill>
          <a:blip r:embed="rId3"/>
          <a:stretch/>
        </p:blipFill>
        <p:spPr>
          <a:xfrm flipH="1">
            <a:off x="323640" y="260280"/>
            <a:ext cx="1028520" cy="2565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1189080" y="189000"/>
            <a:ext cx="136332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763640" y="692280"/>
            <a:ext cx="6983640" cy="22269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графику функции, изображённому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исунке, най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значение функции пр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значение  аргумента при котором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4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2"/>
          <p:cNvSpPr/>
          <p:nvPr/>
        </p:nvSpPr>
        <p:spPr>
          <a:xfrm>
            <a:off x="179280" y="3716280"/>
            <a:ext cx="43200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828720" y="3645000"/>
            <a:ext cx="100656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>
                  <a:alpha val="5607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х =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2124000" y="3645000"/>
            <a:ext cx="100800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>
                  <a:alpha val="5607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"/>
          <p:cNvSpPr/>
          <p:nvPr/>
        </p:nvSpPr>
        <p:spPr>
          <a:xfrm>
            <a:off x="6400800" y="4775040"/>
            <a:ext cx="1440" cy="1130400"/>
          </a:xfrm>
          <a:custGeom>
            <a:avLst/>
            <a:gdLst>
              <a:gd name="textAreaLeft" fmla="*/ 0 w 1440"/>
              <a:gd name="textAreaRight" fmla="*/ 1800 w 1440"/>
              <a:gd name="textAreaTop" fmla="*/ 0 h 1130400"/>
              <a:gd name="textAreaBottom" fmla="*/ 1130760 h 1130400"/>
            </a:gdLst>
            <a:ahLst/>
            <a:rect l="textAreaLeft" t="textAreaTop" r="textAreaRight" b="textAreaBottom"/>
            <a:pathLst>
              <a:path w="1" h="712">
                <a:moveTo>
                  <a:pt x="0" y="71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4716360" y="4724280"/>
            <a:ext cx="1656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6229440" y="595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4357800" y="4581360"/>
            <a:ext cx="333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9"/>
          <p:cNvSpPr/>
          <p:nvPr/>
        </p:nvSpPr>
        <p:spPr>
          <a:xfrm>
            <a:off x="179280" y="5013360"/>
            <a:ext cx="43200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826920" y="4941720"/>
            <a:ext cx="100836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>
                  <a:alpha val="5607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435780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4716360" y="3573360"/>
            <a:ext cx="2232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3"/>
          <p:cNvSpPr/>
          <p:nvPr/>
        </p:nvSpPr>
        <p:spPr>
          <a:xfrm>
            <a:off x="6948360" y="3573360"/>
            <a:ext cx="71640" cy="2303640"/>
          </a:xfrm>
          <a:custGeom>
            <a:avLst/>
            <a:gdLst>
              <a:gd name="textAreaLeft" fmla="*/ 0 w 71640"/>
              <a:gd name="textAreaRight" fmla="*/ 72000 w 7164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" h="712">
                <a:moveTo>
                  <a:pt x="0" y="71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6734160" y="5950080"/>
            <a:ext cx="333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2124000" y="4941720"/>
            <a:ext cx="100800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>
                  <a:alpha val="5607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х =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"/>
          <p:cNvSpPr/>
          <p:nvPr/>
        </p:nvSpPr>
        <p:spPr>
          <a:xfrm>
            <a:off x="1258920" y="189000"/>
            <a:ext cx="7705800" cy="151272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 изображены  граф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ункций. Укажите, какая форму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ответствует каждому  из 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5867280" y="2349360"/>
            <a:ext cx="2089080" cy="614520"/>
            <a:chOff x="5867280" y="2349360"/>
            <a:chExt cx="2089080" cy="614520"/>
          </a:xfrm>
        </p:grpSpPr>
        <p:sp>
          <p:nvSpPr>
            <p:cNvPr id="104" name="Rectangle 5"/>
            <p:cNvSpPr/>
            <p:nvPr/>
          </p:nvSpPr>
          <p:spPr>
            <a:xfrm>
              <a:off x="5867280" y="234936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6"/>
                <p:cNvSpPr txBox="1"/>
                <p:nvPr/>
              </p:nvSpPr>
              <p:spPr>
                <a:xfrm>
                  <a:off x="6291360" y="2387520"/>
                  <a:ext cx="12888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6" name="Group 7"/>
          <p:cNvGrpSpPr/>
          <p:nvPr/>
        </p:nvGrpSpPr>
        <p:grpSpPr>
          <a:xfrm>
            <a:off x="5867280" y="4005360"/>
            <a:ext cx="2089080" cy="614160"/>
            <a:chOff x="5867280" y="4005360"/>
            <a:chExt cx="2089080" cy="614160"/>
          </a:xfrm>
        </p:grpSpPr>
        <p:sp>
          <p:nvSpPr>
            <p:cNvPr id="107" name="Rectangle 8"/>
            <p:cNvSpPr/>
            <p:nvPr/>
          </p:nvSpPr>
          <p:spPr>
            <a:xfrm>
              <a:off x="5867280" y="4005360"/>
              <a:ext cx="2089080" cy="6141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9"/>
                <p:cNvSpPr txBox="1"/>
                <p:nvPr/>
              </p:nvSpPr>
              <p:spPr>
                <a:xfrm>
                  <a:off x="6159600" y="4043160"/>
                  <a:ext cx="1554120" cy="57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" name="Group 10"/>
          <p:cNvGrpSpPr/>
          <p:nvPr/>
        </p:nvGrpSpPr>
        <p:grpSpPr>
          <a:xfrm>
            <a:off x="5867280" y="5661000"/>
            <a:ext cx="2089080" cy="614520"/>
            <a:chOff x="5867280" y="5661000"/>
            <a:chExt cx="2089080" cy="614520"/>
          </a:xfrm>
        </p:grpSpPr>
        <p:sp>
          <p:nvSpPr>
            <p:cNvPr id="110" name="Rectangle 11"/>
            <p:cNvSpPr/>
            <p:nvPr/>
          </p:nvSpPr>
          <p:spPr>
            <a:xfrm>
              <a:off x="5867280" y="566100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Object 12"/>
                <p:cNvSpPr txBox="1"/>
                <p:nvPr/>
              </p:nvSpPr>
              <p:spPr>
                <a:xfrm>
                  <a:off x="6083280" y="5699160"/>
                  <a:ext cx="17064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12" name="Object 13"/>
          <p:cNvGraphicFramePr/>
          <p:nvPr/>
        </p:nvGraphicFramePr>
        <p:xfrm>
          <a:off x="611280" y="2170080"/>
          <a:ext cx="4968720" cy="438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170080"/>
                    <a:ext cx="496872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Oval 14"/>
          <p:cNvSpPr/>
          <p:nvPr/>
        </p:nvSpPr>
        <p:spPr>
          <a:xfrm>
            <a:off x="8172360" y="2349360"/>
            <a:ext cx="647640" cy="62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8172360" y="4005360"/>
            <a:ext cx="647640" cy="625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6"/>
          <p:cNvSpPr/>
          <p:nvPr/>
        </p:nvSpPr>
        <p:spPr>
          <a:xfrm>
            <a:off x="8172360" y="5661000"/>
            <a:ext cx="647640" cy="625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ыпишите  линейные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9280" y="4076640"/>
            <a:ext cx="8785440" cy="720720"/>
          </a:xfrm>
          <a:prstGeom prst="rect">
            <a:avLst/>
          </a:prstGeom>
          <a:solidFill>
            <a:srgbClr val="d6f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Линейные 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6372360" y="1284120"/>
                <a:ext cx="2447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2195640" y="1268280"/>
                <a:ext cx="1726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9,5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Rectangle 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4788000" y="1916280"/>
                <a:ext cx="23619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539640" y="1488960"/>
                <a:ext cx="12240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5"/>
              <p:cNvSpPr txBox="1"/>
              <p:nvPr/>
            </p:nvSpPr>
            <p:spPr>
              <a:xfrm>
                <a:off x="2700360" y="2205000"/>
                <a:ext cx="17287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6"/>
              <p:cNvSpPr txBox="1"/>
              <p:nvPr/>
            </p:nvSpPr>
            <p:spPr>
              <a:xfrm>
                <a:off x="5219640" y="2852640"/>
                <a:ext cx="208908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9"/>
              <p:cNvSpPr txBox="1"/>
              <p:nvPr/>
            </p:nvSpPr>
            <p:spPr>
              <a:xfrm>
                <a:off x="2268360" y="3206880"/>
                <a:ext cx="2735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,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2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1"/>
              <p:cNvSpPr txBox="1"/>
              <p:nvPr/>
            </p:nvSpPr>
            <p:spPr>
              <a:xfrm>
                <a:off x="324000" y="2781360"/>
                <a:ext cx="15746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6" name="Text Box 22"/>
          <p:cNvSpPr/>
          <p:nvPr/>
        </p:nvSpPr>
        <p:spPr>
          <a:xfrm>
            <a:off x="3511080" y="4724280"/>
            <a:ext cx="378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 =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х +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y = k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4"/>
              <p:cNvSpPr txBox="1"/>
              <p:nvPr/>
            </p:nvSpPr>
            <p:spPr>
              <a:xfrm>
                <a:off x="5940360" y="3456000"/>
                <a:ext cx="2160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AutoShape 25"/>
          <p:cNvSpPr/>
          <p:nvPr/>
        </p:nvSpPr>
        <p:spPr>
          <a:xfrm>
            <a:off x="1979640" y="5734080"/>
            <a:ext cx="5184720" cy="914400"/>
          </a:xfrm>
          <a:prstGeom prst="smileyFace">
            <a:avLst>
              <a:gd name="adj" fmla="val 9282"/>
            </a:avLst>
          </a:prstGeom>
          <a:solidFill>
            <a:srgbClr val="d6f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00"/>
                </a:solidFill>
                <a:latin typeface="Georgia"/>
              </a:rPr>
              <a:t>Вер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588 C 0.06597 0.16551 0.13351 0.29537 0.13351 0.41134 C 0.13351 0.52732 0.1309 0.69769 -0.00156 0.73125 C -0.13403 0.76528 -0.55122 0.63496 -0.66146 0.61366 E">
                                      <p:cBhvr>
                                        <p:cTn id="30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C -0.19514 -0.2118 -0.39011 -0.42338 -0.50677 -0.40463 C -0.62344 -0.38588 -0.70469 -0.02824 -0.7 0.1132 C -0.69531 0.25463 -0.60018 0.42246 -0.47847 0.44445 C -0.35677 0.46644 -0.07552 0.28727 0.03055 0.24584 E">
                                      <p:cBhvr>
                                        <p:cTn id="30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0.01366 C -0.00747 -0.05069 -0.01754 -0.11481 -0.0408 -0.15509 C -0.06406 -0.19537 -0.08194 -0.21435 -0.1375 -0.22847 C -0.19306 -0.24259 -0.30451 -0.24652 -0.37413 -0.23958 C -0.44375 -0.23264 -0.51441 -0.21481 -0.55573 -0.18634 C -0.59705 -0.15787 -0.61875 -0.11227 -0.6224 -0.06852 C -0.62604 -0.02477 -0.59236 0.03033 -0.57743 0.07593 C -0.5625 0.12153 -0.53385 0.13866 -0.53247 0.20486 C -0.53108 0.27084 -0.56302 0.42894 -0.5691 0.47338 E">
                                      <p:cBhvr>
                                        <p:cTn id="31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037E-007 C 0.06597 -0.01528 0.12882 -0.025 0.17326 -0.03102 C 0.21771 -0.03704 0.22795 -0.04005 0.26719 -0.03634 C 0.30642 -0.03264 0.37309 -0.03287 0.40833 -0.0088 C 0.44358 0.01528 0.46667 0.05509 0.4783 0.1088 C 0.48993 0.1625 0.48941 0.26157 0.4783 0.31343 C 0.46719 0.36528 0.39844 0.35787 0.41163 0.41991 C 0.42483 0.48194 0.52691 0.63032 0.55712 0.68565 E">
                                      <p:cBhvr>
                                        <p:cTn id="31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92600" y="17114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343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4889520" y="2286000"/>
            <a:ext cx="4267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408</cp:lastModifiedBy>
  <dcterms:modified xsi:type="dcterms:W3CDTF">2023-03-16T09:18:3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