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15B2-991F-479B-8E4A-73283B925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1F3E-0F1A-4C4E-AF18-07BDBE9D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29FF-8DB3-4026-83E5-CA644EC3F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25BE-7133-43A1-B8DE-6A8D259DA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9FE2-8ADC-476B-8E50-EF997BA6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5B44-190E-4771-A261-3603DA72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83A1-4EE5-4E97-8CE9-FB090DDF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0991-9D75-4050-B2CA-43AA6AFC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7CDE-8FE7-4700-BCAE-39E88B39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E652-CCCF-452A-9881-2CDFF761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BB6D-984D-449C-9AB1-7EC367ED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85D6-5D9F-4251-8CC2-5AAD7132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3C85-8BCA-4245-8989-D3496ECA2F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«WE </a:t>
            </a:r>
            <a:r>
              <a:rPr b="1" lang="ru-RU" sz="4400" spc="-1" strike="noStrike">
                <a:solidFill>
                  <a:srgbClr val="00b0f0"/>
                </a:solidFill>
                <a:latin typeface="Calibri"/>
              </a:rPr>
              <a:t>   </a:t>
            </a: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LOVE</a:t>
            </a:r>
            <a:r>
              <a:rPr b="1" lang="ru-RU" sz="4400" spc="-1" strike="noStrike">
                <a:solidFill>
                  <a:srgbClr val="00b0f0"/>
                </a:solidFill>
                <a:latin typeface="Calibri"/>
              </a:rPr>
              <a:t>   </a:t>
            </a: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 ENGLISH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odd wor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26560" y="1628640"/>
            <a:ext cx="7726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ter, Christmas, St Valentine’s Day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lumb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, coffee, juice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m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wimming, hockey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v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footbal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ess, T-shirt, suit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oo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ee, sun, rain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glishman, American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usral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adi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What do you know about Great Britai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8000" y="160020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What is the official language in Great Britai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English   b) French   c) Russian     d) Chin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Great Britain is divided into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five parts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three parts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four parts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two pa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What is the official language in Great Britai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English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Great Britain is divided into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four parts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 What is the Tower of London n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a prison     b) a museum   c) a hous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a fort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 The name of the Palace where the Queen lives is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the Tower of London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the White Hous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the Windsor pala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the Buckingham Pal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What is the Tower of London n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a museum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The name of the Palace where the Queen lives is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the Buckingham Pal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6836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. The capital of Great Britain is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Manchester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Liverpoo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London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Cardi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. What can you see in Trafalgar squa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Nelson statue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King memorial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Queen memorial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Michael Gorbachev memori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 The capital of Great Britain is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London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. What can you see in Trafalgar squa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Nelson statue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692000" y="333000"/>
            <a:ext cx="699444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. Big Ben is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a clock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a hors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an animal in the zoo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a famous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9. When can you see the flag ov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Queen's Pala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When she is out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When she is abroad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When she has a par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When she is at hom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. Big Ben is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a clock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. When can you see the flag ov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Queen's Pala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When she is at hom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. England is in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Europe     b) Africa   c) America     d) As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1. The name of the river in London is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The Severn   b) The Thame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The Avon   d) The Cly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2. Westminster Abbey is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  the chape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the monastery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the inn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the famous Royal Chu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U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Hwlena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lEish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aCpl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aLgeau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Ldon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col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 England is in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Europe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. The name of the river in London is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The Thame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 Westminster Abbey is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the famous Royal Chu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3. Who is the head of Englan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 the Queen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the Tzar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 the Prime Minist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the Presid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4. In what country do men wear skir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France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England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Scotland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Norwa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. Who is the head of Englan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 the Queen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4. In what country do men wear skir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Scotland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U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340000" y="1600200"/>
            <a:ext cx="634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alloween - eHwlena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nglish  - nlEish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pital - taCpl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anguage - naLgeau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ondon - oLdon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ock - Ccol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ill 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91600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…a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…rist…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…ida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r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h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…es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ill 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556000" y="1600200"/>
            <a:ext cx="61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s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ri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h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b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verb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115640" y="1268280"/>
            <a:ext cx="758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news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good new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ve and lear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Tastes diff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’s never too late to lear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ird may be known by its so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t or West – home is be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verb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964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No news – is a good new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тсутствие вестей - хорошая ве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Live and learn.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ек живи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ек учис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Tastes differ .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 вкусах не споря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It’s never too late to lear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Учиться никогда не позд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. A bird may be known by its song.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тица видна по полёт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. East or West – home is best.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 гостях хорошо, а дома лучш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know English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м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li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 cloth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 anima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odd wor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ter, Christmas, St Valentine’s Day, Columb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, coffee, juice, lem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wimming, hockey, moving, footbal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ess, T-shirt, suit, boo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ee, sun, rain, c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glishman, American, Ausralia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adi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7:39:51Z</dcterms:created>
  <dc:creator>Катенок</dc:creator>
  <dc:description/>
  <dc:language>en-US</dc:language>
  <cp:lastModifiedBy>Гузель</cp:lastModifiedBy>
  <dcterms:modified xsi:type="dcterms:W3CDTF">2018-02-28T08:40:28Z</dcterms:modified>
  <cp:revision>16</cp:revision>
  <dc:subject/>
  <dc:title>Презентация PowerPoint</dc:title>
</cp:coreProperties>
</file>