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2172-5C31-4C9A-9B77-DC683ACA5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12E3-33F4-43D3-A926-2E43B1271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6C7A-AAC8-47AC-BC87-63FEBBABF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9211-193E-4C32-B91F-46E37767F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4825-B26E-4F0C-851A-893048642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98DD-3066-43C9-84D7-97C6BBD7C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D806-293C-43AD-92C3-9E22AE21C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0577-711A-4C11-B61A-8021B9174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D677-B01D-445F-AD9C-3245B837E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A6FB-B397-4A40-9583-46E518D6D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6FAC-9DBA-40E8-8609-7CD1FDDC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E019-075A-43ED-9EB4-4E86F664A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F6AA4-F9D2-4F2B-B325-F9184E32F6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f0"/>
                </a:solidFill>
                <a:latin typeface="Calibri"/>
              </a:rPr>
              <a:t>«WE </a:t>
            </a:r>
            <a:r>
              <a:rPr b="1" lang="ru-RU" sz="4400" spc="-1" strike="noStrike">
                <a:solidFill>
                  <a:srgbClr val="00b0f0"/>
                </a:solidFill>
                <a:latin typeface="Calibri"/>
              </a:rPr>
              <a:t>   </a:t>
            </a:r>
            <a:r>
              <a:rPr b="1" lang="en-US" sz="4400" spc="-1" strike="noStrike">
                <a:solidFill>
                  <a:srgbClr val="00b0f0"/>
                </a:solidFill>
                <a:latin typeface="Calibri"/>
              </a:rPr>
              <a:t>LOVE</a:t>
            </a:r>
            <a:r>
              <a:rPr b="1" lang="ru-RU" sz="4400" spc="-1" strike="noStrike">
                <a:solidFill>
                  <a:srgbClr val="00b0f0"/>
                </a:solidFill>
                <a:latin typeface="Calibri"/>
              </a:rPr>
              <a:t>   </a:t>
            </a:r>
            <a:r>
              <a:rPr b="1" lang="en-US" sz="4400" spc="-1" strike="noStrike">
                <a:solidFill>
                  <a:srgbClr val="00b0f0"/>
                </a:solidFill>
                <a:latin typeface="Calibri"/>
              </a:rPr>
              <a:t> ENGLISH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odd word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26560" y="1628640"/>
            <a:ext cx="7726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ster, Christmas, St Valentine’s Day,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lumb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a, coffee, juice,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m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wimming, hockey,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ov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footbal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ess, T-shirt, suit,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oo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ee, sun, rain,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glishman, American,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usral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adia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f0"/>
                </a:solidFill>
                <a:latin typeface="Calibri"/>
              </a:rPr>
              <a:t>What do you know about Great Britai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08000" y="1600200"/>
            <a:ext cx="903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What is the official language in Great Britai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English   b) French   c) Russian     d) Chine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Great Britain is divided into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five parts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three parts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) four parts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) two par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What is the official language in Great Britai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English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Great Britain is divided into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) four parts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 What is the Tower of London now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a prison     b) a museum   c) a house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) a fortr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. The name of the Palace where the Queen lives is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the Tower of London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the White House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) the Windsor palac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) the Buckingham Pal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What is the Tower of London now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a museum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The name of the Palace where the Queen lives is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) the Buckingham Pal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6836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6. The capital of Great Britain is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Manchester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Liverpool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) London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) Cardif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7. What can you see in Trafalgar squa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Nelson statue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King memorial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) Queen memorial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)Michael Gorbachev memoria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. The capital of Great Britain is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) London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. What can you see in Trafalgar squa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Nelson statue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1692000" y="333000"/>
            <a:ext cx="699444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8. Big Ben is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a clock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a horse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) an animal in the zoo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) a famous na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9. When can you see the flag ov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Queen's Palac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When she is out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When she is abroad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) When she has a par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) When she is at hom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. Big Ben is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a clock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9. When can you see the flag over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Queen's Palac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) When she is at hom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0. England is in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Europe     b) Africa   c) America     d) Asi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1. The name of the river in London is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The Severn   b) The Thames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) The Avon   d) The Cly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2. Westminster Abbey is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  the chapel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the monastery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)the inn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) the famous Royal Chu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U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Hwlena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lEish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aCpl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aLgeau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Ldon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col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. England is in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Europe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. The name of the river in London is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The Thames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. Westminster Abbey is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) the famous Royal Chu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3. Who is the head of Englan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 the Queen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the Tzar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)  the Prime Minister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) the Presid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4. In what country do men wear skir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France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England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) Scotland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) Norwa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3. Who is the head of Englan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 the Queen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4. In what country do men wear skir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) Scotland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U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340000" y="1600200"/>
            <a:ext cx="634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alloween - eHwlena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nglish  - nlEish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apital - taCpl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anguage - naLgeau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ondon - oLdon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ock - Ccol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ill 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916000" y="1600200"/>
            <a:ext cx="577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…at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…rist…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…ida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ri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r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h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…es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b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ill 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556000" y="1600200"/>
            <a:ext cx="61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st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a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ri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r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h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b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overb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115640" y="1268280"/>
            <a:ext cx="7581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news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a good new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ve and lear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Tastes differ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’s never too late to lear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bird may be known by its song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st or West – home is be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overb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3964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47480" indent="-447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 No news – is a good new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480" indent="-447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Отсутствие вестей - хорошая ве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480" indent="-447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 Live and learn.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Век живи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век учис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480" indent="-447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Tastes differ .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О вкусах не споря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480" indent="-447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. It’s never too late to lear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480" indent="-447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Учиться никогда не поздн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480" indent="-447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. A bird may be known by its song.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480" indent="-447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Птица видна по полёт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480" indent="-447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. East or West – home is best.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480" indent="-447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В гостях хорошо, а дома лучш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480" indent="-447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 know English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268000" y="1600200"/>
            <a:ext cx="64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м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at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lid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 cloth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 animal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odd word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ster, Christmas, St Valentine’s Day, Columb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a, coffee, juice, lem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wimming, hockey, moving, footbal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ess, T-shirt, suit, boo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ee, sun, rain, c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glishman, American, Ausralia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adia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7:39:51Z</dcterms:created>
  <dc:creator>Катенок</dc:creator>
  <dc:description/>
  <dc:language>en-US</dc:language>
  <cp:lastModifiedBy>Гузель</cp:lastModifiedBy>
  <dcterms:modified xsi:type="dcterms:W3CDTF">2018-02-28T08:40:28Z</dcterms:modified>
  <cp:revision>16</cp:revision>
  <dc:subject/>
  <dc:title>Презентация PowerPoint</dc:title>
</cp:coreProperties>
</file>