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DE3-FB1E-448D-BE61-F474C413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9AF-CE54-47AB-ACBD-F5EBFA41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F307-25CB-4589-A017-A2D5F54A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080-BD7B-4672-BF89-88501CAF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11E2-EA4E-48FA-A9B9-7C44FFE1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82E3-699D-4BED-B560-B8250727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347-DB9B-4783-81F5-F4BAD7DA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3C3-07B2-4FAC-A3DF-4F92859B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2BA-49CE-4D1C-A3B4-57E8CAC9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282-6920-4411-9DB3-087A5113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EA3-4BEE-48E7-8F29-9C00778E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6A3-5311-4CE4-B6CF-7EABA50D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6072-D7C9-42E5-AE51-A8A0F705EA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«WE </a:t>
            </a: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LOVE</a:t>
            </a: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 ENGLISH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dd wo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26560" y="1628640"/>
            <a:ext cx="772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, Christmas, St Valentine’s Day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, coffee, juice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imming, hockey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v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footbal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ess, T-shirt, sui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o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e, sun, rain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ishman, American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sral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adi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What do you know about Great Britai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16002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What is the official language in Great Brita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nglish   b) French   c) Russian     d) Chin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Great Britain is divided in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five parts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ree parts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four parts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wo 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at is the official language in Great Brita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nglish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Great Britain is divided in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four parts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What is the Tower of London 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a prison     b) a museum   c) a hous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 for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The name of the Palace where the Queen lives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the Tower of Lond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White Hous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the Windsor pal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Buckingham Pa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What is the Tower of London 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a museum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The name of the Palace where the Queen lives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Buckingham Pa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The capital of Great Britai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Manchester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Liverp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London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Cardi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. What can you see in Trafalgar squ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Nelson statue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King memorial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Queen memorial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Michael Gorbachev memori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The capital of Great Britai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London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What can you see in Trafalgar squ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Nelson statue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692000" y="333000"/>
            <a:ext cx="6994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. Big Be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a clock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a hors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an animal in the zoo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 famous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. When can you see the flag o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Queen's Pala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When she is out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When she is abroad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When she has a par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When she is at h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. Big Be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a clock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. When can you see the flag o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en's Pala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When she is at h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. England is i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urope     b) Africa   c) America     d) As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. The name of the river in Londo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The Severn   b) The Tham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The Avon   d) The Cly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2. Westminster Abbey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  the chape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monastery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the inn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famous Royal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U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Hwlena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lEish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Cp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Lgea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Ldon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co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 England is i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urope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 The name of the river in Londo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Tham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 Westminster Abbey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famous Royal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3. Who is the head of Engla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 the Queen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Tzar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 the Prime Minist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Presid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4. In what country do men wear skir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France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England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Scotland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Norw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 Who is the head of Engla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 the Queen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4. In what country do men wear skir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Scotland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U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400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lloween - eHwlena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glish  - nlEish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pital - taCp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nguage - naLgea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ndon - oLdon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ock - Cco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ll 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…a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…rist…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…id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…e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ll 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b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erb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15640" y="1268280"/>
            <a:ext cx="758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new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good new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 and lear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Tastes diff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never too late to lea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ird may be known by its so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 or West – home is b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No news – is a good new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тсутствие вестей - хорошая ве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Live and learn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к живи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к учи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astes differ 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 вкусах не споря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It’s never too late to lear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Учиться никогда не позд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A bird may be known by its song.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тица видна по полё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 East or West – home is best.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гостях хорошо, а дома луч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know Englis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i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cloth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anim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dd wo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, Christmas, St Valentine’s Day, 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, coffee, juice, le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imming, hockey, moving, footbal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ess, T-shirt, suit, boo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e, sun, rain,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ishman, American, Ausrali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adi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39:51Z</dcterms:created>
  <dc:creator>Катенок</dc:creator>
  <dc:description/>
  <dc:language>en-US</dc:language>
  <cp:lastModifiedBy>Гузель</cp:lastModifiedBy>
  <dcterms:modified xsi:type="dcterms:W3CDTF">2018-02-28T08:40:28Z</dcterms:modified>
  <cp:revision>16</cp:revision>
  <dc:subject/>
  <dc:title>Презентация PowerPoint</dc:title>
</cp:coreProperties>
</file>