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FBB7-06AF-4600-ABD4-DB629BAF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D548-37B6-4E3A-9407-3D6237CD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568A-49EF-4F97-B0B5-798EBC0D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CD1D-39EE-45BF-AA76-DED78947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55D0-27EA-41F5-AFA3-5D852E23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7A59-27FD-49C3-826B-087C86A7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A6BB-D6DD-4ED8-B172-032CEABD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B10E-9AFD-4ABD-8FFC-8DA77DF6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8020-E067-42DF-BF3B-1C479732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96B8-8C21-413C-8A8D-AA97AFF3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547A-12ED-43DA-B8EB-B717AEF3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24DA-CA3E-4AF5-9B94-828AEB8A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EF31-46E3-499D-870F-BEDFF3A746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«WE </a:t>
            </a: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   </a:t>
            </a: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LOVE</a:t>
            </a: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   </a:t>
            </a: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 ENGLISH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dd wor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26560" y="1628640"/>
            <a:ext cx="772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er, Christmas, St Valentine’s Day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umb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, coffee, juice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m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imming, hockey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v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footbal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ess, T-shirt, suit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o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e, sun, rain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lishman, American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usral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adi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What do you know about Great Britai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8000" y="16002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What is the official language in Great Brita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English   b) French   c) Russian     d) Chin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Great Britain is divided into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five parts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three parts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four parts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two p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What is the official language in Great Brita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English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Great Britain is divided into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four parts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 What is the Tower of London n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a prison     b) a museum   c) a hous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a fort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The name of the Palace where the Queen lives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the Tower of Londo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the White Hous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the Windsor pal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the Buckingham Pa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What is the Tower of London n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a museum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The name of the Palace where the Queen lives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the Buckingham Pa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The capital of Great Britain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Manchester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Liverp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London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Cardi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. What can you see in Trafalgar squ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Nelson statue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King memorial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Queen memorial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Michael Gorbachev memori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The capital of Great Britain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London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 What can you see in Trafalgar squ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Nelson statue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692000" y="333000"/>
            <a:ext cx="6994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. Big Ben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a clock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a hors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an animal in the zoo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a famous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9. When can you see the flag ov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Queen's Pala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When she is out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When she is abroad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When she has a par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When she is at ho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. Big Ben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a clock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. When can you see the flag o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en's Pala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When she is at ho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. England is in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Europe     b) Africa   c) America     d) As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. The name of the river in London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The Severn   b) The Tham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The Avon   d) The Cly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2. Westminster Abbey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  the chape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the monastery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the inn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the famous Royal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U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Hwlena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lEish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Cp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aLgeau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Ldon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co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 England is in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Europe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 The name of the river in London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The Tham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 Westminster Abbey i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the famous Royal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3. Who is the head of Engla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 the Queen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the Tzar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 the Prime Minist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the Presid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4. In what country do men wear skir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France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England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Scotland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Norwa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 Who is the head of Engla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 the Queen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4. In what country do men wear skir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Scotland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U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40000" y="16002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lloween - eHwlena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glish  - nlEish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pital - taCp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nguage - naLgeau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ndon - oLdon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ock - Cco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ill 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160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…a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…rist…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…ida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…e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ill 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560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b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verb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15640" y="1268280"/>
            <a:ext cx="758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new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good new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e and lear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Tastes diff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never too late to lear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ird may be known by its so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 or West – home is b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ver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9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No news – is a good new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тсутствие вестей - хорошая ве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Live and learn.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ек живи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ек учис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astes differ .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 вкусах не споря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It’s never too late to lear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Учиться никогда не позд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A bird may be known by its song.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тица видна по полё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 East or West – home is best.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 гостях хорошо, а дома лучш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know English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i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cloth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anim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dd wor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er, Christmas, St Valentine’s Day, Columb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, coffee, juice, lem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imming, hockey, moving, footbal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ess, T-shirt, suit, boo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e, sun, rain, 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lishman, American, Ausralia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adi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7:39:51Z</dcterms:created>
  <dc:creator>Катенок</dc:creator>
  <dc:description/>
  <dc:language>en-US</dc:language>
  <cp:lastModifiedBy>Гузель</cp:lastModifiedBy>
  <dcterms:modified xsi:type="dcterms:W3CDTF">2018-02-28T08:40:28Z</dcterms:modified>
  <cp:revision>16</cp:revision>
  <dc:subject/>
  <dc:title>Презентация PowerPoint</dc:title>
</cp:coreProperties>
</file>