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76D11A-E373-4244-A365-AD77F531B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A01EFF2-164B-4B1F-A62A-895F0F24E3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EF96321-CAED-486D-B349-8EB80F569A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E91-5F38-4A5B-AC9D-7A872E39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D59-9EC9-422D-9B15-ACEF3C15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325F-8F62-49C5-9BA5-146DB555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7044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3496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7044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1FB-4242-4681-B05C-573B7149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86DE-6625-4E9E-90FF-0D76B031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7361-68AC-4D02-95B4-15F5C643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5C48-4200-481E-B04C-FA0B4B5C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4126-0884-4013-A9DB-EBB36B0D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1229-CB42-4633-96F2-224720A7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9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551C-62CD-4D59-87F3-035F87E2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115E-F9F3-4FBC-B6F3-AD5E6F4B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03A-1AD4-4F82-B8BF-2CF716B9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8B64-A88E-43E7-932E-E1315456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0F4E-D250-45CC-B09E-A6096CCA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C659-43C4-450C-86C6-30BB5F48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4136-38C3-472A-B5CA-BFE4831F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0250-D01F-4A74-BC5D-763282B2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63B9-0911-4DC6-87CB-CA836717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A8E-E483-4CE2-BEA6-6F32D5FE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50AE-60E7-4DD6-9C83-C740C74F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9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374-5C2D-4897-A102-BB5544A4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875-AE3F-4198-BAEC-F6587872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0C6-6926-4888-87B1-9B040B17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A9F-B6FC-4AFF-AC42-77E0E50A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Gill Sans MT"/>
              <a:ea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Gill Sans MT"/>
              <a:ea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040" cy="1150560"/>
            <a:chOff x="171360" y="1042920"/>
            <a:chExt cx="1157040" cy="115056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040" cy="11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280000">
              <a:off x="347400" y="1215720"/>
              <a:ext cx="794880" cy="77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Gill Sans MT"/>
              <a:ea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 w="25400">
            <a:noFill/>
          </a:ln>
          <a:effectLst>
            <a:outerShdw algn="tl" blurRad="38520" dir="10800000" dist="3816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7" name="Овал 12"/>
          <p:cNvGrpSpPr/>
          <p:nvPr/>
        </p:nvGrpSpPr>
        <p:grpSpPr>
          <a:xfrm>
            <a:off x="920880" y="1414440"/>
            <a:ext cx="218880" cy="212400"/>
            <a:chOff x="920880" y="1414440"/>
            <a:chExt cx="218880" cy="212400"/>
          </a:xfrm>
        </p:grpSpPr>
        <p:pic>
          <p:nvPicPr>
            <p:cNvPr id="8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" name="Овал 13"/>
          <p:cNvSpPr/>
          <p:nvPr/>
        </p:nvSpPr>
        <p:spPr>
          <a:xfrm>
            <a:off x="1157400" y="1344600"/>
            <a:ext cx="63000" cy="6480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dk1"/>
              </a:solidFill>
              <a:latin typeface="Gill Sans MT"/>
              <a:ea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  <a:ea typeface="Arial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b5a788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574A7DC8-2295-4798-B6D4-F4737902B4C4}" type="slidenum">
              <a:rPr b="0" lang="ru-RU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Gill Sans MT"/>
              <a:ea typeface="Arial"/>
            </a:endParaRPr>
          </a:p>
        </p:txBody>
      </p:sp>
      <p:sp>
        <p:nvSpPr>
          <p:cNvPr id="53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Gill Sans MT"/>
              <a:ea typeface="Arial"/>
            </a:endParaRPr>
          </a:p>
        </p:txBody>
      </p:sp>
      <p:grpSp>
        <p:nvGrpSpPr>
          <p:cNvPr id="54" name="Кольцо 10"/>
          <p:cNvGrpSpPr/>
          <p:nvPr/>
        </p:nvGrpSpPr>
        <p:grpSpPr>
          <a:xfrm>
            <a:off x="171360" y="1042920"/>
            <a:ext cx="1157040" cy="1150560"/>
            <a:chOff x="171360" y="1042920"/>
            <a:chExt cx="1157040" cy="1150560"/>
          </a:xfrm>
        </p:grpSpPr>
        <p:pic>
          <p:nvPicPr>
            <p:cNvPr id="5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040" cy="11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2280000">
              <a:off x="347400" y="1215720"/>
              <a:ext cx="794880" cy="77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57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Gill Sans MT"/>
              <a:ea typeface="Arial"/>
            </a:endParaRPr>
          </a:p>
        </p:txBody>
      </p:sp>
      <p:sp>
        <p:nvSpPr>
          <p:cNvPr id="58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 w="25400">
            <a:noFill/>
          </a:ln>
          <a:effectLst>
            <a:outerShdw algn="tl" blurRad="38520" dir="10800000" dist="3816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  <a:ea typeface="Arial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b5a788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72AF9DEF-7A3D-4A52-915B-2FE75751F99E}" type="slidenum">
              <a:rPr b="0" lang="ru-RU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rwolf.ru/" TargetMode="External"/><Relationship Id="rId2" Type="http://schemas.openxmlformats.org/officeDocument/2006/relationships/hyperlink" Target="http://lalatest.ru/shop/price.html" TargetMode="External"/><Relationship Id="rId3" Type="http://schemas.openxmlformats.org/officeDocument/2006/relationships/hyperlink" Target="http://www.duplomir.ru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5" descr="LEGO_logo.svg.png"/>
          <p:cNvPicPr/>
          <p:nvPr/>
        </p:nvPicPr>
        <p:blipFill>
          <a:blip r:embed="rId1"/>
          <a:stretch/>
        </p:blipFill>
        <p:spPr>
          <a:xfrm>
            <a:off x="0" y="-14400"/>
            <a:ext cx="9143640" cy="68720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58816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572314"/>
                </a:solidFill>
                <a:latin typeface="Gill Sans MT"/>
                <a:ea typeface="Arial"/>
              </a:rPr>
              <a:t>“</a:t>
            </a:r>
            <a:r>
              <a:rPr b="1" i="1" lang="en-US" sz="4000" spc="-1" strike="noStrike">
                <a:solidFill>
                  <a:srgbClr val="572314"/>
                </a:solidFill>
                <a:latin typeface="Gill Sans MT"/>
                <a:ea typeface="Arial"/>
              </a:rPr>
              <a:t>World of Lego!”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32080" y="1849320"/>
            <a:ext cx="7407000" cy="4026960"/>
          </a:xfrm>
          <a:prstGeom prst="rect">
            <a:avLst/>
          </a:prstGeom>
          <a:noFill/>
          <a:ln w="0">
            <a:noFill/>
          </a:ln>
        </p:spPr>
        <p:txBody>
          <a:bodyPr numCol="1" spcCol="0" tIns="0" anchor="t">
            <a:normAutofit/>
          </a:bodyPr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357800" y="4365720"/>
            <a:ext cx="41731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</a:tabLst>
            </a:pPr>
            <a:endParaRPr b="0" lang="ru-RU" sz="2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0" y="120600"/>
            <a:ext cx="914364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The Eastern Management of Education in Mosc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NE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f S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cademic gymnasiu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дзаголовок 4"/>
          <p:cNvSpPr/>
          <p:nvPr/>
        </p:nvSpPr>
        <p:spPr>
          <a:xfrm>
            <a:off x="103320" y="4533840"/>
            <a:ext cx="4389120" cy="136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9000"/>
          </a:bodyPr>
          <a:p>
            <a:pPr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Made by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___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дзаголовок 4"/>
          <p:cNvSpPr/>
          <p:nvPr/>
        </p:nvSpPr>
        <p:spPr>
          <a:xfrm>
            <a:off x="4626000" y="4533840"/>
            <a:ext cx="4257360" cy="1415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23000"/>
          </a:bodyPr>
          <a:p>
            <a:pPr algn="ctr">
              <a:lnSpc>
                <a:spcPct val="100000"/>
              </a:lnSpc>
              <a:spcBef>
                <a:spcPts val="1020"/>
              </a:spcBef>
              <a:tabLst>
                <a:tab algn="l" pos="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Times New Roman"/>
                <a:ea typeface="Arial"/>
              </a:rPr>
              <a:t>Tutor: 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Times New Roman"/>
                <a:ea typeface="Arial"/>
              </a:rPr>
              <a:t>Mother________________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20"/>
              </a:spcBef>
              <a:tabLst>
                <a:tab algn="l" pos="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дзаголовок 4"/>
          <p:cNvSpPr/>
          <p:nvPr/>
        </p:nvSpPr>
        <p:spPr>
          <a:xfrm>
            <a:off x="3492360" y="5805360"/>
            <a:ext cx="1800000" cy="51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дзаголовок 4"/>
          <p:cNvSpPr/>
          <p:nvPr/>
        </p:nvSpPr>
        <p:spPr>
          <a:xfrm>
            <a:off x="250920" y="6235560"/>
            <a:ext cx="856116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cow 20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Times New Roman"/>
                <a:ea typeface="Arial"/>
              </a:rPr>
              <a:t>Goal</a:t>
            </a: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Arial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04760" y="665280"/>
            <a:ext cx="7499160" cy="1333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hy do children like to play with Lego?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Times New Roman"/>
                <a:ea typeface="Arial"/>
              </a:rPr>
              <a:t>    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Times New Roman"/>
                <a:ea typeface="Arial"/>
              </a:rPr>
              <a:t>    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  <a:ea typeface="Arial"/>
              </a:rPr>
              <a:t>Tasks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o learn all the literature about Lego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o find out where Lego was invente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o build Lego set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o summarize the result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7" name="Рисунок 3" descr="images.jpeg"/>
          <p:cNvPicPr/>
          <p:nvPr/>
        </p:nvPicPr>
        <p:blipFill>
          <a:blip r:embed="rId1"/>
          <a:stretch/>
        </p:blipFill>
        <p:spPr>
          <a:xfrm>
            <a:off x="6467400" y="3716280"/>
            <a:ext cx="2466720" cy="18475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LEGO_logo.svg.png"/>
          <p:cNvPicPr/>
          <p:nvPr/>
        </p:nvPicPr>
        <p:blipFill>
          <a:blip r:embed="rId2"/>
          <a:stretch/>
        </p:blipFill>
        <p:spPr>
          <a:xfrm>
            <a:off x="7308720" y="0"/>
            <a:ext cx="183492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0000" y="-17784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7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br>
              <a:rPr sz="4000"/>
            </a:br>
            <a:r>
              <a:rPr b="0" lang="en-US" sz="4000" spc="-1" strike="noStrike" u="sng">
                <a:solidFill>
                  <a:srgbClr val="572314"/>
                </a:solidFill>
                <a:uFillTx/>
                <a:latin typeface="Times New Roman"/>
                <a:ea typeface="Arial"/>
              </a:rPr>
              <a:t>Actuality</a:t>
            </a: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The great variety of Lego!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" descr="LEGO_logo.svg.png"/>
          <p:cNvPicPr/>
          <p:nvPr/>
        </p:nvPicPr>
        <p:blipFill>
          <a:blip r:embed="rId1"/>
          <a:stretch/>
        </p:blipFill>
        <p:spPr>
          <a:xfrm>
            <a:off x="7238880" y="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600" spc="-1" strike="noStrike">
                <a:solidFill>
                  <a:schemeClr val="accent5">
                    <a:lumMod val="75000"/>
                  </a:schemeClr>
                </a:solidFill>
                <a:latin typeface="Times New Roman"/>
                <a:ea typeface="Arial"/>
              </a:rPr>
              <a:t> </a:t>
            </a:r>
            <a:r>
              <a:rPr b="0" lang="en-US" sz="3600" spc="-1" strike="noStrike">
                <a:solidFill>
                  <a:srgbClr val="572314"/>
                </a:solidFill>
                <a:latin typeface="Times New Roman"/>
                <a:ea typeface="Arial"/>
              </a:rPr>
              <a:t>Actuality      </a:t>
            </a:r>
            <a:r>
              <a:rPr b="0" lang="en-US" sz="3600" spc="-1" strike="noStrike" u="sng">
                <a:solidFill>
                  <a:srgbClr val="572314"/>
                </a:solidFill>
                <a:uFillTx/>
                <a:latin typeface="Times New Roman"/>
                <a:ea typeface="Arial"/>
              </a:rPr>
              <a:t>Problem</a:t>
            </a:r>
            <a:r>
              <a:rPr b="0" lang="en-US" sz="3600" spc="-1" strike="noStrike">
                <a:solidFill>
                  <a:srgbClr val="572314"/>
                </a:solidFill>
                <a:latin typeface="Times New Roman"/>
                <a:ea typeface="Arial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600" spc="-1" strike="noStrike">
                <a:solidFill>
                  <a:srgbClr val="572314"/>
                </a:solidFill>
                <a:latin typeface="Times New Roman"/>
                <a:ea typeface="Arial"/>
              </a:rPr>
              <a:t>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History of Lego.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Children should be involved with Lego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2" name="Picture 4" descr="C:\Users\Katya\Documents\ЛЕГО\08_110519_lego_pet_shop5.jpg"/>
          <p:cNvPicPr/>
          <p:nvPr/>
        </p:nvPicPr>
        <p:blipFill>
          <a:blip r:embed="rId2"/>
          <a:stretch/>
        </p:blipFill>
        <p:spPr>
          <a:xfrm>
            <a:off x="1042920" y="1225440"/>
            <a:ext cx="2639520" cy="237456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2"/>
          <p:cNvSpPr/>
          <p:nvPr/>
        </p:nvSpPr>
        <p:spPr>
          <a:xfrm>
            <a:off x="6239160" y="3235320"/>
            <a:ext cx="22384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 u="sng">
                <a:solidFill>
                  <a:srgbClr val="572314"/>
                </a:solidFill>
                <a:uFillTx/>
                <a:latin typeface="Times New Roman"/>
                <a:ea typeface="Arial"/>
              </a:rPr>
              <a:t>Hypothe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Рисунок 1" descr=""/>
          <p:cNvPicPr/>
          <p:nvPr/>
        </p:nvPicPr>
        <p:blipFill>
          <a:blip r:embed="rId3"/>
          <a:stretch/>
        </p:blipFill>
        <p:spPr>
          <a:xfrm>
            <a:off x="1042920" y="4478400"/>
            <a:ext cx="3176280" cy="23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Times New Roman"/>
                <a:ea typeface="Arial"/>
              </a:rPr>
              <a:t>Who invented the Lego block</a:t>
            </a: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Arial"/>
              </a:rPr>
              <a:t>?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052640"/>
            <a:ext cx="7499160" cy="51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ill Sans MT"/>
                <a:ea typeface="Arial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7" name="Рисунок 3" descr="images.jpeg"/>
          <p:cNvPicPr/>
          <p:nvPr/>
        </p:nvPicPr>
        <p:blipFill>
          <a:blip r:embed="rId1"/>
          <a:stretch/>
        </p:blipFill>
        <p:spPr>
          <a:xfrm>
            <a:off x="7531200" y="5781600"/>
            <a:ext cx="1402920" cy="9331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" descr=""/>
          <p:cNvPicPr/>
          <p:nvPr/>
        </p:nvPicPr>
        <p:blipFill>
          <a:blip r:embed="rId2"/>
          <a:stretch/>
        </p:blipFill>
        <p:spPr>
          <a:xfrm>
            <a:off x="1441440" y="1025640"/>
            <a:ext cx="4873320" cy="32554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3" descr=""/>
          <p:cNvPicPr/>
          <p:nvPr/>
        </p:nvPicPr>
        <p:blipFill>
          <a:blip r:embed="rId3"/>
          <a:stretch/>
        </p:blipFill>
        <p:spPr>
          <a:xfrm>
            <a:off x="1619280" y="4551480"/>
            <a:ext cx="3715920" cy="20887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"/>
          <p:cNvPicPr/>
          <p:nvPr/>
        </p:nvPicPr>
        <p:blipFill>
          <a:blip r:embed="rId4"/>
          <a:stretch/>
        </p:blipFill>
        <p:spPr>
          <a:xfrm>
            <a:off x="5867280" y="2824200"/>
            <a:ext cx="2809440" cy="27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28440"/>
            <a:ext cx="8100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Times New Roman"/>
                <a:ea typeface="Arial"/>
              </a:rPr>
              <a:t>Lego company takes care about its little friends.</a:t>
            </a: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Arial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3" descr="легоs.jpeg"/>
          <p:cNvPicPr/>
          <p:nvPr/>
        </p:nvPicPr>
        <p:blipFill>
          <a:blip r:embed="rId1"/>
          <a:stretch/>
        </p:blipFill>
        <p:spPr>
          <a:xfrm>
            <a:off x="6975360" y="3629160"/>
            <a:ext cx="1807920" cy="1680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:\Users\Katya\Documents\ЛЕГО\32_7383334148_1b184aa549_z.jpg"/>
          <p:cNvPicPr/>
          <p:nvPr/>
        </p:nvPicPr>
        <p:blipFill>
          <a:blip r:embed="rId2"/>
          <a:stretch/>
        </p:blipFill>
        <p:spPr>
          <a:xfrm>
            <a:off x="1476360" y="1484280"/>
            <a:ext cx="3742920" cy="2690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71520" y="105264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  <a:ea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987480" y="4233960"/>
            <a:ext cx="56876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471111"/>
                </a:solidFill>
                <a:latin typeface="Times New Roman"/>
                <a:ea typeface="Arial"/>
              </a:rPr>
              <a:t>Lego is a good present for a kid</a:t>
            </a:r>
            <a:r>
              <a:rPr b="0" lang="ru-RU" sz="3200" spc="-1" strike="noStrike">
                <a:solidFill>
                  <a:srgbClr val="471111"/>
                </a:solidFill>
                <a:latin typeface="Times New Roman"/>
                <a:ea typeface="Arial"/>
              </a:rPr>
              <a:t>!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Объект 2" descr=""/>
          <p:cNvPicPr/>
          <p:nvPr/>
        </p:nvPicPr>
        <p:blipFill>
          <a:blip r:embed="rId3"/>
          <a:stretch/>
        </p:blipFill>
        <p:spPr>
          <a:xfrm>
            <a:off x="1695600" y="4795920"/>
            <a:ext cx="3171600" cy="20235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"/>
          <p:cNvPicPr/>
          <p:nvPr/>
        </p:nvPicPr>
        <p:blipFill>
          <a:blip r:embed="rId4"/>
          <a:stretch/>
        </p:blipFill>
        <p:spPr>
          <a:xfrm>
            <a:off x="5796000" y="1778040"/>
            <a:ext cx="2881080" cy="19429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3" descr="3827-1_0001.jpg"/>
          <p:cNvPicPr/>
          <p:nvPr/>
        </p:nvPicPr>
        <p:blipFill>
          <a:blip r:embed="rId5"/>
          <a:stretch/>
        </p:blipFill>
        <p:spPr>
          <a:xfrm>
            <a:off x="5151600" y="4853160"/>
            <a:ext cx="2169720" cy="190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Times New Roman"/>
                <a:ea typeface="Arial"/>
              </a:rPr>
              <a:t>Interesting facts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1" name="Рисунок 3" descr="item_16.jpg"/>
          <p:cNvPicPr/>
          <p:nvPr/>
        </p:nvPicPr>
        <p:blipFill>
          <a:blip r:embed="rId1"/>
          <a:stretch/>
        </p:blipFill>
        <p:spPr>
          <a:xfrm>
            <a:off x="6732720" y="44280"/>
            <a:ext cx="1584000" cy="1223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C:\Users\Katya\Documents\ЛЕГО\28_Lego-art.jpg"/>
          <p:cNvPicPr/>
          <p:nvPr/>
        </p:nvPicPr>
        <p:blipFill>
          <a:blip r:embed="rId2"/>
          <a:stretch/>
        </p:blipFill>
        <p:spPr>
          <a:xfrm>
            <a:off x="1187280" y="1268280"/>
            <a:ext cx="3592080" cy="532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4716360" y="1357200"/>
            <a:ext cx="4096800" cy="2503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http://poster.avilia.ru/uploads/stories/2014-3/Lego-BP1.jpg"/>
          <p:cNvPicPr/>
          <p:nvPr/>
        </p:nvPicPr>
        <p:blipFill>
          <a:blip r:embed="rId4"/>
          <a:stretch/>
        </p:blipFill>
        <p:spPr>
          <a:xfrm>
            <a:off x="4917960" y="3860640"/>
            <a:ext cx="3693600" cy="27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9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  <a:ea typeface="Arial"/>
              </a:rPr>
              <a:t> </a:t>
            </a:r>
            <a:r>
              <a:rPr b="0" lang="en-US" sz="4400" spc="-1" strike="noStrike">
                <a:solidFill>
                  <a:srgbClr val="572314"/>
                </a:solidFill>
                <a:latin typeface="Times New Roman"/>
                <a:ea typeface="Arial"/>
              </a:rPr>
              <a:t>Conclusion</a:t>
            </a:r>
            <a:br>
              <a:rPr sz="43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3" descr="images.jpeg"/>
          <p:cNvPicPr/>
          <p:nvPr/>
        </p:nvPicPr>
        <p:blipFill>
          <a:blip r:embed="rId1"/>
          <a:stretch/>
        </p:blipFill>
        <p:spPr>
          <a:xfrm>
            <a:off x="7704000" y="5732640"/>
            <a:ext cx="1439640" cy="9583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2" descr=""/>
          <p:cNvPicPr/>
          <p:nvPr/>
        </p:nvPicPr>
        <p:blipFill>
          <a:blip r:embed="rId2"/>
          <a:stretch/>
        </p:blipFill>
        <p:spPr>
          <a:xfrm>
            <a:off x="4572000" y="334800"/>
            <a:ext cx="4389120" cy="19443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3" descr=""/>
          <p:cNvPicPr/>
          <p:nvPr/>
        </p:nvPicPr>
        <p:blipFill>
          <a:blip r:embed="rId3"/>
          <a:stretch/>
        </p:blipFill>
        <p:spPr>
          <a:xfrm>
            <a:off x="969840" y="1305000"/>
            <a:ext cx="3814560" cy="26078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Times New Roman"/>
                <a:ea typeface="Arial"/>
              </a:rPr>
              <a:t>Sources</a:t>
            </a: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Arial"/>
              </a:rPr>
              <a:t>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ea typeface="Arial"/>
                <a:hlinkClick r:id="rId1"/>
              </a:rPr>
              <a:t>http://www.mrwolf.ru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 u="sng">
                <a:solidFill>
                  <a:srgbClr val="8dc765"/>
                </a:solidFill>
                <a:uFillTx/>
                <a:latin typeface="Gill Sans MT"/>
                <a:ea typeface="Arial"/>
                <a:hlinkClick r:id="rId2"/>
              </a:rPr>
              <a:t>http://lalatest.ru/shop/price.html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ea typeface="Arial"/>
                <a:hlinkClick r:id="rId3"/>
              </a:rPr>
              <a:t>http://www.duplomir.ru/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2" name="Рисунок 4" descr="LEGO_logo.svg.png"/>
          <p:cNvPicPr/>
          <p:nvPr/>
        </p:nvPicPr>
        <p:blipFill>
          <a:blip r:embed="rId4"/>
          <a:stretch/>
        </p:blipFill>
        <p:spPr>
          <a:xfrm>
            <a:off x="7238880" y="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3394</TotalTime>
  <Application>LibreOffice/7.4.7.2$Linux_X86_64 LibreOffice_project/40$Build-2</Application>
  <AppVersion>15.0000</AppVersion>
  <Paragraphs>32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4:45:41Z</dcterms:created>
  <dc:creator>Бокова С Ю</dc:creator>
  <dc:description/>
  <dc:language>en-US</dc:language>
  <cp:lastModifiedBy>Новикова Ирина Сергеевна</cp:lastModifiedBy>
  <dcterms:modified xsi:type="dcterms:W3CDTF">2023-05-07T18:36:53Z</dcterms:modified>
  <cp:revision>242</cp:revision>
  <dc:subject>Исследователькая работа</dc:subject>
  <dc:title>" Чипсы. Вред или польза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8</vt:r8>
  </property>
</Properties>
</file>