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26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8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wmf" ContentType="image/x-wmf"/>
  <Override PartName="/ppt/media/image23.jpeg" ContentType="image/jpeg"/>
  <Override PartName="/ppt/media/image21.jpeg" ContentType="image/jpeg"/>
  <Override PartName="/ppt/media/image19.jpeg" ContentType="image/jpeg"/>
  <Override PartName="/ppt/media/image15.png" ContentType="image/png"/>
  <Override PartName="/ppt/media/image14.png" ContentType="image/png"/>
  <Override PartName="/ppt/media/image3.wmf" ContentType="image/x-wmf"/>
  <Override PartName="/ppt/media/image1.gif" ContentType="image/gif"/>
  <Override PartName="/ppt/media/image27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4C565-1EEA-440B-BEEA-834FD547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0D300-BF44-46B8-949C-B81212D7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E6EC8-B83D-458A-B03B-B5C0736D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CAE5-C7B3-4601-B2A9-275A1931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0CD74-F5B3-4559-985F-E803DD61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A552-5FAA-4816-A54B-D0944E53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D193-651F-41B9-B22F-157084CE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A6FA-AB96-4424-9620-880DC59A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04F6-9C73-48EF-93B7-ED286BF5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20F16-3A88-4880-99B7-4CF83E21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DCDD0-BA27-4B73-8228-378C4626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4C8E-88EC-4989-8835-F56D701C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8359-89E3-46D3-A245-86EF2F5030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slide" Target="slide2.xml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2.wmf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6.png"/><Relationship Id="rId9" Type="http://schemas.openxmlformats.org/officeDocument/2006/relationships/image" Target="../media/image4.png"/><Relationship Id="rId10" Type="http://schemas.openxmlformats.org/officeDocument/2006/relationships/image" Target="../media/image7.png"/><Relationship Id="rId11" Type="http://schemas.openxmlformats.org/officeDocument/2006/relationships/image" Target="../media/image27.png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12.xml"/><Relationship Id="rId7" Type="http://schemas.openxmlformats.org/officeDocument/2006/relationships/slide" Target="slide4.xml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" Target="slide4.xml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10.xml"/><Relationship Id="rId8" Type="http://schemas.openxmlformats.org/officeDocument/2006/relationships/slide" Target="slide8.xml"/><Relationship Id="rId9" Type="http://schemas.openxmlformats.org/officeDocument/2006/relationships/slide" Target="slide11.xml"/><Relationship Id="rId10" Type="http://schemas.openxmlformats.org/officeDocument/2006/relationships/slide" Target="slide9.xml"/><Relationship Id="rId11" Type="http://schemas.openxmlformats.org/officeDocument/2006/relationships/slide" Target="slide12.xml"/><Relationship Id="rId12" Type="http://schemas.openxmlformats.org/officeDocument/2006/relationships/image" Target="../media/image11.wmf"/><Relationship Id="rId13" Type="http://schemas.openxmlformats.org/officeDocument/2006/relationships/image" Target="../media/image12.png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slide" Target="slide3.xml"/><Relationship Id="rId34" Type="http://schemas.openxmlformats.org/officeDocument/2006/relationships/image" Target="../media/image14.png"/><Relationship Id="rId35" Type="http://schemas.openxmlformats.org/officeDocument/2006/relationships/slide" Target="slide13.xml"/><Relationship Id="rId36" Type="http://schemas.openxmlformats.org/officeDocument/2006/relationships/image" Target="../media/image15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6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" Target="slide3.xml"/><Relationship Id="rId9" Type="http://schemas.openxmlformats.org/officeDocument/2006/relationships/image" Target="../media/image10.pn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" Target="slide3.xml"/><Relationship Id="rId9" Type="http://schemas.openxmlformats.org/officeDocument/2006/relationships/image" Target="../media/image10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" Target="slide3.xml"/><Relationship Id="rId9" Type="http://schemas.openxmlformats.org/officeDocument/2006/relationships/image" Target="../media/image10.pn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" Target="slide3.xml"/><Relationship Id="rId9" Type="http://schemas.openxmlformats.org/officeDocument/2006/relationships/image" Target="../media/image10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" Target="slide3.xml"/><Relationship Id="rId9" Type="http://schemas.openxmlformats.org/officeDocument/2006/relationships/image" Target="../media/image10.pn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" Target="slide3.xml"/><Relationship Id="rId9" Type="http://schemas.openxmlformats.org/officeDocument/2006/relationships/image" Target="../media/image10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3311640" cy="241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35280" y="3500280"/>
            <a:ext cx="2305080" cy="220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rot="20040000">
            <a:off x="3346560" y="2060280"/>
            <a:ext cx="1158840" cy="103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 rot="20040000">
            <a:off x="6372360" y="515736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19980000">
            <a:off x="2195280" y="2997000"/>
            <a:ext cx="657000" cy="61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67640" y="5994360"/>
            <a:ext cx="1225440" cy="863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24000" y="476280"/>
            <a:ext cx="8496000" cy="2376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00"/>
                </a:solidFill>
                <a:latin typeface="DejaVu Sans"/>
              </a:rPr>
              <a:t>Guess the melody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latin typeface="DejaVu Sans"/>
              <a:ea typeface="DejaVu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80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580000" y="2637000"/>
            <a:ext cx="3311640" cy="2415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rot="19980000">
            <a:off x="2122200" y="5805360"/>
            <a:ext cx="657000" cy="61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rot="19980000">
            <a:off x="4282560" y="5662080"/>
            <a:ext cx="863640" cy="803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 rot="19980000">
            <a:off x="6082920" y="2852280"/>
            <a:ext cx="657360" cy="6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19980000">
            <a:off x="560520" y="2882520"/>
            <a:ext cx="115236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4" name="">
            <a:hlinkClick r:id="rId4" action="ppaction://hlinksldjump"/>
          </p:cNvPr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5" name="">
            <a:hlinkClick r:id="rId5" action="ppaction://hlinksldjump"/>
          </p:cNvPr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357200" y="5357880"/>
            <a:ext cx="671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Celine Dion– My heart will go on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1108080" y="993600"/>
            <a:ext cx="6927840" cy="38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05" dur="indefinite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0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dur="indefinite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13" dur="indefinite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dur="indefinite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21" dur="indefinite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2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4" name=""/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071720" y="5357880"/>
            <a:ext cx="700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Michael Jackson – Give in to me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017880" y="501480"/>
            <a:ext cx="3252600" cy="487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30" dur="indefinite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3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dur="indefinite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38" dur="indefinite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3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dur="indefinite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46" dur="indefinite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4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2" name=""/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071720" y="5286240"/>
            <a:ext cx="671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Scorpions – Still loving you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1589040" y="993600"/>
            <a:ext cx="6170760" cy="40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55" dur="indefinite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5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dur="indefinite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63" dur="indefinite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6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dur="indefinite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71" dur="indefinite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7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324000" y="1341360"/>
            <a:ext cx="8496000" cy="2376720"/>
          </a:xfrm>
          <a:prstGeom prst="rect">
            <a:avLst/>
          </a:prstGeom>
        </p:spPr>
        <p:txBody>
          <a:bodyPr wrap="none" lIns="90000" rIns="90000" tIns="46800" bIns="46800" anchor="ctr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00"/>
                </a:solidFill>
                <a:latin typeface="DejaVu Sans"/>
              </a:rPr>
              <a:t>Thank you!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latin typeface="DejaVu Sans"/>
              <a:ea typeface="DejaVu San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564000" y="3500280"/>
            <a:ext cx="2520720" cy="2405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84360" y="350028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6516720" y="98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835280" y="364500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3995640" y="476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2771640" y="299736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1476360" y="836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7380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7740720" y="564372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2"/>
          <a:stretch/>
        </p:blipFill>
        <p:spPr>
          <a:xfrm>
            <a:off x="900000" y="4221000"/>
            <a:ext cx="2664000" cy="1766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3"/>
          <a:stretch/>
        </p:blipFill>
        <p:spPr>
          <a:xfrm>
            <a:off x="5651640" y="3141720"/>
            <a:ext cx="2663640" cy="1766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4"/>
          <a:stretch/>
        </p:blipFill>
        <p:spPr>
          <a:xfrm>
            <a:off x="8172360" y="3500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1692360" y="2637000"/>
            <a:ext cx="5761080" cy="115236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">
            <a:hlinkClick r:id="rId7" action="ppaction://hlinksldjump"/>
          </p:cNvPr>
          <p:cNvSpPr/>
          <p:nvPr/>
        </p:nvSpPr>
        <p:spPr>
          <a:xfrm>
            <a:off x="1835280" y="292428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ea typeface="DejaVu Sans"/>
              </a:rPr>
              <a:t>MELODIES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2627280" y="4653000"/>
            <a:ext cx="865080" cy="779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5219640" y="4365720"/>
            <a:ext cx="64764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4067280" y="5500800"/>
            <a:ext cx="865080" cy="779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dur="indefinite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dur="indefinite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1" dur="indefinite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dur="indefinite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9" dur="indefinite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1403280" cy="141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1476360" y="981000"/>
            <a:ext cx="1008000" cy="100800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4067280" y="981000"/>
            <a:ext cx="1008000" cy="100800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">
            <a:hlinkClick r:id="rId5" action="ppaction://hlinksldjump"/>
          </p:cNvPr>
          <p:cNvSpPr/>
          <p:nvPr/>
        </p:nvSpPr>
        <p:spPr>
          <a:xfrm>
            <a:off x="6516720" y="981000"/>
            <a:ext cx="1008000" cy="100800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">
            <a:hlinkClick r:id="rId6" action="ppaction://hlinksldjump"/>
          </p:cNvPr>
          <p:cNvSpPr/>
          <p:nvPr/>
        </p:nvSpPr>
        <p:spPr>
          <a:xfrm>
            <a:off x="1476360" y="2852640"/>
            <a:ext cx="1008000" cy="100800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">
            <a:hlinkClick r:id="rId7" action="ppaction://hlinksldjump"/>
          </p:cNvPr>
          <p:cNvSpPr/>
          <p:nvPr/>
        </p:nvSpPr>
        <p:spPr>
          <a:xfrm>
            <a:off x="1476360" y="4724280"/>
            <a:ext cx="1008000" cy="100836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">
            <a:hlinkClick r:id="rId8" action="ppaction://hlinksldjump"/>
          </p:cNvPr>
          <p:cNvSpPr/>
          <p:nvPr/>
        </p:nvSpPr>
        <p:spPr>
          <a:xfrm>
            <a:off x="4067280" y="2852640"/>
            <a:ext cx="1008000" cy="100800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">
            <a:hlinkClick r:id="rId9" action="ppaction://hlinksldjump"/>
          </p:cNvPr>
          <p:cNvSpPr/>
          <p:nvPr/>
        </p:nvSpPr>
        <p:spPr>
          <a:xfrm>
            <a:off x="4067280" y="4724280"/>
            <a:ext cx="1008000" cy="100836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">
            <a:hlinkClick r:id="rId10" action="ppaction://hlinksldjump"/>
          </p:cNvPr>
          <p:cNvSpPr/>
          <p:nvPr/>
        </p:nvSpPr>
        <p:spPr>
          <a:xfrm>
            <a:off x="6516720" y="2852640"/>
            <a:ext cx="1008000" cy="100800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">
            <a:hlinkClick r:id="rId11" action="ppaction://hlinksldjump"/>
          </p:cNvPr>
          <p:cNvSpPr/>
          <p:nvPr/>
        </p:nvSpPr>
        <p:spPr>
          <a:xfrm>
            <a:off x="6516720" y="4724280"/>
            <a:ext cx="1008000" cy="1008360"/>
          </a:xfr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 rot="19200000">
            <a:off x="7234200" y="693360"/>
            <a:ext cx="374760" cy="86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63640" y="119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119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119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"/>
          <p:cNvSpPr/>
          <p:nvPr/>
        </p:nvSpPr>
        <p:spPr>
          <a:xfrm>
            <a:off x="176364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"/>
          <p:cNvSpPr/>
          <p:nvPr/>
        </p:nvSpPr>
        <p:spPr>
          <a:xfrm>
            <a:off x="680400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4941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941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"/>
          <p:cNvSpPr/>
          <p:nvPr/>
        </p:nvSpPr>
        <p:spPr>
          <a:xfrm>
            <a:off x="6804000" y="4941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179280" y="18900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4"/>
          <a:stretch/>
        </p:blipFill>
        <p:spPr>
          <a:xfrm>
            <a:off x="0" y="836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5"/>
          <a:stretch/>
        </p:blipFill>
        <p:spPr>
          <a:xfrm>
            <a:off x="250920" y="112536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6"/>
          <a:stretch/>
        </p:blipFill>
        <p:spPr>
          <a:xfrm>
            <a:off x="611280" y="119700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7"/>
          <a:stretch/>
        </p:blipFill>
        <p:spPr>
          <a:xfrm>
            <a:off x="0" y="476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8"/>
          <a:stretch/>
        </p:blipFill>
        <p:spPr>
          <a:xfrm>
            <a:off x="971640" y="112536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9"/>
          <a:stretch/>
        </p:blipFill>
        <p:spPr>
          <a:xfrm>
            <a:off x="1187280" y="476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0"/>
          <a:stretch/>
        </p:blipFill>
        <p:spPr>
          <a:xfrm>
            <a:off x="1042920" y="189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1"/>
          <a:stretch/>
        </p:blipFill>
        <p:spPr>
          <a:xfrm>
            <a:off x="468360" y="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2"/>
          <a:stretch/>
        </p:blipFill>
        <p:spPr>
          <a:xfrm>
            <a:off x="179280" y="189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3"/>
          <a:stretch/>
        </p:blipFill>
        <p:spPr>
          <a:xfrm>
            <a:off x="826920" y="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4"/>
          <a:stretch/>
        </p:blipFill>
        <p:spPr>
          <a:xfrm>
            <a:off x="1187280" y="836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198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King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DejaVu San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of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DejaVu San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198900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    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"/>
          <p:cNvSpPr/>
          <p:nvPr/>
        </p:nvSpPr>
        <p:spPr>
          <a:xfrm>
            <a:off x="5796000" y="1989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Great Four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"/>
          <p:cNvSpPr/>
          <p:nvPr/>
        </p:nvSpPr>
        <p:spPr>
          <a:xfrm>
            <a:off x="785880" y="2071800"/>
            <a:ext cx="23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37861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Legend of the 20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  <a:ea typeface="DejaVu Sans"/>
              </a:rPr>
              <a:t>t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 century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9337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Amazing singer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37861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5 Grammy Awards in 2017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Sad voice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Ever-popular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"/>
          <p:cNvSpPr/>
          <p:nvPr/>
        </p:nvSpPr>
        <p:spPr>
          <a:xfrm>
            <a:off x="572436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DejaVu Sans"/>
              </a:rPr>
              <a:t>Shine bright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5"/>
          <a:stretch/>
        </p:blipFill>
        <p:spPr>
          <a:xfrm rot="19200000">
            <a:off x="2301840" y="4593960"/>
            <a:ext cx="374760" cy="863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6"/>
          <a:stretch/>
        </p:blipFill>
        <p:spPr>
          <a:xfrm rot="19200000">
            <a:off x="2193480" y="2566800"/>
            <a:ext cx="374760" cy="863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7"/>
          <a:stretch/>
        </p:blipFill>
        <p:spPr>
          <a:xfrm rot="19200000">
            <a:off x="4802040" y="4593960"/>
            <a:ext cx="374760" cy="86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8"/>
          <a:stretch/>
        </p:blipFill>
        <p:spPr>
          <a:xfrm rot="19200000">
            <a:off x="4785840" y="2566800"/>
            <a:ext cx="374760" cy="86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9"/>
          <a:stretch/>
        </p:blipFill>
        <p:spPr>
          <a:xfrm rot="19200000">
            <a:off x="7233840" y="2566800"/>
            <a:ext cx="374760" cy="86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0"/>
          <a:stretch/>
        </p:blipFill>
        <p:spPr>
          <a:xfrm rot="19200000">
            <a:off x="7230960" y="4665240"/>
            <a:ext cx="374760" cy="86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1"/>
          <a:stretch/>
        </p:blipFill>
        <p:spPr>
          <a:xfrm rot="19200000">
            <a:off x="2193840" y="693360"/>
            <a:ext cx="374760" cy="863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2"/>
          <a:stretch/>
        </p:blipFill>
        <p:spPr>
          <a:xfrm rot="19200000">
            <a:off x="4786200" y="693360"/>
            <a:ext cx="374760" cy="863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8800" y="3857760"/>
            <a:ext cx="23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"/>
          <p:cNvSpPr/>
          <p:nvPr/>
        </p:nvSpPr>
        <p:spPr>
          <a:xfrm>
            <a:off x="1071720" y="5715000"/>
            <a:ext cx="23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1" name="" descr="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2286000" y="5950080"/>
            <a:ext cx="1258920" cy="907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571920" y="2000160"/>
            <a:ext cx="23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"/>
          <p:cNvSpPr/>
          <p:nvPr/>
        </p:nvSpPr>
        <p:spPr>
          <a:xfrm>
            <a:off x="5786280" y="2000160"/>
            <a:ext cx="280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"/>
          <p:cNvSpPr/>
          <p:nvPr/>
        </p:nvSpPr>
        <p:spPr>
          <a:xfrm>
            <a:off x="3500280" y="4000680"/>
            <a:ext cx="23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"/>
          <p:cNvSpPr/>
          <p:nvPr/>
        </p:nvSpPr>
        <p:spPr>
          <a:xfrm>
            <a:off x="5929200" y="3857760"/>
            <a:ext cx="23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5715000"/>
            <a:ext cx="23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"/>
          <p:cNvSpPr/>
          <p:nvPr/>
        </p:nvSpPr>
        <p:spPr>
          <a:xfrm>
            <a:off x="6072120" y="5715000"/>
            <a:ext cx="23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8" name="" descr="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5435640" y="6068880"/>
            <a:ext cx="1368360" cy="789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7"/>
          <a:stretch/>
        </p:blipFill>
        <p:spPr>
          <a:xfrm>
            <a:off x="1515960" y="150984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8"/>
          <a:stretch/>
        </p:blipFill>
        <p:spPr>
          <a:xfrm>
            <a:off x="4118040" y="1531800"/>
            <a:ext cx="461880" cy="46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9"/>
          <a:stretch/>
        </p:blipFill>
        <p:spPr>
          <a:xfrm>
            <a:off x="6518160" y="1522440"/>
            <a:ext cx="519120" cy="517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0"/>
          <a:stretch/>
        </p:blipFill>
        <p:spPr>
          <a:xfrm>
            <a:off x="1500120" y="340200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1"/>
          <a:stretch/>
        </p:blipFill>
        <p:spPr>
          <a:xfrm>
            <a:off x="4103640" y="34495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2"/>
          <a:stretch/>
        </p:blipFill>
        <p:spPr>
          <a:xfrm>
            <a:off x="6526080" y="342576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3"/>
          <a:stretch/>
        </p:blipFill>
        <p:spPr>
          <a:xfrm>
            <a:off x="1492200" y="527364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4"/>
          <a:stretch/>
        </p:blipFill>
        <p:spPr>
          <a:xfrm>
            <a:off x="4073400" y="531180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5"/>
          <a:stretch/>
        </p:blipFill>
        <p:spPr>
          <a:xfrm>
            <a:off x="6529320" y="5286240"/>
            <a:ext cx="438120" cy="4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8" dur="indefinite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dur="indefinite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6" dur="indefinite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dur="indefinite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4" dur="indefinite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dur="indefinite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2" dur="indefinite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dur="indefinite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0" dur="indefinite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dur="indefinite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8" dur="indefinite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dur="indefinite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6" dur="indefinite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dur="indefinite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4" dur="indefinite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dur="indefinite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2" dur="indefinite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dur="indefinite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8" dur="indefinite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dur="indefinite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06" dur="indefinite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dur="indefinite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12" dur="indefinite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1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dur="indefinite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8" dur="indefinite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1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dur="indefinite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24" dur="indefinite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2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dur="indefinite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0" dur="indefinite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dur="indefinite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36" dur="indefinite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dur="indefinite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2" dur="indefinite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dur="indefinite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48" dur="indefinite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4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">
            <a:hlinkClick r:id="rId4" action="ppaction://hlinksldjump"/>
          </p:cNvPr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">
            <a:hlinkClick r:id="rId5" action="ppaction://hlinksldjump"/>
          </p:cNvPr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92240" y="5478480"/>
            <a:ext cx="710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Whitney Houston– I will always love 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2368440" y="333360"/>
            <a:ext cx="4254480" cy="51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5" dur="indefinite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dur="indefinite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63" dur="indefinite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6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dur="indefinite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71" dur="indefinite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7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>
            <a:hlinkClick r:id="rId4" action="ppaction://hlinksldjump"/>
          </p:cNvPr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">
            <a:hlinkClick r:id="rId5" action="ppaction://hlinksldjump"/>
          </p:cNvPr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57200" y="5286240"/>
            <a:ext cx="671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Minelli  - Rampampam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1447920" y="1339920"/>
            <a:ext cx="653400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0" dur="indefinite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dur="indefinite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8" dur="indefinite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dur="indefinite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96" dur="indefinite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9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">
            <a:hlinkClick r:id="rId4" action="ppaction://hlinksldjump"/>
          </p:cNvPr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57200" y="5286240"/>
            <a:ext cx="671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Queen – We will rock you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1817640" y="1066680"/>
            <a:ext cx="5378400" cy="415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05" dur="indefinite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0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dur="indefinite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13" dur="indefinite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dur="indefinite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21" dur="indefinite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2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7" name="">
            <a:hlinkClick r:id="rId4" action="ppaction://hlinksldjump"/>
          </p:cNvPr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8" name="">
            <a:hlinkClick r:id="rId5" action="ppaction://hlinksldjump"/>
          </p:cNvPr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357200" y="5286240"/>
            <a:ext cx="671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Alan Walker – Faded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>
            <a:off x="1817640" y="1371600"/>
            <a:ext cx="5649840" cy="37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30" dur="indefinite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3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dur="indefinite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38" dur="indefinite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3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dur="indefinite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46" dur="indefinite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4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">
            <a:hlinkClick r:id="rId4" action="ppaction://hlinksldjump"/>
          </p:cNvPr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7" name="">
            <a:hlinkClick r:id="rId5" action="ppaction://hlinksldjump"/>
          </p:cNvPr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93760" y="5475240"/>
            <a:ext cx="724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Selena Gomez – Love you like a love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0"/>
          <a:stretch/>
        </p:blipFill>
        <p:spPr>
          <a:xfrm>
            <a:off x="2050920" y="1173240"/>
            <a:ext cx="5532480" cy="41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55" dur="indefinite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5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dur="indefinite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63" dur="indefinite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6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dur="indefinite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71" dur="indefinite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7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468360" y="620640"/>
            <a:ext cx="230328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5" name="">
            <a:hlinkClick r:id="rId4" action="ppaction://hlinksldjump"/>
          </p:cNvPr>
          <p:cNvSpPr/>
          <p:nvPr/>
        </p:nvSpPr>
        <p:spPr>
          <a:xfrm>
            <a:off x="349236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6" name="">
            <a:hlinkClick r:id="rId5" action="ppaction://hlinksldjump"/>
          </p:cNvPr>
          <p:cNvSpPr/>
          <p:nvPr/>
        </p:nvSpPr>
        <p:spPr>
          <a:xfrm>
            <a:off x="6300720" y="620640"/>
            <a:ext cx="2303640" cy="719280"/>
          </a:xfrm>
          <a:custGeom>
            <a:avLst/>
            <a:gdLst/>
            <a:ahLst/>
            <a:rect l="l" t="t" r="r" b="b"/>
            <a:pathLst>
              <a:path w="21600" h="21690">
                <a:moveTo>
                  <a:pt x="0" y="0"/>
                </a:moveTo>
                <a:lnTo>
                  <a:pt x="7425" y="0"/>
                </a:lnTo>
                <a:lnTo>
                  <a:pt x="675" y="675"/>
                </a:lnTo>
                <a:lnTo>
                  <a:pt x="270" y="9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lnTo>
                  <a:pt x="675" y="675"/>
                </a:lnTo>
                <a:lnTo>
                  <a:pt x="180" y="9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lnTo>
                  <a:pt x="675" y="675"/>
                </a:lnTo>
                <a:lnTo>
                  <a:pt x="0" y="90"/>
                </a:lnTo>
                <a:lnTo>
                  <a:pt x="6075" y="21600"/>
                </a:lnTo>
                <a:lnTo>
                  <a:pt x="675" y="675"/>
                </a:lnTo>
                <a:close/>
              </a:path>
              <a:path fill="none" w="21600" h="21690">
                <a:moveTo>
                  <a:pt x="90" y="90"/>
                </a:move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8100" y="675"/>
                </a:lnTo>
                <a:lnTo>
                  <a:pt x="675" y="675"/>
                </a:lnTo>
              </a:path>
              <a:path fill="none" w="21600" h="21690">
                <a:moveTo>
                  <a:pt x="0" y="90"/>
                </a:moveTo>
                <a:lnTo>
                  <a:pt x="6075" y="1350"/>
                </a:lnTo>
                <a:lnTo>
                  <a:pt x="675" y="675"/>
                </a:lnTo>
                <a:lnTo>
                  <a:pt x="270" y="-90"/>
                </a:lnTo>
                <a:lnTo>
                  <a:pt x="675" y="675"/>
                </a:lnTo>
                <a:lnTo>
                  <a:pt x="180" y="-90"/>
                </a:lnTo>
              </a:path>
              <a:path fill="none" w="21600" h="21690">
                <a:moveTo>
                  <a:pt x="8100" y="2700"/>
                </a:moveTo>
                <a:lnTo>
                  <a:pt x="13500" y="675"/>
                </a:lnTo>
              </a:path>
              <a:path fill="none" w="21600" h="21690">
                <a:moveTo>
                  <a:pt x="675" y="675"/>
                </a:moveTo>
                <a:lnTo>
                  <a:pt x="180" y="-90"/>
                </a:lnTo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 rot="19560000">
            <a:off x="220680" y="2790360"/>
            <a:ext cx="1440000" cy="1297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 rot="1860000">
            <a:off x="7597440" y="1844640"/>
            <a:ext cx="927000" cy="835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97840" y="5811840"/>
            <a:ext cx="1046160" cy="1046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357200" y="5357880"/>
            <a:ext cx="671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DejaVu Sans"/>
              </a:rPr>
              <a:t>Rang – n – Bone Man  - Human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1582560" y="1201680"/>
            <a:ext cx="6264360" cy="41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80" dur="indefinite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8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dur="indefinite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88" dur="indefinite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8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dur="indefinite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96" dur="indefinite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9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4320000" s="0" l="0"/>
                                      </p:by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20:09:40Z</dcterms:created>
  <dc:creator>www.PHILka.RU</dc:creator>
  <dc:description/>
  <dc:language>en-US</dc:language>
  <cp:lastModifiedBy>Новикова Ирина Сергеевна</cp:lastModifiedBy>
  <dcterms:modified xsi:type="dcterms:W3CDTF">2022-01-27T19:46:50Z</dcterms:modified>
  <cp:revision>1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