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8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wmf" ContentType="image/x-wmf"/>
  <Override PartName="/ppt/media/image23.jpeg" ContentType="image/jpeg"/>
  <Override PartName="/ppt/media/image21.jpeg" ContentType="image/jpeg"/>
  <Override PartName="/ppt/media/image19.jpeg" ContentType="image/jpeg"/>
  <Override PartName="/ppt/media/image15.png" ContentType="image/png"/>
  <Override PartName="/ppt/media/image14.png" ContentType="image/png"/>
  <Override PartName="/ppt/media/image3.wmf" ContentType="image/x-wmf"/>
  <Override PartName="/ppt/media/image1.gif" ContentType="image/gif"/>
  <Override PartName="/ppt/media/image27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65B0-0DC6-4B8B-AC61-ADE3C748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B3B9-ED05-4891-B486-B21BBA59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B465-2C92-41B3-917A-CA58117C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D3F6-A8EE-4EBB-9ACD-52EA7B02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0ED0-1690-4766-8FFE-1BF1B237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415B-B680-4E85-B8CB-12C25E08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2EA1-BA17-4EBF-984A-E05FEF39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9BD0-0A75-4367-9607-5142826F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2403-4275-4E40-B50B-E63826A5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4103-E76A-41DD-B2C7-E65D713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9A3E-8E7B-44C8-8311-EB48D637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0C93-1069-47AF-9014-D0D6BE9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327E-D902-4C60-BDAD-6203AAADD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" Target="slide2.xm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2.wmf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6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27.png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" Target="slide4.xml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image" Target="../media/image11.wmf"/><Relationship Id="rId13" Type="http://schemas.openxmlformats.org/officeDocument/2006/relationships/image" Target="../media/image12.png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slide" Target="slide3.xml"/><Relationship Id="rId34" Type="http://schemas.openxmlformats.org/officeDocument/2006/relationships/image" Target="../media/image14.png"/><Relationship Id="rId35" Type="http://schemas.openxmlformats.org/officeDocument/2006/relationships/slide" Target="slide13.xml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311640" cy="24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35280" y="3500280"/>
            <a:ext cx="2305080" cy="220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0040000">
            <a:off x="3346560" y="2060280"/>
            <a:ext cx="1158840" cy="103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20040000">
            <a:off x="6372360" y="515736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9980000">
            <a:off x="2195280" y="2997000"/>
            <a:ext cx="657000" cy="61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67640" y="5994360"/>
            <a:ext cx="1225440" cy="86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24000" y="476280"/>
            <a:ext cx="8496000" cy="2376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latin typeface="DejaVu Sans"/>
              </a:rPr>
              <a:t>Guess the melody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latin typeface="DejaVu Sans"/>
              <a:ea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580000" y="2637000"/>
            <a:ext cx="3311640" cy="241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9980000">
            <a:off x="2122200" y="5805360"/>
            <a:ext cx="657000" cy="6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19980000">
            <a:off x="4282560" y="5662080"/>
            <a:ext cx="863640" cy="80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19980000">
            <a:off x="6082920" y="2852280"/>
            <a:ext cx="657360" cy="6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9980000">
            <a:off x="560520" y="2882520"/>
            <a:ext cx="115236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57200" y="535788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Celine Dion– My heart will go on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1108080" y="993600"/>
            <a:ext cx="6927840" cy="38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05" dur="indefinite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dur="indefinite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13" dur="indefinite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dur="indefinite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21" dur="indefinite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071720" y="5357880"/>
            <a:ext cx="70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Michael Jackson – Give in to me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017880" y="501480"/>
            <a:ext cx="3252600" cy="487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30" dur="indefinite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dur="indefinite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38" dur="indefinite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dur="indefinite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46" dur="indefinite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07172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Scorpions – Still loving you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1589040" y="993600"/>
            <a:ext cx="617076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55" dur="indefinite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dur="indefinite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3" dur="indefinite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dur="indefinite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71" dur="indefinite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324000" y="1341360"/>
            <a:ext cx="8496000" cy="2376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latin typeface="DejaVu Sans"/>
              </a:rPr>
              <a:t>Thank you!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latin typeface="DejaVu Sans"/>
              <a:ea typeface="DejaVu San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564000" y="3500280"/>
            <a:ext cx="2520720" cy="2405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6516720" y="98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835280" y="364500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3995640" y="476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771640" y="2997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1476360" y="83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7740720" y="56437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900000" y="4221000"/>
            <a:ext cx="2664000" cy="176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5651640" y="3141720"/>
            <a:ext cx="2663640" cy="1766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8172360" y="3500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1692360" y="2637000"/>
            <a:ext cx="5761080" cy="1152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1835280" y="2924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ea typeface="DejaVu Sans"/>
              </a:rPr>
              <a:t>MELODIES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627280" y="4653000"/>
            <a:ext cx="865080" cy="77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5219640" y="4365720"/>
            <a:ext cx="6476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4067280" y="5500800"/>
            <a:ext cx="865080" cy="779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dur="indefinite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dur="indefinite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" dur="indefinite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dur="indefinite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9" dur="indefinite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1403280" cy="141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476360" y="98100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4067280" y="98100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6516720" y="98100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>
            <a:hlinkClick r:id="rId6" action="ppaction://hlinksldjump"/>
          </p:cNvPr>
          <p:cNvSpPr/>
          <p:nvPr/>
        </p:nvSpPr>
        <p:spPr>
          <a:xfrm>
            <a:off x="1476360" y="285264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>
            <a:hlinkClick r:id="rId7" action="ppaction://hlinksldjump"/>
          </p:cNvPr>
          <p:cNvSpPr/>
          <p:nvPr/>
        </p:nvSpPr>
        <p:spPr>
          <a:xfrm>
            <a:off x="1476360" y="4724280"/>
            <a:ext cx="1008000" cy="1008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4067280" y="285264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>
            <a:hlinkClick r:id="rId9" action="ppaction://hlinksldjump"/>
          </p:cNvPr>
          <p:cNvSpPr/>
          <p:nvPr/>
        </p:nvSpPr>
        <p:spPr>
          <a:xfrm>
            <a:off x="4067280" y="4724280"/>
            <a:ext cx="1008000" cy="1008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>
            <a:hlinkClick r:id="rId10" action="ppaction://hlinksldjump"/>
          </p:cNvPr>
          <p:cNvSpPr/>
          <p:nvPr/>
        </p:nvSpPr>
        <p:spPr>
          <a:xfrm>
            <a:off x="6516720" y="285264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">
            <a:hlinkClick r:id="rId11" action="ppaction://hlinksldjump"/>
          </p:cNvPr>
          <p:cNvSpPr/>
          <p:nvPr/>
        </p:nvSpPr>
        <p:spPr>
          <a:xfrm>
            <a:off x="6516720" y="4724280"/>
            <a:ext cx="1008000" cy="1008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 rot="19200000">
            <a:off x="7234200" y="693360"/>
            <a:ext cx="374760" cy="86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119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119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119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179280" y="189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0" y="836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250920" y="1125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>
            <a:off x="611280" y="1197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0" y="476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971640" y="1125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>
            <a:off x="1187280" y="476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0"/>
          <a:stretch/>
        </p:blipFill>
        <p:spPr>
          <a:xfrm>
            <a:off x="1042920" y="18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1"/>
          <a:stretch/>
        </p:blipFill>
        <p:spPr>
          <a:xfrm>
            <a:off x="468360" y="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2"/>
          <a:stretch/>
        </p:blipFill>
        <p:spPr>
          <a:xfrm>
            <a:off x="179280" y="18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3"/>
          <a:stretch/>
        </p:blipFill>
        <p:spPr>
          <a:xfrm>
            <a:off x="826920" y="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4"/>
          <a:stretch/>
        </p:blipFill>
        <p:spPr>
          <a:xfrm>
            <a:off x="1187280" y="836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9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Kin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DejaVu San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of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DejaVu San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19890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19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Great Four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785880" y="20718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7861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Legend of the 20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  <a:ea typeface="DejaVu Sans"/>
              </a:rPr>
              <a:t>t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 century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933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Amazing singer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37861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5 Grammy Awards in 2017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Sad voic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Ever-popular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Shine bright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5"/>
          <a:stretch/>
        </p:blipFill>
        <p:spPr>
          <a:xfrm rot="19200000">
            <a:off x="2301840" y="459396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6"/>
          <a:stretch/>
        </p:blipFill>
        <p:spPr>
          <a:xfrm rot="19200000">
            <a:off x="2193480" y="2566800"/>
            <a:ext cx="374760" cy="863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7"/>
          <a:stretch/>
        </p:blipFill>
        <p:spPr>
          <a:xfrm rot="19200000">
            <a:off x="4802040" y="459396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8"/>
          <a:stretch/>
        </p:blipFill>
        <p:spPr>
          <a:xfrm rot="19200000">
            <a:off x="4785840" y="2566800"/>
            <a:ext cx="374760" cy="86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9"/>
          <a:stretch/>
        </p:blipFill>
        <p:spPr>
          <a:xfrm rot="19200000">
            <a:off x="7233840" y="2566800"/>
            <a:ext cx="374760" cy="86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0"/>
          <a:stretch/>
        </p:blipFill>
        <p:spPr>
          <a:xfrm rot="19200000">
            <a:off x="7230960" y="466524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1"/>
          <a:stretch/>
        </p:blipFill>
        <p:spPr>
          <a:xfrm rot="19200000">
            <a:off x="2193840" y="69336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2"/>
          <a:stretch/>
        </p:blipFill>
        <p:spPr>
          <a:xfrm rot="19200000">
            <a:off x="4786200" y="693360"/>
            <a:ext cx="374760" cy="863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8800" y="385776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071720" y="5715000"/>
            <a:ext cx="23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1" name="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2286000" y="5950080"/>
            <a:ext cx="1258920" cy="907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71920" y="200016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5786280" y="200016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3500280" y="400068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5929200" y="385776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57150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6072120" y="57150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5435640" y="6068880"/>
            <a:ext cx="1368360" cy="78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7"/>
          <a:stretch/>
        </p:blipFill>
        <p:spPr>
          <a:xfrm>
            <a:off x="1515960" y="150984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8"/>
          <a:stretch/>
        </p:blipFill>
        <p:spPr>
          <a:xfrm>
            <a:off x="4118040" y="1531800"/>
            <a:ext cx="461880" cy="46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9"/>
          <a:stretch/>
        </p:blipFill>
        <p:spPr>
          <a:xfrm>
            <a:off x="6518160" y="1522440"/>
            <a:ext cx="519120" cy="51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0"/>
          <a:stretch/>
        </p:blipFill>
        <p:spPr>
          <a:xfrm>
            <a:off x="1500120" y="34020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1"/>
          <a:stretch/>
        </p:blipFill>
        <p:spPr>
          <a:xfrm>
            <a:off x="4103640" y="34495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2"/>
          <a:stretch/>
        </p:blipFill>
        <p:spPr>
          <a:xfrm>
            <a:off x="6526080" y="34257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3"/>
          <a:stretch/>
        </p:blipFill>
        <p:spPr>
          <a:xfrm>
            <a:off x="1492200" y="527364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4"/>
          <a:stretch/>
        </p:blipFill>
        <p:spPr>
          <a:xfrm>
            <a:off x="4073400" y="53118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5"/>
          <a:stretch/>
        </p:blipFill>
        <p:spPr>
          <a:xfrm>
            <a:off x="6529320" y="5286240"/>
            <a:ext cx="438120" cy="4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8" dur="indefinite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dur="indefinite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6" dur="indefinite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dur="indefinite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4" dur="indefinite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dur="indefinite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2" dur="indefinite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dur="indefinite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0" dur="indefinite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dur="indefinite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8" dur="indefinite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dur="indefinite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dur="indefinite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dur="indefinite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4" dur="indefinite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dur="indefinite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2" dur="indefinite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dur="indefinite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8" dur="indefinite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dur="indefinite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6" dur="indefinite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dur="indefinite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12" dur="indefinite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dur="indefinite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8" dur="indefinite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dur="indefinite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4" dur="indefinite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0" dur="indefinite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dur="indefinite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6" dur="indefinite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dur="indefinite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2" dur="indefinite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dur="indefinite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8" dur="indefinite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92240" y="5478480"/>
            <a:ext cx="710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Whitney Houston– I will always love 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2368440" y="333360"/>
            <a:ext cx="4254480" cy="51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dur="indefinite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dur="indefinite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3" dur="indefinite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dur="indefinite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1" dur="indefinite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5720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Minelli  - Rampampam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1447920" y="1339920"/>
            <a:ext cx="653400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0" dur="indefinite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dur="indefinite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8" dur="indefinite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dur="indefinite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6" dur="indefinite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5720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Queen – We will rock you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1817640" y="1066680"/>
            <a:ext cx="5378400" cy="41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05" dur="indefinite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dur="indefinite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3" dur="indefinite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dur="indefinite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21" dur="indefinite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5720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Alan Walker – Faded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1817640" y="1371600"/>
            <a:ext cx="564984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0" dur="indefinite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dur="indefinite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8" dur="indefinite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dur="indefinite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6" dur="indefinite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93760" y="5475240"/>
            <a:ext cx="724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Selena Gomez – Love you like a love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2050920" y="1173240"/>
            <a:ext cx="5532480" cy="41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55" dur="indefinite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dur="indefinite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63" dur="indefinite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dur="indefinite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71" dur="indefinite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57200" y="535788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Rang – n – Bone Man  - Human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1582560" y="1201680"/>
            <a:ext cx="626436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80" dur="indefinite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dur="indefinite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88" dur="indefinite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dur="indefinite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96" dur="indefinite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0:09:40Z</dcterms:created>
  <dc:creator>www.PHILka.RU</dc:creator>
  <dc:description/>
  <dc:language>en-US</dc:language>
  <cp:lastModifiedBy>Новикова Ирина Сергеевна</cp:lastModifiedBy>
  <dcterms:modified xsi:type="dcterms:W3CDTF">2022-01-27T19:46:50Z</dcterms:modified>
  <cp:revision>1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