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5.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9.jpeg" ContentType="image/jpe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E9E7-10B9-47B0-8F33-B11154BCEF0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8C79-5E28-40DD-95A0-64208B5D345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EC93-C1CD-4C54-8983-B464FEAC891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76A6A-5E3A-4E87-B36F-7713F44C0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73995-A433-4FCB-B73D-8B1E1A83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E16323-3AA8-4D97-B110-50FABD0CA0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A0EEBE-6711-471B-B578-2B9C96690C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C4ABB7-7704-4F07-85CF-DBD8AA7FBC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DAF90-9DD6-436F-B51A-6DA106270C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70A649-6EDD-4E56-BF23-53D556FA76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135B4C-4A1F-465E-8499-A71860B7B0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5E8EE4-5F80-4EBF-9613-25D76160BC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CA2699-9CC2-4883-A8A3-A2F7F1C905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CBE929-5AEB-41A1-B026-1D747F948B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51759-707B-465B-8F0C-02C3B78BA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54F47-30D7-49F5-B6A0-80567F5D7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26E03-18F7-4DF0-B72E-35730CD8C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5198D-0AA6-427C-BA38-61D54EFF7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6ACB9-8907-4866-A5A7-1AE1F4965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79B8F-4D4D-4B23-A709-8B8B26A73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64A6E-0E4A-434D-9A2E-CEC711684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5A357-C833-4EC3-81F2-87CA38341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2F84D-A69A-4A4C-B10C-05BF4982A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15AC0-CE9F-43B2-B27B-E32B0C795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05BFA-3955-4F3C-92B3-868A565A8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F96AF-C9D4-4209-81F7-226C45EDE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DB3CA-1EFC-4A2B-A617-C234476F2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EA56A-9334-47D0-A81C-FE6B55D43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35AF0-8A10-4E6B-9F0C-C2DAE93BD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12206C-8F95-4C48-8339-C25CC735EA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92FB7F-A205-479D-86D0-2ACC802DAF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D86C53-0461-4C8C-9A46-7ACA163A2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C29D19-894E-4002-9FBB-074D7FDCC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BFC8B-08EE-4CD6-BAC7-3DAB4C4CB7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A6582-D377-4381-94F8-281FCDCCE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5FA8D-CB0C-442E-98BC-35EE034D95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7118A-DAA9-452C-8165-50C4285CE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DFC40-D4C4-4E90-B3BA-A5D0F8B3B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B0081-5587-492B-AC5A-13D72FE8C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CF00AD-9597-4094-B4BA-DB3DC838FE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8D2948-3EE8-4E0E-9E8B-9DE8E26984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F0AEF5-477E-44AA-BE7E-C21086834D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A0C784-75A2-4A6D-9B2D-9B92D94D3D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F95C8F-8A94-448B-A896-514B3F12AF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08FF0A-C365-4CC9-8858-79961096A6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5C10B-C266-4659-B20C-C3D715AE8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5E0CC-6CF6-4EC9-8318-8FF75EC6D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702A8D-F0A7-4187-BE1A-951782B101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1D2A00-E3E1-4920-82DE-869DC4EE51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3FE35-41F4-4C06-9D16-7E2660E33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C4311-E13C-4886-AE99-42221EEDE5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D377F-0B30-4A81-B2E3-F635B80198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605403-E33E-40DE-BBCF-F51D720F0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90029C-D724-46EE-AF15-1B0D107DF1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2BFA4B-5242-4E0D-8A38-D1F8789C86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5D7195-2B83-4157-825A-423B8D315F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170D5-436A-4FD5-9B4D-259DB2110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AE6E49-8AD6-44E0-8F20-042DD7ACA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03C10D-F391-4886-9FD9-49BDB6DFD6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6DD512-F1AF-4599-9C5D-84FB52E093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809221-8857-404D-89B7-CD30E41E86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7A8DAC-E67F-4F99-A005-06931A30F5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5DE362-F3E7-4594-9378-8F41A860C9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AE124-CABB-4F52-A609-D98DEF30F3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E8E34C-1CC3-4DAC-8075-C7C7BE584F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9157F-E711-4B31-B937-2F7AE49C3D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83B172-1500-4E63-884B-0B9CEC290B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66FE7-0445-4D95-88A5-708D8FDFF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7B7B24-A06E-41C0-B75F-597C55F086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DCF954-B12B-464C-9CC7-39CFF7D948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0FF963-2CB9-4BFA-B331-6882FFC755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088493-68D5-42ED-8B2C-DA26AFC71B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ABF16E-95C8-4355-99A5-BC42C7D8CF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79D2CA-38A7-484F-8CD4-B8216B0F85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BA2260-38DE-48BB-BBD0-B7E28E07FC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443CEE-1DCD-4DB1-A07A-37D36AB6F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E7DD5A-A674-4C94-8082-373ACD5A1B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538EA-D045-4248-9362-E16D342A3D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A187-F9FC-443A-AE2B-A228469B0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02800E-4ED9-4DAA-B938-05699CC389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D0D177-54D4-4ECC-8480-873BF43454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24CB2A-B23E-49B0-A063-0BF416BD80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FCA518-E2B2-4D10-A4EC-F404730D9A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EF14E4-279C-4F63-B33D-64DD97D3A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CDD0FC-96EF-4808-805C-B2DBFC1B5B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25B341-239B-4B13-B70F-7D869D6213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F9E44A-DBFF-409E-B41B-1957F5B84C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1A02DD-F131-4DE7-A62C-7D216D480C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C726F-0DE9-41A6-8C75-B9D10EF541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7680E-2157-4F72-967E-A17218BA9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F07F9B-C161-411E-BD94-F209F97F22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673330-02E6-4A56-AA8E-EB3147ED1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94311C-C125-4D72-B36D-90C168EF36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80F68F-BEDA-4BD9-96C3-CB4F45C34A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4DC703-070C-4BCB-8D8A-CC257CE3E5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C7B472-AB27-4BFF-A52C-56B79E0BA0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852B00-7418-4438-8327-11F2E3B5AC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8B1D88-E417-4BC4-A54C-AE2451689D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8F6CFE-0B88-4BCD-9402-E21E479C67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080A4-F1F4-4722-8423-32FAC764CE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D4385-1FB0-4706-84D5-02F08872A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76A7BB-B849-4CEF-8F63-785BDC7DCE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235D1-9650-43F9-B4FD-F753497D6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254EA7-6046-4DAE-ABBF-B10B0979E7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F5113B-9488-4317-AFBB-3D31E9A070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5CC45-C86B-4DA9-BA97-B542C0C72F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4E5F44-6104-455F-B451-9EABA6DE12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C7C8A0-0833-4912-8CE6-479531A1FF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AE2A4A-6BBE-4DBE-9CDB-2A41CFEA01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874F70-B0B3-409D-8087-C828BB6F26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653352-08C5-4BA2-AEA5-C783C9A13D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3F8C-4647-4D4F-A536-490DDA19C085}"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8047-57A3-4671-824A-EE3518E27B77}"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EC3F-97B6-4500-A203-443B65EC42E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836C-101B-4821-91F6-5166A37DAB56}"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87EA-C635-44C1-B576-DB528D1F4316}"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31B8-3796-4A4F-9A6C-C047C9FE0426}"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413B-B9CE-4558-9BDF-54C1511592AA}"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3DF2-A9F0-43F9-8044-9789A50782FE}"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8537-99C1-476A-B58F-03F2B4F14AC9}"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4"/>
          <p:cNvSpPr/>
          <p:nvPr/>
        </p:nvSpPr>
        <p:spPr>
          <a:xfrm>
            <a:off x="250920" y="189000"/>
            <a:ext cx="847872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7"/>
          <p:cNvGrpSpPr/>
          <p:nvPr/>
        </p:nvGrpSpPr>
        <p:grpSpPr>
          <a:xfrm>
            <a:off x="106200" y="100080"/>
            <a:ext cx="8937360" cy="6668640"/>
            <a:chOff x="106200" y="100080"/>
            <a:chExt cx="8937360" cy="6668640"/>
          </a:xfrm>
        </p:grpSpPr>
        <p:sp>
          <p:nvSpPr>
            <p:cNvPr id="408" name="Line 8"/>
            <p:cNvSpPr/>
            <p:nvPr/>
          </p:nvSpPr>
          <p:spPr>
            <a:xfrm>
              <a:off x="106200" y="100080"/>
              <a:ext cx="8937360" cy="0"/>
            </a:xfrm>
            <a:prstGeom prst="line">
              <a:avLst/>
            </a:prstGeom>
            <a:ln w="76320">
              <a:solidFill>
                <a:srgbClr val="fbee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9"/>
            <p:cNvSpPr/>
            <p:nvPr/>
          </p:nvSpPr>
          <p:spPr>
            <a:xfrm>
              <a:off x="106200" y="100080"/>
              <a:ext cx="0" cy="6668640"/>
            </a:xfrm>
            <a:prstGeom prst="line">
              <a:avLst/>
            </a:prstGeom>
            <a:ln w="76320">
              <a:solidFill>
                <a:srgbClr val="fbee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0"/>
            <p:cNvSpPr/>
            <p:nvPr/>
          </p:nvSpPr>
          <p:spPr>
            <a:xfrm>
              <a:off x="106200" y="6768720"/>
              <a:ext cx="8937360" cy="0"/>
            </a:xfrm>
            <a:prstGeom prst="line">
              <a:avLst/>
            </a:prstGeom>
            <a:ln w="76320">
              <a:solidFill>
                <a:srgbClr val="fbee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11"/>
            <p:cNvSpPr/>
            <p:nvPr/>
          </p:nvSpPr>
          <p:spPr>
            <a:xfrm>
              <a:off x="9043560" y="100080"/>
              <a:ext cx="0" cy="6668640"/>
            </a:xfrm>
            <a:prstGeom prst="line">
              <a:avLst/>
            </a:prstGeom>
            <a:ln w="76320">
              <a:solidFill>
                <a:srgbClr val="fbee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2" name="TextBox 9" descr=""/>
          <p:cNvPicPr/>
          <p:nvPr/>
        </p:nvPicPr>
        <p:blipFill>
          <a:blip r:embed="rId1"/>
          <a:stretch/>
        </p:blipFill>
        <p:spPr>
          <a:xfrm>
            <a:off x="171360" y="444600"/>
            <a:ext cx="8869320" cy="963360"/>
          </a:xfrm>
          <a:prstGeom prst="rect">
            <a:avLst/>
          </a:prstGeom>
          <a:ln w="0">
            <a:noFill/>
          </a:ln>
        </p:spPr>
      </p:pic>
      <p:pic>
        <p:nvPicPr>
          <p:cNvPr id="413" name="TextBox 10" descr=""/>
          <p:cNvPicPr/>
          <p:nvPr/>
        </p:nvPicPr>
        <p:blipFill>
          <a:blip r:embed="rId2"/>
          <a:stretch/>
        </p:blipFill>
        <p:spPr>
          <a:xfrm>
            <a:off x="5248440" y="5267160"/>
            <a:ext cx="3425760" cy="609840"/>
          </a:xfrm>
          <a:prstGeom prst="rect">
            <a:avLst/>
          </a:prstGeom>
          <a:ln w="0">
            <a:noFill/>
          </a:ln>
        </p:spPr>
      </p:pic>
      <p:pic>
        <p:nvPicPr>
          <p:cNvPr id="414" name="Прямоугольник 14" descr=""/>
          <p:cNvPicPr/>
          <p:nvPr/>
        </p:nvPicPr>
        <p:blipFill>
          <a:blip r:embed="rId3"/>
          <a:stretch/>
        </p:blipFill>
        <p:spPr>
          <a:xfrm>
            <a:off x="1463760" y="1603440"/>
            <a:ext cx="6937200" cy="2968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
          <p:cNvSpPr txBox="1"/>
          <p:nvPr/>
        </p:nvSpPr>
        <p:spPr>
          <a:xfrm>
            <a:off x="4000680" y="1599840"/>
            <a:ext cx="4991040" cy="47242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    </a:t>
            </a:r>
            <a:r>
              <a:rPr b="0" lang="ru-RU" sz="2800" spc="-1" strike="noStrike">
                <a:solidFill>
                  <a:srgbClr val="4e3b30"/>
                </a:solidFill>
                <a:latin typeface="Times New Roman"/>
                <a:ea typeface="Times New Roman"/>
              </a:rPr>
              <a:t>В ней можно создавать домашние задания и контрольные всего за пару минут: сервис автоматически их проверяет и сам выставляет оценки.</a:t>
            </a:r>
            <a:endParaRPr b="0" lang="en-US" sz="2800" spc="-1" strike="noStrike">
              <a:solidFill>
                <a:srgbClr val="4e3b30"/>
              </a:solidFill>
              <a:latin typeface="Franklin Gothic Book"/>
            </a:endParaRPr>
          </a:p>
        </p:txBody>
      </p:sp>
      <p:pic>
        <p:nvPicPr>
          <p:cNvPr id="439" name="Picture 2" descr="C:\Users\7272~1\AppData\Local\Temp\Rar$DIa0.380\Screenshot_20230502_234919_com.yandex.browser.jpg"/>
          <p:cNvPicPr/>
          <p:nvPr/>
        </p:nvPicPr>
        <p:blipFill>
          <a:blip r:embed="rId1"/>
          <a:stretch/>
        </p:blipFill>
        <p:spPr>
          <a:xfrm>
            <a:off x="500040" y="1571760"/>
            <a:ext cx="306216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     </a:t>
            </a:r>
            <a:r>
              <a:rPr b="0" lang="ru-RU" sz="3200" spc="-1" strike="noStrike">
                <a:solidFill>
                  <a:srgbClr val="4e3b30"/>
                </a:solidFill>
                <a:latin typeface="Times New Roman"/>
                <a:ea typeface="Times New Roman"/>
              </a:rPr>
              <a:t> </a:t>
            </a:r>
            <a:r>
              <a:rPr b="0" lang="ru-RU" sz="3200" spc="-1" strike="noStrike">
                <a:solidFill>
                  <a:srgbClr val="4e3b30"/>
                </a:solidFill>
                <a:latin typeface="Times New Roman"/>
                <a:ea typeface="Times New Roman"/>
              </a:rPr>
              <a:t>Различные нтернет-ресурсы помогают разнообразить работу учащихся, заинтересовать нестандартностью выполнения заданий, а также помогают учителю значительно сэкономить время.</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Заголовок 5" descr=""/>
          <p:cNvPicPr/>
          <p:nvPr/>
        </p:nvPicPr>
        <p:blipFill>
          <a:blip r:embed="rId1"/>
          <a:stretch/>
        </p:blipFill>
        <p:spPr>
          <a:xfrm>
            <a:off x="450720" y="433440"/>
            <a:ext cx="8699760" cy="1193760"/>
          </a:xfrm>
          <a:prstGeom prst="rect">
            <a:avLst/>
          </a:prstGeom>
          <a:ln w="0">
            <a:noFill/>
          </a:ln>
        </p:spPr>
      </p:pic>
      <p:sp>
        <p:nvSpPr>
          <p:cNvPr id="41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звитие мотивации и целеполагания; </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формирование умения решать задания разного уровня; </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звитие самоконтроля; </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формирование уверенности и положительной самооценки.</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Заголовок 1" descr=""/>
          <p:cNvPicPr/>
          <p:nvPr/>
        </p:nvPicPr>
        <p:blipFill>
          <a:blip r:embed="rId1"/>
          <a:stretch/>
        </p:blipFill>
        <p:spPr>
          <a:xfrm>
            <a:off x="195120" y="450720"/>
            <a:ext cx="8906040" cy="98748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енд, отражающий общую информацию, связанную с ГИА по русскому языку;</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ебно-методические пособия;</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ндивидуальные папки учащихся (теоретические сведения по темам  ОГЭ и ЕГЭ, алгоритмы решения  тестовых заданий, схемы, таблицы, опорные конспекты);</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зличные интернет-ресурсы.</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04560" y="2571840"/>
            <a:ext cx="4338360" cy="3752640"/>
          </a:xfrm>
          <a:prstGeom prst="rect">
            <a:avLst/>
          </a:prstGeom>
          <a:noFill/>
          <a:ln w="0">
            <a:noFill/>
          </a:ln>
        </p:spPr>
        <p:txBody>
          <a:bodyPr lIns="90000" rIns="90000" tIns="46800" bIns="46800" anchor="t">
            <a:normAutofit/>
          </a:bodyPr>
          <a:p>
            <a:pPr marL="343080" indent="342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ГЭ</a:t>
            </a:r>
            <a:endParaRPr b="0" lang="en-US" sz="2400" spc="-1" strike="noStrike">
              <a:solidFill>
                <a:srgbClr val="4e3b30"/>
              </a:solidFill>
              <a:latin typeface="Franklin Gothic Book"/>
            </a:endParaRPr>
          </a:p>
          <a:p>
            <a:pPr marL="343080" indent="342720">
              <a:lnSpc>
                <a:spcPct val="9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ткрытый банк заданий ОГЭ, особенно изложения</a:t>
            </a:r>
            <a:endParaRPr b="0" lang="en-US" sz="2800" spc="-1" strike="noStrike">
              <a:solidFill>
                <a:srgbClr val="4e3b30"/>
              </a:solidFill>
              <a:latin typeface="Franklin Gothic Book"/>
            </a:endParaRPr>
          </a:p>
        </p:txBody>
      </p:sp>
      <p:sp>
        <p:nvSpPr>
          <p:cNvPr id="420" name=""/>
          <p:cNvSpPr txBox="1"/>
          <p:nvPr/>
        </p:nvSpPr>
        <p:spPr>
          <a:xfrm>
            <a:off x="4066920" y="188640"/>
            <a:ext cx="4924440" cy="6135480"/>
          </a:xfrm>
          <a:prstGeom prst="rect">
            <a:avLst/>
          </a:prstGeom>
          <a:noFill/>
          <a:ln w="0">
            <a:noFill/>
          </a:ln>
        </p:spPr>
        <p:txBody>
          <a:bodyPr lIns="90000" rIns="90000" tIns="46800" bIns="46800" anchor="t">
            <a:normAutofit/>
          </a:bodyPr>
          <a:p>
            <a:pPr marL="343080" indent="34272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Book"/>
              </a:rPr>
              <a:t>Сайт «ФИПИ». </a:t>
            </a:r>
            <a:endParaRPr b="0" lang="en-US" sz="2800" spc="-1" strike="noStrike">
              <a:solidFill>
                <a:srgbClr val="4e3b30"/>
              </a:solidFill>
              <a:latin typeface="Franklin Gothic Book"/>
            </a:endParaRPr>
          </a:p>
          <a:p>
            <a:pPr marL="343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ЕГЭ</a:t>
            </a:r>
            <a:endParaRPr b="0" lang="en-US" sz="2800" spc="-1" strike="noStrike">
              <a:solidFill>
                <a:srgbClr val="4e3b30"/>
              </a:solidFill>
              <a:latin typeface="Franklin Gothic Book"/>
            </a:endParaRPr>
          </a:p>
          <a:p>
            <a:pPr marL="343080" indent="342720">
              <a:lnSpc>
                <a:spcPct val="9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вигатор самостоятельной подготовки к ЕГЭ</a:t>
            </a:r>
            <a:endParaRPr b="0" lang="en-US" sz="2800" spc="-1" strike="noStrike">
              <a:solidFill>
                <a:srgbClr val="4e3b30"/>
              </a:solidFill>
              <a:latin typeface="Franklin Gothic Book"/>
            </a:endParaRPr>
          </a:p>
          <a:p>
            <a:pPr marL="343080" indent="342720">
              <a:lnSpc>
                <a:spcPct val="9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идеоконсультации разработчиков КИМ ЕГЭ</a:t>
            </a:r>
            <a:endParaRPr b="0" lang="en-US" sz="2800" spc="-1" strike="noStrike">
              <a:solidFill>
                <a:srgbClr val="4e3b30"/>
              </a:solidFill>
              <a:latin typeface="Franklin Gothic Book"/>
            </a:endParaRPr>
          </a:p>
          <a:p>
            <a:pPr marL="343080" indent="342720">
              <a:lnSpc>
                <a:spcPct val="9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ткрытый банк заданий ЕГЭ</a:t>
            </a:r>
            <a:endParaRPr b="0" lang="en-US" sz="2800" spc="-1" strike="noStrike">
              <a:solidFill>
                <a:srgbClr val="4e3b30"/>
              </a:solidFill>
              <a:latin typeface="Franklin Gothic Book"/>
            </a:endParaRPr>
          </a:p>
        </p:txBody>
      </p:sp>
      <p:pic>
        <p:nvPicPr>
          <p:cNvPr id="421" name="Picture 2" descr="http://fipi-site.ru/wp-content/uploads/2018/04/oficialniy-site-fipi-2018-2.jpg"/>
          <p:cNvPicPr/>
          <p:nvPr/>
        </p:nvPicPr>
        <p:blipFill>
          <a:blip r:embed="rId1"/>
          <a:stretch/>
        </p:blipFill>
        <p:spPr>
          <a:xfrm>
            <a:off x="706320" y="281160"/>
            <a:ext cx="3232440" cy="231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Заголовок 1" descr=""/>
          <p:cNvPicPr/>
          <p:nvPr/>
        </p:nvPicPr>
        <p:blipFill>
          <a:blip r:embed="rId1"/>
          <a:stretch/>
        </p:blipFill>
        <p:spPr>
          <a:xfrm>
            <a:off x="298440" y="255600"/>
            <a:ext cx="8699400" cy="1523880"/>
          </a:xfrm>
          <a:prstGeom prst="rect">
            <a:avLst/>
          </a:prstGeom>
          <a:ln w="0">
            <a:noFill/>
          </a:ln>
        </p:spPr>
      </p:pic>
      <p:sp>
        <p:nvSpPr>
          <p:cNvPr id="423" name=""/>
          <p:cNvSpPr txBox="1"/>
          <p:nvPr/>
        </p:nvSpPr>
        <p:spPr>
          <a:xfrm>
            <a:off x="3786120" y="1599840"/>
            <a:ext cx="5205600" cy="47242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   </a:t>
            </a:r>
            <a:r>
              <a:rPr b="0" lang="ru-RU" sz="2800" spc="-1" strike="noStrike">
                <a:solidFill>
                  <a:srgbClr val="4e3b30"/>
                </a:solidFill>
                <a:latin typeface="Times New Roman"/>
                <a:ea typeface="Times New Roman"/>
              </a:rPr>
              <a:t>Учитель, зарегистрировавшись, создает класс, добавляет в него учащихся, сообщает учащимся их логины и пароли</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        </a:t>
            </a:r>
            <a:endParaRPr b="0" lang="en-US" sz="2800" spc="-1" strike="noStrike">
              <a:solidFill>
                <a:srgbClr val="4e3b30"/>
              </a:solidFill>
              <a:latin typeface="Franklin Gothic Book"/>
            </a:endParaRPr>
          </a:p>
        </p:txBody>
      </p:sp>
      <p:pic>
        <p:nvPicPr>
          <p:cNvPr id="424" name="Picture 2" descr="C:\Users\7272~1\AppData\Local\Temp\Rar$DIa0.015\Screenshot_20230502_235207_com.yandex.browser.jpg"/>
          <p:cNvPicPr/>
          <p:nvPr/>
        </p:nvPicPr>
        <p:blipFill>
          <a:blip r:embed="rId2"/>
          <a:stretch/>
        </p:blipFill>
        <p:spPr>
          <a:xfrm>
            <a:off x="285840" y="1600200"/>
            <a:ext cx="320508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Заголовок 1" descr=""/>
          <p:cNvPicPr/>
          <p:nvPr/>
        </p:nvPicPr>
        <p:blipFill>
          <a:blip r:embed="rId1"/>
          <a:stretch/>
        </p:blipFill>
        <p:spPr>
          <a:xfrm>
            <a:off x="298440" y="450720"/>
            <a:ext cx="8699400" cy="1158840"/>
          </a:xfrm>
          <a:prstGeom prst="rect">
            <a:avLst/>
          </a:prstGeom>
          <a:ln w="0">
            <a:noFill/>
          </a:ln>
        </p:spPr>
      </p:pic>
      <p:sp>
        <p:nvSpPr>
          <p:cNvPr id="426" name=""/>
          <p:cNvSpPr txBox="1"/>
          <p:nvPr/>
        </p:nvSpPr>
        <p:spPr>
          <a:xfrm>
            <a:off x="3857400" y="1599840"/>
            <a:ext cx="5133960" cy="4724280"/>
          </a:xfrm>
          <a:prstGeom prst="rect">
            <a:avLst/>
          </a:prstGeom>
          <a:noFill/>
          <a:ln w="0">
            <a:noFill/>
          </a:ln>
        </p:spPr>
        <p:txBody>
          <a:bodyPr lIns="90000" rIns="90000" tIns="46800" bIns="46800" anchor="t">
            <a:normAutofit/>
          </a:bodyPr>
          <a:p>
            <a:pPr marL="343080" indent="3427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4e3b30"/>
                </a:solidFill>
                <a:latin typeface="Franklin Gothic Book"/>
              </a:rPr>
              <a:t> </a:t>
            </a:r>
            <a:r>
              <a:rPr b="0" lang="ru-RU" sz="2000" spc="-1" strike="noStrike">
                <a:solidFill>
                  <a:srgbClr val="4e3b30"/>
                </a:solidFill>
                <a:latin typeface="Times New Roman"/>
                <a:ea typeface="Times New Roman"/>
              </a:rPr>
              <a:t>В процессе выполнения упражнения, учащиеся определяют, как правильно написать слово. Если ученик сомневается, он может посмотреть правило. Если учащийся допускает ошибку, он должен ввести текст правильно три раза для дальнейшей работы. Учитель в своем личном кабинете отслеживает результаты учащихся, их ошибки как в целом по классу, так и по каждому ученику</a:t>
            </a:r>
            <a:endParaRPr b="0" lang="en-US" sz="2000" spc="-1" strike="noStrike">
              <a:solidFill>
                <a:srgbClr val="4e3b30"/>
              </a:solidFill>
              <a:latin typeface="Franklin Gothic Book"/>
            </a:endParaRPr>
          </a:p>
          <a:p>
            <a:pPr marL="343080" indent="3427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Вводное упражнение  и итоговое составляют по  900 слов, после по 100 слов, чтобы упражнение было засчитано, но можно и больше выполнить. Каждые 7 дней учитель добавляет новое упражнение. </a:t>
            </a:r>
            <a:endParaRPr b="0" lang="en-US" sz="2000" spc="-1" strike="noStrike">
              <a:solidFill>
                <a:srgbClr val="4e3b30"/>
              </a:solidFill>
              <a:latin typeface="Franklin Gothic Book"/>
            </a:endParaRPr>
          </a:p>
        </p:txBody>
      </p:sp>
      <p:pic>
        <p:nvPicPr>
          <p:cNvPr id="427" name="Picture 2" descr="C:\Users\7272~1\AppData\Local\Temp\Rar$DIa0.832\Screenshot_20230502_235052_com.yandex.browser.jpg"/>
          <p:cNvPicPr/>
          <p:nvPr/>
        </p:nvPicPr>
        <p:blipFill>
          <a:blip r:embed="rId2"/>
          <a:stretch/>
        </p:blipFill>
        <p:spPr>
          <a:xfrm>
            <a:off x="500040" y="1600200"/>
            <a:ext cx="307188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Заголовок 1" descr=""/>
          <p:cNvPicPr/>
          <p:nvPr/>
        </p:nvPicPr>
        <p:blipFill>
          <a:blip r:embed="rId1"/>
          <a:stretch/>
        </p:blipFill>
        <p:spPr>
          <a:xfrm>
            <a:off x="298440" y="450720"/>
            <a:ext cx="8699400" cy="1152720"/>
          </a:xfrm>
          <a:prstGeom prst="rect">
            <a:avLst/>
          </a:prstGeom>
          <a:ln w="0">
            <a:noFill/>
          </a:ln>
        </p:spPr>
      </p:pic>
      <p:sp>
        <p:nvSpPr>
          <p:cNvPr id="429" name=""/>
          <p:cNvSpPr txBox="1"/>
          <p:nvPr/>
        </p:nvSpPr>
        <p:spPr>
          <a:xfrm>
            <a:off x="5000760" y="1599840"/>
            <a:ext cx="399096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Период работы с 12 октября по 16 мая.</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По итогам работы учащимся  и учителю выдаются грамоты.</a:t>
            </a:r>
            <a:endParaRPr b="0" lang="en-US" sz="2800" spc="-1" strike="noStrike">
              <a:solidFill>
                <a:srgbClr val="4e3b30"/>
              </a:solidFill>
              <a:latin typeface="Franklin Gothic Book"/>
            </a:endParaRPr>
          </a:p>
        </p:txBody>
      </p:sp>
      <p:pic>
        <p:nvPicPr>
          <p:cNvPr id="430" name="Picture 4" descr="E:\Материалы по аттестации\Грамоты\ОРФО. 19-20 год.jpg"/>
          <p:cNvPicPr/>
          <p:nvPr/>
        </p:nvPicPr>
        <p:blipFill>
          <a:blip r:embed="rId2"/>
          <a:stretch/>
        </p:blipFill>
        <p:spPr>
          <a:xfrm>
            <a:off x="714240" y="1285920"/>
            <a:ext cx="3571920" cy="535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Заголовок 1" descr=""/>
          <p:cNvPicPr/>
          <p:nvPr/>
        </p:nvPicPr>
        <p:blipFill>
          <a:blip r:embed="rId1"/>
          <a:stretch/>
        </p:blipFill>
        <p:spPr>
          <a:xfrm>
            <a:off x="298440" y="341280"/>
            <a:ext cx="8699400" cy="1311480"/>
          </a:xfrm>
          <a:prstGeom prst="rect">
            <a:avLst/>
          </a:prstGeom>
          <a:ln w="0">
            <a:noFill/>
          </a:ln>
        </p:spPr>
      </p:pic>
      <p:sp>
        <p:nvSpPr>
          <p:cNvPr id="432" name=""/>
          <p:cNvSpPr txBox="1"/>
          <p:nvPr/>
        </p:nvSpPr>
        <p:spPr>
          <a:xfrm>
            <a:off x="3857400" y="1599840"/>
            <a:ext cx="5133960" cy="4724280"/>
          </a:xfrm>
          <a:prstGeom prst="rect">
            <a:avLst/>
          </a:prstGeom>
          <a:noFill/>
          <a:ln w="0">
            <a:noFill/>
          </a:ln>
        </p:spPr>
        <p:txBody>
          <a:bodyPr lIns="90000" rIns="90000" tIns="46800" bIns="46800" anchor="t">
            <a:normAutofit/>
          </a:bodyPr>
          <a:p>
            <a:pPr marL="34308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В Skysmart собраны задания для учеников 1—11 классов по 15 предметам. Учитель создает личный кабинет, выбирает предмет, класс, формирует задание и направляет своим ученикам ссылку, по которой они начинают работу в этой тетради.</a:t>
            </a:r>
            <a:endParaRPr b="0" lang="en-US" sz="2800" spc="-1" strike="noStrike">
              <a:solidFill>
                <a:srgbClr val="4e3b30"/>
              </a:solidFill>
              <a:latin typeface="Franklin Gothic Book"/>
            </a:endParaRPr>
          </a:p>
        </p:txBody>
      </p:sp>
      <p:pic>
        <p:nvPicPr>
          <p:cNvPr id="433" name="Picture 2" descr="C:\Users\7272~1\AppData\Local\Temp\Rar$DIa0.382\Screenshot_20230502_234816_com.yandex.browser.jpg"/>
          <p:cNvPicPr/>
          <p:nvPr/>
        </p:nvPicPr>
        <p:blipFill>
          <a:blip r:embed="rId2"/>
          <a:stretch/>
        </p:blipFill>
        <p:spPr>
          <a:xfrm>
            <a:off x="500040" y="1600200"/>
            <a:ext cx="2990880" cy="49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
          <p:cNvSpPr txBox="1"/>
          <p:nvPr/>
        </p:nvSpPr>
        <p:spPr>
          <a:xfrm>
            <a:off x="3857400" y="1599840"/>
            <a:ext cx="5133960" cy="47242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    </a:t>
            </a:r>
            <a:r>
              <a:rPr b="0" lang="ru-RU" sz="2800" spc="-1" strike="noStrike">
                <a:solidFill>
                  <a:srgbClr val="4e3b30"/>
                </a:solidFill>
                <a:latin typeface="Times New Roman"/>
                <a:ea typeface="Times New Roman"/>
              </a:rPr>
              <a:t>Skysmart умеет создавать уникальные тестовые варианты контрольных заданий для подготовки к ВПР, ОГЭ и ЕГЭ.</a:t>
            </a:r>
            <a:endParaRPr b="0" lang="en-US" sz="2800" spc="-1" strike="noStrike">
              <a:solidFill>
                <a:srgbClr val="4e3b30"/>
              </a:solidFill>
              <a:latin typeface="Franklin Gothic Book"/>
            </a:endParaRPr>
          </a:p>
        </p:txBody>
      </p:sp>
      <p:pic>
        <p:nvPicPr>
          <p:cNvPr id="436" name="Picture 2" descr="C:\Users\7272~1\AppData\Local\Temp\Rar$DIa0.382\Screenshot_20230502_234816_com.yandex.browser.jpg"/>
          <p:cNvPicPr/>
          <p:nvPr/>
        </p:nvPicPr>
        <p:blipFill>
          <a:blip r:embed="rId1"/>
          <a:stretch/>
        </p:blipFill>
        <p:spPr>
          <a:xfrm>
            <a:off x="357120" y="1428840"/>
            <a:ext cx="3133800" cy="48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2T17:09:36Z</dcterms:created>
  <dc:creator>Светлана</dc:creator>
  <dc:description/>
  <dc:language>en-US</dc:language>
  <cp:lastModifiedBy>Админ</cp:lastModifiedBy>
  <dcterms:modified xsi:type="dcterms:W3CDTF">2023-05-08T16:47:53Z</dcterms:modified>
  <cp:revision>5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544942</vt:lpwstr>
  </property>
  <property fmtid="{D5CDD505-2E9C-101B-9397-08002B2CF9AE}" pid="3" name="NXPowerLiteSettings">
    <vt:lpwstr>F6000400038000</vt:lpwstr>
  </property>
  <property fmtid="{D5CDD505-2E9C-101B-9397-08002B2CF9AE}" pid="4" name="NXPowerLiteVersion">
    <vt:lpwstr>D4.3.1</vt:lpwstr>
  </property>
</Properties>
</file>