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C46-20C2-4214-9397-0ED3BFCFB6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FEB-33C7-42E8-B60C-627DA82509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4956-BFA7-47BD-9D65-936B6A25A8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7BF-E9B1-4314-B266-76C67D27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9E7-8FAC-4B23-AB49-578A8C5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FD0-C4B5-4231-9991-60CCE83F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F81-D4B5-42FF-9520-ECA4BE97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12E-7B9A-40FD-81F1-D0DBAAC2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F47-EDD0-4483-A033-8953D1E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0C-1EEB-4A88-B5B5-D12B326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AAB-5086-4B5A-88AD-6CC6E5ED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513-58A2-487D-A7A2-70BB5F4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53D-0659-4895-A258-803647E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58-783F-4C44-9513-149A4DE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30A-98B5-4506-B6AD-6C9347C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E200-22CC-4CCA-8E26-659E7677C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9011" t="18113" r="54537" b="67083"/>
          <a:stretch/>
        </p:blipFill>
        <p:spPr>
          <a:xfrm>
            <a:off x="395280" y="2095560"/>
            <a:ext cx="8137440" cy="4502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6227640" y="544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51716" t="18113" r="12797" b="67083"/>
          <a:stretch/>
        </p:blipFill>
        <p:spPr>
          <a:xfrm>
            <a:off x="353880" y="1946160"/>
            <a:ext cx="8436240" cy="479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339960" y="544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1T14:27:26Z</dcterms:created>
  <dc:creator>User</dc:creator>
  <dc:description/>
  <dc:language>en-US</dc:language>
  <cp:lastModifiedBy>Admin</cp:lastModifiedBy>
  <dcterms:modified xsi:type="dcterms:W3CDTF">2023-05-09T06:35:05Z</dcterms:modified>
  <cp:revision>8</cp:revision>
  <dc:subject/>
  <dc:title>Слайд 1</dc:title>
</cp:coreProperties>
</file>