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AD529-5E6A-4F56-B322-C63710897AF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9FDF9-7BDF-417D-9A7B-428D95C0E69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12B88-5151-4943-88F1-848754F9740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3078-F827-47AD-8AA6-70D039944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0326-F23F-4C89-841C-3E86F359D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6280-1B6A-494F-BFE5-32A2D77EB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68CA-28F3-4BA9-BAD5-7E65F4440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F344-7C3D-42C5-A0E1-80CEACA9B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A847-6150-4F2D-89EB-27F2B1BEF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9B83-0ABE-443A-AFA5-5E157D707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7C71-B400-42CD-B00D-17D8D8DEA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5775-A864-4C96-9FD7-B7F19CE01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43AD-5648-4D69-9B3B-0A82CC8E5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3003-618A-4F38-ACB5-4A7BD68CC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2FA2-03F2-420B-BC7B-90D9C43AC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15A40-67D9-4F72-A680-AE2F243DF59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rcRect l="9011" t="18113" r="54537" b="67083"/>
          <a:stretch/>
        </p:blipFill>
        <p:spPr>
          <a:xfrm>
            <a:off x="395280" y="2095560"/>
            <a:ext cx="8137440" cy="4502160"/>
          </a:xfrm>
          <a:prstGeom prst="rect">
            <a:avLst/>
          </a:prstGeom>
          <a:ln w="0">
            <a:noFill/>
          </a:ln>
        </p:spPr>
      </p:pic>
      <p:sp>
        <p:nvSpPr>
          <p:cNvPr id="49" name="TextBox 1"/>
          <p:cNvSpPr/>
          <p:nvPr/>
        </p:nvSpPr>
        <p:spPr>
          <a:xfrm>
            <a:off x="6227640" y="5445000"/>
            <a:ext cx="57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Calibri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rcRect l="51716" t="18113" r="12797" b="67083"/>
          <a:stretch/>
        </p:blipFill>
        <p:spPr>
          <a:xfrm>
            <a:off x="353880" y="1946160"/>
            <a:ext cx="8436240" cy="4795920"/>
          </a:xfrm>
          <a:prstGeom prst="rect">
            <a:avLst/>
          </a:prstGeom>
          <a:ln w="0">
            <a:noFill/>
          </a:ln>
        </p:spPr>
      </p:pic>
      <p:sp>
        <p:nvSpPr>
          <p:cNvPr id="51" name="TextBox 2"/>
          <p:cNvSpPr/>
          <p:nvPr/>
        </p:nvSpPr>
        <p:spPr>
          <a:xfrm>
            <a:off x="6339960" y="5445000"/>
            <a:ext cx="566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Calibri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4-11T14:27:26Z</dcterms:created>
  <dc:creator>User</dc:creator>
  <dc:description/>
  <dc:language>en-US</dc:language>
  <cp:lastModifiedBy>Admin</cp:lastModifiedBy>
  <dcterms:modified xsi:type="dcterms:W3CDTF">2023-05-09T06:35:05Z</dcterms:modified>
  <cp:revision>8</cp:revision>
  <dc:subject/>
  <dc:title>Слайд 1</dc:title>
</cp:coreProperties>
</file>