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8271-F9D0-4A89-AD11-CC853DE0F5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ется планета ,на которой мы живем ? Так она выглядит в космосе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91B2-47A7-49AB-B048-D087B84CC0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мы попали?    Что за годр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A1A7-454F-4DB6-94AA-EC88719540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4B1-F03E-48FC-9116-77C5EA16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AF1D-7A37-4AE0-8791-47CB8160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567-97DB-4D93-9657-8BD3E6BB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BFFF-74E3-4170-84D4-2C9CA952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A9A5-8D19-40CD-99A9-06BBEC45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37F2-C6D8-46C6-99D4-AA679E9A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32AB-0F42-496A-9AF6-7485CC0E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16B0-13AB-49C2-8CB3-77C18360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64C5-BD11-4B80-83E9-A75FADA4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57A0-95E9-4996-B4AD-3542B8E7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224B-47EB-491D-82A6-CE7DD6E6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AAA9-D1A9-4048-A36C-31EACC4E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9E3A-AE5E-47C7-91A1-6F7EA066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8B01-210F-455D-8E74-BA94A086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B318-0543-478C-8229-2F7C0527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BE41-4956-4918-8C3A-710558C2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71FC-F50B-4C31-86F2-1A32FA3C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CF1CE-0D3A-4ED0-A313-9EDFFC40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1327-F262-48D8-AF25-7168CDE4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070D5-941F-4E81-B161-CDA099E5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A548A-9051-43D5-9F69-A580E6AF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5EEB1-6C5B-4526-9EE1-799CB184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71D-88B8-4133-8327-7FCB65AB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F6945-440F-429A-91BA-D574AF9C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4C30A-C342-44A7-B3D4-EF29A145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1DB85-7539-4F02-8F6A-739CA420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6A59-149D-41B8-B45A-22A59D45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6DC3-67FC-44CB-9010-EBC2AC47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C12CC-95DC-4B7B-9A68-3394D606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38AD3-846D-4DB8-B85F-417ABB9C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EF7E0-5F8B-4137-AF58-908DFD68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E02DA-5B0A-450D-902D-1E89A71E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36C72-E213-4171-8CA4-CFDAE604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FB1-1E60-4765-83FA-4E86F344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B1DBC-C9F6-4B86-BA9D-777F1E73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DE16F-7DDC-4294-8262-AABC2A97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3019E-E4FB-4EA5-8AF2-1C01684D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7234-0F56-4959-A6B6-6B5DC4E9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909B7-4F08-4ABC-B6F1-AEC435FE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A6F23-D328-43D2-9187-F6F45EE9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0ECA4-FF92-4412-A7A4-EFBC7A62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77605-C661-47B0-ADAE-FE7BCD4C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59D71-8D60-49FE-B07D-7F9E7D19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C37-6772-4981-9B7D-35B56AF6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4A1-1D31-47C3-84B1-482B8970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4144-8E22-443C-9C2D-4392F7FD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2CC-3FA3-4C26-8A83-535CA694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755-BF4D-42CB-BC8C-54892F52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3CB7-98F9-4E91-99F1-48AB739AB45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828B-E83B-4ECF-B6FE-6B12DA36942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30DB-E517-40D8-A8E9-C3F8CB7A1B6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5C61-2EB8-4C5A-B895-7C103E9E32F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564000" y="4365360"/>
            <a:ext cx="533088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Составила: Гамидова Айнура Кафлан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Детский сад №60 Фрунзенского райо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1362240" y="1700280"/>
            <a:ext cx="719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Georgia"/>
              </a:rPr>
              <a:t>«Дом и город в котором я жив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2556000" y="609300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071440" y="0"/>
            <a:ext cx="550044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Georgia"/>
              </a:rPr>
              <a:t>КРАНОВЩИК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1170000" y="765000"/>
            <a:ext cx="537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Управляет подъёмным кр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днимает, перемещает и укладывает гру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https://media.istockphoto.com/vectors/construction-crane-vector-illustration-vector-id515071668?s=170667a"/>
          <p:cNvPicPr/>
          <p:nvPr/>
        </p:nvPicPr>
        <p:blipFill>
          <a:blip r:embed="rId1"/>
          <a:stretch/>
        </p:blipFill>
        <p:spPr>
          <a:xfrm>
            <a:off x="5219640" y="1687680"/>
            <a:ext cx="3562560" cy="4410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https://privatka.ua/images/admin/ads/42338/d41d8cd98f00b204e9800998ecf8427e.jpg"/>
          <p:cNvPicPr/>
          <p:nvPr/>
        </p:nvPicPr>
        <p:blipFill>
          <a:blip r:embed="rId2"/>
          <a:stretch/>
        </p:blipFill>
        <p:spPr>
          <a:xfrm>
            <a:off x="179280" y="1687680"/>
            <a:ext cx="4464000" cy="44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11280" y="82080"/>
            <a:ext cx="367344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Georgia"/>
              </a:rPr>
              <a:t>КАМЕНЩИК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00040" y="71424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ыкладывает стены домов из кирпича и железобетонных п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https://all-atop.com/user/present/032826/UcnhUd.jpg"/>
          <p:cNvPicPr/>
          <p:nvPr/>
        </p:nvPicPr>
        <p:blipFill>
          <a:blip r:embed="rId1"/>
          <a:stretch/>
        </p:blipFill>
        <p:spPr>
          <a:xfrm>
            <a:off x="819000" y="1268280"/>
            <a:ext cx="7363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20680" y="115920"/>
            <a:ext cx="550044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Georgia"/>
              </a:rPr>
              <a:t>СТОЛЯР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1878120" y="69228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Изготавливает из дерева двери, окна, полы, плинтуса, налич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http://svbor.ru/files/2/5/289xellxwrtlqkis2d6a4i46j.jpg"/>
          <p:cNvPicPr/>
          <p:nvPr/>
        </p:nvPicPr>
        <p:blipFill>
          <a:blip r:embed="rId1"/>
          <a:stretch/>
        </p:blipFill>
        <p:spPr>
          <a:xfrm>
            <a:off x="939960" y="1484280"/>
            <a:ext cx="75196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23640" y="310680"/>
            <a:ext cx="3003480" cy="5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Georgia"/>
              </a:rPr>
              <a:t>МАЛЯР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1979640" y="77004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крашивает стены, окна, дв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клеивает стены и потолки обо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https://brigadir.com.ua/wp-content/uploads/2017/04/servise-image-5-900x675.jpg"/>
          <p:cNvPicPr/>
          <p:nvPr/>
        </p:nvPicPr>
        <p:blipFill>
          <a:blip r:embed="rId1"/>
          <a:stretch/>
        </p:blipFill>
        <p:spPr>
          <a:xfrm>
            <a:off x="900000" y="1592280"/>
            <a:ext cx="704844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550080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Georgia"/>
              </a:rPr>
              <a:t>ЭЛЕКТРИК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611280" y="67320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Устанавливает электрическую проводку, розетки, выключ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https://www.electricaltimes.co.uk/wp-content/uploads/2017/12/shutterstock_231577312.jpg"/>
          <p:cNvPicPr/>
          <p:nvPr/>
        </p:nvPicPr>
        <p:blipFill>
          <a:blip r:embed="rId1"/>
          <a:stretch/>
        </p:blipFill>
        <p:spPr>
          <a:xfrm>
            <a:off x="611280" y="1192320"/>
            <a:ext cx="82105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wallspaper.ru/uploads/gallery/main/13/312395407.jpg"/>
          <p:cNvPicPr/>
          <p:nvPr/>
        </p:nvPicPr>
        <p:blipFill>
          <a:blip r:embed="rId1"/>
          <a:stretch/>
        </p:blipFill>
        <p:spPr>
          <a:xfrm>
            <a:off x="476280" y="152280"/>
            <a:ext cx="8191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s://yandex.ru/collections/picture/cards/5964993b0c1ed24812015f7f/"/>
          <p:cNvPicPr/>
          <p:nvPr/>
        </p:nvPicPr>
        <p:blipFill>
          <a:blip r:embed="rId1"/>
          <a:stretch/>
        </p:blipFill>
        <p:spPr>
          <a:xfrm>
            <a:off x="468360" y="476280"/>
            <a:ext cx="8372520" cy="5689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://xn----itbakdewdc2aggj5k.xn--p1ai/wp-content/uploads/2016/05/524.jpg"/>
          <p:cNvPicPr/>
          <p:nvPr/>
        </p:nvPicPr>
        <p:blipFill>
          <a:blip r:embed="rId2"/>
          <a:stretch/>
        </p:blipFill>
        <p:spPr>
          <a:xfrm>
            <a:off x="92160" y="520560"/>
            <a:ext cx="8959680" cy="583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http://caomos.news/upload/resize_cache/iblock/84d/300_0_1/84d08432c5970993753e397024cac137.jpg"/>
          <p:cNvPicPr/>
          <p:nvPr/>
        </p:nvPicPr>
        <p:blipFill>
          <a:blip r:embed="rId3"/>
          <a:stretch/>
        </p:blipFill>
        <p:spPr>
          <a:xfrm>
            <a:off x="46080" y="217440"/>
            <a:ext cx="9051840" cy="64389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" descr=""/>
          <p:cNvPicPr/>
          <p:nvPr/>
        </p:nvPicPr>
        <p:blipFill>
          <a:blip r:embed="rId4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7280" y="4437000"/>
            <a:ext cx="856944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4000" spc="-1" strike="noStrike">
                <a:solidFill>
                  <a:srgbClr val="990033"/>
                </a:solidFill>
                <a:latin typeface="Georgia"/>
              </a:rPr>
              <a:t>Здесь сапожки мы снимаем.</a:t>
            </a:r>
            <a:br>
              <a:rPr sz="4000"/>
            </a:br>
            <a:r>
              <a:rPr b="1" lang="ru-RU" sz="4000" spc="-1" strike="noStrike">
                <a:solidFill>
                  <a:srgbClr val="990033"/>
                </a:solidFill>
                <a:latin typeface="Georgia"/>
              </a:rPr>
              <a:t>И гостей всегда встречаем.</a:t>
            </a:r>
            <a:br>
              <a:rPr sz="4000"/>
            </a:br>
            <a:r>
              <a:rPr b="1" lang="ru-RU" sz="4000" spc="-1" strike="noStrike">
                <a:solidFill>
                  <a:srgbClr val="990033"/>
                </a:solidFill>
                <a:latin typeface="Georgia"/>
              </a:rPr>
              <a:t>У всех чуть-чуть похожая</a:t>
            </a:r>
            <a:br>
              <a:rPr sz="4000"/>
            </a:br>
            <a:r>
              <a:rPr b="1" lang="ru-RU" sz="4000" spc="-1" strike="noStrike">
                <a:solidFill>
                  <a:srgbClr val="990033"/>
                </a:solidFill>
                <a:latin typeface="Georgia"/>
              </a:rPr>
              <a:t>нас вводит в дом…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6" descr="http://remoo.ru/wp-content/uploads/2016/04/dizajn-prihozhej-v-chastnom-dome-foto-34.jpg"/>
          <p:cNvPicPr/>
          <p:nvPr/>
        </p:nvPicPr>
        <p:blipFill>
          <a:blip r:embed="rId1"/>
          <a:stretch/>
        </p:blipFill>
        <p:spPr>
          <a:xfrm>
            <a:off x="611280" y="260280"/>
            <a:ext cx="79930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8920" y="4221000"/>
            <a:ext cx="87138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033"/>
                </a:solidFill>
                <a:latin typeface="Georgia"/>
                <a:ea typeface="Arial"/>
              </a:rPr>
              <a:t>В этой комнате на полке куклы, зайчики и волки.</a:t>
            </a:r>
            <a:br>
              <a:rPr sz="2500"/>
            </a:br>
            <a:r>
              <a:rPr b="1" lang="ru-RU" sz="2500" spc="-1" strike="noStrike">
                <a:solidFill>
                  <a:srgbClr val="990033"/>
                </a:solidFill>
                <a:latin typeface="Georgia"/>
                <a:ea typeface="Arial"/>
              </a:rPr>
              <a:t>Мчится поезд по ковру, малышей зовет в игру.</a:t>
            </a:r>
            <a:br>
              <a:rPr sz="2500"/>
            </a:br>
            <a:r>
              <a:rPr b="1" lang="ru-RU" sz="2500" spc="-1" strike="noStrike">
                <a:solidFill>
                  <a:srgbClr val="990033"/>
                </a:solidFill>
                <a:latin typeface="Georgia"/>
                <a:ea typeface="Arial"/>
              </a:rPr>
              <a:t>Дочки, сыновья и внуки</a:t>
            </a:r>
            <a:br>
              <a:rPr sz="2500"/>
            </a:br>
            <a:r>
              <a:rPr b="1" lang="ru-RU" sz="2500" spc="-1" strike="noStrike">
                <a:solidFill>
                  <a:srgbClr val="990033"/>
                </a:solidFill>
                <a:latin typeface="Georgia"/>
                <a:ea typeface="Arial"/>
              </a:rPr>
              <a:t>тут совсем не знают скуки.</a:t>
            </a:r>
            <a:endParaRPr b="1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7" descr="http://milyidom.com/02_2013/92118856_large_74316201_large_3476-bV4ur.jpg"/>
          <p:cNvPicPr/>
          <p:nvPr/>
        </p:nvPicPr>
        <p:blipFill>
          <a:blip r:embed="rId1"/>
          <a:stretch/>
        </p:blipFill>
        <p:spPr>
          <a:xfrm>
            <a:off x="119160" y="476280"/>
            <a:ext cx="89056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99640" y="3443400"/>
            <a:ext cx="777564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033"/>
                </a:solidFill>
                <a:latin typeface="Georgia"/>
              </a:rPr>
              <a:t>В этой комнате бывает чаще мама наша,</a:t>
            </a:r>
            <a:br>
              <a:rPr sz="2500"/>
            </a:br>
            <a:r>
              <a:rPr b="1" lang="ru-RU" sz="2500" spc="-1" strike="noStrike">
                <a:solidFill>
                  <a:srgbClr val="990033"/>
                </a:solidFill>
                <a:latin typeface="Georgia"/>
              </a:rPr>
              <a:t>иногда здесь убегает из кастрюли каша.</a:t>
            </a:r>
            <a:endParaRPr b="1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7" descr="http://svoimy-rukami.ru/wp-content/uploads/2017/03/%D0%94%D0%B8%D0%B7%D0%B0%D0%B9%D0%BD-%D0%BA%D1%83%D1%85%D0%BD%D0%B8-%D1%81-%D1%85%D0%BE%D0%BB%D0%BE%D0%B4%D0%B8%D0%BB%D1%8C%D0%BD%D0%B8%D0%BA%D0%BE%D0%BC-%D1%84%D0%BE%D1%82%D0%BE-3.jpg"/>
          <p:cNvPicPr/>
          <p:nvPr/>
        </p:nvPicPr>
        <p:blipFill>
          <a:blip r:embed="rId1"/>
          <a:stretch/>
        </p:blipFill>
        <p:spPr>
          <a:xfrm>
            <a:off x="130320" y="598320"/>
            <a:ext cx="8883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7770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033"/>
                </a:solidFill>
                <a:latin typeface="Georgia"/>
              </a:rPr>
              <a:t>Чистим зубы, моем руки</a:t>
            </a:r>
            <a:br>
              <a:rPr sz="2500"/>
            </a:br>
            <a:r>
              <a:rPr b="1" lang="ru-RU" sz="2500" spc="-1" strike="noStrike">
                <a:solidFill>
                  <a:srgbClr val="990033"/>
                </a:solidFill>
                <a:latin typeface="Georgia"/>
              </a:rPr>
              <a:t>каждый день мы там без скуки.</a:t>
            </a:r>
            <a:endParaRPr b="1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6" descr="https://1000remontov.ru/wp-content/uploads/2018/04/Bathroom_dreams_090967_.jpg"/>
          <p:cNvPicPr/>
          <p:nvPr/>
        </p:nvPicPr>
        <p:blipFill>
          <a:blip r:embed="rId1"/>
          <a:stretch/>
        </p:blipFill>
        <p:spPr>
          <a:xfrm>
            <a:off x="1006560" y="690480"/>
            <a:ext cx="74340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61722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Профессии людей, </a:t>
            </a: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которые строят дом…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1547640" y="2774880"/>
            <a:ext cx="650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6002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Georgia"/>
                <a:ea typeface="Arial"/>
              </a:rPr>
              <a:t> </a:t>
            </a:r>
            <a:r>
              <a:rPr b="0" lang="ru-RU" sz="4000" spc="-1" strike="noStrike">
                <a:solidFill>
                  <a:srgbClr val="990033"/>
                </a:solidFill>
                <a:latin typeface="Georgia"/>
                <a:ea typeface="Arial"/>
              </a:rPr>
              <a:t>Кто же построил для нас такие разные до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28880" y="-360"/>
            <a:ext cx="550080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Georgia"/>
              </a:rPr>
              <a:t>АРХИТЕКТОР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606600" y="75888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GungsuhChe"/>
              </a:rPr>
              <a:t>Задумывает и разрабатывает проект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https://im0-tub-ru.yandex.net/i?id=ead6be34e9ff1cd5a614f6a81b41cf8f-l&amp;n=13"/>
          <p:cNvPicPr/>
          <p:nvPr/>
        </p:nvPicPr>
        <p:blipFill>
          <a:blip r:embed="rId1"/>
          <a:stretch/>
        </p:blipFill>
        <p:spPr>
          <a:xfrm>
            <a:off x="436680" y="1127160"/>
            <a:ext cx="842472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1T11:09:40Z</dcterms:created>
  <dc:creator>Альбина</dc:creator>
  <dc:description/>
  <dc:language>en-US</dc:language>
  <cp:lastModifiedBy>Пользователь</cp:lastModifiedBy>
  <dcterms:modified xsi:type="dcterms:W3CDTF">2023-05-09T19:27:16Z</dcterms:modified>
  <cp:revision>126</cp:revision>
  <dc:subject/>
  <dc:title>Слайд 1</dc:title>
</cp:coreProperties>
</file>