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1D1A-0004-47B2-9FB4-32360DA6C6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называется планета ,на которой мы живем ? Так она выглядит в космосе.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3BC9-33C7-483A-BE08-4D62A458CF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да мы попали?    Что за годрод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3722-5C28-44C4-A12C-5E36BC4A52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CD7E-0852-4332-8195-E41418E60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1E2C-5FBE-400C-8E65-57DECE55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D154-AA16-4A30-BFF1-E756191BC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DCDF-9550-4D0A-90FA-0FF460300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BA6B-5CD0-4244-A889-857B7EE2A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5D9F-3357-4E09-9C17-CF963DD9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FA8A-BA14-4789-BC07-B5DD07D0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7638-3270-41E5-B1B5-FC545768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57C8-DC21-47D0-9935-FF1E0E97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D5ED-C241-4ED8-9C92-D4A4C44F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EFE9-FE50-447A-80FE-38810C2C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07A4-5223-4DA7-ACDB-9631CB82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59CF-5151-4E9E-A2E6-669EAA19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89A6-A58C-4C2A-8ADD-E4ADA4F9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1CAE-74F8-4615-9551-647C12D9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8A81-CF45-4A1E-AAF9-E9A69D2B5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0B72-77C4-44B7-87AC-7A3710828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CCDCE-57C8-4005-ACCA-CDCC01ABA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752B9-F8A7-4C04-AEF6-D9A7DC2F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BDBB2-F769-4261-8EDB-8FA093EF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3783F-9E6F-4B70-A0C3-48804AEA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32DD0-B6D6-4214-BDCD-699F7301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8842-2981-4D65-BD79-00454AEF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C141F-95A3-4682-BEB3-6D41F5B8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663A1-2CE6-447B-A559-E3114ABF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7BD56-26C2-45BC-9C73-C3E502EA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92985-6A47-4300-B662-91E79720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B8A16-BDE0-46B9-94BA-8B891641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EC884-B419-4F0C-95C4-D86DD433C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0DFFB-439E-4320-AEE1-24A821E40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CBB27-FBEC-4ED1-8F8E-34E85E99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6EBCD-C026-4CFC-B6CF-A2F35109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2F735-2C94-4373-8D42-C9CBABA0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3963-4DFC-46D6-B4B8-5E8E06B5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A00CC-A312-4A6F-B2D2-485CF886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5F8C0-52A9-4F53-93F0-F07BF617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66258-E56F-4DFD-89AA-A6C40743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9B93B-FB93-4F66-A96C-A941E66D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E0379-D3CB-4E35-A7C2-87AA8A90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B033C-0819-4EC9-AB13-67664F41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CAB56-9398-4D5F-8A8D-88E4D287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546D2-88A5-4E63-8370-450E9E18A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13584-9236-427C-9ACB-5B99F728E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EFC5-D80D-4BD2-8413-632C47DA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7781-FF90-4AA4-8F5F-77F9A10A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7849-20E4-4362-95CE-CFFE5FDC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770A-5DC0-4A43-B855-ED73C139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1F60-9172-4EA5-9A60-A69D7AF5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73A3-203D-4B81-9B3E-0FAFBA0D121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90C8-D72C-4291-B3B8-6DC92C42763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BA8B-8FE3-4A55-B418-E062E5E59CC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3B28-B0A7-4428-A011-B4DC40A037F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564000" y="4365360"/>
            <a:ext cx="5330880" cy="8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Составила: Гамидова Айнура Кафлан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Детский сад №60 Фрунзенского райо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Прямоугольник 2"/>
          <p:cNvSpPr/>
          <p:nvPr/>
        </p:nvSpPr>
        <p:spPr>
          <a:xfrm>
            <a:off x="1362240" y="1700280"/>
            <a:ext cx="719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33"/>
                </a:solidFill>
                <a:latin typeface="Georgia"/>
              </a:rPr>
              <a:t>«Дом и город в котором я живу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2"/>
          <p:cNvSpPr/>
          <p:nvPr/>
        </p:nvSpPr>
        <p:spPr>
          <a:xfrm>
            <a:off x="2556000" y="6093000"/>
            <a:ext cx="48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г. 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071440" y="0"/>
            <a:ext cx="550044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28600" indent="-22860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Georgia"/>
              </a:rPr>
              <a:t>КРАНОВЩИК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TextBox 4"/>
          <p:cNvSpPr/>
          <p:nvPr/>
        </p:nvSpPr>
        <p:spPr>
          <a:xfrm>
            <a:off x="1170000" y="765000"/>
            <a:ext cx="537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Управляет подъёмным кра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Поднимает, перемещает и укладывает гру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7" descr="https://media.istockphoto.com/vectors/construction-crane-vector-illustration-vector-id515071668?s=170667a"/>
          <p:cNvPicPr/>
          <p:nvPr/>
        </p:nvPicPr>
        <p:blipFill>
          <a:blip r:embed="rId1"/>
          <a:stretch/>
        </p:blipFill>
        <p:spPr>
          <a:xfrm>
            <a:off x="5219640" y="1687680"/>
            <a:ext cx="3562560" cy="4410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9" descr="https://privatka.ua/images/admin/ads/42338/d41d8cd98f00b204e9800998ecf8427e.jpg"/>
          <p:cNvPicPr/>
          <p:nvPr/>
        </p:nvPicPr>
        <p:blipFill>
          <a:blip r:embed="rId2"/>
          <a:stretch/>
        </p:blipFill>
        <p:spPr>
          <a:xfrm>
            <a:off x="179280" y="1687680"/>
            <a:ext cx="4464000" cy="44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411280" y="82080"/>
            <a:ext cx="3673440" cy="5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28600" indent="-22860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Georgia"/>
              </a:rPr>
              <a:t>КАМЕНЩИК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500040" y="71424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Выкладывает стены домов из кирпича и железобетонных пл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7" descr="https://all-atop.com/user/present/032826/UcnhUd.jpg"/>
          <p:cNvPicPr/>
          <p:nvPr/>
        </p:nvPicPr>
        <p:blipFill>
          <a:blip r:embed="rId1"/>
          <a:stretch/>
        </p:blipFill>
        <p:spPr>
          <a:xfrm>
            <a:off x="819000" y="1268280"/>
            <a:ext cx="7363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020680" y="115920"/>
            <a:ext cx="550044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28600" indent="-22860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Georgia"/>
              </a:rPr>
              <a:t>СТОЛЯР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TextBox 5"/>
          <p:cNvSpPr/>
          <p:nvPr/>
        </p:nvSpPr>
        <p:spPr>
          <a:xfrm>
            <a:off x="1878120" y="692280"/>
            <a:ext cx="564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Изготавливает из дерева двери, окна, полы, плинтуса, налич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7" descr="http://svbor.ru/files/2/5/289xellxwrtlqkis2d6a4i46j.jpg"/>
          <p:cNvPicPr/>
          <p:nvPr/>
        </p:nvPicPr>
        <p:blipFill>
          <a:blip r:embed="rId1"/>
          <a:stretch/>
        </p:blipFill>
        <p:spPr>
          <a:xfrm>
            <a:off x="939960" y="1484280"/>
            <a:ext cx="7519680" cy="49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23640" y="310680"/>
            <a:ext cx="3003480" cy="5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28600" indent="-22860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Georgia"/>
              </a:rPr>
              <a:t>МАЛЯР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TextBox 5"/>
          <p:cNvSpPr/>
          <p:nvPr/>
        </p:nvSpPr>
        <p:spPr>
          <a:xfrm>
            <a:off x="1979640" y="77004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Окрашивает стены, окна, две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Оклеивает стены и потолки обо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7" descr="https://brigadir.com.ua/wp-content/uploads/2017/04/servise-image-5-900x675.jpg"/>
          <p:cNvPicPr/>
          <p:nvPr/>
        </p:nvPicPr>
        <p:blipFill>
          <a:blip r:embed="rId1"/>
          <a:stretch/>
        </p:blipFill>
        <p:spPr>
          <a:xfrm>
            <a:off x="900000" y="1592280"/>
            <a:ext cx="704844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050920" y="-360"/>
            <a:ext cx="5500800" cy="66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28600" indent="-22860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Georgia"/>
              </a:rPr>
              <a:t>ЭЛЕКТРИК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TextBox 7"/>
          <p:cNvSpPr/>
          <p:nvPr/>
        </p:nvSpPr>
        <p:spPr>
          <a:xfrm>
            <a:off x="611280" y="67320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Устанавливает электрическую проводку, розетки, выключа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7" descr="https://www.electricaltimes.co.uk/wp-content/uploads/2017/12/shutterstock_231577312.jpg"/>
          <p:cNvPicPr/>
          <p:nvPr/>
        </p:nvPicPr>
        <p:blipFill>
          <a:blip r:embed="rId1"/>
          <a:stretch/>
        </p:blipFill>
        <p:spPr>
          <a:xfrm>
            <a:off x="611280" y="1192320"/>
            <a:ext cx="821052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http://wallspaper.ru/uploads/gallery/main/13/312395407.jpg"/>
          <p:cNvPicPr/>
          <p:nvPr/>
        </p:nvPicPr>
        <p:blipFill>
          <a:blip r:embed="rId1"/>
          <a:stretch/>
        </p:blipFill>
        <p:spPr>
          <a:xfrm>
            <a:off x="476280" y="152280"/>
            <a:ext cx="81914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https://yandex.ru/collections/picture/cards/5964993b0c1ed24812015f7f/"/>
          <p:cNvPicPr/>
          <p:nvPr/>
        </p:nvPicPr>
        <p:blipFill>
          <a:blip r:embed="rId1"/>
          <a:stretch/>
        </p:blipFill>
        <p:spPr>
          <a:xfrm>
            <a:off x="468360" y="476280"/>
            <a:ext cx="8372520" cy="5689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http://xn----itbakdewdc2aggj5k.xn--p1ai/wp-content/uploads/2016/05/524.jpg"/>
          <p:cNvPicPr/>
          <p:nvPr/>
        </p:nvPicPr>
        <p:blipFill>
          <a:blip r:embed="rId2"/>
          <a:stretch/>
        </p:blipFill>
        <p:spPr>
          <a:xfrm>
            <a:off x="92160" y="520560"/>
            <a:ext cx="8959680" cy="5832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http://caomos.news/upload/resize_cache/iblock/84d/300_0_1/84d08432c5970993753e397024cac137.jpg"/>
          <p:cNvPicPr/>
          <p:nvPr/>
        </p:nvPicPr>
        <p:blipFill>
          <a:blip r:embed="rId3"/>
          <a:stretch/>
        </p:blipFill>
        <p:spPr>
          <a:xfrm>
            <a:off x="46080" y="217440"/>
            <a:ext cx="9051840" cy="643896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1" descr=""/>
          <p:cNvPicPr/>
          <p:nvPr/>
        </p:nvPicPr>
        <p:blipFill>
          <a:blip r:embed="rId4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87280" y="4437000"/>
            <a:ext cx="856944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4000" spc="-1" strike="noStrike">
                <a:solidFill>
                  <a:srgbClr val="990033"/>
                </a:solidFill>
                <a:latin typeface="Georgia"/>
              </a:rPr>
              <a:t>Здесь сапожки мы снимаем.</a:t>
            </a:r>
            <a:br>
              <a:rPr sz="4000"/>
            </a:br>
            <a:r>
              <a:rPr b="1" lang="ru-RU" sz="4000" spc="-1" strike="noStrike">
                <a:solidFill>
                  <a:srgbClr val="990033"/>
                </a:solidFill>
                <a:latin typeface="Georgia"/>
              </a:rPr>
              <a:t>И гостей всегда встречаем.</a:t>
            </a:r>
            <a:br>
              <a:rPr sz="4000"/>
            </a:br>
            <a:r>
              <a:rPr b="1" lang="ru-RU" sz="4000" spc="-1" strike="noStrike">
                <a:solidFill>
                  <a:srgbClr val="990033"/>
                </a:solidFill>
                <a:latin typeface="Georgia"/>
              </a:rPr>
              <a:t>У всех чуть-чуть похожая</a:t>
            </a:r>
            <a:br>
              <a:rPr sz="4000"/>
            </a:br>
            <a:r>
              <a:rPr b="1" lang="ru-RU" sz="4000" spc="-1" strike="noStrike">
                <a:solidFill>
                  <a:srgbClr val="990033"/>
                </a:solidFill>
                <a:latin typeface="Georgia"/>
              </a:rPr>
              <a:t>нас вводит в дом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Picture 6" descr="http://remoo.ru/wp-content/uploads/2016/04/dizajn-prihozhej-v-chastnom-dome-foto-34.jpg"/>
          <p:cNvPicPr/>
          <p:nvPr/>
        </p:nvPicPr>
        <p:blipFill>
          <a:blip r:embed="rId1"/>
          <a:stretch/>
        </p:blipFill>
        <p:spPr>
          <a:xfrm>
            <a:off x="611280" y="260280"/>
            <a:ext cx="799308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8920" y="4221000"/>
            <a:ext cx="87138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28600" indent="-22860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90033"/>
                </a:solidFill>
                <a:latin typeface="Georgia"/>
                <a:ea typeface="Arial"/>
              </a:rPr>
              <a:t>В этой комнате на полке куклы, зайчики и волки.</a:t>
            </a:r>
            <a:br>
              <a:rPr sz="2500"/>
            </a:br>
            <a:r>
              <a:rPr b="1" lang="ru-RU" sz="2500" spc="-1" strike="noStrike">
                <a:solidFill>
                  <a:srgbClr val="990033"/>
                </a:solidFill>
                <a:latin typeface="Georgia"/>
                <a:ea typeface="Arial"/>
              </a:rPr>
              <a:t>Мчится поезд по ковру, малышей зовет в игру.</a:t>
            </a:r>
            <a:br>
              <a:rPr sz="2500"/>
            </a:br>
            <a:r>
              <a:rPr b="1" lang="ru-RU" sz="2500" spc="-1" strike="noStrike">
                <a:solidFill>
                  <a:srgbClr val="990033"/>
                </a:solidFill>
                <a:latin typeface="Georgia"/>
                <a:ea typeface="Arial"/>
              </a:rPr>
              <a:t>Дочки, сыновья и внуки</a:t>
            </a:r>
            <a:br>
              <a:rPr sz="2500"/>
            </a:br>
            <a:r>
              <a:rPr b="1" lang="ru-RU" sz="2500" spc="-1" strike="noStrike">
                <a:solidFill>
                  <a:srgbClr val="990033"/>
                </a:solidFill>
                <a:latin typeface="Georgia"/>
                <a:ea typeface="Arial"/>
              </a:rPr>
              <a:t>тут совсем не знают скуки.</a:t>
            </a:r>
            <a:endParaRPr b="1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2" name="Picture 7" descr="http://milyidom.com/02_2013/92118856_large_74316201_large_3476-bV4ur.jpg"/>
          <p:cNvPicPr/>
          <p:nvPr/>
        </p:nvPicPr>
        <p:blipFill>
          <a:blip r:embed="rId1"/>
          <a:stretch/>
        </p:blipFill>
        <p:spPr>
          <a:xfrm>
            <a:off x="119160" y="476280"/>
            <a:ext cx="89056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99640" y="3443400"/>
            <a:ext cx="777564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28600" indent="-22860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90033"/>
                </a:solidFill>
                <a:latin typeface="Georgia"/>
              </a:rPr>
              <a:t>В этой комнате бывает чаще мама наша,</a:t>
            </a:r>
            <a:br>
              <a:rPr sz="2500"/>
            </a:br>
            <a:r>
              <a:rPr b="1" lang="ru-RU" sz="2500" spc="-1" strike="noStrike">
                <a:solidFill>
                  <a:srgbClr val="990033"/>
                </a:solidFill>
                <a:latin typeface="Georgia"/>
              </a:rPr>
              <a:t>иногда здесь убегает из кастрюли каша.</a:t>
            </a:r>
            <a:endParaRPr b="1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Picture 7" descr="http://svoimy-rukami.ru/wp-content/uploads/2017/03/%D0%94%D0%B8%D0%B7%D0%B0%D0%B9%D0%BD-%D0%BA%D1%83%D1%85%D0%BD%D0%B8-%D1%81-%D1%85%D0%BE%D0%BB%D0%BE%D0%B4%D0%B8%D0%BB%D1%8C%D0%BD%D0%B8%D0%BA%D0%BE%D0%BC-%D1%84%D0%BE%D1%82%D0%BE-3.jpg"/>
          <p:cNvPicPr/>
          <p:nvPr/>
        </p:nvPicPr>
        <p:blipFill>
          <a:blip r:embed="rId1"/>
          <a:stretch/>
        </p:blipFill>
        <p:spPr>
          <a:xfrm>
            <a:off x="130320" y="598320"/>
            <a:ext cx="888336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71280" y="2276640"/>
            <a:ext cx="77770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28600" indent="-22860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90033"/>
                </a:solidFill>
                <a:latin typeface="Georgia"/>
              </a:rPr>
              <a:t>Чистим зубы, моем руки</a:t>
            </a:r>
            <a:br>
              <a:rPr sz="2500"/>
            </a:br>
            <a:r>
              <a:rPr b="1" lang="ru-RU" sz="2500" spc="-1" strike="noStrike">
                <a:solidFill>
                  <a:srgbClr val="990033"/>
                </a:solidFill>
                <a:latin typeface="Georgia"/>
              </a:rPr>
              <a:t>каждый день мы там без скуки.</a:t>
            </a:r>
            <a:endParaRPr b="1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6" name="Picture 6" descr="https://1000remontov.ru/wp-content/uploads/2018/04/Bathroom_dreams_090967_.jpg"/>
          <p:cNvPicPr/>
          <p:nvPr/>
        </p:nvPicPr>
        <p:blipFill>
          <a:blip r:embed="rId1"/>
          <a:stretch/>
        </p:blipFill>
        <p:spPr>
          <a:xfrm>
            <a:off x="1006560" y="690480"/>
            <a:ext cx="7434000" cy="54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834920" y="333360"/>
            <a:ext cx="61722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28600" indent="-22860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Georgia"/>
              </a:rPr>
              <a:t>Профессии людей, </a:t>
            </a:r>
            <a:br>
              <a:rPr sz="2400"/>
            </a:br>
            <a:r>
              <a:rPr b="1" lang="ru-RU" sz="2400" spc="-1" strike="noStrike">
                <a:solidFill>
                  <a:srgbClr val="990033"/>
                </a:solidFill>
                <a:latin typeface="Georgia"/>
              </a:rPr>
              <a:t>которые строят дом…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TextBox 7"/>
          <p:cNvSpPr/>
          <p:nvPr/>
        </p:nvSpPr>
        <p:spPr>
          <a:xfrm>
            <a:off x="1547640" y="2774880"/>
            <a:ext cx="6500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600200" indent="-22860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Georgia"/>
                <a:ea typeface="Arial"/>
              </a:rPr>
              <a:t> </a:t>
            </a:r>
            <a:r>
              <a:rPr b="0" lang="ru-RU" sz="4000" spc="-1" strike="noStrike">
                <a:solidFill>
                  <a:srgbClr val="990033"/>
                </a:solidFill>
                <a:latin typeface="Georgia"/>
                <a:ea typeface="Arial"/>
              </a:rPr>
              <a:t>Кто же построил для нас такие разные дом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28880" y="-360"/>
            <a:ext cx="5500800" cy="66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28600" indent="-22860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Georgia"/>
              </a:rPr>
              <a:t>АРХИТЕКТОР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606600" y="758880"/>
            <a:ext cx="82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GungsuhChe"/>
              </a:rPr>
              <a:t>Задумывает и разрабатывает проект д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https://im0-tub-ru.yandex.net/i?id=ead6be34e9ff1cd5a614f6a81b41cf8f-l&amp;n=13"/>
          <p:cNvPicPr/>
          <p:nvPr/>
        </p:nvPicPr>
        <p:blipFill>
          <a:blip r:embed="rId1"/>
          <a:stretch/>
        </p:blipFill>
        <p:spPr>
          <a:xfrm>
            <a:off x="436680" y="1127160"/>
            <a:ext cx="8424720" cy="56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1T11:09:40Z</dcterms:created>
  <dc:creator>Альбина</dc:creator>
  <dc:description/>
  <dc:language>en-US</dc:language>
  <cp:lastModifiedBy>Пользователь</cp:lastModifiedBy>
  <dcterms:modified xsi:type="dcterms:W3CDTF">2023-05-09T19:27:16Z</dcterms:modified>
  <cp:revision>126</cp:revision>
  <dc:subject/>
  <dc:title>Слайд 1</dc:title>
</cp:coreProperties>
</file>