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868-81FD-4B72-922C-901A6EF26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A46-C5D6-4507-A733-12EDFB493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EE7-2259-45AB-B618-43B71245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4BD-1087-46AC-B3C8-055AC12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EB1-5E81-47A6-AC94-692F44CB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56A-489E-44A5-9D0B-40A6B678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EBF7-9BD0-451B-B702-02A8E1A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B56-0251-4AB3-8164-75F4872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472-A0D7-4445-B420-A85BCAB7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CCA1-725C-426E-AB4B-010AC62F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B94-B30C-4EAD-B020-67FD4EE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B1D-9ADD-42DE-8E5E-3ED087E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8A5-7AB2-4B50-959E-18F96DD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F4D-8B90-43B3-BB5E-2D9959C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ED1D-36B0-4820-ACEA-0815B4C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6C37-7413-4366-87DE-61EE80D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CDA1-1E5E-484E-A6E4-14E34C7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D43-1043-44AF-A57D-F451395D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FE6D-386A-4C4C-BE9B-9DF4500F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BE3-EA82-4123-A712-AE1500B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515-CF6E-4FCF-9AE1-BAB4A9D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E7C-89BE-4F97-9F92-58D89CAE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447-6045-49C2-AC9E-7FFEFA1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256-AE96-4720-888E-C87F5AE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996-1A29-4B6B-898C-C8E5695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90D-AEBB-47FE-A2A4-12C8C9F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2440" cy="9142200"/>
            <a:chOff x="-207000" y="0"/>
            <a:chExt cx="215244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custGeom>
                <a:avLst/>
                <a:gdLst>
                  <a:gd name="textAreaLeft" fmla="*/ -360 w 302760"/>
                  <a:gd name="textAreaRight" fmla="*/ 302760 w 30276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custGeom>
                <a:avLst/>
                <a:gdLst>
                  <a:gd name="textAreaLeft" fmla="*/ -360 w 518040"/>
                  <a:gd name="textAreaRight" fmla="*/ 518040 w 518040"/>
                  <a:gd name="textAreaTop" fmla="*/ 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7800" cy="162576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760"/>
              <a:ext cx="1966680" cy="3925080"/>
              <a:chOff x="-21240" y="3578760"/>
              <a:chExt cx="1966680" cy="39250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1000" y="3643920"/>
                <a:ext cx="729360" cy="1339920"/>
              </a:xfrm>
              <a:custGeom>
                <a:avLst/>
                <a:gdLst>
                  <a:gd name="textAreaLeft" fmla="*/ 0 w 729360"/>
                  <a:gd name="textAreaRight" fmla="*/ 729360 w 729360"/>
                  <a:gd name="textAreaTop" fmla="*/ 0 h 1339920"/>
                  <a:gd name="textAreaBottom" fmla="*/ 1340280 h 13399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custGeom>
                <a:avLst/>
                <a:gdLst>
                  <a:gd name="textAreaLeft" fmla="*/ -360 w 612360"/>
                  <a:gd name="textAreaRight" fmla="*/ 612360 w 612360"/>
                  <a:gd name="textAreaTop" fmla="*/ 0 h 1362240"/>
                  <a:gd name="textAreaBottom" fmla="*/ 1362600 h 136224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689760"/>
                  <a:gd name="textAreaBottom" fmla="*/ 689760 h 6897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120" y="5086800"/>
                <a:ext cx="200880" cy="411480"/>
              </a:xfrm>
              <a:custGeom>
                <a:avLst/>
                <a:gdLst>
                  <a:gd name="textAreaLeft" fmla="*/ 360 w 200880"/>
                  <a:gd name="textAreaRight" fmla="*/ 201600 w 200880"/>
                  <a:gd name="textAreaTop" fmla="*/ 0 h 411480"/>
                  <a:gd name="textAreaBottom" fmla="*/ 411840 h 41148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47920" y="5571000"/>
                <a:ext cx="1397520" cy="1932840"/>
                <a:chOff x="547920" y="5571000"/>
                <a:chExt cx="1397520" cy="19328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3000" y="5612400"/>
                  <a:ext cx="641880" cy="918720"/>
                </a:xfrm>
                <a:custGeom>
                  <a:avLst/>
                  <a:gdLst>
                    <a:gd name="textAreaLeft" fmla="*/ 0 w 641880"/>
                    <a:gd name="textAreaRight" fmla="*/ 641880 w 641880"/>
                    <a:gd name="textAreaTop" fmla="*/ 0 h 918720"/>
                    <a:gd name="textAreaBottom" fmla="*/ 919080 h 9187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51320" y="6692400"/>
                  <a:ext cx="148680" cy="37692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376920"/>
                    <a:gd name="textAreaBottom" fmla="*/ 377280 h 376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17920" y="7337880"/>
                  <a:ext cx="270000" cy="63720"/>
                </a:xfrm>
                <a:custGeom>
                  <a:avLst/>
                  <a:gdLst>
                    <a:gd name="textAreaLeft" fmla="*/ 360 w 270000"/>
                    <a:gd name="textAreaRight" fmla="*/ 270720 w 27000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21320"/>
              <a:ext cx="673920" cy="821880"/>
              <a:chOff x="313200" y="8221320"/>
              <a:chExt cx="673920" cy="8218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5480" y="8279640"/>
                <a:ext cx="262440" cy="18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39920" y="8731440"/>
                <a:ext cx="448920" cy="1512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3160" y="8620920"/>
                <a:ext cx="469440" cy="777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2960" y="2431800"/>
                <a:ext cx="275760" cy="22464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5160" y="2953440"/>
                <a:ext cx="471960" cy="1864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60120" y="2955240"/>
                <a:ext cx="493200" cy="957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91240"/>
                  <a:gd name="textAreaBottom" fmla="*/ 291600 h 291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custGeom>
              <a:avLst/>
              <a:gdLst>
                <a:gd name="textAreaLeft" fmla="*/ 0 w 156960"/>
                <a:gd name="textAreaRight" fmla="*/ 156960 w 15696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81000" cy="90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1480" cy="442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3360" cy="27072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00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600"/>
              <a:ext cx="409680" cy="516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9800" cy="24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5160"/>
              <a:ext cx="176040" cy="338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2360" cy="2052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7320" y="986400"/>
              <a:ext cx="85680" cy="86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custGeom>
              <a:avLst/>
              <a:gdLst>
                <a:gd name="textAreaLeft" fmla="*/ 0 w 957240"/>
                <a:gd name="textAreaRight" fmla="*/ 957600 w 957240"/>
                <a:gd name="textAreaTop" fmla="*/ 0 h 1451880"/>
                <a:gd name="textAreaBottom" fmla="*/ 1452240 h 145188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796-5803-402F-85B1-CAFB87AD7DE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600" y="0"/>
            <a:ext cx="6988680" cy="9143280"/>
            <a:chOff x="-48600" y="0"/>
            <a:chExt cx="698868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1800" y="306000"/>
              <a:ext cx="3158280" cy="7855200"/>
              <a:chOff x="3781800" y="306000"/>
              <a:chExt cx="3158280" cy="7855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9080" y="479520"/>
                <a:ext cx="1581480" cy="3143880"/>
              </a:xfrm>
              <a:custGeom>
                <a:avLst/>
                <a:gdLst>
                  <a:gd name="textAreaLeft" fmla="*/ 0 w 1581480"/>
                  <a:gd name="textAreaRight" fmla="*/ 1581840 w 1581480"/>
                  <a:gd name="textAreaTop" fmla="*/ -360 h 3143880"/>
                  <a:gd name="textAreaBottom" fmla="*/ 3143880 h 31438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1400" y="2629440"/>
                <a:ext cx="679320" cy="112428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-360 h 1124280"/>
                  <a:gd name="textAreaBottom" fmla="*/ 1124280 h 11242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9480" y="3447720"/>
                <a:ext cx="328680" cy="527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360 h 527040"/>
                  <a:gd name="textAreaBottom" fmla="*/ 527760 h 5270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3200" y="907560"/>
                <a:ext cx="290880" cy="7344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360 h 734400"/>
                  <a:gd name="textAreaBottom" fmla="*/ 735120 h 7344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600" y="3519360"/>
                <a:ext cx="123840" cy="4406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360 h 440640"/>
                  <a:gd name="textAreaBottom" fmla="*/ 441360 h 4406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90560" y="1653120"/>
                <a:ext cx="142200" cy="1908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360 h 190800"/>
                  <a:gd name="textAreaBottom" fmla="*/ 191520 h 1908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497840" y="3860640"/>
                <a:ext cx="394920" cy="4359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-360 h 4359240"/>
                  <a:gd name="textAreaBottom" fmla="*/ 4359240 h 43592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4480" y="4141800"/>
              <a:ext cx="385200" cy="1375200"/>
            </a:xfrm>
            <a:custGeom>
              <a:avLst/>
              <a:gdLst>
                <a:gd name="textAreaLeft" fmla="*/ 360 w 385200"/>
                <a:gd name="textAreaRight" fmla="*/ 385920 w 385200"/>
                <a:gd name="textAreaTop" fmla="*/ 0 h 1375200"/>
                <a:gd name="textAreaBottom" fmla="*/ 1375560 h 137520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8680" cy="324252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3280" cy="97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7760" y="6042960"/>
              <a:ext cx="422280" cy="98172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760" y="6305040"/>
              <a:ext cx="103320" cy="57960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5160" y="6927480"/>
              <a:ext cx="1319040" cy="2215800"/>
            </a:xfrm>
            <a:custGeom>
              <a:avLst/>
              <a:gdLst>
                <a:gd name="textAreaLeft" fmla="*/ 0 w 1319040"/>
                <a:gd name="textAreaRight" fmla="*/ 1319400 w 1319040"/>
                <a:gd name="textAreaTop" fmla="*/ 0 h 2215800"/>
                <a:gd name="textAreaBottom" fmla="*/ 2216160 h 221580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57840" y="1560240"/>
              <a:ext cx="965520" cy="1335240"/>
              <a:chOff x="3057840" y="1560240"/>
              <a:chExt cx="965520" cy="1335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27040" y="1655640"/>
                <a:ext cx="380880" cy="284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08840" y="2297160"/>
                <a:ext cx="651960" cy="23616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67120" y="2525040"/>
                <a:ext cx="681480" cy="12024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78520" y="500040"/>
              <a:ext cx="739080" cy="905400"/>
              <a:chOff x="4178520" y="500040"/>
              <a:chExt cx="739080" cy="9054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07040" y="110808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55120" y="696240"/>
                <a:ext cx="407880" cy="22752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72000" y="661680"/>
                <a:ext cx="426600" cy="11628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73120" y="7086960"/>
              <a:ext cx="1081800" cy="926280"/>
              <a:chOff x="573120" y="7086960"/>
              <a:chExt cx="1081800" cy="9262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63680" y="7497360"/>
                <a:ext cx="188640" cy="398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33840" y="7617960"/>
                <a:ext cx="322560" cy="33084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89320" y="7172640"/>
                <a:ext cx="337320" cy="1684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69560" y="675720"/>
              <a:ext cx="1489320" cy="1469880"/>
              <a:chOff x="169560" y="675720"/>
              <a:chExt cx="1489320" cy="14698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48760" y="1652760"/>
                <a:ext cx="474480" cy="398160"/>
              </a:xfrm>
              <a:custGeom>
                <a:avLst/>
                <a:gdLst>
                  <a:gd name="textAreaLeft" fmla="*/ 360 w 474480"/>
                  <a:gd name="textAreaRight" fmla="*/ 475200 w 4744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22360" y="948600"/>
                <a:ext cx="812160" cy="330480"/>
              </a:xfrm>
              <a:custGeom>
                <a:avLst/>
                <a:gdLst>
                  <a:gd name="textAreaLeft" fmla="*/ 360 w 812160"/>
                  <a:gd name="textAreaRight" fmla="*/ 812880 w 8121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20880" y="1393200"/>
                <a:ext cx="848880" cy="16848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69560" y="4989240"/>
              <a:ext cx="905400" cy="2010600"/>
              <a:chOff x="5569560" y="4989240"/>
              <a:chExt cx="905400" cy="201060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46240" y="6270480"/>
                <a:ext cx="266760" cy="70812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57280" y="5954040"/>
                <a:ext cx="456840" cy="588240"/>
              </a:xfrm>
              <a:custGeom>
                <a:avLst/>
                <a:gdLst>
                  <a:gd name="textAreaLeft" fmla="*/ -360 w 456840"/>
                  <a:gd name="textAreaRight" fmla="*/ 456840 w 456840"/>
                  <a:gd name="textAreaTop" fmla="*/ 0 h 588240"/>
                  <a:gd name="textAreaBottom" fmla="*/ 588600 h 588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17440" y="5038920"/>
                <a:ext cx="477720" cy="299880"/>
              </a:xfrm>
              <a:custGeom>
                <a:avLst/>
                <a:gdLst>
                  <a:gd name="textAreaLeft" fmla="*/ -360 w 477720"/>
                  <a:gd name="textAreaRight" fmla="*/ 477720 w 477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8640" y="3960"/>
              <a:ext cx="1023480" cy="1875240"/>
            </a:xfrm>
            <a:custGeom>
              <a:avLst/>
              <a:gdLst>
                <a:gd name="textAreaLeft" fmla="*/ 0 w 1023480"/>
                <a:gd name="textAreaRight" fmla="*/ 1023840 w 1023480"/>
                <a:gd name="textAreaTop" fmla="*/ 0 h 1875240"/>
                <a:gd name="textAreaBottom" fmla="*/ 1875600 h 187524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7520" y="214920"/>
              <a:ext cx="809280" cy="125496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360 h 1254960"/>
                <a:gd name="textAreaBottom" fmla="*/ 1255680 h 12549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360" y="1815480"/>
              <a:ext cx="390600" cy="5878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-360 h 587880"/>
                <a:gd name="textAreaBottom" fmla="*/ 587880 h 58788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7080" y="1708920"/>
              <a:ext cx="146520" cy="4932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8360" y="0"/>
              <a:ext cx="147600" cy="2559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6600" y="2619000"/>
              <a:ext cx="466560" cy="4868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-360 h 4868280"/>
                <a:gd name="textAreaBottom" fmla="*/ 4868280 h 48682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09BB-411D-4FCD-9D6C-9FCAFB0867E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844640" y="684000"/>
            <a:ext cx="4610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ртот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гры, направленные на формирование культурно – гигиенических навыков и навыков самообслуживания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полнила: Куварзина А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а гном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3" descr="C:\Users\Аня\Documents\гномики\big-61978.jpg"/>
          <p:cNvPicPr/>
          <p:nvPr/>
        </p:nvPicPr>
        <p:blipFill>
          <a:blip r:embed="rId1"/>
          <a:stretch/>
        </p:blipFill>
        <p:spPr>
          <a:xfrm>
            <a:off x="0" y="4140360"/>
            <a:ext cx="685800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3360" y="179280"/>
            <a:ext cx="618336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9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Чистюл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Проверить знания детей о предметах гигиены и их назначен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Воспитательница говорит детям, что хочет убедиться в том, чт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ни чистоплотные и аккуратные: пусть они скажут, что нужно для тог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чтобы волосы, руки и лицо были чистыми (чем больше они смогут об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этом рассказать, тем лучше)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ем воспитательница говорит: "Руки”. Дети, которых она вызывае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твечают: "Мыло, щетка, полотенце”. Подобным же образом де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еагируют на слова "волосы” (гребень, щетка, ножницы, шампун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ыло), "купание” (ванна, полотенце, душ, умывальник, губка, мыл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.)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риант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ница задает вопрос: "Что нам нужно, когда мы утро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стаем?” Дети знают, что должны назвать предметы гигиены, котор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используются утром (щетка для рук, паста, мыло, платок и п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3851280"/>
            <a:ext cx="617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5" descr="C:\Users\Аня\Documents\сертификаты\ce5599d2e46e352527e20b05cebc86db.jpg"/>
          <p:cNvPicPr/>
          <p:nvPr/>
        </p:nvPicPr>
        <p:blipFill>
          <a:blip r:embed="rId1"/>
          <a:stretch/>
        </p:blipFill>
        <p:spPr>
          <a:xfrm>
            <a:off x="0" y="4932360"/>
            <a:ext cx="6858000" cy="4211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920" y="394920"/>
            <a:ext cx="6597720" cy="831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br>
              <a:rPr sz="1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0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День рождения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правилам культурного поведения в гостях, умению поздравля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руг дру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сти - куклы, игрушки, праздничный стол сервирован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тской посудой, подар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енок (или выбранный персонаж) сегодня именинник. Он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мощью педагога готовится к приему гостей: сервирует праздничн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тол, украшает шариками, мишурой и приводит в порядок помещ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ти-гости берут маленькие подарки-поделки (заране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иготовленные). Именинник встречает гостей, здоровается со всеми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инимает подарки и приглашает гостей сесть за стол, показывая гост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его место. Рядом с детьми за столом рассажены игрушки. Гос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«пробуют» угощение, «пьют» чай, «едят» мороженое.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рассказывает детям о правилах поведения в гостях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здороваться, когда приходишь в гости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без приглашения не входить в комнату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дарить подарок с пожеланиями имениннику (в качестве подар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может быть стихотворение, песня, танец)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за столом не шуметь, не брать пищу руками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риступать к еде после приглашения отведать то или иное угоще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не перебивать друг друга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льзоваться приборами и салфеткой во время еды; - придвигать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отодвигать стул неслышно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осле еды не забыть поблагодарить именинника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перед уходом попрощаться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- когда гости уходят, именинник помогает взрослым убирать посуду с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стола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Каждый из детей должен побыть в роли именинник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3360" y="323640"/>
            <a:ext cx="6183360" cy="46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№1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Игра "Угостим кукол чаем"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знакомить ребенка с назначением посуды, учить выполня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метно-игровые действия (расставлять чашки, блюдц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аскладывать ложки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ы, детская мебель и посуда (две чашки, два блюдца, дв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ложки, чайник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говорит малышу: "К нам в гости пришли куклы, их над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садить за стол, угостить чаем. Давай расставим чашки и блюдц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еперь разложи ложки к чашкам. Налей чай в чашки. Напои чаем наши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гостей". Если ребенок испытывает затруднения, показать, как над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ействовать. В конце игры взрослый подытоживает: "Чай мы наливали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чашки, куклы пили чай", произноси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айник на столе поставим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людца, чашки мы расставим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удем мы гостей встречат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Кукол чаем угощать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97000" y="4356000"/>
            <a:ext cx="489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4" descr="ds-r"/>
          <p:cNvPicPr/>
          <p:nvPr/>
        </p:nvPicPr>
        <p:blipFill>
          <a:blip r:embed="rId1"/>
          <a:stretch/>
        </p:blipFill>
        <p:spPr>
          <a:xfrm>
            <a:off x="765000" y="4932360"/>
            <a:ext cx="5472360" cy="3816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1920" y="394920"/>
            <a:ext cx="6183360" cy="2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навыков  самообслужи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3000" y="1042560"/>
            <a:ext cx="6172200" cy="77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2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Куклу на прогул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вивать представление детей об одежде, назначении вещ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последовательно одеваться. Воспитывать бережно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ношение к одежд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кукла, коробка с одеждо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д детьми сидит кукла Катя. На столе красивая коробка с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щам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оворит и показывает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В коробке Катина одежд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стает пальто и говорит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Это паль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повторяют за воспитателем. Воспитатель называет цвет пальт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дети повторяют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достает шапочку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На, Катя, шапочку. Ее надевают на голову.  Дети поочередно достают из коробки колготки, кофточк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начинает одевать Катю на прогулку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:   -Сначала наденем кофточ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месте с детьми воспитатель последовательно одевает колготки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фту, шапку, пальт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клу выносят в раздевалку. Она смотрит как дети начина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еваться на прогулку. Некоторым детям воспитатель (кукл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оминают последовательность одевания, поощряю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ые действия де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кла с детьми идет гулять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тодике М. Монтессор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971280"/>
            <a:ext cx="6172200" cy="78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рточка № 13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тн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елайте дыроколом несколько отверстий в картоне. Покажите малышу, как сквозь них можно протаскивать шнурок. Пусть малыш потренируется на одной или на двух дырочках. В дальнейшем задания можно усложнять, создавая с помощью дырокола контур несложного рисунк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гра способствует развитию мелкой моторики, координации движ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уговиц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руг из цветного картона диаметром 10 см, картонный лист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делайте дыроколом по два отверстия на круге и на листе картона. Предложите малышу «пришить пуговицу» на лист с помощью шнурков. Покажите, как это делается. Обращайте внимание ребенка на цвет круга и шнурков: «Давай пришьем желтую пуговицу красным шнурком». Попросите ребенка сделать это самодеятель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Дождь пошел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разно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листе картона нарисуйте тучи. Под ними сделайте несколько отверстий таким образом, чтобы продетые в них шнурки образовывали прямые линии (дождь из тучи). Покажите малышу, как можно продевать и сквозь отверст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й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м потребуются: картон, дырокол, цветные шнур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елайте отвейся в картоне так, чтобы при продевании сквозь них шнурка образовывалась волнистая линия. Попросите малыша сделать змейку из шнурков. Называйте цвет каждого шнурк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84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4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мки с застежками.</a:t>
            </a:r>
            <a:br>
              <a:rPr sz="18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еревянные рамки с различными застежкам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большие пуговицы, маленькие пуговицы, кнопки, банты, шнурок, который вдевается в дырку, шнурок, который наматывается на крючки и петли, застежки из ремешков, застежки-"липучки"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 качестве примера приводим работу с застежкой "бант". Квадратная деревянная рамка, обтянутая тканью из дву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инок, с внутренней стороны которых пришиты по 5 тесемок. Тесемки одной половинки отличаются по цвету от тесемок  другой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вязывание и завязывание бантов, развитие моторики, координация движении. Возраст: около трех лет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работать с материало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ель начинает снизу вверх развязывать один бант за другим. Он берется за концы завязок и тянет и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ные стороны. Завязывание банта - очень сложное действие. Через анализ хода событий и повторение ребенок яснее понимает ход действия. Он развязывает снизу вверх все узлы, откидывает в разные стороны половинки ткани и расправляет завязки с разных сторон. Двумя руками он берется за половинки ткани в уголках и совмещает их на середине. Он берет две нижние завязки и кладет их друг на друга крест - накрест. Действия с завязками выполняют не всей рукой, а только кистью. То же самое происходит со всеми остальными завязками. Затем учитель просовывает конец верхней завязки под нижнюю и тянет за  него. Так получается узел. Из одной завязки он образует петлю и держит ее у самого узла большим и указательным пальцами. Большим и указательным пальцами другой руки он ведет свободную завязку спереди назад вокруг петли и просовывает ее через возникшее отверстие над узлом. Затем учитель выполняет действие с двумя петлями одновременно, так, чтобы из них получился «бант с равными концами. Ребенок может повторить упражнение полностью или только част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над ошибкам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ловинки ткани не подходят друг другу. Бант развязывается сам собой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ене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вязать бант на своей одежде или на одежде другого ребенка. Помощь в приобретении самосто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28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5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Приведи куклу в порядок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формировать интерес к самостоятельным действиям при одевани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а, кукольная одеж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иходит с раздетой куклой, приносит кукольные вещ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и просит ребенка помочь ему одеть куклу. При этом говорит: «Кукл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ля не может одеться, ей холодно, давай оденем Олю, ей будет тепл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начала надо одеть трусики, потом майку, а затем платье».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ребенку оде­вать куклу, соблюдая последовательность. Пр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руднении применяются совместные действ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49360" y="2555640"/>
            <a:ext cx="57592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C:\Users\Аня\Documents\сертификаты\285215_935xp.jpg"/>
          <p:cNvPicPr/>
          <p:nvPr/>
        </p:nvPicPr>
        <p:blipFill>
          <a:blip r:embed="rId1"/>
          <a:stretch/>
        </p:blipFill>
        <p:spPr>
          <a:xfrm>
            <a:off x="0" y="3132000"/>
            <a:ext cx="6858000" cy="5761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277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6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Занятие «Оденемся на прогул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одеваться, правильно соотносить предмет одежды с ча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тела, застегивать одежду на липуч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дежда ребен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едлагает одеваться на прогулку: расклады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вещи перед ребенком и объ­ясняет, что определенный предмет одежд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надо наде­вать на определенную часть тела. Ребенок одевается, пр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затруднении взрослый помогает ему одеваться, обращает внимание 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пособ застежки липучко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3000" y="2339640"/>
            <a:ext cx="6172200" cy="65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C:\Users\Аня\Documents\сертификаты\0005-002-.png"/>
          <p:cNvPicPr/>
          <p:nvPr/>
        </p:nvPicPr>
        <p:blipFill>
          <a:blip r:embed="rId1"/>
          <a:stretch/>
        </p:blipFill>
        <p:spPr>
          <a:xfrm>
            <a:off x="260280" y="2987640"/>
            <a:ext cx="5832720" cy="3745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3360" y="394920"/>
            <a:ext cx="61833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7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Найди пар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различать парную обувь, подбирать нужную пару обув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увь — сапоги, ботинки, кукла Маш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вводит ребенка в игровую си­туацию: «Маша-растеряш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разбросала свою обувь по разным углам. Она не может ничего най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сама. Один ботинок нашла, а другой найти не может, один сапог нашл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а другой не знает, где найти!» и т.д. Ребенку предлагается помоч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ше найти нужную пару обу­ви. Взрослый показывает один ботинок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найти пару и т.д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алее взрослый предлагает ребенку примерить Маше найденну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був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000" y="3203280"/>
            <a:ext cx="617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1217784135_0lik"/>
          <p:cNvPicPr/>
          <p:nvPr/>
        </p:nvPicPr>
        <p:blipFill>
          <a:blip r:embed="rId1"/>
          <a:stretch/>
        </p:blipFill>
        <p:spPr>
          <a:xfrm>
            <a:off x="333360" y="414036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0560"/>
            <a:ext cx="618336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18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«Подберем куклам одежд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ь называть предметы одежды, дифференцировать одежду дл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льчиков и девочек, последовательно одевать кукл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е куклы - кукла Митя и кукла Катя, наборы одежды дл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ити и для Кати: рубашка, брюки, свитер, кеды; платье, кофта, юбк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туфл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дагог: «Посмотрите, дети, к нам в гости пришли куклы, но он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е могут одеться, они перепутали свою одежду и не могут найти сво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ещи. Давайте, поможем им разобраться, где, чьи вещи». Далее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едлагает детям выделить заранее подготовленную одежду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льчика Мити и для девочки Кати. Педагог спрашивает: «Что нося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вочки, а что мальчики?» После того, когда дети выберут одежду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кукол, один ребенок начинает одевать Митю, а другой - Катю. Педагог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 это время акцентирует внимание детей на последователь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одевания. Если ребенок самостоятельно не справляется,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могает ему совместными действиями. Игра проводи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оследующих вариантах со сменой кукол и одежды и помог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крепить выбор одежды для мальчиков и девочек. Педагог обяза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хвалит детей за то, что куклы одеты правильно и красив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000" y="4572000"/>
            <a:ext cx="6172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5" descr="C:\Users\Аня\Documents\сертификаты\S20006_2.jpg"/>
          <p:cNvPicPr/>
          <p:nvPr/>
        </p:nvPicPr>
        <p:blipFill>
          <a:blip r:embed="rId1"/>
          <a:stretch/>
        </p:blipFill>
        <p:spPr>
          <a:xfrm>
            <a:off x="620640" y="4932360"/>
            <a:ext cx="5715000" cy="3433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Формирование культурно – гигиенических навы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1403280"/>
            <a:ext cx="617220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1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Водичка, водичка!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формировать интерес к самостоятельности при  выполнен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ов самообслужи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ве кук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взрослый показывает детям двух кукол и говорит, что кук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тят обедать, но у них грязные  руки и лицо. Взросл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шивает: «Что надо сделать? Надо вымыть куклам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росим водичк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дичка, водич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мой мое личико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глазоньки блестел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щечки краснел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 кусался зубок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 смеялся роток!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казывает и рассказывает детям, как надо мыть куклам руки и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цо перед обедом. Далее предлагает детям вымыть  свои руки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цо по подражанию. При этом взрослый повторяет потешк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Водичка, водичка!»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C:\Users\Аня\Documents\гномики\121938028__Gnom_Tihonya_stoit.png"/>
          <p:cNvPicPr/>
          <p:nvPr/>
        </p:nvPicPr>
        <p:blipFill>
          <a:blip r:embed="rId1"/>
          <a:stretch/>
        </p:blipFill>
        <p:spPr>
          <a:xfrm>
            <a:off x="3645000" y="428472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7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7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12640" y="684000"/>
            <a:ext cx="4321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4280" y="3851280"/>
            <a:ext cx="61722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октор, доктор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 нам б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ши мы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 не м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сли мы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о как нам бы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сто мы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  пореж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чает докто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Еже...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чает доктор гневно: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же...еже...ежедневн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Э. Мошковская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hygiene30"/>
          <p:cNvPicPr/>
          <p:nvPr/>
        </p:nvPicPr>
        <p:blipFill>
          <a:blip r:embed="rId1"/>
          <a:stretch/>
        </p:blipFill>
        <p:spPr>
          <a:xfrm>
            <a:off x="1413000" y="395280"/>
            <a:ext cx="4535280" cy="3529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Image8"/>
          <p:cNvPicPr/>
          <p:nvPr/>
        </p:nvPicPr>
        <p:blipFill>
          <a:blip r:embed="rId1"/>
          <a:stretch/>
        </p:blipFill>
        <p:spPr>
          <a:xfrm>
            <a:off x="404640" y="4067280"/>
            <a:ext cx="6188400" cy="3992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492280" y="795600"/>
            <a:ext cx="3865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тром звери просыпалис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исто звери умывались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Лишь Медведь не умывалс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умытым он остался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али мы его купать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 головою окунать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ачет Мишенька: - Простите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меня вы отпустите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ольшой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уду сам -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мываться по утрам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04640" y="404640"/>
            <a:ext cx="619308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Вымой руки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мыть р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точка резинов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обращается к ребенку: «Мы пришли с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улки, нам нужно вымыть ручки. Уточка буде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мотреть, как мы моем ручки». Взрослый ставит игруш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край умывальника и показывает ребенку движен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ами под струей воды. В конце процедуры взрослы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имени уточки хвалит ребе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льнейшем навык мытья рук усложняется: ребен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т открывать кран с водой, намыливать руки мылом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тирать полотенцем и вешать полотенце на крючо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2720" y="3708000"/>
            <a:ext cx="6172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C:\Users\Аня\Documents\сертификаты\2cdf3557c07384cff5dd806239bb1dcf--baby-cards-clipart.jpg"/>
          <p:cNvPicPr/>
          <p:nvPr/>
        </p:nvPicPr>
        <p:blipFill>
          <a:blip r:embed="rId1"/>
          <a:stretch/>
        </p:blipFill>
        <p:spPr>
          <a:xfrm>
            <a:off x="333360" y="3635280"/>
            <a:ext cx="5975280" cy="5184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4640" y="394920"/>
            <a:ext cx="618336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3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Сделаем лодоч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последовательно выполнять действия при мыть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рук,  подражать действиям взросло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обращает внимание ребенка на то, чт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ри мытье рук надо соблюдать последователь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ейств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1.Засучить рукава, проговаривая потешку: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то рукавчик не засучит, тот водички не получит!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2. открыть кран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3. сложить ладони рук «лодочкой»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4. подставить руки под струю вод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5. закрыть кран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6. вытереть руки полотенц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Затем взрослый предлагает ребенку выполни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я по подражанию, обращая внимание ребен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а положение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4427640"/>
            <a:ext cx="6172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ecdd1295f4a0"/>
          <p:cNvPicPr/>
          <p:nvPr/>
        </p:nvPicPr>
        <p:blipFill>
          <a:blip r:embed="rId1"/>
          <a:stretch/>
        </p:blipFill>
        <p:spPr>
          <a:xfrm>
            <a:off x="260280" y="4427640"/>
            <a:ext cx="6337440" cy="435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2280" y="178920"/>
            <a:ext cx="597528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рточка № 4 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«Мыльные перчат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намыливать руки с внешней и внутренней  сторон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етское мыло, полотенц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одводит ребенка к умывальнику,  стоит за 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спиной, берет в руки мыло и показывает  круговые движения рук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мылом. Затем ребенку передает кусок мыла и просит повтори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вижения намыливания. Намыливание рук нужно проводить до те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р, пока не образуется белая пена. Обращается внимание ребенка 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белые ручки, взрослый говорит: «Вот, какие у нас перчатки белые!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Далее взрослый помогает ребенку смыть пену под струей воды, пр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этом проговаривает одну из потешек. Например: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Ладушки, ладушки, с мылом моем лапушки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Чистые ладошки, вот вам хлеб да ложки!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В кране булькает вода. Очень даже здорово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Моет рученьки сама Машенька Егорова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(или взрослый называет имя ребенка)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Знаем, знаем, да, да, да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Где тут прячется во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В конце игры взрослый хвалит ребенка и обращает внимание на 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чистые руки. При затруднениях используются совместные действ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взрослого и  ребе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41000" y="5579640"/>
            <a:ext cx="44449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C:\Users\Аня\Documents\сертификаты\8o.jpg"/>
          <p:cNvPicPr/>
          <p:nvPr/>
        </p:nvPicPr>
        <p:blipFill>
          <a:blip r:embed="rId1"/>
          <a:stretch/>
        </p:blipFill>
        <p:spPr>
          <a:xfrm>
            <a:off x="1557360" y="6372360"/>
            <a:ext cx="4248000" cy="248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3360" y="179280"/>
            <a:ext cx="618336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очка №5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Умывалочка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умывать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еркало, полотенц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иводит ребенка (после сна) в ванную комнату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осит ребенка посмотреть па себя в зеркало, обращает его вним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а глазки, ротик, щечки и т.д. Предлагает ребенку умыться имеете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им, при этом показывает, как это нужно сделать. В процессе действ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зрослый произноси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ходи, водица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мы пришли умыться!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Лейся на ладошку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по-нем-нож-ку..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Нет, не понемножку —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посмелей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будем умыватьс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веселей!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конце умывания взрослый учит малыша выти­рать лицо насух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полотенцем, просит посмотреть на себя в зеркало, произносит: «А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какой чистый ребе­нок, посмотри на себя в зеркало!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6280" y="4859280"/>
            <a:ext cx="547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" descr="C:\Users\Аня\Documents\сертификаты\hello_html_m17c3b105.jpg"/>
          <p:cNvPicPr/>
          <p:nvPr/>
        </p:nvPicPr>
        <p:blipFill>
          <a:blip r:embed="rId1"/>
          <a:stretch/>
        </p:blipFill>
        <p:spPr>
          <a:xfrm>
            <a:off x="0" y="5364000"/>
            <a:ext cx="6858000" cy="378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3360" y="324000"/>
            <a:ext cx="618336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6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Делаем прическу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держать в руке расческу и расчесывать волосы движ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верху вниз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еркало, расческа, нарядная кукл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демонстрирует ребенку куклу и обращает внимание 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ее прическу: «Посмотри, у куклы красивая прическа: длинные, ровны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волосы, бантик. Красивая кукла! Давай и тебе сделаем красив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прическу!» Взрослый расчесывает перед зеркалом волосы ребенк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затем просит малыша попробовать расчесаться самому: дает расческу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руки ребенку при этом помогает ему удерживать расческу, вести рук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с расческой сверху вниз. В конце расчесывания просит ребен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посмотреть в зеркало, обращает его внимание на то, что он стал таки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же красивым, как кук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3203280"/>
            <a:ext cx="61722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231n"/>
          <p:cNvPicPr/>
          <p:nvPr/>
        </p:nvPicPr>
        <p:blipFill>
          <a:blip r:embed="rId1"/>
          <a:stretch/>
        </p:blipFill>
        <p:spPr>
          <a:xfrm>
            <a:off x="333360" y="3203640"/>
            <a:ext cx="6191280" cy="5616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3360" y="394920"/>
            <a:ext cx="618336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очка № 7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гра «Кукла заболела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чить пользоваться носовым платк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укла, одноразовые носовые плат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демонстрирует детям куклу и говорит: «Вот кукл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Маша, заболела, ей трудно дышать носиком. В кармане у нее лежи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носовой платок. Поможем Маше почистить носик!» Взрослы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роговаривает потешку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аша заболела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трудно ей дышать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Мы платочком будем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носик вытирать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Взрослый показывает детям, как правильно ис­пользовать носов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платок, демонстрируя действие на кукле. Предлагает детям повтори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е по подража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3924000"/>
            <a:ext cx="6172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C:\Users\Аня\Documents\сертификаты\doktor-picture-big.jpg"/>
          <p:cNvPicPr/>
          <p:nvPr/>
        </p:nvPicPr>
        <p:blipFill>
          <a:blip r:embed="rId1"/>
          <a:stretch/>
        </p:blipFill>
        <p:spPr>
          <a:xfrm>
            <a:off x="260280" y="4500720"/>
            <a:ext cx="6193080" cy="3240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34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рточка № 8 </a:t>
            </a:r>
            <a:br>
              <a:rPr sz="3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ие «Носики-курносики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должать учить пользоваться индивидуальным носовым платко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ндивидуальные носовые плат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занят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зрослый проговаривает потешку, демонстрируя кажд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действие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осовой платок в кармашке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достает платок из кармана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удем нос им вытирать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казывает действие с платком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бы носик, наш курносик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убирает платок в карман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нова чистым был опять. 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рослый просит каждого ребенка, показать, как он умеет пользова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носовым платк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3564000"/>
            <a:ext cx="6172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C:\Users\Аня\Documents\сертификаты\maxresdefault.jpg"/>
          <p:cNvPicPr/>
          <p:nvPr/>
        </p:nvPicPr>
        <p:blipFill>
          <a:blip r:embed="rId1"/>
          <a:stretch/>
        </p:blipFill>
        <p:spPr>
          <a:xfrm>
            <a:off x="0" y="363528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32:20Z</dcterms:created>
  <dc:creator>XTreme</dc:creator>
  <dc:description/>
  <dc:language>en-US</dc:language>
  <cp:lastModifiedBy>Аня</cp:lastModifiedBy>
  <dcterms:modified xsi:type="dcterms:W3CDTF">2023-05-09T13:22:24Z</dcterms:modified>
  <cp:revision>17</cp:revision>
  <dc:subject/>
  <dc:title>Слайд 1</dc:title>
</cp:coreProperties>
</file>