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7259-1EC2-464D-BDF3-4619EF148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EFE6-4EC1-4A09-B72C-6BCDD7939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D5A-39AE-4EB2-AED7-DFF9FAE9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026-39EC-4B40-BAC7-5533F462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FD7-5CF3-4BF4-80DD-E3F154E4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923-7279-4866-8B22-CA8347C8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6CE7-6C02-440A-8936-044754CF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E063-3434-4694-8591-CAC72B0B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3A47-9821-4CB6-9216-E65355C5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6C09-9F76-4E6C-8375-92FB7119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BA8E-D0A8-4120-BEB3-F78A2A84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5770-9055-4609-9028-E272B378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4524-E83A-41A6-ABE2-E76598DD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664-6985-4F31-A36E-FFBBFC2C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F34A-9252-4CA0-8AA2-583389D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A0EA-066C-42C0-B5E0-B3A9B515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536F-1470-40F9-BBE2-EEE27B0A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6758-EB20-4291-B331-27A3AA73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5C1B-AF15-4C0E-96ED-A3BD09DB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116-E4E8-48CE-9335-9DE4FF81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26C-EB64-458A-A567-D94F2481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566-A7C7-4EE3-B859-EC166220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37F-599E-4750-B703-BDF3146F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C7D-0206-4EC8-AB52-C6CBC862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2DE-BCE5-4FB3-8835-165C68F0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AA0-083B-454A-81FC-D6E5FA79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07000" y="0"/>
            <a:ext cx="2152440" cy="9142200"/>
            <a:chOff x="-207000" y="0"/>
            <a:chExt cx="2152440" cy="9142200"/>
          </a:xfrm>
        </p:grpSpPr>
        <p:sp>
          <p:nvSpPr>
            <p:cNvPr id="1" name="Freeform 3"/>
            <p:cNvSpPr/>
            <p:nvPr/>
          </p:nvSpPr>
          <p:spPr>
            <a:xfrm>
              <a:off x="-6480" y="6904800"/>
              <a:ext cx="561960" cy="169704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697040"/>
                <a:gd name="textAreaBottom" fmla="*/ 1697400 h 169704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-23400" y="5211720"/>
              <a:ext cx="801360" cy="931320"/>
              <a:chOff x="-23400" y="5211720"/>
              <a:chExt cx="801360" cy="93132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-28800" y="5289120"/>
                <a:ext cx="302760" cy="198000"/>
              </a:xfrm>
              <a:custGeom>
                <a:avLst/>
                <a:gdLst>
                  <a:gd name="textAreaLeft" fmla="*/ -360 w 302760"/>
                  <a:gd name="textAreaRight" fmla="*/ 302760 w 30276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126720" y="5789160"/>
                <a:ext cx="518040" cy="164520"/>
              </a:xfrm>
              <a:custGeom>
                <a:avLst/>
                <a:gdLst>
                  <a:gd name="textAreaLeft" fmla="*/ -360 w 518040"/>
                  <a:gd name="textAreaRight" fmla="*/ 518040 w 518040"/>
                  <a:gd name="textAreaTop" fmla="*/ 0 h 164520"/>
                  <a:gd name="textAreaBottom" fmla="*/ 164520 h 1645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372240" y="5633640"/>
                <a:ext cx="541440" cy="8388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06560" y="3674520"/>
              <a:ext cx="847800" cy="162576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625760"/>
                <a:gd name="textAreaBottom" fmla="*/ 1626120 h 16257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21240" y="3578760"/>
              <a:ext cx="1966680" cy="3925080"/>
              <a:chOff x="-21240" y="3578760"/>
              <a:chExt cx="1966680" cy="39250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51000" y="3643920"/>
                <a:ext cx="729360" cy="1339920"/>
              </a:xfrm>
              <a:custGeom>
                <a:avLst/>
                <a:gdLst>
                  <a:gd name="textAreaLeft" fmla="*/ 0 w 729360"/>
                  <a:gd name="textAreaRight" fmla="*/ 729360 w 729360"/>
                  <a:gd name="textAreaTop" fmla="*/ 0 h 1339920"/>
                  <a:gd name="textAreaBottom" fmla="*/ 1340280 h 13399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25640" y="3858840"/>
                <a:ext cx="612360" cy="1362240"/>
              </a:xfrm>
              <a:custGeom>
                <a:avLst/>
                <a:gdLst>
                  <a:gd name="textAreaLeft" fmla="*/ -360 w 612360"/>
                  <a:gd name="textAreaRight" fmla="*/ 612360 w 612360"/>
                  <a:gd name="textAreaTop" fmla="*/ 0 h 1362240"/>
                  <a:gd name="textAreaBottom" fmla="*/ 1362600 h 136224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18600" y="4141440"/>
                <a:ext cx="217080" cy="689760"/>
              </a:xfrm>
              <a:custGeom>
                <a:avLst/>
                <a:gdLst>
                  <a:gd name="textAreaLeft" fmla="*/ -360 w 217080"/>
                  <a:gd name="textAreaRight" fmla="*/ 217080 w 217080"/>
                  <a:gd name="textAreaTop" fmla="*/ 0 h 689760"/>
                  <a:gd name="textAreaBottom" fmla="*/ 689760 h 6897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672120" y="5086800"/>
                <a:ext cx="200880" cy="411480"/>
              </a:xfrm>
              <a:custGeom>
                <a:avLst/>
                <a:gdLst>
                  <a:gd name="textAreaLeft" fmla="*/ 360 w 200880"/>
                  <a:gd name="textAreaRight" fmla="*/ 201600 w 200880"/>
                  <a:gd name="textAreaTop" fmla="*/ 0 h 411480"/>
                  <a:gd name="textAreaBottom" fmla="*/ 411840 h 41148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614520" y="5180400"/>
                <a:ext cx="48960" cy="243720"/>
              </a:xfrm>
              <a:custGeom>
                <a:avLst/>
                <a:gdLst>
                  <a:gd name="textAreaLeft" fmla="*/ 360 w 48960"/>
                  <a:gd name="textAreaRight" fmla="*/ 49680 w 4896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547920" y="5571000"/>
                <a:ext cx="1397520" cy="1932840"/>
                <a:chOff x="547920" y="5571000"/>
                <a:chExt cx="1397520" cy="19328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783000" y="5612400"/>
                  <a:ext cx="641880" cy="918720"/>
                </a:xfrm>
                <a:custGeom>
                  <a:avLst/>
                  <a:gdLst>
                    <a:gd name="textAreaLeft" fmla="*/ 0 w 641880"/>
                    <a:gd name="textAreaRight" fmla="*/ 641880 w 641880"/>
                    <a:gd name="textAreaTop" fmla="*/ 0 h 918720"/>
                    <a:gd name="textAreaBottom" fmla="*/ 919080 h 9187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1651320" y="6692400"/>
                  <a:ext cx="148680" cy="376920"/>
                </a:xfrm>
                <a:custGeom>
                  <a:avLst/>
                  <a:gdLst>
                    <a:gd name="textAreaLeft" fmla="*/ 0 w 148680"/>
                    <a:gd name="textAreaRight" fmla="*/ 148680 w 148680"/>
                    <a:gd name="textAreaTop" fmla="*/ 0 h 376920"/>
                    <a:gd name="textAreaBottom" fmla="*/ 377280 h 376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1717920" y="7337880"/>
                  <a:ext cx="270000" cy="63720"/>
                </a:xfrm>
                <a:custGeom>
                  <a:avLst/>
                  <a:gdLst>
                    <a:gd name="textAreaLeft" fmla="*/ 360 w 270000"/>
                    <a:gd name="textAreaRight" fmla="*/ 270720 w 27000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313200" y="8221320"/>
              <a:ext cx="673920" cy="821880"/>
              <a:chOff x="313200" y="8221320"/>
              <a:chExt cx="673920" cy="8218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735480" y="8279640"/>
                <a:ext cx="262440" cy="18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439920" y="8731440"/>
                <a:ext cx="448920" cy="1512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173160" y="8620920"/>
                <a:ext cx="469440" cy="777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231120" y="2394360"/>
              <a:ext cx="587160" cy="897840"/>
              <a:chOff x="231120" y="2394360"/>
              <a:chExt cx="587160" cy="89784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552960" y="2431800"/>
                <a:ext cx="275760" cy="22464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425160" y="2953440"/>
                <a:ext cx="471960" cy="18648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60120" y="2955240"/>
                <a:ext cx="493200" cy="957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969840" y="0"/>
              <a:ext cx="410040" cy="775440"/>
              <a:chOff x="969840" y="0"/>
              <a:chExt cx="410040" cy="77544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969840" y="0"/>
                <a:ext cx="129960" cy="291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91240"/>
                  <a:gd name="textAreaBottom" fmla="*/ 291600 h 291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57400" y="137880"/>
                <a:ext cx="222480" cy="24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12760" y="652320"/>
                <a:ext cx="232560" cy="1231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02960" y="199080"/>
              <a:ext cx="832320" cy="15998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1599840"/>
                <a:gd name="textAreaBottom" fmla="*/ 1600200 h 159984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287280" y="7205040"/>
              <a:ext cx="156960" cy="353160"/>
            </a:xfrm>
            <a:custGeom>
              <a:avLst/>
              <a:gdLst>
                <a:gd name="textAreaLeft" fmla="*/ 0 w 156960"/>
                <a:gd name="textAreaRight" fmla="*/ 156960 w 15696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315720" y="7603200"/>
              <a:ext cx="81000" cy="907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2600" y="8699760"/>
              <a:ext cx="141480" cy="442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-360" y="8399160"/>
              <a:ext cx="153360" cy="27072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-360" y="8358840"/>
              <a:ext cx="55800" cy="1800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-360" y="6855840"/>
              <a:ext cx="591840" cy="156600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1566000"/>
                <a:gd name="textAreaBottom" fmla="*/ 1566360 h 156600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22680" y="867600"/>
              <a:ext cx="409680" cy="516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287280" y="1600200"/>
              <a:ext cx="199800" cy="243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682560" y="605160"/>
              <a:ext cx="176040" cy="338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280080" y="1525320"/>
              <a:ext cx="72360" cy="2052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697320" y="986400"/>
              <a:ext cx="85680" cy="86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-360" y="1875240"/>
              <a:ext cx="428760" cy="13755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1375560"/>
                <a:gd name="textAreaBottom" fmla="*/ 1375920 h 13755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65520" y="177120"/>
              <a:ext cx="957240" cy="1451880"/>
            </a:xfrm>
            <a:custGeom>
              <a:avLst/>
              <a:gdLst>
                <a:gd name="textAreaLeft" fmla="*/ 0 w 957240"/>
                <a:gd name="textAreaRight" fmla="*/ 957600 w 957240"/>
                <a:gd name="textAreaTop" fmla="*/ 0 h 1451880"/>
                <a:gd name="textAreaBottom" fmla="*/ 1452240 h 145188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2E71-D7A2-4263-90F0-67C86875F49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48600" y="0"/>
            <a:ext cx="6988680" cy="9143280"/>
            <a:chOff x="-48600" y="0"/>
            <a:chExt cx="6988680" cy="9143280"/>
          </a:xfrm>
        </p:grpSpPr>
        <p:grpSp>
          <p:nvGrpSpPr>
            <p:cNvPr id="85" name="Group 3"/>
            <p:cNvGrpSpPr/>
            <p:nvPr/>
          </p:nvGrpSpPr>
          <p:grpSpPr>
            <a:xfrm>
              <a:off x="3781800" y="306000"/>
              <a:ext cx="3158280" cy="7855200"/>
              <a:chOff x="3781800" y="306000"/>
              <a:chExt cx="3158280" cy="7855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4879080" y="479520"/>
                <a:ext cx="1581480" cy="3143880"/>
              </a:xfrm>
              <a:custGeom>
                <a:avLst/>
                <a:gdLst>
                  <a:gd name="textAreaLeft" fmla="*/ 0 w 1581480"/>
                  <a:gd name="textAreaRight" fmla="*/ 1581840 w 1581480"/>
                  <a:gd name="textAreaTop" fmla="*/ -360 h 3143880"/>
                  <a:gd name="textAreaBottom" fmla="*/ 3143880 h 31438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5531400" y="2629440"/>
                <a:ext cx="679320" cy="112428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-360 h 1124280"/>
                  <a:gd name="textAreaBottom" fmla="*/ 1124280 h 11242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5109480" y="3447720"/>
                <a:ext cx="328680" cy="5270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360 h 527040"/>
                  <a:gd name="textAreaBottom" fmla="*/ 527760 h 5270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5353200" y="907560"/>
                <a:ext cx="290880" cy="73440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360 h 734400"/>
                  <a:gd name="textAreaBottom" fmla="*/ 735120 h 7344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5349600" y="3519360"/>
                <a:ext cx="123840" cy="4406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360 h 440640"/>
                  <a:gd name="textAreaBottom" fmla="*/ 441360 h 44064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5290560" y="1653120"/>
                <a:ext cx="142200" cy="1908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360 h 190800"/>
                  <a:gd name="textAreaBottom" fmla="*/ 191520 h 1908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4497840" y="3860640"/>
                <a:ext cx="394920" cy="43592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-360 h 4359240"/>
                  <a:gd name="textAreaBottom" fmla="*/ 4359240 h 43592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24480" y="4141800"/>
              <a:ext cx="385200" cy="1375200"/>
            </a:xfrm>
            <a:custGeom>
              <a:avLst/>
              <a:gdLst>
                <a:gd name="textAreaLeft" fmla="*/ 360 w 385200"/>
                <a:gd name="textAreaRight" fmla="*/ 385920 w 385200"/>
                <a:gd name="textAreaTop" fmla="*/ 0 h 1375200"/>
                <a:gd name="textAreaBottom" fmla="*/ 1375560 h 137520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99800" y="2666520"/>
              <a:ext cx="1498680" cy="324252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3242520"/>
                <a:gd name="textAreaBottom" fmla="*/ 3242880 h 324252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5524200"/>
              <a:ext cx="953280" cy="97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067760" y="6042960"/>
              <a:ext cx="422280" cy="981720"/>
            </a:xfrm>
            <a:custGeom>
              <a:avLst/>
              <a:gdLst>
                <a:gd name="textAreaLeft" fmla="*/ -360 w 422280"/>
                <a:gd name="textAreaRight" fmla="*/ 422280 w 42228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950760" y="6305040"/>
              <a:ext cx="103320" cy="57960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415160" y="6927480"/>
              <a:ext cx="1319040" cy="2215800"/>
            </a:xfrm>
            <a:custGeom>
              <a:avLst/>
              <a:gdLst>
                <a:gd name="textAreaLeft" fmla="*/ 0 w 1319040"/>
                <a:gd name="textAreaRight" fmla="*/ 1319400 w 1319040"/>
                <a:gd name="textAreaTop" fmla="*/ 0 h 2215800"/>
                <a:gd name="textAreaBottom" fmla="*/ 2216160 h 221580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3057840" y="1560240"/>
              <a:ext cx="965520" cy="1335240"/>
              <a:chOff x="3057840" y="1560240"/>
              <a:chExt cx="965520" cy="1335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3227040" y="1655640"/>
                <a:ext cx="380880" cy="2844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3408840" y="2297160"/>
                <a:ext cx="651960" cy="236160"/>
              </a:xfrm>
              <a:custGeom>
                <a:avLst/>
                <a:gdLst>
                  <a:gd name="textAreaLeft" fmla="*/ 0 w 651960"/>
                  <a:gd name="textAreaRight" fmla="*/ 652320 w 6519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2967120" y="2525040"/>
                <a:ext cx="681480" cy="120240"/>
              </a:xfrm>
              <a:custGeom>
                <a:avLst/>
                <a:gdLst>
                  <a:gd name="textAreaLeft" fmla="*/ 0 w 681480"/>
                  <a:gd name="textAreaRight" fmla="*/ 681840 w 6814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4178520" y="500040"/>
              <a:ext cx="739080" cy="905400"/>
              <a:chOff x="4178520" y="500040"/>
              <a:chExt cx="739080" cy="9054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4307040" y="1108080"/>
                <a:ext cx="238320" cy="2725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4155120" y="696240"/>
                <a:ext cx="407880" cy="22752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4572000" y="661680"/>
                <a:ext cx="426600" cy="116280"/>
              </a:xfrm>
              <a:custGeom>
                <a:avLst/>
                <a:gdLst>
                  <a:gd name="textAreaLeft" fmla="*/ 0 w 426600"/>
                  <a:gd name="textAreaRight" fmla="*/ 426960 w 426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573120" y="7086960"/>
              <a:ext cx="1081800" cy="926280"/>
              <a:chOff x="573120" y="7086960"/>
              <a:chExt cx="1081800" cy="9262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363680" y="7497360"/>
                <a:ext cx="188640" cy="3985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933840" y="7617960"/>
                <a:ext cx="322560" cy="33084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589320" y="7172640"/>
                <a:ext cx="337320" cy="1684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169560" y="675720"/>
              <a:ext cx="1489320" cy="1469880"/>
              <a:chOff x="169560" y="675720"/>
              <a:chExt cx="1489320" cy="146988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148760" y="1652760"/>
                <a:ext cx="474480" cy="398160"/>
              </a:xfrm>
              <a:custGeom>
                <a:avLst/>
                <a:gdLst>
                  <a:gd name="textAreaLeft" fmla="*/ 360 w 474480"/>
                  <a:gd name="textAreaRight" fmla="*/ 475200 w 47448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522360" y="948600"/>
                <a:ext cx="812160" cy="330480"/>
              </a:xfrm>
              <a:custGeom>
                <a:avLst/>
                <a:gdLst>
                  <a:gd name="textAreaLeft" fmla="*/ 360 w 812160"/>
                  <a:gd name="textAreaRight" fmla="*/ 812880 w 81216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-20880" y="1393200"/>
                <a:ext cx="848880" cy="168480"/>
              </a:xfrm>
              <a:custGeom>
                <a:avLst/>
                <a:gdLst>
                  <a:gd name="textAreaLeft" fmla="*/ 360 w 848880"/>
                  <a:gd name="textAreaRight" fmla="*/ 849600 w 8488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5569560" y="4989240"/>
              <a:ext cx="905400" cy="2010600"/>
              <a:chOff x="5569560" y="4989240"/>
              <a:chExt cx="905400" cy="201060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5646240" y="6270480"/>
                <a:ext cx="266760" cy="70812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708120"/>
                  <a:gd name="textAreaBottom" fmla="*/ 708480 h 7081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5957280" y="5954040"/>
                <a:ext cx="456840" cy="588240"/>
              </a:xfrm>
              <a:custGeom>
                <a:avLst/>
                <a:gdLst>
                  <a:gd name="textAreaLeft" fmla="*/ -360 w 456840"/>
                  <a:gd name="textAreaRight" fmla="*/ 456840 w 456840"/>
                  <a:gd name="textAreaTop" fmla="*/ 0 h 588240"/>
                  <a:gd name="textAreaBottom" fmla="*/ 588600 h 588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5617440" y="5038920"/>
                <a:ext cx="477720" cy="299880"/>
              </a:xfrm>
              <a:custGeom>
                <a:avLst/>
                <a:gdLst>
                  <a:gd name="textAreaLeft" fmla="*/ -360 w 477720"/>
                  <a:gd name="textAreaRight" fmla="*/ 477720 w 4777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448640" y="3960"/>
              <a:ext cx="1023480" cy="1875240"/>
            </a:xfrm>
            <a:custGeom>
              <a:avLst/>
              <a:gdLst>
                <a:gd name="textAreaLeft" fmla="*/ 0 w 1023480"/>
                <a:gd name="textAreaRight" fmla="*/ 1023840 w 1023480"/>
                <a:gd name="textAreaTop" fmla="*/ 0 h 1875240"/>
                <a:gd name="textAreaBottom" fmla="*/ 1875600 h 187524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2567520" y="214920"/>
              <a:ext cx="809280" cy="125496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360 h 1254960"/>
                <a:gd name="textAreaBottom" fmla="*/ 1255680 h 125496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2376360" y="1815480"/>
              <a:ext cx="390600" cy="5878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-360 h 587880"/>
                <a:gd name="textAreaBottom" fmla="*/ 587880 h 58788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2647080" y="1708920"/>
              <a:ext cx="146520" cy="4932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360 h 493200"/>
                <a:gd name="textAreaBottom" fmla="*/ 493920 h 49320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1908360" y="0"/>
              <a:ext cx="147600" cy="2559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2586600" y="2619000"/>
              <a:ext cx="466560" cy="48682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-360 h 4868280"/>
                <a:gd name="textAreaBottom" fmla="*/ 4868280 h 48682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3911400"/>
              <a:ext cx="42840" cy="279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CB31-882D-48C3-B92C-CCE7927CDBB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844640" y="684000"/>
            <a:ext cx="4610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ртот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Игры, направленные на формирование культурно – гигиенических навыков и навыков самообслуживания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ыполнила: Куварзина А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а гном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3" descr="C:\Users\Аня\Documents\гномики\big-61978.jpg"/>
          <p:cNvPicPr/>
          <p:nvPr/>
        </p:nvPicPr>
        <p:blipFill>
          <a:blip r:embed="rId1"/>
          <a:stretch/>
        </p:blipFill>
        <p:spPr>
          <a:xfrm>
            <a:off x="0" y="4140360"/>
            <a:ext cx="685800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3360" y="179280"/>
            <a:ext cx="618336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9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Чистюли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роверить знания детей о предметах гигиены и их назначени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Воспитательница говорит детям, что хочет убедиться в том, чт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ни чистоплотные и аккуратные: пусть они скажут, что нужно для тог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чтобы волосы, руки и лицо были чистыми (чем больше они смогут об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этом рассказать, тем лучше)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Затем воспитательница говорит: "Руки”. Дети, которых она вызывае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твечают: "Мыло, щетка, полотенце”. Подобным же образом де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реагируют на слова "волосы” (гребень, щетка, ножницы, шампун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ыло), "купание” (ванна, полотенце, душ, умывальник, губка, мыл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.)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риант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ница задает вопрос: "Что нам нужно, когда мы утро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стаем?” Дети знают, что должны назвать предметы гигиены, котор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используются утром (щетка для рук, паста, мыло, платок и п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3851280"/>
            <a:ext cx="617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5" descr="C:\Users\Аня\Documents\сертификаты\ce5599d2e46e352527e20b05cebc86db.jpg"/>
          <p:cNvPicPr/>
          <p:nvPr/>
        </p:nvPicPr>
        <p:blipFill>
          <a:blip r:embed="rId1"/>
          <a:stretch/>
        </p:blipFill>
        <p:spPr>
          <a:xfrm>
            <a:off x="0" y="4932360"/>
            <a:ext cx="6858000" cy="4211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920" y="394920"/>
            <a:ext cx="6597720" cy="831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br>
              <a:rPr sz="1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0 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День рожде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ь правилам культурного поведения в гостях, умению поздравля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руг друг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сти - куклы, игрушки, праздничный стол сервирован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тской посудой, подар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бенок (или выбранный персонаж) сегодня именинник. Он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омощью педагога готовится к приему гостей: сервирует праздничн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стол, украшает шариками, мишурой и приводит в порядок помещ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ти-гости берут маленькие подарки-поделки (заране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иготовленные). Именинник встречает гостей, здоровается со всеми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инимает подарки и приглашает гостей сесть за стол, показывая гост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его место. Рядом с детьми за столом рассажены игрушки. Гос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«пробуют» угощение, «пьют» чай, «едят» мороженое. Педагог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рассказывает детям о правилах поведения в гостях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оздороваться, когда приходишь в гости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без приглашения не входить в комнату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дарить подарок с пожеланиями имениннику (в качестве подар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может быть стихотворение, песня, танец)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за столом не шуметь, не брать пищу руками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риступать к еде после приглашения отведать то или иное угощени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не перебивать друг друга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ользоваться приборами и салфеткой во время еды; - придвигать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отодвигать стул неслышно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осле еды не забыть поблагодарить именинника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еред уходом попрощаться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когда гости уходят, именинник помогает взрослым убирать посуду с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стола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Каждый из детей должен побыть в роли именинник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3360" y="323640"/>
            <a:ext cx="6183360" cy="46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№11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Игра "Угостим кукол чаем"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знакомить ребенка с назначением посуды, учить выполня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едметно-игровые действия (расставлять чашки, блюдц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раскладывать ложки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уклы, детская мебель и посуда (две чашки, два блюдца, дв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ложки, чайник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говорит малышу: "К нам в гости пришли куклы, их над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посадить за стол, угостить чаем. Давай расставим чашки и блюдц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еперь разложи ложки к чашкам. Налей чай в чашки. Напои чаем наши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гостей". Если ребенок испытывает затруднения, показать, как над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действовать. В конце игры взрослый подытоживает: "Чай мы наливали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чашки, куклы пили чай", произносит потешку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айник на столе поставим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Блюдца, чашки мы расставим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Будем мы гостей встречать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Кукол чаем угощать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97000" y="4356000"/>
            <a:ext cx="489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4" descr="ds-r"/>
          <p:cNvPicPr/>
          <p:nvPr/>
        </p:nvPicPr>
        <p:blipFill>
          <a:blip r:embed="rId1"/>
          <a:stretch/>
        </p:blipFill>
        <p:spPr>
          <a:xfrm>
            <a:off x="765000" y="4932360"/>
            <a:ext cx="5472360" cy="3816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1920" y="394920"/>
            <a:ext cx="6183360" cy="2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навыков  самообслужи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3000" y="1042560"/>
            <a:ext cx="6172200" cy="77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2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Куклу на прогулк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звивать представление детей об одежде, назначении вещ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ь последовательно одеваться. Воспитывать бережно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ношение к одежде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ериал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кукла, коробка с одеждой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д детьми сидит кукла Катя. На столе красивая коробка с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щам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говорит и показывает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В коробке Катина одежд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стает пальто и говорит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Это пальт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повторяют за воспитателем. Воспитатель называет цвет пальт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дети повторяют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достает шапочку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На, Катя, шапочку. Ее надевают на голову.  Дети поочередно достают из коробки колготки, кофточк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начинает одевать Катю на прогулку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:   -Сначала наденем кофточк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месте с детьми воспитатель последовательно одевает колготки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фту, шапку, пальт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клу выносят в раздевалку. Она смотрит как дети начинаю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еваться на прогулку. Некоторым детям воспитатель (кукла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оминают последовательность одевания, поощряю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ые действия дет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кла с детьми идет гулять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1920" y="137880"/>
            <a:ext cx="618336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тодике М. Монтессо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2720" y="971280"/>
            <a:ext cx="6172200" cy="78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рточка № 13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тн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потребуются: картон, дырокол, разноцветные шнур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елайте дыроколом несколько отверстий в картоне. Покажите малышу, как сквозь них можно протаскивать шнурок. Пусть малыш потренируется на одной или на двух дырочках. В дальнейшем задания можно усложнять, создавая с помощью дырокола контур несложного рисунк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гра способствует развитию мелкой моторики, координации движ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уговиц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потребуются: круг из цветного картона диаметром 10 см, картонный лист, дырокол, разноцветные шнур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делайте дыроколом по два отверстия на круге и на листе картона. Предложите малышу «пришить пуговицу» на лист с помощью шнурков. Покажите, как это делается. Обращайте внимание ребенка на цвет круга и шнурков: «Давай пришьем желтую пуговицу красным шнурком». Попросите ребенка сделать это самодеятельн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 Дождь пошел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потребуются: картон, дырокол, разноцветные шнур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листе картона нарисуйте тучи. Под ними сделайте несколько отверстий таким образом, чтобы продетые в них шнурки образовывали прямые линии (дождь из тучи). Покажите малышу, как можно продевать и сквозь отверст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мей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потребуются: картон, дырокол, цветные шнур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елайте отвейся в картоне так, чтобы при продевании сквозь них шнурка образовывалась волнистая линия. Попросите малыша сделать змейку из шнурков. Называйте цвет каждого шнурк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3360" y="324000"/>
            <a:ext cx="6183360" cy="84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4 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мки с застежками.</a:t>
            </a:r>
            <a:br>
              <a:rPr sz="18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еревянные рамки с различными застежкам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большие пуговицы, маленькие пуговицы, кнопки, банты, шнурок, который вдевается в дырку, шнурок, который наматывается на крючки и петли, застежки из ремешков, застежки-"липучки"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ериал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 качестве примера приводим работу с застежкой "бант". Квадратная деревянная рамка, обтянутая тканью из дву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винок, с внутренней стороны которых пришиты по 5 тесемок. Тесемки одной половинки отличаются по цвету от тесемок  другой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звязывание и завязывание бантов, развитие моторики, координация движении. Возраст: около трех лет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работать с материало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ель начинает снизу вверх развязывать один бант за другим. Он берется за концы завязок и тянет и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зные стороны. Завязывание банта - очень сложное действие. Через анализ хода событий и повторение ребенок яснее понимает ход действия. Он развязывает снизу вверх все узлы, откидывает в разные стороны половинки ткани и расправляет завязки с разных сторон. Двумя руками он берется за половинки ткани в уголках и совмещает их на середине. Он берет две нижние завязки и кладет их друг на друга крест - накрест. Действия с завязками выполняют не всей рукой, а только кистью. То же самое происходит со всеми остальными завязками. Затем учитель просовывает конец верхней завязки под нижнюю и тянет за  него. Так получается узел. Из одной завязки он образует петлю и держит ее у самого узла большим и указательным пальцами. Большим и указательным пальцами другой руки он ведет свободную завязку спереди назад вокруг петли и просовывает ее через возникшее отверстие над узлом. Затем учитель выполняет действие с двумя петлями одновременно, так, чтобы из них получился «бант с равными концами. Ребенок может повторить упражнение полностью или только часть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над ошибкам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ловинки ткани не подходят друг другу. Бант развязывается сам собой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мене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вязать бант на своей одежде или на одежде другого ребенка. Помощь в приобретении самосто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3360" y="324000"/>
            <a:ext cx="6183360" cy="28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5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Приведи куклу в порядок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формировать интерес к самостоятельным действиям при одевани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укла, кукольная одежд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риходит с раздетой куклой, приносит кукольные вещ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и просит ребенка помочь ему одеть куклу. При этом говорит: «Кукл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ля не может одеться, ей холодно, давай оденем Олю, ей будет тепло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Сначала надо одеть трусики, потом майку, а затем платье». Взросл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едлагает ребенку оде­вать куклу, соблюдая последовательность. Пр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затруднении применяются совместные действ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49360" y="2555640"/>
            <a:ext cx="57592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5" descr="C:\Users\Аня\Documents\сертификаты\285215_935xp.jpg"/>
          <p:cNvPicPr/>
          <p:nvPr/>
        </p:nvPicPr>
        <p:blipFill>
          <a:blip r:embed="rId1"/>
          <a:stretch/>
        </p:blipFill>
        <p:spPr>
          <a:xfrm>
            <a:off x="0" y="3132000"/>
            <a:ext cx="6858000" cy="5761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1920" y="137880"/>
            <a:ext cx="6183360" cy="277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6 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Занятие «Оденемся на прогулк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одеваться, правильно соотносить предмет одежды с часть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тела, застегивать одежду на липуч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дежда ребен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редлагает одеваться на прогулку: расклады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вещи перед ребенком и объ­ясняет, что определенный предмет одежд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надо наде­вать на определенную часть тела. Ребенок одевается, пр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затруднении взрослый помогает ему одеваться, обращает внимание 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способ застежки липучко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3000" y="2339640"/>
            <a:ext cx="6172200" cy="65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C:\Users\Аня\Documents\сертификаты\0005-002-.png"/>
          <p:cNvPicPr/>
          <p:nvPr/>
        </p:nvPicPr>
        <p:blipFill>
          <a:blip r:embed="rId1"/>
          <a:stretch/>
        </p:blipFill>
        <p:spPr>
          <a:xfrm>
            <a:off x="260280" y="2987640"/>
            <a:ext cx="5832720" cy="3745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3360" y="394920"/>
            <a:ext cx="61833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7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Найди пар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различать парную обувь, подбирать нужную пару обув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бувь — сапоги, ботинки, кукла Маш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вводит ребенка в игровую си­туацию: «Маша-растеряш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разбросала свою обувь по разным углам. Она не может ничего най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сама. Один ботинок нашла, а другой найти не может, один сапог нашл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а другой не знает, где найти!» и т.д. Ребенку предлагается помоч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аше найти нужную пару обу­ви. Взрослый показывает один ботинок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едлагает найти пару и т.д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алее взрослый предлагает ребенку примерить Маше найденну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був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000" y="3203280"/>
            <a:ext cx="617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1217784135_0lik"/>
          <p:cNvPicPr/>
          <p:nvPr/>
        </p:nvPicPr>
        <p:blipFill>
          <a:blip r:embed="rId1"/>
          <a:stretch/>
        </p:blipFill>
        <p:spPr>
          <a:xfrm>
            <a:off x="333360" y="4140360"/>
            <a:ext cx="6191280" cy="4608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3360" y="250560"/>
            <a:ext cx="618336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8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«Подберем куклам одежд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ь называть предметы одежды, дифференцировать одежду дл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альчиков и девочек, последовательно одевать кукл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е куклы - кукла Митя и кукла Катя, наборы одежды дл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ити и для Кати: рубашка, брюки, свитер, кеды; платье, кофта, юбк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туфл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дагог: «Посмотрите, дети, к нам в гости пришли куклы, но он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е могут одеться, они перепутали свою одежду и не могут найти сво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ещи. Давайте, поможем им разобраться, где, чьи вещи». Далее педагог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едлагает детям выделить заранее подготовленную одежду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альчика Мити и для девочки Кати. Педагог спрашивает: «Что нося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вочки, а что мальчики?» После того, когда дети выберут одежду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кукол, один ребенок начинает одевать Митю, а другой - Катю. Педагог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 это время акцентирует внимание детей на последователь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девания. Если ребенок самостоятельно не справляется, взросл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омогает ему совместными действиями. Игра проводи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оследующих вариантах со сменой кукол и одежды и помог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закрепить выбор одежды для мальчиков и девочек. Педагог обязательн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хвалит детей за то, что куклы одеты правильно и красив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000" y="4572000"/>
            <a:ext cx="61722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5" descr="C:\Users\Аня\Documents\сертификаты\S20006_2.jpg"/>
          <p:cNvPicPr/>
          <p:nvPr/>
        </p:nvPicPr>
        <p:blipFill>
          <a:blip r:embed="rId1"/>
          <a:stretch/>
        </p:blipFill>
        <p:spPr>
          <a:xfrm>
            <a:off x="620640" y="4932360"/>
            <a:ext cx="5715000" cy="3433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1920" y="137880"/>
            <a:ext cx="6183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Формирование культурно – гигиенических навы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1403280"/>
            <a:ext cx="617220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рточка №1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Водичка, водичка!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формировать интерес к самостоятельности при  выполнен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выков самообслужи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ве кукл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взрослый показывает детям двух кукол и говорит, что кукл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тят обедать, но у них грязные  руки и лицо. Взрослы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шивает: «Что надо сделать? Надо вымыть куклам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росим водичк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дичка, водичк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мой мое личико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ы глазоньки блестели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ы щечки краснели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 кусался зубок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 смеялся роток!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казывает и рассказывает детям, как надо мыть куклам руки и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цо перед обедом. Далее предлагает детям вымыть  свои руки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цо по подражанию. При этом взрослый повторяет потешку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Водичка, водичка!»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C:\Users\Аня\Documents\гномики\121938028__Gnom_Tihonya_stoit.png"/>
          <p:cNvPicPr/>
          <p:nvPr/>
        </p:nvPicPr>
        <p:blipFill>
          <a:blip r:embed="rId1"/>
          <a:stretch/>
        </p:blipFill>
        <p:spPr>
          <a:xfrm>
            <a:off x="3645000" y="428472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7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7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7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7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12640" y="684000"/>
            <a:ext cx="4321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04280" y="3851280"/>
            <a:ext cx="61722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Ш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октор, доктор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к нам бы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ши мы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ли не мы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сли мы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о как нам бы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асто мы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ли  пореж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вечает доктор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Еже...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вечает доктор гневно: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же...еже...ежедневно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Э. Мошковская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hygiene30"/>
          <p:cNvPicPr/>
          <p:nvPr/>
        </p:nvPicPr>
        <p:blipFill>
          <a:blip r:embed="rId1"/>
          <a:stretch/>
        </p:blipFill>
        <p:spPr>
          <a:xfrm>
            <a:off x="1413000" y="395280"/>
            <a:ext cx="4535280" cy="3529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Image8"/>
          <p:cNvPicPr/>
          <p:nvPr/>
        </p:nvPicPr>
        <p:blipFill>
          <a:blip r:embed="rId1"/>
          <a:stretch/>
        </p:blipFill>
        <p:spPr>
          <a:xfrm>
            <a:off x="404640" y="4067280"/>
            <a:ext cx="6188400" cy="3992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2492280" y="795600"/>
            <a:ext cx="3865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тром звери просыпались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исто звери умывались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Лишь Медведь не умывался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умытым он остался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али мы его купать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 головою окунать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ачет Мишенька: - Простите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 меня вы отпустите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Я большой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Я буду сам -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мываться по утрам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04640" y="404640"/>
            <a:ext cx="619308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рточка №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 «Вымой руки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мыть р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точка резинов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обращается к ребенку: «Мы пришли с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гулки, нам нужно вымыть ручки. Уточка буде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мотреть, как мы моем ручки». Взрослый ставит игрушк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край умывальника и показывает ребенку движен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ами под струей воды. В конце процедуры взрослы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имени уточки хвалит ребен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альнейшем навык мытья рук усложняется: ребен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т открывать кран с водой, намыливать руки мылом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тирать полотенцем и вешать полотенце на крючо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2720" y="3708000"/>
            <a:ext cx="6172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5" descr="C:\Users\Аня\Documents\сертификаты\2cdf3557c07384cff5dd806239bb1dcf--baby-cards-clipart.jpg"/>
          <p:cNvPicPr/>
          <p:nvPr/>
        </p:nvPicPr>
        <p:blipFill>
          <a:blip r:embed="rId1"/>
          <a:stretch/>
        </p:blipFill>
        <p:spPr>
          <a:xfrm>
            <a:off x="333360" y="3635280"/>
            <a:ext cx="5975280" cy="5184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4640" y="394920"/>
            <a:ext cx="618336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рточка №3 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 «Сделаем лодочки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последовательно выполнять действия при мыть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рук,  подражать действиям взрослог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обращает внимание ребенка на то, чт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при мытье рук надо соблюдать последователь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действ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1.Засучить рукава, проговаривая потешку: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то рукавчик не засучит, тот водички не получит!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2. открыть кран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3. сложить ладони рук «лодочкой»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4. подставить руки под струю вод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5. закрыть кран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6. вытереть руки полотенце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Затем взрослый предлагает ребенку выполни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йствия по подражанию, обращая внимание ребен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а положение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4427640"/>
            <a:ext cx="6172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ecdd1295f4a0"/>
          <p:cNvPicPr/>
          <p:nvPr/>
        </p:nvPicPr>
        <p:blipFill>
          <a:blip r:embed="rId1"/>
          <a:stretch/>
        </p:blipFill>
        <p:spPr>
          <a:xfrm>
            <a:off x="260280" y="4427640"/>
            <a:ext cx="6337440" cy="4356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92280" y="178920"/>
            <a:ext cx="597528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рточка № 4  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«Мыльные перчатки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намыливать руки с внешней и внутренней  стороны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етское мыло, полотенц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одводит ребенка к умывальнику,  стоит за 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спиной, берет в руки мыло и показывает  круговые движения рук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мылом. Затем ребенку передает кусок мыла и просит повтори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движения намыливания. Намыливание рук нужно проводить до те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пор, пока не образуется белая пена. Обращается внимание ребенка н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белые ручки, взрослый говорит: «Вот, какие у нас перчатки белые!»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Далее взрослый помогает ребенку смыть пену под струей воды, пр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этом проговаривает одну из потешек. Например: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Ладушки, ладушки, с мылом моем лапушки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Чистые ладошки, вот вам хлеб да ложки!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В кране булькает вода. Очень даже здорово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Моет рученьки сама Машенька Егорова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(или взрослый называет имя ребенка)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Знаем, знаем, да, да, да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Где тут прячется вод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В конце игры взрослый хвалит ребенка и обращает внимание на 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чистые руки. При затруднениях используются совместные действ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взрослого и  ребен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41000" y="5579640"/>
            <a:ext cx="44449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C:\Users\Аня\Documents\сертификаты\8o.jpg"/>
          <p:cNvPicPr/>
          <p:nvPr/>
        </p:nvPicPr>
        <p:blipFill>
          <a:blip r:embed="rId1"/>
          <a:stretch/>
        </p:blipFill>
        <p:spPr>
          <a:xfrm>
            <a:off x="1557360" y="6372360"/>
            <a:ext cx="4248000" cy="248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3360" y="179280"/>
            <a:ext cx="6183360" cy="51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очка №5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 «Умывалочка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умыватьс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еркало, полотенц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риводит ребенка (после сна) в ванную комнату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осит ребенка посмотреть па себя в зеркало, обращает его вним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а глазки, ротик, щечки и т.д. Предлагает ребенку умыться имеете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им, при этом показывает, как это нужно сделать. В процессе действ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зрослый произносит потешку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ходи, водица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мы пришли умыться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Лейся на ладошку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по-нем-нож-ку..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Нет, не понемножку —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посмелей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будем умыватьс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веселей!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конце умывания взрослый учит малыша выти­рать лицо насух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полотенцем, просит посмотреть на себя в зеркало, произносит: «А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какой чистый ребе­нок, посмотри на себя в зеркало!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6280" y="4859280"/>
            <a:ext cx="547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5" descr="C:\Users\Аня\Documents\сертификаты\hello_html_m17c3b105.jpg"/>
          <p:cNvPicPr/>
          <p:nvPr/>
        </p:nvPicPr>
        <p:blipFill>
          <a:blip r:embed="rId1"/>
          <a:stretch/>
        </p:blipFill>
        <p:spPr>
          <a:xfrm>
            <a:off x="0" y="5364000"/>
            <a:ext cx="6858000" cy="3780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3360" y="324000"/>
            <a:ext cx="618336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Делаем прическ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держать в руке расческу и расчесывать волосы движен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сверху вниз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еркало, расческа, нарядная кукл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демонстрирует ребенку куклу и обращает внимание н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ее прическу: «Посмотри, у куклы красивая прическа: длинные, ровны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волосы, бантик. Красивая кукла! Давай и тебе сделаем красив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прическу!» Взрослый расчесывает перед зеркалом волосы ребенк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затем просит малыша попробовать расчесаться самому: дает расческу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руки ребенку при этом помогает ему удерживать расческу, вести рук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с расческой сверху вниз. В конце расчесывания просит ребен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посмотреть в зеркало, обращает его внимание на то, что он стал таки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же красивым, как кук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3203280"/>
            <a:ext cx="61722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231n"/>
          <p:cNvPicPr/>
          <p:nvPr/>
        </p:nvPicPr>
        <p:blipFill>
          <a:blip r:embed="rId1"/>
          <a:stretch/>
        </p:blipFill>
        <p:spPr>
          <a:xfrm>
            <a:off x="333360" y="3203640"/>
            <a:ext cx="6191280" cy="5616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3360" y="394920"/>
            <a:ext cx="618336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7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Кукла заболела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пользоваться носовым платко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укла, одноразовые носовые плат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демонстрирует детям куклу и говорит: «Вот кукл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аша, заболела, ей трудно дышать носиком. В кармане у нее лежи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осовой платок. Поможем Маше почистить носик!» Взросл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оговаривает потешку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аша заболела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трудно ей дышать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Мы платочком будем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носик вытирать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зрослый показывает детям, как правильно ис­пользовать носов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латок, демонстрируя действие на кукле. Предлагает детям повтори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йствие по подража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3924000"/>
            <a:ext cx="6172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C:\Users\Аня\Documents\сертификаты\doktor-picture-big.jpg"/>
          <p:cNvPicPr/>
          <p:nvPr/>
        </p:nvPicPr>
        <p:blipFill>
          <a:blip r:embed="rId1"/>
          <a:stretch/>
        </p:blipFill>
        <p:spPr>
          <a:xfrm>
            <a:off x="260280" y="4500720"/>
            <a:ext cx="6193080" cy="3240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34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рточка № 8 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 «Носики-курносики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одолжать учить пользоваться индивидуальным носовым платко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ндивидуальные носовые плат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роговаривает потешку, демонстрируя кажд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йствие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осовой платок в кармашке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достает платок из кармана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удем нос им вытирать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казывает действие с платком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ы носик, наш курносик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убирает платок в карман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нова чистым был опять. 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рослый просит каждого ребенка, показать, как он умеет пользовать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носовым платко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3564000"/>
            <a:ext cx="61722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5" descr="C:\Users\Аня\Documents\сертификаты\maxresdefault.jpg"/>
          <p:cNvPicPr/>
          <p:nvPr/>
        </p:nvPicPr>
        <p:blipFill>
          <a:blip r:embed="rId1"/>
          <a:stretch/>
        </p:blipFill>
        <p:spPr>
          <a:xfrm>
            <a:off x="0" y="363528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32:20Z</dcterms:created>
  <dc:creator>XTreme</dc:creator>
  <dc:description/>
  <dc:language>en-US</dc:language>
  <cp:lastModifiedBy>Аня</cp:lastModifiedBy>
  <dcterms:modified xsi:type="dcterms:W3CDTF">2023-05-09T13:22:24Z</dcterms:modified>
  <cp:revision>17</cp:revision>
  <dc:subject/>
  <dc:title>Слайд 1</dc:title>
</cp:coreProperties>
</file>