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116-990F-4576-A68C-E3AC3E66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559-3885-4B59-8735-D1FC7D4B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946-DE96-4D41-9EEA-81954978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253-5762-42F3-9FAB-7BCC9A1D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D44-41B1-4C30-B5E2-A6B1E91F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843-CAB1-47C1-83E5-A7D7CA50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C0D-6F41-4D56-8460-D1CE0D02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5AB-FD49-4A80-A348-ACC2A22D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7CA-0E50-48E0-AD03-86E45CC8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D4E-14ED-4F15-ACB6-C283E29B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625-37BC-4D20-9587-8D8D34B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323-B003-471B-9BE8-F56F285A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63F5-65BA-4332-9D72-7C1CC668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42" t="8010" r="1961" b="3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2184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Broadway"/>
              </a:rPr>
              <a:t>ГОРОДЕЦКАЯ РОСПИС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551664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7372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педагог дополнительного образования Новиков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2744" b="5900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715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4836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16:48:58Z</dcterms:created>
  <dc:creator>1</dc:creator>
  <dc:description/>
  <dc:language>en-US</dc:language>
  <cp:lastModifiedBy>Windows User</cp:lastModifiedBy>
  <dcterms:modified xsi:type="dcterms:W3CDTF">2022-03-05T06:16:29Z</dcterms:modified>
  <cp:revision>8</cp:revision>
  <dc:subject/>
  <dc:title>Слайд 1</dc:title>
</cp:coreProperties>
</file>