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F17C2-BC56-46D0-BF22-583840B1E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1AC28-94E0-4615-B2C4-BA3B32FF7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7D5FB-B7F1-4923-B175-8DCE1A171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3A37A-8CF0-455C-9D22-7CC1BF68F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341A4-4E0E-4826-A1C1-4EC7CFDFA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F2296-34ED-4DCD-8C60-BE8C46949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EC112-431F-491F-A479-AF7C4B6F6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1D702-D4AD-4CFB-B63C-A328AEAEC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8B7F5-0BC3-47E1-9080-0CAE478E1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9FF96-FFCA-42DF-86DA-661FA8D40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937C5-7A4D-42A3-BA18-4160639ED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2108F-A356-4F37-889B-FA6239FF2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FD7E3-8D81-4CC4-BE9C-6849F20BBA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2742" t="8010" r="1961" b="379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9280" y="1844280"/>
            <a:ext cx="8218440" cy="25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0000"/>
                </a:solidFill>
                <a:latin typeface="Broadway"/>
              </a:rPr>
              <a:t>ГОРОДЕЦКАЯ РОСПИС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92360" y="5516640"/>
            <a:ext cx="6408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373720"/>
            <a:ext cx="504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дготовила: педагог дополнительного образования Новикова Л. 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0" r="2744" b="5900"/>
          <a:stretch/>
        </p:blipFill>
        <p:spPr>
          <a:xfrm>
            <a:off x="0" y="0"/>
            <a:ext cx="914400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3715920"/>
            <a:ext cx="896472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СПАСИБО ЗА ВНИМАНИЕ 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9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684360" y="765000"/>
            <a:ext cx="7848360" cy="573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12T16:48:58Z</dcterms:created>
  <dc:creator>1</dc:creator>
  <dc:description/>
  <dc:language>en-US</dc:language>
  <cp:lastModifiedBy>Windows User</cp:lastModifiedBy>
  <dcterms:modified xsi:type="dcterms:W3CDTF">2022-03-05T06:16:29Z</dcterms:modified>
  <cp:revision>8</cp:revision>
  <dc:subject/>
  <dc:title>Слайд 1</dc:title>
</cp:coreProperties>
</file>