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EEE5-424C-4F5A-BF54-83F63D283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BB9A-EADF-4169-80C8-B172308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099E-0B19-4CE8-983A-B010EB4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28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136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28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136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6CAB-FF33-45DB-B3FA-071BE4843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BDD25-1E5C-4A86-AFEE-CA8B2FCB9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FA347-CFB3-48F4-A8DE-1DB1A40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70C52-575B-4F16-87CD-8A3A3313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BD7A-A3E8-479E-8970-CA7CDB52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65BA0-3B62-4695-A38A-5B447F7E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81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F985C-C22C-409D-A78A-963E689B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06F0A-FAE2-4CE7-981F-1C1990D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1A37-DDFF-439C-B248-7CC227C1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74817-F3FE-42DD-93F5-6AE1919E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5726D-B137-4A06-8313-6FB331C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C0C1C-6692-47ED-89B3-F7F305A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99A34-1933-40D3-8D00-CA2C34E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224928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4507200"/>
            <a:ext cx="264924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3BE02-ED1F-4AB0-90C2-8312CFBB9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69CD-370B-4587-9310-0C0F79B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36FB-E688-4B8C-A9B2-BFDAE952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0C29-DAC8-4F87-9463-52400167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81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09C4-2EC4-4F49-9CEE-55C7BD06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4970-14C7-4C6C-8F5A-A033EB3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3520" y="450720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4597-93C8-420D-B6DA-B70789AC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2249280"/>
            <a:ext cx="401508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507200"/>
            <a:ext cx="8228160" cy="20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B002-6201-4A23-918B-B6AD9E5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7800"/>
            <a:ext cx="91440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410080" y="437760"/>
            <a:ext cx="3733920" cy="1792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43920" y="-1440"/>
            <a:ext cx="2700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24840" y="-1440"/>
            <a:ext cx="79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15400" y="0"/>
            <a:ext cx="5400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5410080" y="4114800"/>
            <a:ext cx="3733920" cy="79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V="1">
            <a:off x="5410080" y="4164120"/>
            <a:ext cx="1965600" cy="172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 flipV="1">
            <a:off x="5410080" y="4199040"/>
            <a:ext cx="1965600" cy="79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10080" y="3962520"/>
            <a:ext cx="306252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0" y="3675240"/>
            <a:ext cx="9144000" cy="139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 flipV="1">
            <a:off x="6413400" y="3641760"/>
            <a:ext cx="272916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67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360" y="4206600"/>
            <a:ext cx="958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9.1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sldNum" idx="2"/>
          </p:nvPr>
        </p:nvSpPr>
        <p:spPr>
          <a:xfrm>
            <a:off x="8319600" y="1440"/>
            <a:ext cx="746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2F60E9-3F84-4679-81F4-7E986B3B8051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7800"/>
            <a:ext cx="91440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10080" y="437760"/>
            <a:ext cx="3733920" cy="1792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43920" y="-1440"/>
            <a:ext cx="27000" cy="620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24840" y="-1440"/>
            <a:ext cx="79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15400" y="0"/>
            <a:ext cx="5400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8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8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6586200" y="612720"/>
            <a:ext cx="95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9.1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4"/>
          </p:nvPr>
        </p:nvSpPr>
        <p:spPr>
          <a:xfrm>
            <a:off x="8175600" y="144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908B7B-39B3-450C-9CBC-8FD6B068440F}" type="slidenum">
              <a:rPr b="0" lang="ru-RU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QR-&#1082;&#1086;&#1076;#cite_note-QRCodefeatures-2" TargetMode="External"/><Relationship Id="rId2" Type="http://schemas.openxmlformats.org/officeDocument/2006/relationships/hyperlink" Target="https://ru.wikipedia.org/wiki/QR-&#1082;&#1086;&#1076;#cite_note-qrce-3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920" y="571680"/>
            <a:ext cx="67215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20720" y="4608000"/>
            <a:ext cx="7848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 на тему: QR </a:t>
            </a: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- к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28720" y="595440"/>
            <a:ext cx="52149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26216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QR-код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(англ . 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Quick  Response  Code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— код быстрого реагирования; сокр.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QR code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) — тип матричных штрих кодов (или двумерных штрих кодов), изначально разработанных для автомобильной промышленности Японии. Сам термин является зарегистрированным товарным знаком японской компании «Denso». Штрих код — считываемая машиной оптическая метка, содержащая информацию об объекте, к которому она привязана. QR-код использует четыре стандартизированных режима кодирования (числовой, буквенно-цифровой, двоичный и кандз) для эффективного хранения данных; могут также использоваться расширения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[2]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стема QR-кодов стала популярной за пределами автомобильной промышленности благодаря возможности быстрого считывания и большей ёмкости по сравнению со штрих кодами стандарта UPC. Расширения включают отслеживание продукции, идентификацию предметов, отслеживание времени, управление документами и общий маркетинг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[3]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QR-код состоит из чёрных квадратов, расположенных в квадратной сетке на белом фоне, которые могут считываться с помощью устройств обработки изображений, таких как камера, и обрабатываться с использованием кодов Рида — Соломона до тех пор, пока изображение не будет надлежащим образом распознано. Затем необходимые данные извлекаются из шаблонов, которые присутствуют в горизонтальных и вертикальных компонентах изоб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1541520"/>
            <a:ext cx="4186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помощью QR-кода стало возможно проводить банковские переводы. Можно оплачивать покупки, погашать штрафы, вносить платежи по квитанциям. Не нужно вносить реквизиты для перевода. Достаточно считать QR-код, подтвердить операцию и деньги переведутся полу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29120" y="2000160"/>
            <a:ext cx="40006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439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"/>
          <p:cNvSpPr/>
          <p:nvPr/>
        </p:nvSpPr>
        <p:spPr>
          <a:xfrm>
            <a:off x="249120" y="1152360"/>
            <a:ext cx="55101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тивно QR-код применяется в туристической сфере. Его помещают возле различных достопримечательностей и музейных экспонатов. Каждый турист может просто считать код и перейти по полученной ссылке на соответствующую страницу в Интернете. Таким образом можно самому для себя провести экскурсию без г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72120" y="2143080"/>
            <a:ext cx="235764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мен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6360" y="2571840"/>
            <a:ext cx="3387600" cy="400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880" y="1479600"/>
            <a:ext cx="421812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код позволяет получать большой объем информации всего за несколько секунд. Благодаря этому QR-код активно используется на упаковках с товаром. Теперь покупателю доступно еще больше информации о товаре, а производитель может лишний раз прорекламировать свою проду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Чтение QR код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"/>
          <p:cNvSpPr/>
          <p:nvPr/>
        </p:nvSpPr>
        <p:spPr>
          <a:xfrm>
            <a:off x="417600" y="1440000"/>
            <a:ext cx="361476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мартфоне должно быть установлено специальное при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чтения QR-кода нужно поднести камеру смартфона к коду. Программа расшифрует код, а затем предложит выполнить определённое действие, предусмотрённое в содержимом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2040" y="2357280"/>
            <a:ext cx="3143160" cy="40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576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личие штрих кода от QR код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1511280"/>
            <a:ext cx="77155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трих-код содержал в себе 27 знаков, и приходилось вручную вносить все данные. QR-код вмещает в себя до 7000 знаков. В нем содержится информация о необходимых банковских реквизитах, включая БИК, расчетный счет, информацию о клиенте. Чтобы провести платеж, достаточно подойти и терминалу, и информация будет считана в автоматическом режиме. Можно и еще проще: узнать всю информацию о платеже, отсканировав QR-код на смартфоне и тут же оплатить через онлайн-ба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112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создать QR ко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"/>
          <p:cNvSpPr/>
          <p:nvPr/>
        </p:nvSpPr>
        <p:spPr>
          <a:xfrm>
            <a:off x="411120" y="143496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самом деле , рассказать о том, как создать такой QR-код довольно просто. Чтобы его сгенерировать, можно просто воспользоваться одним из серви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cod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cc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code-generat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mani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creambe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устроен QR ко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43496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QR-коды всегда имеют квадратную форму. Сердцем кода является так называемая матрица с ее замысловатым рисунком. Черные линии и квадраты содержат данные, которые хранятся в модулях. Количество модулей зависит от того, какой объем данных необходимо сохранить. Самый маленький QR-код (версия 1) содержит 441 модуль (21х21). Версия 40 имеет 31 329 модулей (177х177) и, соответственно, больший размер. Кроме того, QR-код содержит дополнительные данные, необходимые для корректного распознавания информации программами-сканерами мобильных телефо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0-10-09T09:32:16Z</dcterms:modified>
  <cp:revision>0</cp:revision>
  <dc:subject/>
  <dc:title/>
</cp:coreProperties>
</file>