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66AE9-907B-4DB1-8AEA-4F195C6002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816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4507200"/>
            <a:ext cx="822816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D87F4-B84F-47A2-96D9-8513B544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50720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3520" y="450720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9790-A757-40FA-BF7F-38DB6827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280" y="224928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1360" y="224928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450720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280" y="450720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1360" y="450720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E282-98BE-4F8E-9EBF-D7ADB915EF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384A0-C9C5-4BA0-9368-11579CFFA3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280"/>
            <a:ext cx="822816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93C69-3DA0-4472-A9AA-B8F00EAB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8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6995D-B60C-43E7-8FA0-4B284DEC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AC796-F565-4F45-803A-47B02886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34465-32FE-4AE5-8C6F-7689901E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81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871AC-3921-4BE1-9FFE-BCDA8F22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720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C65C3-B52C-47FC-BC52-104D1C49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2249280"/>
            <a:ext cx="822816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5294-B740-4732-95A5-5248AF51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520" y="450720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72222-3165-4C48-B84C-863822D0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7200"/>
            <a:ext cx="822816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84315-F27A-483D-976B-D30EE62A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816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7200"/>
            <a:ext cx="822816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D4E7E-0C33-42FA-807A-C58E3DE5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720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520" y="450720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2A7F8-9DFB-4565-A9D3-9582F9A7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280" y="224928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1360" y="224928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720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280" y="450720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1360" y="450720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72E93-8E6C-43D6-90E8-DBF3018DF2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8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23C97-C90F-4FC0-8197-FEBDEE6D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82AD-3372-4C04-82EB-CC75B7CB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3F7C-6A22-4909-BA2E-EF3961BB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81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84A3-36B9-4FC9-A949-C5C05771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50720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0E769-FDCF-4754-AC70-A4D6805D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3520" y="450720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5EE74-A7A6-44B0-B5DC-C9FA7E72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507200"/>
            <a:ext cx="822816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21C2-55D6-4950-894E-F72667C7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0960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7800"/>
            <a:ext cx="914400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5410080" y="437760"/>
            <a:ext cx="3733920" cy="1792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07200" y="496800"/>
            <a:ext cx="3062160" cy="270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043920" y="-1440"/>
            <a:ext cx="27000" cy="6206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9024840" y="-1440"/>
            <a:ext cx="79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15400" y="0"/>
            <a:ext cx="5400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V="1">
            <a:off x="5410080" y="4114800"/>
            <a:ext cx="3733920" cy="792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 flipV="1">
            <a:off x="5410080" y="4164120"/>
            <a:ext cx="1965600" cy="172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 flipV="1">
            <a:off x="5410080" y="4199040"/>
            <a:ext cx="1965600" cy="792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10080" y="3962520"/>
            <a:ext cx="3062520" cy="270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0" y="3675240"/>
            <a:ext cx="9144000" cy="139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 flipV="1">
            <a:off x="6413400" y="3641760"/>
            <a:ext cx="272916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67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360" y="4206600"/>
            <a:ext cx="958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9.10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sldNum" idx="2"/>
          </p:nvPr>
        </p:nvSpPr>
        <p:spPr>
          <a:xfrm>
            <a:off x="8319600" y="1440"/>
            <a:ext cx="746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3C148CE-661A-4705-81F4-11E479B6B741}" type="slidenum">
              <a: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0960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7800"/>
            <a:ext cx="914400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410080" y="437760"/>
            <a:ext cx="3733920" cy="1792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07200" y="496800"/>
            <a:ext cx="3062160" cy="270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43920" y="-1440"/>
            <a:ext cx="27000" cy="6206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24840" y="-1440"/>
            <a:ext cx="79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915400" y="0"/>
            <a:ext cx="5400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8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3"/>
          </p:nvPr>
        </p:nvSpPr>
        <p:spPr>
          <a:xfrm>
            <a:off x="6586200" y="612720"/>
            <a:ext cx="955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9.10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4"/>
          </p:nvPr>
        </p:nvSpPr>
        <p:spPr>
          <a:xfrm>
            <a:off x="8175600" y="1440"/>
            <a:ext cx="760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92C1BAD-4182-4CA2-8583-E8081F45F9D3}" type="slidenum">
              <a: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QR-&#1082;&#1086;&#1076;#cite_note-QRCodefeatures-2" TargetMode="External"/><Relationship Id="rId2" Type="http://schemas.openxmlformats.org/officeDocument/2006/relationships/hyperlink" Target="https://ru.wikipedia.org/wiki/QR-&#1082;&#1086;&#1076;#cite_note-qrce-3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1920" y="571680"/>
            <a:ext cx="67215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ЕЗЕНТАЦИЯ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20720" y="4608000"/>
            <a:ext cx="7848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езентация на тему: QR </a:t>
            </a: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- к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28720" y="595440"/>
            <a:ext cx="521496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стория QR код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262160"/>
            <a:ext cx="82296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QR-код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(англ . 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Quick  Response  Code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— код быстрого реагирования; сокр.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QR code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) — тип матричных штрих кодов (или двумерных штрих кодов), изначально разработанных для автомобильной промышленности Японии. Сам термин является зарегистрированным товарным знаком японской компании «Denso». Штрих код — считываемая машиной оптическая метка, содержащая информацию об объекте, к которому она привязана. QR-код использует четыре стандартизированных режима кодирования (числовой, буквенно-цифровой, двоичный и кандз) для эффективного хранения данных; могут также использоваться расширения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[2]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стема QR-кодов стала популярной за пределами автомобильной промышленности благодаря возможности быстрого считывания и большей ёмкости по сравнению со штрих кодами стандарта UPC. Расширения включают отслеживание продукции, идентификацию предметов, отслеживание времени, управление документами и общий маркетинг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[3]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QR-код состоит из чёрных квадратов, расположенных в квадратной сетке на белом фоне, которые могут считываться с помощью устройств обработки изображений, таких как камера, и обрабатываться с использованием кодов Рида — Соломона до тех пор, пока изображение не будет надлежащим образом распознано. Затем необходимые данные извлекаются из шаблонов, которые присутствуют в горизонтальных и вертикальных компонентах изобра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менение QR код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"/>
          <p:cNvSpPr/>
          <p:nvPr/>
        </p:nvSpPr>
        <p:spPr>
          <a:xfrm>
            <a:off x="360360" y="1541520"/>
            <a:ext cx="41860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помощью QR-кода стало возможно проводить банковские переводы. Можно оплачивать покупки, погашать штрафы, вносить платежи по квитанциям. Не нужно вносить реквизиты для перевода. Достаточно считать QR-код, подтвердить операцию и деньги переведутся получ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29120" y="2000160"/>
            <a:ext cx="400068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439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менение QR код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"/>
          <p:cNvSpPr/>
          <p:nvPr/>
        </p:nvSpPr>
        <p:spPr>
          <a:xfrm>
            <a:off x="249120" y="1152360"/>
            <a:ext cx="551016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ктивно QR-код применяется в туристической сфере. Его помещают возле различных достопримечательностей и музейных экспонатов. Каждый турист может просто считать код и перейти по полученной ссылке на соответствующую страницу в Интернете. Таким образом можно самому для себя провести экскурсию без г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72120" y="2143080"/>
            <a:ext cx="235764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менение QR код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6360" y="2571840"/>
            <a:ext cx="3387600" cy="4002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1880" y="1479600"/>
            <a:ext cx="421812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QR-код позволяет получать большой объем информации всего за несколько секунд. Благодаря этому QR-код активно используется на упаковках с товаром. Теперь покупателю доступно еще больше информации о товаре, а производитель может лишний раз прорекламировать свою продук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1120" y="647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Чтение QR код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"/>
          <p:cNvSpPr/>
          <p:nvPr/>
        </p:nvSpPr>
        <p:spPr>
          <a:xfrm>
            <a:off x="417600" y="1440000"/>
            <a:ext cx="361476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 смартфоне должно быть установлено специальное при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я чтения QR-кода нужно поднести камеру смартфона к коду. Программа расшифрует код, а затем предложит выполнить определённое действие, предусмотрённое в содержимом к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72040" y="2357280"/>
            <a:ext cx="3143160" cy="40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1640" y="576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тличие штрих кода от QR код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"/>
          <p:cNvSpPr/>
          <p:nvPr/>
        </p:nvSpPr>
        <p:spPr>
          <a:xfrm>
            <a:off x="493560" y="1511280"/>
            <a:ext cx="7715520" cy="40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Штрих-код содержал в себе 27 знаков, и приходилось вручную вносить все данные. QR-код вмещает в себя до 7000 знаков. В нем содержится информация о необходимых банковских реквизитах, включая БИК, расчетный счет, информацию о клиенте. Чтобы провести платеж, достаточно подойти и терминалу, и информация будет считана в автоматическом режиме. Можно и еще проще: узнать всю информацию о платеже, отсканировав QR-код на смартфоне и тут же оплатить через онлайн-ба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1120" y="647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ак создать QR код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"/>
          <p:cNvSpPr/>
          <p:nvPr/>
        </p:nvSpPr>
        <p:spPr>
          <a:xfrm>
            <a:off x="411120" y="143496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самом деле , рассказать о том, как создать такой QR-код довольно просто. Чтобы его сгенерировать, можно просто воспользоваться одним из серви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QRcoder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QRcc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QR-code-generato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QRmani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creambee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47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ак устроен QR код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43496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QR-коды всегда имеют квадратную форму. Сердцем кода является так называемая матрица с ее замысловатым рисунком. Черные линии и квадраты содержат данные, которые хранятся в модулях. Количество модулей зависит от того, какой объем данных необходимо сохранить. Самый маленький QR-код (версия 1) содержит 441 модуль (21х21). Версия 40 имеет 31 329 модулей (177х177) и, соответственно, больший размер. Кроме того, QR-код содержит дополнительные данные, необходимые для корректного распознавания информации программами-сканерами мобильных телефон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0-10-09T09:32:16Z</dcterms:modified>
  <cp:revision>0</cp:revision>
  <dc:subject/>
  <dc:title/>
</cp:coreProperties>
</file>