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3C3-473A-4DE9-B7F1-9C6358B1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E3F4-7BC2-4E73-BF29-110847C513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24D1-5E93-4131-A359-2A061E59382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56BC-79A9-46D8-A8F1-6B9BD77DCE8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709-35C9-4C72-B196-A1126925592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E24-26B2-415F-9131-6DA77E4CCE8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4F5-0545-4EF9-9DBB-C1E36A4DCE7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82A-7F30-4029-B25A-006F961C20B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DD39-4F07-46DB-A410-A1EDAAD7A39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349B-603D-4E4D-A978-FC0513F0D76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43D-5CC9-45FE-997D-073C918BACB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01B2-9D00-4A09-A8A2-1E509E43AD8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9D6-2FC6-4751-983C-07AC23A9FF1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933-5B2A-446E-9C7A-ABCCE26927B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B33A-61BF-4088-9A9B-C712626C6AB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5CB-2C75-43CD-B08A-5F57AAD193D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53E-4777-4405-B62E-39EDCFF2AA3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B40-D6C8-4385-AE9C-138E9F0168D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758-3B72-4CE6-B627-77D8C351EBE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B80-D342-4E0C-B7CF-79EDC27D196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392-32B3-4364-9194-1A868FB9C24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80B-8310-4CE6-B6B2-36CE93DB1CD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FF63-0A00-4C9E-ADFD-1BEE5F54004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F48D-4092-4003-9461-590023A5EE3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ACA-C461-47BD-9352-59EB0B0AA0B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9296-F6E3-4D0F-AB75-A9DBD3A8BCC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E68-776D-4DB0-AB68-3BD034CD12F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025-4477-40CC-94BA-C948A0347E9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BFE-286B-424F-B583-A91807FE86A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FA9-B43F-41D9-9434-0AD14875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BDD-4134-497E-80A2-16C356AA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F9F-11D4-486A-8266-1F9F05F6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76D-3A43-428B-9EED-5EB93372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B391-596F-4BE2-97D5-5AF034C2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A6F7-1856-4DDD-A97C-CFC76E04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60E4-B2FF-4EB2-8224-0BEA8EA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569-E3C7-4C62-876F-64F2D42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C13B-1EC9-432D-9C5C-E4F9F400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E8BF-F377-401D-9C1E-B3F2717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A96-639B-4A90-ADC5-1FDFB78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557-905F-4431-B71F-150386BB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CAA-22BB-4D7F-8153-8AD51DF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6CDE-9085-482B-B2B9-ED001FD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FF00-B2EF-47A5-B56F-4AF1ADCA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CC93-8078-4EA9-BCEE-779D75CD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C7AB-1CA3-40CB-B544-8F78DCC4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3FEA-DC28-470E-84F5-8826FD21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1915-CBC2-41A4-9310-838A201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05D9-48EF-43BE-BDD0-F85DDB9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8F66-E04E-42E9-AE30-0C5ABA3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7FA9-0DCA-4604-A04D-483CF85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B9B-4F85-4843-9830-B6CAF1B2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6B48-AFEF-45CB-A5A2-37AE5148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067E-DC79-4778-9CA4-840EB8D3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1158-423D-4A43-B2D0-A2D3CDF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3D7C-9624-444D-954F-58AC516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2E2B-28AB-45C2-99F7-03407BC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4735-045D-4A8A-B31D-50B80C05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C185-E7EB-4B18-A80E-0E32856F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741-0912-4F6A-A568-7DC28C1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851-821E-4B53-A352-7174E8A1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CAA-DF49-46A8-B7D5-06FA19F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7CB-AD2D-409E-83A8-6A0712B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251-607E-44EF-A734-980E348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079-9606-44BA-8435-E5DB584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759-9B60-464C-AC36-7FED1EBC3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9AA5-83DA-4508-93AB-1D643AB3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4BC-E0D5-4B08-B07B-F1E64C5E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1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41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AutoShape 8"/>
          <p:cNvGrpSpPr/>
          <p:nvPr/>
        </p:nvGrpSpPr>
        <p:grpSpPr>
          <a:xfrm>
            <a:off x="7321680" y="5986440"/>
            <a:ext cx="834840" cy="719280"/>
            <a:chOff x="7321680" y="5986440"/>
            <a:chExt cx="834840" cy="719280"/>
          </a:xfrm>
        </p:grpSpPr>
        <p:pic>
          <p:nvPicPr>
            <p:cNvPr id="134" name="AutoShape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321680" y="5986440"/>
              <a:ext cx="834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475400" y="6173640"/>
              <a:ext cx="4730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Téglalap 9" descr=""/>
          <p:cNvPicPr/>
          <p:nvPr/>
        </p:nvPicPr>
        <p:blipFill>
          <a:blip r:embed="rId2"/>
          <a:stretch/>
        </p:blipFill>
        <p:spPr>
          <a:xfrm>
            <a:off x="3303720" y="1762200"/>
            <a:ext cx="584676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CaixaDeTexto 11"/>
          <p:cNvSpPr/>
          <p:nvPr/>
        </p:nvSpPr>
        <p:spPr>
          <a:xfrm>
            <a:off x="4190400" y="501336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21491b"/>
                </a:solidFill>
                <a:latin typeface="Showcard Gothic"/>
              </a:rPr>
              <a:t>G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m 4" descr="school.jpg"/>
          <p:cNvPicPr/>
          <p:nvPr/>
        </p:nvPicPr>
        <p:blipFill>
          <a:blip r:embed="rId3"/>
          <a:stretch/>
        </p:blipFill>
        <p:spPr>
          <a:xfrm>
            <a:off x="826920" y="1700280"/>
            <a:ext cx="303552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06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09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12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15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18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8"/>
          <p:cNvGrpSpPr/>
          <p:nvPr/>
        </p:nvGrpSpPr>
        <p:grpSpPr>
          <a:xfrm>
            <a:off x="7102440" y="5986440"/>
            <a:ext cx="835200" cy="646200"/>
            <a:chOff x="7102440" y="5986440"/>
            <a:chExt cx="835200" cy="646200"/>
          </a:xfrm>
        </p:grpSpPr>
        <p:pic>
          <p:nvPicPr>
            <p:cNvPr id="321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86440"/>
              <a:ext cx="835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248600" y="6156360"/>
              <a:ext cx="5014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Imagem 9" descr="teacher2.jpg"/>
          <p:cNvPicPr/>
          <p:nvPr/>
        </p:nvPicPr>
        <p:blipFill>
          <a:blip r:embed="rId7"/>
          <a:stretch/>
        </p:blipFill>
        <p:spPr>
          <a:xfrm>
            <a:off x="611280" y="2060640"/>
            <a:ext cx="3827520" cy="4240080"/>
          </a:xfrm>
          <a:prstGeom prst="rect">
            <a:avLst/>
          </a:prstGeom>
          <a:ln w="0">
            <a:noFill/>
          </a:ln>
        </p:spPr>
      </p:pic>
      <p:sp>
        <p:nvSpPr>
          <p:cNvPr id="325" name="Rectângulo 10"/>
          <p:cNvSpPr/>
          <p:nvPr/>
        </p:nvSpPr>
        <p:spPr>
          <a:xfrm>
            <a:off x="900000" y="2492280"/>
            <a:ext cx="12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27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30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33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36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39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342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Imagem 9" descr="teacher_miss2.jpg"/>
          <p:cNvPicPr/>
          <p:nvPr/>
        </p:nvPicPr>
        <p:blipFill>
          <a:blip r:embed="rId7"/>
          <a:stretch/>
        </p:blipFill>
        <p:spPr>
          <a:xfrm>
            <a:off x="611280" y="1700280"/>
            <a:ext cx="4157640" cy="4425840"/>
          </a:xfrm>
          <a:prstGeom prst="rect">
            <a:avLst/>
          </a:prstGeom>
          <a:ln w="0">
            <a:noFill/>
          </a:ln>
        </p:spPr>
      </p:pic>
      <p:sp>
        <p:nvSpPr>
          <p:cNvPr id="346" name="Rectângulo 10"/>
          <p:cNvSpPr/>
          <p:nvPr/>
        </p:nvSpPr>
        <p:spPr>
          <a:xfrm>
            <a:off x="3132000" y="2565360"/>
            <a:ext cx="12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om d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48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078600" y="3873600"/>
              <a:ext cx="267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51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54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57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60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363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upo 15"/>
          <p:cNvGrpSpPr/>
          <p:nvPr/>
        </p:nvGrpSpPr>
        <p:grpSpPr>
          <a:xfrm>
            <a:off x="539640" y="1844640"/>
            <a:ext cx="3760920" cy="4383000"/>
            <a:chOff x="539640" y="1844640"/>
            <a:chExt cx="3760920" cy="4383000"/>
          </a:xfrm>
        </p:grpSpPr>
        <p:pic>
          <p:nvPicPr>
            <p:cNvPr id="367" name="Imagem 9" descr="desk.jpg"/>
            <p:cNvPicPr/>
            <p:nvPr/>
          </p:nvPicPr>
          <p:blipFill>
            <a:blip r:embed="rId7"/>
            <a:stretch/>
          </p:blipFill>
          <p:spPr>
            <a:xfrm>
              <a:off x="2556000" y="4508640"/>
              <a:ext cx="1744560" cy="17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Imagem 11" descr="teacher_miss1.jpg"/>
            <p:cNvPicPr/>
            <p:nvPr/>
          </p:nvPicPr>
          <p:blipFill>
            <a:blip r:embed="rId8"/>
            <a:stretch/>
          </p:blipFill>
          <p:spPr>
            <a:xfrm>
              <a:off x="539640" y="1844640"/>
              <a:ext cx="2592360" cy="43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Imagem 13" descr="k2424277.jpg"/>
            <p:cNvPicPr/>
            <p:nvPr/>
          </p:nvPicPr>
          <p:blipFill>
            <a:blip r:embed="rId9"/>
            <a:stretch/>
          </p:blipFill>
          <p:spPr>
            <a:xfrm>
              <a:off x="2916000" y="3741480"/>
              <a:ext cx="1152000" cy="90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371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74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377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80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383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8"/>
          <p:cNvGrpSpPr/>
          <p:nvPr/>
        </p:nvGrpSpPr>
        <p:grpSpPr>
          <a:xfrm>
            <a:off x="7321680" y="5913360"/>
            <a:ext cx="834840" cy="719280"/>
            <a:chOff x="7321680" y="5913360"/>
            <a:chExt cx="834840" cy="719280"/>
          </a:xfrm>
        </p:grpSpPr>
        <p:pic>
          <p:nvPicPr>
            <p:cNvPr id="386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321680" y="5913360"/>
              <a:ext cx="834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475400" y="610236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upo 12"/>
          <p:cNvGrpSpPr/>
          <p:nvPr/>
        </p:nvGrpSpPr>
        <p:grpSpPr>
          <a:xfrm>
            <a:off x="539640" y="1700280"/>
            <a:ext cx="5315040" cy="4557600"/>
            <a:chOff x="539640" y="1700280"/>
            <a:chExt cx="5315040" cy="4557600"/>
          </a:xfrm>
        </p:grpSpPr>
        <p:pic>
          <p:nvPicPr>
            <p:cNvPr id="390" name="Imagem 9" descr="teacher_miss4.jpg"/>
            <p:cNvPicPr/>
            <p:nvPr/>
          </p:nvPicPr>
          <p:blipFill>
            <a:blip r:embed="rId7"/>
            <a:stretch/>
          </p:blipFill>
          <p:spPr>
            <a:xfrm>
              <a:off x="539640" y="1700280"/>
              <a:ext cx="2878560" cy="45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Imagem 10" descr="chalk_board.jpg"/>
            <p:cNvPicPr/>
            <p:nvPr/>
          </p:nvPicPr>
          <p:blipFill>
            <a:blip r:embed="rId8"/>
            <a:stretch/>
          </p:blipFill>
          <p:spPr>
            <a:xfrm>
              <a:off x="3420360" y="1772280"/>
              <a:ext cx="2434320" cy="172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ângulo 11"/>
          <p:cNvSpPr/>
          <p:nvPr/>
        </p:nvSpPr>
        <p:spPr>
          <a:xfrm>
            <a:off x="3708360" y="2133720"/>
            <a:ext cx="18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uenos di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394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397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FREN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400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403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PAN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406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8"/>
          <p:cNvGrpSpPr/>
          <p:nvPr/>
        </p:nvGrpSpPr>
        <p:grpSpPr>
          <a:xfrm>
            <a:off x="7248600" y="5986440"/>
            <a:ext cx="834840" cy="646200"/>
            <a:chOff x="7248600" y="5986440"/>
            <a:chExt cx="834840" cy="646200"/>
          </a:xfrm>
        </p:grpSpPr>
        <p:pic>
          <p:nvPicPr>
            <p:cNvPr id="409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39296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upo 13"/>
          <p:cNvGrpSpPr/>
          <p:nvPr/>
        </p:nvGrpSpPr>
        <p:grpSpPr>
          <a:xfrm>
            <a:off x="611280" y="1773360"/>
            <a:ext cx="5170320" cy="4363920"/>
            <a:chOff x="611280" y="1773360"/>
            <a:chExt cx="5170320" cy="4363920"/>
          </a:xfrm>
        </p:grpSpPr>
        <p:pic>
          <p:nvPicPr>
            <p:cNvPr id="414" name="Imagem 10" descr="teacher4.jpg"/>
            <p:cNvPicPr/>
            <p:nvPr/>
          </p:nvPicPr>
          <p:blipFill>
            <a:blip r:embed="rId7"/>
            <a:stretch/>
          </p:blipFill>
          <p:spPr>
            <a:xfrm>
              <a:off x="611280" y="1773360"/>
              <a:ext cx="297756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Imagem 11" descr="chalk_board.jpg"/>
            <p:cNvPicPr/>
            <p:nvPr/>
          </p:nvPicPr>
          <p:blipFill>
            <a:blip r:embed="rId8"/>
            <a:stretch/>
          </p:blipFill>
          <p:spPr>
            <a:xfrm>
              <a:off x="3347640" y="1773360"/>
              <a:ext cx="2433960" cy="17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Rectângulo 12"/>
          <p:cNvSpPr/>
          <p:nvPr/>
        </p:nvSpPr>
        <p:spPr>
          <a:xfrm>
            <a:off x="3708360" y="220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4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4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4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ffff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4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5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AutoShape 8"/>
          <p:cNvGrpSpPr/>
          <p:nvPr/>
        </p:nvGrpSpPr>
        <p:grpSpPr>
          <a:xfrm>
            <a:off x="7248600" y="5986440"/>
            <a:ext cx="834840" cy="646200"/>
            <a:chOff x="7248600" y="5986440"/>
            <a:chExt cx="834840" cy="646200"/>
          </a:xfrm>
        </p:grpSpPr>
        <p:pic>
          <p:nvPicPr>
            <p:cNvPr id="15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39296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m 10" descr="teacher9.jpg"/>
          <p:cNvPicPr/>
          <p:nvPr/>
        </p:nvPicPr>
        <p:blipFill>
          <a:blip r:embed="rId7"/>
          <a:stretch/>
        </p:blipFill>
        <p:spPr>
          <a:xfrm>
            <a:off x="1116000" y="1844640"/>
            <a:ext cx="327168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6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6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6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6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7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ORTUGUE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8"/>
          <p:cNvGrpSpPr/>
          <p:nvPr/>
        </p:nvGrpSpPr>
        <p:grpSpPr>
          <a:xfrm>
            <a:off x="7248600" y="6059520"/>
            <a:ext cx="834840" cy="646200"/>
            <a:chOff x="7248600" y="6059520"/>
            <a:chExt cx="834840" cy="646200"/>
          </a:xfrm>
        </p:grpSpPr>
        <p:pic>
          <p:nvPicPr>
            <p:cNvPr id="17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605952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392960" y="622764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9" descr="teacher_miss10.jpg"/>
          <p:cNvPicPr/>
          <p:nvPr/>
        </p:nvPicPr>
        <p:blipFill>
          <a:blip r:embed="rId7"/>
          <a:stretch/>
        </p:blipFill>
        <p:spPr>
          <a:xfrm>
            <a:off x="900000" y="1773360"/>
            <a:ext cx="32673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18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18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18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18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19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8"/>
          <p:cNvGrpSpPr/>
          <p:nvPr/>
        </p:nvGrpSpPr>
        <p:grpSpPr>
          <a:xfrm>
            <a:off x="7029360" y="5840280"/>
            <a:ext cx="839880" cy="719280"/>
            <a:chOff x="7029360" y="5840280"/>
            <a:chExt cx="839880" cy="719280"/>
          </a:xfrm>
        </p:grpSpPr>
        <p:pic>
          <p:nvPicPr>
            <p:cNvPr id="19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029360" y="5840280"/>
              <a:ext cx="839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188120" y="6029280"/>
              <a:ext cx="471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m 9" descr="teacher7.jpg"/>
          <p:cNvPicPr/>
          <p:nvPr/>
        </p:nvPicPr>
        <p:blipFill>
          <a:blip r:embed="rId7"/>
          <a:stretch/>
        </p:blipFill>
        <p:spPr>
          <a:xfrm>
            <a:off x="1476360" y="1700280"/>
            <a:ext cx="260496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AutoShape 32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0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080040" y="236052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SCI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0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SCIE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0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0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1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8"/>
          <p:cNvGrpSpPr/>
          <p:nvPr/>
        </p:nvGrpSpPr>
        <p:grpSpPr>
          <a:xfrm>
            <a:off x="7102440" y="5913360"/>
            <a:ext cx="835200" cy="719280"/>
            <a:chOff x="7102440" y="5913360"/>
            <a:chExt cx="835200" cy="719280"/>
          </a:xfrm>
        </p:grpSpPr>
        <p:pic>
          <p:nvPicPr>
            <p:cNvPr id="21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13360"/>
              <a:ext cx="835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259760" y="610236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Imagem 9" descr="science_teacher2.jpg"/>
          <p:cNvPicPr/>
          <p:nvPr/>
        </p:nvPicPr>
        <p:blipFill>
          <a:blip r:embed="rId7"/>
          <a:stretch/>
        </p:blipFill>
        <p:spPr>
          <a:xfrm>
            <a:off x="468360" y="1773360"/>
            <a:ext cx="4343400" cy="48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2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2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CHEMI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2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2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GEOGRAPH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3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8"/>
          <p:cNvGrpSpPr/>
          <p:nvPr/>
        </p:nvGrpSpPr>
        <p:grpSpPr>
          <a:xfrm>
            <a:off x="7175520" y="5986440"/>
            <a:ext cx="834840" cy="646200"/>
            <a:chOff x="7175520" y="5986440"/>
            <a:chExt cx="834840" cy="646200"/>
          </a:xfrm>
        </p:grpSpPr>
        <p:pic>
          <p:nvPicPr>
            <p:cNvPr id="23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8644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9880" y="6156360"/>
              <a:ext cx="501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m 9" descr="science_teacher1.jpg"/>
          <p:cNvPicPr/>
          <p:nvPr/>
        </p:nvPicPr>
        <p:blipFill>
          <a:blip r:embed="rId7"/>
          <a:stretch/>
        </p:blipFill>
        <p:spPr>
          <a:xfrm>
            <a:off x="684360" y="1773360"/>
            <a:ext cx="384948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40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43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46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49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52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US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8"/>
          <p:cNvGrpSpPr/>
          <p:nvPr/>
        </p:nvGrpSpPr>
        <p:grpSpPr>
          <a:xfrm>
            <a:off x="7175520" y="5913360"/>
            <a:ext cx="834840" cy="646200"/>
            <a:chOff x="7175520" y="5913360"/>
            <a:chExt cx="834840" cy="646200"/>
          </a:xfrm>
        </p:grpSpPr>
        <p:pic>
          <p:nvPicPr>
            <p:cNvPr id="255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75520" y="5913360"/>
              <a:ext cx="834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19880" y="6084720"/>
              <a:ext cx="501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m 10" descr="teacher_miss9.jpg"/>
          <p:cNvPicPr/>
          <p:nvPr/>
        </p:nvPicPr>
        <p:blipFill>
          <a:blip r:embed="rId7"/>
          <a:stretch/>
        </p:blipFill>
        <p:spPr>
          <a:xfrm>
            <a:off x="1042920" y="1628640"/>
            <a:ext cx="325116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AutoShape 32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61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80040" y="387360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64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67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AutoShape 30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70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80040" y="315288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73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AutoShape 8"/>
          <p:cNvGrpSpPr/>
          <p:nvPr/>
        </p:nvGrpSpPr>
        <p:grpSpPr>
          <a:xfrm>
            <a:off x="7102440" y="5913360"/>
            <a:ext cx="835200" cy="646200"/>
            <a:chOff x="7102440" y="5913360"/>
            <a:chExt cx="835200" cy="646200"/>
          </a:xfrm>
        </p:grpSpPr>
        <p:pic>
          <p:nvPicPr>
            <p:cNvPr id="276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913360"/>
              <a:ext cx="835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248600" y="6084720"/>
              <a:ext cx="5014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0" descr="teacher6.jpg"/>
          <p:cNvPicPr/>
          <p:nvPr/>
        </p:nvPicPr>
        <p:blipFill>
          <a:blip r:embed="rId7"/>
          <a:stretch/>
        </p:blipFill>
        <p:spPr>
          <a:xfrm>
            <a:off x="1547640" y="1589040"/>
            <a:ext cx="2314800" cy="52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AutoShape 32"/>
          <p:cNvGrpSpPr/>
          <p:nvPr/>
        </p:nvGrpSpPr>
        <p:grpSpPr>
          <a:xfrm>
            <a:off x="5877000" y="3011400"/>
            <a:ext cx="3071880" cy="719280"/>
            <a:chOff x="5877000" y="3011400"/>
            <a:chExt cx="3071880" cy="719280"/>
          </a:xfrm>
        </p:grpSpPr>
        <p:pic>
          <p:nvPicPr>
            <p:cNvPr id="282" name="AutoShape 32" descr=""/>
            <p:cNvPicPr/>
            <p:nvPr/>
          </p:nvPicPr>
          <p:blipFill>
            <a:blip r:embed="rId1"/>
            <a:stretch/>
          </p:blipFill>
          <p:spPr>
            <a:xfrm>
              <a:off x="5877000" y="3011400"/>
              <a:ext cx="3071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080040" y="3152880"/>
              <a:ext cx="2673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TECHNOLO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23"/>
          <p:cNvGrpSpPr/>
          <p:nvPr/>
        </p:nvGrpSpPr>
        <p:grpSpPr>
          <a:xfrm>
            <a:off x="4438800" y="5010120"/>
            <a:ext cx="4437000" cy="804960"/>
            <a:chOff x="4438800" y="5010120"/>
            <a:chExt cx="4437000" cy="804960"/>
          </a:xfrm>
        </p:grpSpPr>
        <p:pic>
          <p:nvPicPr>
            <p:cNvPr id="285" name="AutoShape 23" descr=""/>
            <p:cNvPicPr/>
            <p:nvPr/>
          </p:nvPicPr>
          <p:blipFill>
            <a:blip r:embed="rId2"/>
            <a:stretch/>
          </p:blipFill>
          <p:spPr>
            <a:xfrm>
              <a:off x="4438800" y="5010120"/>
              <a:ext cx="443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703760" y="5180040"/>
              <a:ext cx="391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ff00"/>
                  </a:solidFill>
                  <a:latin typeface="Calibri"/>
                </a:rPr>
                <a:t>TECHNOLO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22"/>
          <p:cNvGrpSpPr/>
          <p:nvPr/>
        </p:nvGrpSpPr>
        <p:grpSpPr>
          <a:xfrm>
            <a:off x="8186760" y="115920"/>
            <a:ext cx="768240" cy="549360"/>
            <a:chOff x="8186760" y="115920"/>
            <a:chExt cx="768240" cy="549360"/>
          </a:xfrm>
        </p:grpSpPr>
        <p:pic>
          <p:nvPicPr>
            <p:cNvPr id="288" name="AutoShape 22" descr=""/>
            <p:cNvPicPr/>
            <p:nvPr/>
          </p:nvPicPr>
          <p:blipFill>
            <a:blip r:embed="rId3"/>
            <a:stretch/>
          </p:blipFill>
          <p:spPr>
            <a:xfrm>
              <a:off x="8186760" y="115920"/>
              <a:ext cx="768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280360" y="235080"/>
              <a:ext cx="587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0"/>
          <p:cNvGrpSpPr/>
          <p:nvPr/>
        </p:nvGrpSpPr>
        <p:grpSpPr>
          <a:xfrm>
            <a:off x="5877000" y="2219400"/>
            <a:ext cx="3071880" cy="718920"/>
            <a:chOff x="5877000" y="2219400"/>
            <a:chExt cx="3071880" cy="718920"/>
          </a:xfrm>
        </p:grpSpPr>
        <p:pic>
          <p:nvPicPr>
            <p:cNvPr id="291" name="AutoShape 30" descr=""/>
            <p:cNvPicPr/>
            <p:nvPr/>
          </p:nvPicPr>
          <p:blipFill>
            <a:blip r:embed="rId4"/>
            <a:stretch/>
          </p:blipFill>
          <p:spPr>
            <a:xfrm>
              <a:off x="5877000" y="221940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080040" y="2360520"/>
              <a:ext cx="26733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MA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0"/>
          <p:cNvGrpSpPr/>
          <p:nvPr/>
        </p:nvGrpSpPr>
        <p:grpSpPr>
          <a:xfrm>
            <a:off x="5877000" y="3730680"/>
            <a:ext cx="3071880" cy="718920"/>
            <a:chOff x="5877000" y="3730680"/>
            <a:chExt cx="3071880" cy="718920"/>
          </a:xfrm>
        </p:grpSpPr>
        <p:pic>
          <p:nvPicPr>
            <p:cNvPr id="294" name="AutoShape 30" descr=""/>
            <p:cNvPicPr/>
            <p:nvPr/>
          </p:nvPicPr>
          <p:blipFill>
            <a:blip r:embed="rId5"/>
            <a:stretch/>
          </p:blipFill>
          <p:spPr>
            <a:xfrm>
              <a:off x="5877000" y="3730680"/>
              <a:ext cx="30718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080040" y="3873600"/>
              <a:ext cx="26733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00"/>
                  </a:solidFill>
                  <a:latin typeface="Calibri"/>
                </a:rPr>
                <a:t>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8"/>
          <p:cNvGrpSpPr/>
          <p:nvPr/>
        </p:nvGrpSpPr>
        <p:grpSpPr>
          <a:xfrm>
            <a:off x="7102440" y="5840280"/>
            <a:ext cx="835200" cy="689040"/>
            <a:chOff x="7102440" y="5840280"/>
            <a:chExt cx="835200" cy="689040"/>
          </a:xfrm>
        </p:grpSpPr>
        <p:pic>
          <p:nvPicPr>
            <p:cNvPr id="297" name="AutoShape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102440" y="5840280"/>
              <a:ext cx="8352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254720" y="6021360"/>
              <a:ext cx="48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2"/>
          <p:cNvSpPr/>
          <p:nvPr/>
        </p:nvSpPr>
        <p:spPr>
          <a:xfrm>
            <a:off x="5940360" y="2276640"/>
            <a:ext cx="2952720" cy="2087280"/>
          </a:xfrm>
          <a:prstGeom prst="rect">
            <a:avLst/>
          </a:prstGeom>
          <a:noFill/>
          <a:ln cap="rnd" w="38160">
            <a:solidFill>
              <a:srgbClr val="3b92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églalap 9"/>
          <p:cNvSpPr/>
          <p:nvPr/>
        </p:nvSpPr>
        <p:spPr>
          <a:xfrm>
            <a:off x="0" y="0"/>
            <a:ext cx="8388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o 14"/>
          <p:cNvGrpSpPr/>
          <p:nvPr/>
        </p:nvGrpSpPr>
        <p:grpSpPr>
          <a:xfrm>
            <a:off x="611280" y="2276640"/>
            <a:ext cx="3905280" cy="4581360"/>
            <a:chOff x="611280" y="2276640"/>
            <a:chExt cx="3905280" cy="4581360"/>
          </a:xfrm>
        </p:grpSpPr>
        <p:pic>
          <p:nvPicPr>
            <p:cNvPr id="302" name="Imagem 10" descr="teacher1.jpg"/>
            <p:cNvPicPr/>
            <p:nvPr/>
          </p:nvPicPr>
          <p:blipFill>
            <a:blip r:embed="rId7"/>
            <a:stretch/>
          </p:blipFill>
          <p:spPr>
            <a:xfrm>
              <a:off x="611280" y="2276640"/>
              <a:ext cx="2361600" cy="44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Imagem 11" descr="desk.jpg"/>
            <p:cNvPicPr/>
            <p:nvPr/>
          </p:nvPicPr>
          <p:blipFill>
            <a:blip r:embed="rId8"/>
            <a:stretch/>
          </p:blipFill>
          <p:spPr>
            <a:xfrm>
              <a:off x="2483640" y="4861080"/>
              <a:ext cx="203292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Imagem 12" descr="computer (2).jpg"/>
            <p:cNvPicPr/>
            <p:nvPr/>
          </p:nvPicPr>
          <p:blipFill>
            <a:blip r:embed="rId9"/>
            <a:stretch/>
          </p:blipFill>
          <p:spPr>
            <a:xfrm>
              <a:off x="2843640" y="3068640"/>
              <a:ext cx="1512360" cy="179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7:44:44Z</dcterms:created>
  <dc:creator>MARIA</dc:creator>
  <dc:description/>
  <dc:language>en-US</dc:language>
  <cp:lastModifiedBy/>
  <dcterms:modified xsi:type="dcterms:W3CDTF">2013-11-07T20:06:11Z</dcterms:modified>
  <cp:revision>53</cp:revision>
  <dc:subject/>
  <dc:title/>
</cp:coreProperties>
</file>