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4C05-1E18-48D1-BA03-C29A4062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1730-A236-4D6D-9F5F-0E06A0E8BBB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5D9-5EB7-425F-8F1C-94ECC459304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38B-AB86-4CBF-BA7B-F62E26BF06D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491A-A592-4001-B5B7-7D4E5965A31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0B8-0E24-4AB8-9CF2-5C403F9CA43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A3A-A670-4257-9468-7FD07285E94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48E-2168-4BB1-955C-3550592DE47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C36-DE8F-482E-88F6-74E09A9F017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6F3A-6E5A-4F95-961D-7AB095F5585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3E5-9362-4C32-B9F8-27BAB926A4E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A40F-8C97-4090-A29F-F4230D6CEB4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FB60-6F8F-4C8A-9FFA-5F6DA06EEE5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09BE-D839-4FB6-88E6-FF21B8D9DE0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5EC-8144-4542-B5DE-09D51FD85DF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EA3-49B1-413B-89A3-370CA296221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0100-E676-471D-B482-43B3D784CA9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4806-50D4-402F-AB7D-578BFB426DE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7B2-FEE0-4842-959D-208601FAE3A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994-269A-48D9-9B3A-4E6E6855871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079F-5BDA-4B89-A4FD-13E019CFA58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0F5D-30E0-4CFB-ABB7-8E674AD9207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CE5-FF6E-49B2-BCA6-682986E8353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3CE3-5824-4075-80E2-DEDC974AA93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910-6909-418C-BA8A-E33CA9412BE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663F-2798-47B5-8184-8930A774F15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AF9-68E4-48A7-955E-EFFE347B1C4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598-A795-42F3-846D-F5EAC55E873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0C8-BF2A-45F9-A97A-E0A291E6B10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28D-1BEB-418A-9689-DE6CC66D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2C8-3445-4C44-A52E-999DAD32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151-E78A-4BB7-A8E8-D669C384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02B-F53D-477B-A9F0-EE8CEBCD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EAE2-0044-4CF8-ADBA-BDF1E44E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68B3-CE7B-4DD7-A9CE-BEB2D7D6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02D4-CF90-4FD4-8B5F-C4579092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4C2E-1044-4E9C-A8E1-50E44E9A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E6AA-3F9D-41A6-8201-D669332E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FBDD-87B5-4475-ACB8-267C627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7E12-C1E0-4619-ADD5-50269241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BA5-AD5F-4715-96EA-CC79CF1E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B963-255A-43F1-B417-3CA6E4D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CC1-57A3-4FC6-AC6E-AB7899A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F23-3607-47AC-934B-A222AEB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FDD7-CB94-4443-9375-7955E2BC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22C3-3C3A-444A-8312-32D48600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EC27-425D-486D-BE20-4230AEB3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9FCA-DBC7-40B4-83C3-5579A20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4A2D-7AFA-44CD-8701-42CA8AC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6D4D-F3D4-4112-B370-E84D2013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2999-2838-415B-97FB-F5414653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8A5-1A3E-4869-99B7-C86FE05A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7489-6925-4D04-9D26-A05E15C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DB06-F003-4CEE-958E-4C3A9A83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7FFF-6238-4CD1-BDD7-91E478F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361C-6AA2-4991-AEE2-4AAD4AF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DD76-9917-44CA-9290-FAAA341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2F58-7425-4A10-8664-9591BCA5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571E-1A5C-42EF-B3E3-6D6E5C0D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972-7234-4DA2-A02E-B1548A5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4E9-0C85-4902-B3CC-23802B1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BED-BB0E-4459-8706-A0BC02CB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CDB-DF4F-4985-8FF6-38F57C6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2FE-820D-4B6A-A904-409FA71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4B2-8F2C-4986-9EDE-4AA7B95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B14-09BF-4997-918F-BD185D3E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BEE-12B8-4366-8376-30128D3A8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FAC-E5A0-4BB6-A88F-45E92DC4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21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41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AutoShape 8"/>
          <p:cNvGrpSpPr/>
          <p:nvPr/>
        </p:nvGrpSpPr>
        <p:grpSpPr>
          <a:xfrm>
            <a:off x="7321680" y="5986440"/>
            <a:ext cx="834840" cy="719280"/>
            <a:chOff x="7321680" y="5986440"/>
            <a:chExt cx="834840" cy="719280"/>
          </a:xfrm>
        </p:grpSpPr>
        <p:pic>
          <p:nvPicPr>
            <p:cNvPr id="134" name="AutoShape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321680" y="5986440"/>
              <a:ext cx="834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475400" y="6173640"/>
              <a:ext cx="4730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Téglalap 9" descr=""/>
          <p:cNvPicPr/>
          <p:nvPr/>
        </p:nvPicPr>
        <p:blipFill>
          <a:blip r:embed="rId2"/>
          <a:stretch/>
        </p:blipFill>
        <p:spPr>
          <a:xfrm>
            <a:off x="3303720" y="1762200"/>
            <a:ext cx="584676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CaixaDeTexto 11"/>
          <p:cNvSpPr/>
          <p:nvPr/>
        </p:nvSpPr>
        <p:spPr>
          <a:xfrm>
            <a:off x="4190400" y="501336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21491b"/>
                </a:solidFill>
                <a:latin typeface="Showcard Gothic"/>
              </a:rPr>
              <a:t>G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m 4" descr="school.jpg"/>
          <p:cNvPicPr/>
          <p:nvPr/>
        </p:nvPicPr>
        <p:blipFill>
          <a:blip r:embed="rId3"/>
          <a:stretch/>
        </p:blipFill>
        <p:spPr>
          <a:xfrm>
            <a:off x="826920" y="1700280"/>
            <a:ext cx="303552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06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09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12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15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FREN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18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8"/>
          <p:cNvGrpSpPr/>
          <p:nvPr/>
        </p:nvGrpSpPr>
        <p:grpSpPr>
          <a:xfrm>
            <a:off x="7102440" y="5986440"/>
            <a:ext cx="835200" cy="646200"/>
            <a:chOff x="7102440" y="5986440"/>
            <a:chExt cx="835200" cy="646200"/>
          </a:xfrm>
        </p:grpSpPr>
        <p:pic>
          <p:nvPicPr>
            <p:cNvPr id="321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986440"/>
              <a:ext cx="835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248600" y="6156360"/>
              <a:ext cx="501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Imagem 9" descr="teacher2.jpg"/>
          <p:cNvPicPr/>
          <p:nvPr/>
        </p:nvPicPr>
        <p:blipFill>
          <a:blip r:embed="rId7"/>
          <a:stretch/>
        </p:blipFill>
        <p:spPr>
          <a:xfrm>
            <a:off x="611280" y="2060640"/>
            <a:ext cx="3827520" cy="4240080"/>
          </a:xfrm>
          <a:prstGeom prst="rect">
            <a:avLst/>
          </a:prstGeom>
          <a:ln w="0">
            <a:noFill/>
          </a:ln>
        </p:spPr>
      </p:pic>
      <p:sp>
        <p:nvSpPr>
          <p:cNvPr id="325" name="Rectângulo 10"/>
          <p:cNvSpPr/>
          <p:nvPr/>
        </p:nvSpPr>
        <p:spPr>
          <a:xfrm>
            <a:off x="900000" y="2492280"/>
            <a:ext cx="12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27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30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33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36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39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AutoShape 8"/>
          <p:cNvGrpSpPr/>
          <p:nvPr/>
        </p:nvGrpSpPr>
        <p:grpSpPr>
          <a:xfrm>
            <a:off x="7175520" y="5986440"/>
            <a:ext cx="834840" cy="646200"/>
            <a:chOff x="7175520" y="5986440"/>
            <a:chExt cx="834840" cy="646200"/>
          </a:xfrm>
        </p:grpSpPr>
        <p:pic>
          <p:nvPicPr>
            <p:cNvPr id="342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31988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Imagem 9" descr="teacher_miss2.jpg"/>
          <p:cNvPicPr/>
          <p:nvPr/>
        </p:nvPicPr>
        <p:blipFill>
          <a:blip r:embed="rId7"/>
          <a:stretch/>
        </p:blipFill>
        <p:spPr>
          <a:xfrm>
            <a:off x="611280" y="1700280"/>
            <a:ext cx="4157640" cy="4425840"/>
          </a:xfrm>
          <a:prstGeom prst="rect">
            <a:avLst/>
          </a:prstGeom>
          <a:ln w="0">
            <a:noFill/>
          </a:ln>
        </p:spPr>
      </p:pic>
      <p:sp>
        <p:nvSpPr>
          <p:cNvPr id="346" name="Rectângulo 10"/>
          <p:cNvSpPr/>
          <p:nvPr/>
        </p:nvSpPr>
        <p:spPr>
          <a:xfrm>
            <a:off x="3132000" y="2565360"/>
            <a:ext cx="12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Bom d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48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078600" y="3873600"/>
              <a:ext cx="267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51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54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57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60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AutoShape 8"/>
          <p:cNvGrpSpPr/>
          <p:nvPr/>
        </p:nvGrpSpPr>
        <p:grpSpPr>
          <a:xfrm>
            <a:off x="7175520" y="5986440"/>
            <a:ext cx="834840" cy="646200"/>
            <a:chOff x="7175520" y="5986440"/>
            <a:chExt cx="834840" cy="646200"/>
          </a:xfrm>
        </p:grpSpPr>
        <p:pic>
          <p:nvPicPr>
            <p:cNvPr id="363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1988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upo 15"/>
          <p:cNvGrpSpPr/>
          <p:nvPr/>
        </p:nvGrpSpPr>
        <p:grpSpPr>
          <a:xfrm>
            <a:off x="539640" y="1844640"/>
            <a:ext cx="3760920" cy="4383000"/>
            <a:chOff x="539640" y="1844640"/>
            <a:chExt cx="3760920" cy="4383000"/>
          </a:xfrm>
        </p:grpSpPr>
        <p:pic>
          <p:nvPicPr>
            <p:cNvPr id="367" name="Imagem 9" descr="desk.jpg"/>
            <p:cNvPicPr/>
            <p:nvPr/>
          </p:nvPicPr>
          <p:blipFill>
            <a:blip r:embed="rId7"/>
            <a:stretch/>
          </p:blipFill>
          <p:spPr>
            <a:xfrm>
              <a:off x="2556000" y="4508640"/>
              <a:ext cx="1744560" cy="17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Imagem 11" descr="teacher_miss1.jpg"/>
            <p:cNvPicPr/>
            <p:nvPr/>
          </p:nvPicPr>
          <p:blipFill>
            <a:blip r:embed="rId8"/>
            <a:stretch/>
          </p:blipFill>
          <p:spPr>
            <a:xfrm>
              <a:off x="539640" y="1844640"/>
              <a:ext cx="2592360" cy="43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Imagem 13" descr="k2424277.jpg"/>
            <p:cNvPicPr/>
            <p:nvPr/>
          </p:nvPicPr>
          <p:blipFill>
            <a:blip r:embed="rId9"/>
            <a:stretch/>
          </p:blipFill>
          <p:spPr>
            <a:xfrm>
              <a:off x="2916000" y="3741480"/>
              <a:ext cx="1152000" cy="90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71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74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77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</a:t>
              </a:r>
              <a:r>
                <a:rPr b="1" lang="pt-PT" sz="2000" spc="-1" strike="noStrike">
                  <a:solidFill>
                    <a:srgbClr val="ffff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80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83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AutoShape 8"/>
          <p:cNvGrpSpPr/>
          <p:nvPr/>
        </p:nvGrpSpPr>
        <p:grpSpPr>
          <a:xfrm>
            <a:off x="7321680" y="5913360"/>
            <a:ext cx="834840" cy="719280"/>
            <a:chOff x="7321680" y="5913360"/>
            <a:chExt cx="834840" cy="719280"/>
          </a:xfrm>
        </p:grpSpPr>
        <p:pic>
          <p:nvPicPr>
            <p:cNvPr id="386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321680" y="5913360"/>
              <a:ext cx="834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475400" y="610236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upo 12"/>
          <p:cNvGrpSpPr/>
          <p:nvPr/>
        </p:nvGrpSpPr>
        <p:grpSpPr>
          <a:xfrm>
            <a:off x="539640" y="1700280"/>
            <a:ext cx="5315040" cy="4557600"/>
            <a:chOff x="539640" y="1700280"/>
            <a:chExt cx="5315040" cy="4557600"/>
          </a:xfrm>
        </p:grpSpPr>
        <p:pic>
          <p:nvPicPr>
            <p:cNvPr id="390" name="Imagem 9" descr="teacher_miss4.jpg"/>
            <p:cNvPicPr/>
            <p:nvPr/>
          </p:nvPicPr>
          <p:blipFill>
            <a:blip r:embed="rId7"/>
            <a:stretch/>
          </p:blipFill>
          <p:spPr>
            <a:xfrm>
              <a:off x="539640" y="1700280"/>
              <a:ext cx="2878560" cy="45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Imagem 10" descr="chalk_board.jpg"/>
            <p:cNvPicPr/>
            <p:nvPr/>
          </p:nvPicPr>
          <p:blipFill>
            <a:blip r:embed="rId8"/>
            <a:stretch/>
          </p:blipFill>
          <p:spPr>
            <a:xfrm>
              <a:off x="3420360" y="1772280"/>
              <a:ext cx="2434320" cy="172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Rectângulo 11"/>
          <p:cNvSpPr/>
          <p:nvPr/>
        </p:nvSpPr>
        <p:spPr>
          <a:xfrm>
            <a:off x="3708360" y="2133720"/>
            <a:ext cx="18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Buenos di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94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FREN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97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FREN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400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</a:t>
              </a:r>
              <a:r>
                <a:rPr b="1" lang="pt-PT" sz="2000" spc="-1" strike="noStrike">
                  <a:solidFill>
                    <a:srgbClr val="ffff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403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406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8"/>
          <p:cNvGrpSpPr/>
          <p:nvPr/>
        </p:nvGrpSpPr>
        <p:grpSpPr>
          <a:xfrm>
            <a:off x="7248600" y="5986440"/>
            <a:ext cx="834840" cy="646200"/>
            <a:chOff x="7248600" y="5986440"/>
            <a:chExt cx="834840" cy="646200"/>
          </a:xfrm>
        </p:grpSpPr>
        <p:pic>
          <p:nvPicPr>
            <p:cNvPr id="409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39296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upo 13"/>
          <p:cNvGrpSpPr/>
          <p:nvPr/>
        </p:nvGrpSpPr>
        <p:grpSpPr>
          <a:xfrm>
            <a:off x="611280" y="1773360"/>
            <a:ext cx="5170320" cy="4363920"/>
            <a:chOff x="611280" y="1773360"/>
            <a:chExt cx="5170320" cy="4363920"/>
          </a:xfrm>
        </p:grpSpPr>
        <p:pic>
          <p:nvPicPr>
            <p:cNvPr id="414" name="Imagem 10" descr="teacher4.jpg"/>
            <p:cNvPicPr/>
            <p:nvPr/>
          </p:nvPicPr>
          <p:blipFill>
            <a:blip r:embed="rId7"/>
            <a:stretch/>
          </p:blipFill>
          <p:spPr>
            <a:xfrm>
              <a:off x="611280" y="1773360"/>
              <a:ext cx="2977560" cy="436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Imagem 11" descr="chalk_board.jpg"/>
            <p:cNvPicPr/>
            <p:nvPr/>
          </p:nvPicPr>
          <p:blipFill>
            <a:blip r:embed="rId8"/>
            <a:stretch/>
          </p:blipFill>
          <p:spPr>
            <a:xfrm>
              <a:off x="3347640" y="1773360"/>
              <a:ext cx="2433960" cy="17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Rectângulo 12"/>
          <p:cNvSpPr/>
          <p:nvPr/>
        </p:nvSpPr>
        <p:spPr>
          <a:xfrm>
            <a:off x="3708360" y="22050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14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14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14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ffff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14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15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AutoShape 8"/>
          <p:cNvGrpSpPr/>
          <p:nvPr/>
        </p:nvGrpSpPr>
        <p:grpSpPr>
          <a:xfrm>
            <a:off x="7248600" y="5986440"/>
            <a:ext cx="834840" cy="646200"/>
            <a:chOff x="7248600" y="5986440"/>
            <a:chExt cx="834840" cy="646200"/>
          </a:xfrm>
        </p:grpSpPr>
        <p:pic>
          <p:nvPicPr>
            <p:cNvPr id="15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39296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m 10" descr="teacher9.jpg"/>
          <p:cNvPicPr/>
          <p:nvPr/>
        </p:nvPicPr>
        <p:blipFill>
          <a:blip r:embed="rId7"/>
          <a:stretch/>
        </p:blipFill>
        <p:spPr>
          <a:xfrm>
            <a:off x="1116000" y="1844640"/>
            <a:ext cx="327168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16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16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16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16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17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8"/>
          <p:cNvGrpSpPr/>
          <p:nvPr/>
        </p:nvGrpSpPr>
        <p:grpSpPr>
          <a:xfrm>
            <a:off x="7248600" y="6059520"/>
            <a:ext cx="834840" cy="646200"/>
            <a:chOff x="7248600" y="6059520"/>
            <a:chExt cx="834840" cy="646200"/>
          </a:xfrm>
        </p:grpSpPr>
        <p:pic>
          <p:nvPicPr>
            <p:cNvPr id="17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605952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392960" y="622764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9" descr="teacher_miss10.jpg"/>
          <p:cNvPicPr/>
          <p:nvPr/>
        </p:nvPicPr>
        <p:blipFill>
          <a:blip r:embed="rId7"/>
          <a:stretch/>
        </p:blipFill>
        <p:spPr>
          <a:xfrm>
            <a:off x="900000" y="1773360"/>
            <a:ext cx="32673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18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80040" y="387360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18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18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18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19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AutoShape 8"/>
          <p:cNvGrpSpPr/>
          <p:nvPr/>
        </p:nvGrpSpPr>
        <p:grpSpPr>
          <a:xfrm>
            <a:off x="7029360" y="5840280"/>
            <a:ext cx="839880" cy="719280"/>
            <a:chOff x="7029360" y="5840280"/>
            <a:chExt cx="839880" cy="719280"/>
          </a:xfrm>
        </p:grpSpPr>
        <p:pic>
          <p:nvPicPr>
            <p:cNvPr id="19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029360" y="5840280"/>
              <a:ext cx="839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188120" y="6029280"/>
              <a:ext cx="471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agem 9" descr="teacher7.jpg"/>
          <p:cNvPicPr/>
          <p:nvPr/>
        </p:nvPicPr>
        <p:blipFill>
          <a:blip r:embed="rId7"/>
          <a:stretch/>
        </p:blipFill>
        <p:spPr>
          <a:xfrm>
            <a:off x="1476360" y="1700280"/>
            <a:ext cx="260496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0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CI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0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SCIEN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0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0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1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CHEMIST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8"/>
          <p:cNvGrpSpPr/>
          <p:nvPr/>
        </p:nvGrpSpPr>
        <p:grpSpPr>
          <a:xfrm>
            <a:off x="7102440" y="5913360"/>
            <a:ext cx="835200" cy="719280"/>
            <a:chOff x="7102440" y="5913360"/>
            <a:chExt cx="835200" cy="719280"/>
          </a:xfrm>
        </p:grpSpPr>
        <p:pic>
          <p:nvPicPr>
            <p:cNvPr id="21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913360"/>
              <a:ext cx="835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259760" y="610236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Imagem 9" descr="science_teacher2.jpg"/>
          <p:cNvPicPr/>
          <p:nvPr/>
        </p:nvPicPr>
        <p:blipFill>
          <a:blip r:embed="rId7"/>
          <a:stretch/>
        </p:blipFill>
        <p:spPr>
          <a:xfrm>
            <a:off x="468360" y="1773360"/>
            <a:ext cx="4343400" cy="48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2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CHEMIST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2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CHEMI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2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2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3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8"/>
          <p:cNvGrpSpPr/>
          <p:nvPr/>
        </p:nvGrpSpPr>
        <p:grpSpPr>
          <a:xfrm>
            <a:off x="7175520" y="5986440"/>
            <a:ext cx="834840" cy="646200"/>
            <a:chOff x="7175520" y="5986440"/>
            <a:chExt cx="834840" cy="646200"/>
          </a:xfrm>
        </p:grpSpPr>
        <p:pic>
          <p:nvPicPr>
            <p:cNvPr id="23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1988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m 9" descr="science_teacher1.jpg"/>
          <p:cNvPicPr/>
          <p:nvPr/>
        </p:nvPicPr>
        <p:blipFill>
          <a:blip r:embed="rId7"/>
          <a:stretch/>
        </p:blipFill>
        <p:spPr>
          <a:xfrm>
            <a:off x="684360" y="1773360"/>
            <a:ext cx="384948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4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080040" y="387360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4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4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4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5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8"/>
          <p:cNvGrpSpPr/>
          <p:nvPr/>
        </p:nvGrpSpPr>
        <p:grpSpPr>
          <a:xfrm>
            <a:off x="7175520" y="5913360"/>
            <a:ext cx="834840" cy="646200"/>
            <a:chOff x="7175520" y="5913360"/>
            <a:chExt cx="834840" cy="646200"/>
          </a:xfrm>
        </p:grpSpPr>
        <p:pic>
          <p:nvPicPr>
            <p:cNvPr id="25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1336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19880" y="6084720"/>
              <a:ext cx="501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agem 10" descr="teacher_miss9.jpg"/>
          <p:cNvPicPr/>
          <p:nvPr/>
        </p:nvPicPr>
        <p:blipFill>
          <a:blip r:embed="rId7"/>
          <a:stretch/>
        </p:blipFill>
        <p:spPr>
          <a:xfrm>
            <a:off x="1042920" y="1628640"/>
            <a:ext cx="325116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61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080040" y="387360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64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67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70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73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AutoShape 8"/>
          <p:cNvGrpSpPr/>
          <p:nvPr/>
        </p:nvGrpSpPr>
        <p:grpSpPr>
          <a:xfrm>
            <a:off x="7102440" y="5913360"/>
            <a:ext cx="835200" cy="646200"/>
            <a:chOff x="7102440" y="5913360"/>
            <a:chExt cx="835200" cy="646200"/>
          </a:xfrm>
        </p:grpSpPr>
        <p:pic>
          <p:nvPicPr>
            <p:cNvPr id="276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913360"/>
              <a:ext cx="835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248600" y="6084720"/>
              <a:ext cx="5014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Imagem 10" descr="teacher6.jpg"/>
          <p:cNvPicPr/>
          <p:nvPr/>
        </p:nvPicPr>
        <p:blipFill>
          <a:blip r:embed="rId7"/>
          <a:stretch/>
        </p:blipFill>
        <p:spPr>
          <a:xfrm>
            <a:off x="1547640" y="1589040"/>
            <a:ext cx="2314800" cy="52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82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TECHNOLO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85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TECHNOLO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88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91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94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AutoShape 8"/>
          <p:cNvGrpSpPr/>
          <p:nvPr/>
        </p:nvGrpSpPr>
        <p:grpSpPr>
          <a:xfrm>
            <a:off x="7102440" y="5840280"/>
            <a:ext cx="835200" cy="689040"/>
            <a:chOff x="7102440" y="5840280"/>
            <a:chExt cx="835200" cy="689040"/>
          </a:xfrm>
        </p:grpSpPr>
        <p:pic>
          <p:nvPicPr>
            <p:cNvPr id="297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840280"/>
              <a:ext cx="8352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254720" y="6021360"/>
              <a:ext cx="48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upo 14"/>
          <p:cNvGrpSpPr/>
          <p:nvPr/>
        </p:nvGrpSpPr>
        <p:grpSpPr>
          <a:xfrm>
            <a:off x="611280" y="2276640"/>
            <a:ext cx="3905280" cy="4581360"/>
            <a:chOff x="611280" y="2276640"/>
            <a:chExt cx="3905280" cy="4581360"/>
          </a:xfrm>
        </p:grpSpPr>
        <p:pic>
          <p:nvPicPr>
            <p:cNvPr id="302" name="Imagem 10" descr="teacher1.jpg"/>
            <p:cNvPicPr/>
            <p:nvPr/>
          </p:nvPicPr>
          <p:blipFill>
            <a:blip r:embed="rId7"/>
            <a:stretch/>
          </p:blipFill>
          <p:spPr>
            <a:xfrm>
              <a:off x="611280" y="2276640"/>
              <a:ext cx="2361600" cy="44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Imagem 11" descr="desk.jpg"/>
            <p:cNvPicPr/>
            <p:nvPr/>
          </p:nvPicPr>
          <p:blipFill>
            <a:blip r:embed="rId8"/>
            <a:stretch/>
          </p:blipFill>
          <p:spPr>
            <a:xfrm>
              <a:off x="2483640" y="4861080"/>
              <a:ext cx="203292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Imagem 12" descr="computer (2).jpg"/>
            <p:cNvPicPr/>
            <p:nvPr/>
          </p:nvPicPr>
          <p:blipFill>
            <a:blip r:embed="rId9"/>
            <a:stretch/>
          </p:blipFill>
          <p:spPr>
            <a:xfrm>
              <a:off x="2843640" y="3068640"/>
              <a:ext cx="1512360" cy="179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7:44:44Z</dcterms:created>
  <dc:creator>MARIA</dc:creator>
  <dc:description/>
  <dc:language>en-US</dc:language>
  <cp:lastModifiedBy/>
  <dcterms:modified xsi:type="dcterms:W3CDTF">2013-11-07T20:06:11Z</dcterms:modified>
  <cp:revision>53</cp:revision>
  <dc:subject/>
  <dc:title/>
</cp:coreProperties>
</file>