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EB8-CAC3-434E-BD25-282783AA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869-72DC-474F-A2EF-0E72F567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769-CAD8-42A4-8916-07265106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753-CEA8-4C4E-8E6D-915C2BA6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3F10-41CB-44A6-B6A5-072B3DDA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442D-DDA9-4C74-8AE4-ECD08A9C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0E89-BF51-4FF5-8392-8A87346B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5DA1-F2F0-4C73-9E09-51BD8D64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8098-7FD8-445D-B51B-EF8AAE01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1CE8-B7ED-45AC-A1BE-4F13F6D0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251C-FF25-4AD9-B834-17BE4FF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B82-46CA-46BC-9CE4-86E7F3B0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CC64-39D5-40DF-A138-BE81840E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648-2FFF-48E3-B355-A73B39B6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D498-985C-49D7-91BF-A304787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8079-2D06-4B70-BFCD-7043B2B3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2F52-38AE-4E13-B7DF-037F819D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437-D113-416B-98A6-B2D4BD9D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CAC-F712-4E5D-924A-2DB639A8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DA0-FF96-4F52-BE44-77AC4AD3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B2A-535E-4F97-B7D0-E7F572E4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F74-12B4-49A0-836B-652892E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E8D-47E4-42A0-AE28-7B0FC55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E17-D088-444D-911D-93C3FB69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0F8-1391-4BC5-8404-D24C5253D1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C34-78F2-4D92-B639-F52C260743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1042920" y="1413000"/>
            <a:ext cx="6985080" cy="26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Palatino Linotype"/>
              </a:rPr>
              <a:t>Вредной привычке-Н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651640" y="497376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467240" y="4292640"/>
            <a:ext cx="504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aramond"/>
              </a:rPr>
              <a:t>Ильина Светлана Сергеевна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aramond"/>
              </a:rPr>
              <a:t>2 класс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aramond"/>
              </a:rPr>
              <a:t>МБОУ Коробовская ООШ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aramond"/>
              </a:rPr>
              <a:t>Вяземский район, д.Черно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820680" y="569448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Garamond"/>
              </a:rPr>
              <a:t>декабрь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Garamond"/>
              </a:rPr>
              <a:t>2020год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38"/>
          <p:cNvPicPr/>
          <p:nvPr/>
        </p:nvPicPr>
        <p:blipFill>
          <a:blip r:embed="rId1"/>
          <a:stretch/>
        </p:blipFill>
        <p:spPr>
          <a:xfrm>
            <a:off x="4211640" y="549360"/>
            <a:ext cx="3600360" cy="2400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6"/>
          <p:cNvPicPr/>
          <p:nvPr/>
        </p:nvPicPr>
        <p:blipFill>
          <a:blip r:embed="rId2"/>
          <a:stretch/>
        </p:blipFill>
        <p:spPr>
          <a:xfrm>
            <a:off x="1403280" y="2349360"/>
            <a:ext cx="3097440" cy="2324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494680" y="3497400"/>
            <a:ext cx="44146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Молодцы у нас ребята!</a:t>
            </a:r>
            <a:br>
              <a:rPr sz="2000"/>
            </a:b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Сильные, умелые,</a:t>
            </a:r>
            <a:br>
              <a:rPr sz="2000"/>
            </a:b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 Дружные, весёлые,</a:t>
            </a:r>
            <a:br>
              <a:rPr sz="2000"/>
            </a:b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 </a:t>
            </a:r>
            <a:r>
              <a:rPr b="1" lang="ru-RU" sz="2000" spc="-1" strike="noStrike">
                <a:solidFill>
                  <a:srgbClr val="9900cc"/>
                </a:solidFill>
                <a:latin typeface="Franklin Gothic Demi"/>
              </a:rPr>
              <a:t>Быстрые</a:t>
            </a: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 и смелые                        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Franklin Gothic Demi Cond"/>
              </a:rPr>
              <a:t>                        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44"/>
          <p:cNvPicPr/>
          <p:nvPr/>
        </p:nvPicPr>
        <p:blipFill>
          <a:blip r:embed="rId1"/>
          <a:stretch/>
        </p:blipFill>
        <p:spPr>
          <a:xfrm>
            <a:off x="971640" y="907920"/>
            <a:ext cx="3024000" cy="2252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42"/>
          <p:cNvPicPr/>
          <p:nvPr/>
        </p:nvPicPr>
        <p:blipFill>
          <a:blip r:embed="rId2"/>
          <a:stretch/>
        </p:blipFill>
        <p:spPr>
          <a:xfrm>
            <a:off x="5435640" y="765000"/>
            <a:ext cx="2965320" cy="2364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187280" y="38584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Давайте покончим с бедой навсегда, Ведь мир- это наша большая семь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О вредных привычках забыть навсегда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Здоровый образ жизни выбираю   Я.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Я хочу сегодня вам много рассказать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Чем-то поделиться, здоровья пожелать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Если вы все это запомните, друзья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То вредная привычка вам будет не нужна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24"/>
          <p:cNvPicPr/>
          <p:nvPr/>
        </p:nvPicPr>
        <p:blipFill>
          <a:blip r:embed="rId1"/>
          <a:stretch/>
        </p:blipFill>
        <p:spPr>
          <a:xfrm>
            <a:off x="1403280" y="404640"/>
            <a:ext cx="2448000" cy="168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45"/>
          <p:cNvPicPr/>
          <p:nvPr/>
        </p:nvPicPr>
        <p:blipFill>
          <a:blip r:embed="rId2"/>
          <a:stretch/>
        </p:blipFill>
        <p:spPr>
          <a:xfrm>
            <a:off x="6227640" y="4525920"/>
            <a:ext cx="2232000" cy="1693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4603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Georgia"/>
              </a:rPr>
              <a:t>Пусть я стала прихотливей и капризней, </a:t>
            </a:r>
            <a:br>
              <a:rPr sz="2400"/>
            </a:br>
            <a:r>
              <a:rPr b="0" lang="ru-RU" sz="2400" spc="-1" strike="noStrike">
                <a:solidFill>
                  <a:srgbClr val="9900cc"/>
                </a:solidFill>
                <a:latin typeface="Georgia"/>
              </a:rPr>
              <a:t>Пусть со мною не общается родня, </a:t>
            </a:r>
            <a:br>
              <a:rPr sz="2400"/>
            </a:br>
            <a:r>
              <a:rPr b="0" lang="ru-RU" sz="2400" spc="-1" strike="noStrike">
                <a:solidFill>
                  <a:srgbClr val="9900cc"/>
                </a:solidFill>
                <a:latin typeface="Georgia"/>
              </a:rPr>
              <a:t>Я теперь веду здоровый образ жизни - </a:t>
            </a:r>
            <a:br>
              <a:rPr sz="2400"/>
            </a:br>
            <a:r>
              <a:rPr b="0" lang="ru-RU" sz="2400" spc="-1" strike="noStrike">
                <a:solidFill>
                  <a:srgbClr val="9900cc"/>
                </a:solidFill>
                <a:latin typeface="Georgia"/>
              </a:rPr>
              <a:t>Здоровее становлюсь день ото дня!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88000" y="404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4603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День зарядкой начинаю утром ранним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И овсянку на воде на завтрак ем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е валяюсь с детективом на диване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К телевизору не подхожу совсем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7"/>
          <p:cNvPicPr/>
          <p:nvPr/>
        </p:nvPicPr>
        <p:blipFill>
          <a:blip r:embed="rId1"/>
          <a:stretch/>
        </p:blipFill>
        <p:spPr>
          <a:xfrm>
            <a:off x="6372360" y="765000"/>
            <a:ext cx="1761840" cy="266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35"/>
          <p:cNvPicPr/>
          <p:nvPr/>
        </p:nvPicPr>
        <p:blipFill>
          <a:blip r:embed="rId2"/>
          <a:stretch/>
        </p:blipFill>
        <p:spPr>
          <a:xfrm>
            <a:off x="1258920" y="3860640"/>
            <a:ext cx="2952720" cy="2224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1187280" y="128520"/>
            <a:ext cx="388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е дружу я с ветчиной и колбасою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Сахар с солью просто видеть не могу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Ем в обед сырые овощи и сою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у, а ужин завсегда отдам врагу 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34"/>
          <p:cNvPicPr/>
          <p:nvPr/>
        </p:nvPicPr>
        <p:blipFill>
          <a:blip r:embed="rId1"/>
          <a:stretch/>
        </p:blipFill>
        <p:spPr>
          <a:xfrm>
            <a:off x="5867280" y="549360"/>
            <a:ext cx="189720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39"/>
          <p:cNvPicPr/>
          <p:nvPr/>
        </p:nvPicPr>
        <p:blipFill>
          <a:blip r:embed="rId2"/>
          <a:stretch/>
        </p:blipFill>
        <p:spPr>
          <a:xfrm>
            <a:off x="611280" y="4437000"/>
            <a:ext cx="2735280" cy="1816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872360" y="2459880"/>
            <a:ext cx="69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Холода. Народ толпой бредёт в аптеки.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Мне ж  не страшен этот, как его? - ринит!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Хорошо, что скоро лёд покроет реки -</a:t>
            </a:r>
            <a:r>
              <a:rPr b="1" lang="ru-RU" sz="2000" spc="-1" strike="noStrike">
                <a:solidFill>
                  <a:srgbClr val="9900cc"/>
                </a:solidFill>
                <a:latin typeface="Garamond"/>
              </a:rPr>
              <a:t> </a:t>
            </a:r>
            <a:br>
              <a:rPr sz="20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Меня прорубь с ледяной водой манит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25648"/>
          <p:cNvPicPr/>
          <p:nvPr/>
        </p:nvPicPr>
        <p:blipFill>
          <a:blip r:embed="rId1"/>
          <a:stretch/>
        </p:blipFill>
        <p:spPr>
          <a:xfrm>
            <a:off x="1604880" y="1303200"/>
            <a:ext cx="593424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shema_zdorovia"/>
          <p:cNvPicPr/>
          <p:nvPr/>
        </p:nvPicPr>
        <p:blipFill>
          <a:blip r:embed="rId1"/>
          <a:stretch/>
        </p:blipFill>
        <p:spPr>
          <a:xfrm>
            <a:off x="826920" y="620640"/>
            <a:ext cx="5329440" cy="3390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34320" y="4280040"/>
            <a:ext cx="832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Кто сигареты поджигает- жизнь на годы сокращает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Алкоголь дурманит разум, лучше брось ты это сразу!!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Посмотри ты на природу, ведь в любую непогод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Мира, счастья столько в ней для людей и для зверей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Набери себе здоровья и для будущих детей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5"/>
          <p:cNvPicPr/>
          <p:nvPr/>
        </p:nvPicPr>
        <p:blipFill>
          <a:blip r:embed="rId1"/>
          <a:stretch/>
        </p:blipFill>
        <p:spPr>
          <a:xfrm>
            <a:off x="539640" y="2133720"/>
            <a:ext cx="1675080" cy="252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29"/>
          <p:cNvPicPr/>
          <p:nvPr/>
        </p:nvPicPr>
        <p:blipFill>
          <a:blip r:embed="rId2"/>
          <a:stretch/>
        </p:blipFill>
        <p:spPr>
          <a:xfrm>
            <a:off x="4859280" y="3411360"/>
            <a:ext cx="3662280" cy="2752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972440" y="4024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Тренажёры, аэробика и йога -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К прочей жизни мной утрачен интерес.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у и что, что странной выгляжу немного?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о зато ведь потеряла лишний вес!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26"/>
          <p:cNvPicPr/>
          <p:nvPr/>
        </p:nvPicPr>
        <p:blipFill>
          <a:blip r:embed="rId1"/>
          <a:stretch/>
        </p:blipFill>
        <p:spPr>
          <a:xfrm>
            <a:off x="684360" y="4006800"/>
            <a:ext cx="2950920" cy="220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28"/>
          <p:cNvPicPr/>
          <p:nvPr/>
        </p:nvPicPr>
        <p:blipFill>
          <a:blip r:embed="rId2"/>
          <a:stretch/>
        </p:blipFill>
        <p:spPr>
          <a:xfrm>
            <a:off x="5364000" y="2565360"/>
            <a:ext cx="3097440" cy="2295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541440" y="690120"/>
            <a:ext cx="977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                            </a:t>
            </a: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Физкультурой мы в саду 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                          Много занимаемся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                          Обливаемся водой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                          Крепко закаляемся!</a:t>
            </a:r>
            <a:r>
              <a:rPr b="1" lang="ru-RU" sz="2400" spc="-1" strike="noStrike">
                <a:solidFill>
                  <a:srgbClr val="9900cc"/>
                </a:solidFill>
                <a:latin typeface="Garamond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1:43:06Z</dcterms:created>
  <dc:creator>лапусик</dc:creator>
  <dc:description/>
  <dc:language>en-US</dc:language>
  <cp:lastModifiedBy>USER</cp:lastModifiedBy>
  <dcterms:modified xsi:type="dcterms:W3CDTF">2023-05-09T21:24:16Z</dcterms:modified>
  <cp:revision>6</cp:revision>
  <dc:subject/>
  <dc:title>Слайд 1</dc:title>
</cp:coreProperties>
</file>