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DE4D-DCCC-45E4-85B1-916D7A4EA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CF61-CA31-4B2B-A8F8-1D6F29FED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C4FE-0330-4D15-B158-6125F5127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BB1A-16BC-4280-9E37-99763FECB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B254E-2764-4991-A9DA-7E60217DC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F6B58-8896-4D4C-9A95-D4E7DE1FA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0B8B8-C6D7-4A78-B043-6FAF8B746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43431-EC75-41BD-AD8D-8A8526981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D2A9E-9B8F-45B1-ADBD-9F6348701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B9C43-222E-47BE-BC97-371965DCA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8ADFB-2D39-4313-B265-7824B0AE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8852-E7CE-477C-9931-34B63E9EF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8DA25-7E6D-47B1-B787-0B0FDEA9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FFA6F-4D5B-42F0-88A7-7B125205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FB359-8E07-4F09-AEE2-4453B7A78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D9A9E-3828-45D1-9A86-2A8D7CB38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CE729-85EF-4C50-B1F5-AB529A373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D30C-97FD-41F4-B652-6B706BA8C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532F-E09B-421E-8AC8-1EA93F556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7721-D8C8-41F6-AC6F-E8E8B5695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B74F-ECA4-4723-9FC1-7C46C9D2F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2949-CD73-4EBF-92B9-72C52D7A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FD9B-94C8-4D2B-A8A4-395285D0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E637-EB9E-4C14-BFA2-7965ECA8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d5d0c8"/>
                </a:gs>
                <a:gs pos="50000">
                  <a:srgbClr val="e2ddd4"/>
                </a:gs>
                <a:gs pos="100000">
                  <a:srgbClr val="d5d0c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fe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efe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f2efe8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f2efe8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1E7ED-1026-4969-85D5-EF645E60252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8f8e73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d5d0c8"/>
                </a:gs>
                <a:gs pos="50000">
                  <a:srgbClr val="e2ddd4"/>
                </a:gs>
                <a:gs pos="100000">
                  <a:srgbClr val="d5d0c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fe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efe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f2efe8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f2efe8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8f8e73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886FD-B5F9-4140-A833-56D60C299F8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5"/>
          <p:cNvSpPr txBox="1"/>
          <p:nvPr/>
        </p:nvSpPr>
        <p:spPr>
          <a:xfrm>
            <a:off x="1042920" y="1413000"/>
            <a:ext cx="6985080" cy="26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Palatino Linotype"/>
              </a:rPr>
              <a:t>Вредной привычке-НЕТ!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Palatino Linotype"/>
              <a:ea typeface="Palatino Linotype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5651640" y="4973760"/>
            <a:ext cx="244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4467240" y="4292640"/>
            <a:ext cx="504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cc"/>
                </a:solidFill>
                <a:latin typeface="Garamond"/>
              </a:rPr>
              <a:t>Ильина Светлана Сергеевна,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cc"/>
                </a:solidFill>
                <a:latin typeface="Garamond"/>
              </a:rPr>
              <a:t>2 класс,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cc"/>
                </a:solidFill>
                <a:latin typeface="Garamond"/>
              </a:rPr>
              <a:t>МБОУ Коробовская ООШ,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cc"/>
                </a:solidFill>
                <a:latin typeface="Garamond"/>
              </a:rPr>
              <a:t>Вяземский район, д.Черное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3820680" y="5694480"/>
            <a:ext cx="122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cc"/>
                </a:solidFill>
                <a:latin typeface="Garamond"/>
              </a:rPr>
              <a:t>декабрь,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cc"/>
                </a:solidFill>
                <a:latin typeface="Garamond"/>
              </a:rPr>
              <a:t>2020год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38"/>
          <p:cNvPicPr/>
          <p:nvPr/>
        </p:nvPicPr>
        <p:blipFill>
          <a:blip r:embed="rId1"/>
          <a:stretch/>
        </p:blipFill>
        <p:spPr>
          <a:xfrm>
            <a:off x="4211640" y="549360"/>
            <a:ext cx="3600360" cy="24001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46"/>
          <p:cNvPicPr/>
          <p:nvPr/>
        </p:nvPicPr>
        <p:blipFill>
          <a:blip r:embed="rId2"/>
          <a:stretch/>
        </p:blipFill>
        <p:spPr>
          <a:xfrm>
            <a:off x="1403280" y="2349360"/>
            <a:ext cx="3097440" cy="23241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5494680" y="3497400"/>
            <a:ext cx="441468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Franklin Gothic Heavy"/>
              </a:rPr>
              <a:t>Молодцы у нас ребята!</a:t>
            </a:r>
            <a:br>
              <a:rPr sz="2000"/>
            </a:br>
            <a:r>
              <a:rPr b="1" lang="ru-RU" sz="2000" spc="-1" strike="noStrike">
                <a:solidFill>
                  <a:srgbClr val="9900cc"/>
                </a:solidFill>
                <a:latin typeface="Franklin Gothic Heavy"/>
              </a:rPr>
              <a:t>Сильные, умелые,</a:t>
            </a:r>
            <a:br>
              <a:rPr sz="2000"/>
            </a:br>
            <a:r>
              <a:rPr b="1" lang="ru-RU" sz="2000" spc="-1" strike="noStrike">
                <a:solidFill>
                  <a:srgbClr val="9900cc"/>
                </a:solidFill>
                <a:latin typeface="Franklin Gothic Heavy"/>
              </a:rPr>
              <a:t> Дружные, весёлые,</a:t>
            </a:r>
            <a:br>
              <a:rPr sz="2000"/>
            </a:br>
            <a:r>
              <a:rPr b="1" lang="ru-RU" sz="2000" spc="-1" strike="noStrike">
                <a:solidFill>
                  <a:srgbClr val="9900cc"/>
                </a:solidFill>
                <a:latin typeface="Franklin Gothic Heavy"/>
              </a:rPr>
              <a:t> </a:t>
            </a:r>
            <a:r>
              <a:rPr b="1" lang="ru-RU" sz="2000" spc="-1" strike="noStrike">
                <a:solidFill>
                  <a:srgbClr val="9900cc"/>
                </a:solidFill>
                <a:latin typeface="Franklin Gothic Demi"/>
              </a:rPr>
              <a:t>Быстрые</a:t>
            </a:r>
            <a:r>
              <a:rPr b="1" lang="ru-RU" sz="2000" spc="-1" strike="noStrike">
                <a:solidFill>
                  <a:srgbClr val="9900cc"/>
                </a:solidFill>
                <a:latin typeface="Franklin Gothic Heavy"/>
              </a:rPr>
              <a:t> и смелые                        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Franklin Gothic Demi Cond"/>
              </a:rPr>
              <a:t>                                                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44"/>
          <p:cNvPicPr/>
          <p:nvPr/>
        </p:nvPicPr>
        <p:blipFill>
          <a:blip r:embed="rId1"/>
          <a:stretch/>
        </p:blipFill>
        <p:spPr>
          <a:xfrm>
            <a:off x="971640" y="907920"/>
            <a:ext cx="3024000" cy="2252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42"/>
          <p:cNvPicPr/>
          <p:nvPr/>
        </p:nvPicPr>
        <p:blipFill>
          <a:blip r:embed="rId2"/>
          <a:stretch/>
        </p:blipFill>
        <p:spPr>
          <a:xfrm>
            <a:off x="5435640" y="765000"/>
            <a:ext cx="2965320" cy="236412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6"/>
          <p:cNvSpPr/>
          <p:nvPr/>
        </p:nvSpPr>
        <p:spPr>
          <a:xfrm>
            <a:off x="1187280" y="3858480"/>
            <a:ext cx="698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9900cc"/>
                </a:solidFill>
                <a:latin typeface="Georgia"/>
              </a:rPr>
              <a:t>Давайте покончим с бедой навсегда, Ведь мир- это наша большая семья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Georgia"/>
              </a:rPr>
              <a:t>О вредных привычках забыть навсегда,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Georgia"/>
              </a:rPr>
              <a:t>Здоровый образ жизни выбираю   Я.          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0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5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0" dur="2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Garamond"/>
              </a:rPr>
              <a:t>Я хочу сегодня вам много рассказать,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Garamond"/>
              </a:rPr>
              <a:t>Чем-то поделиться, здоровья пожелать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Garamond"/>
              </a:rPr>
              <a:t>Если вы все это запомните, друзья,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Garamond"/>
              </a:rPr>
              <a:t>То вредная привычка вам будет не нужна!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24"/>
          <p:cNvPicPr/>
          <p:nvPr/>
        </p:nvPicPr>
        <p:blipFill>
          <a:blip r:embed="rId1"/>
          <a:stretch/>
        </p:blipFill>
        <p:spPr>
          <a:xfrm>
            <a:off x="1403280" y="404640"/>
            <a:ext cx="2448000" cy="1681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45"/>
          <p:cNvPicPr/>
          <p:nvPr/>
        </p:nvPicPr>
        <p:blipFill>
          <a:blip r:embed="rId2"/>
          <a:stretch/>
        </p:blipFill>
        <p:spPr>
          <a:xfrm>
            <a:off x="6227640" y="4525920"/>
            <a:ext cx="2232000" cy="16938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4603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Georgia"/>
              </a:rPr>
              <a:t>Пусть я стала прихотливей и капризней, </a:t>
            </a:r>
            <a:br>
              <a:rPr sz="2400"/>
            </a:br>
            <a:r>
              <a:rPr b="0" lang="ru-RU" sz="2400" spc="-1" strike="noStrike">
                <a:solidFill>
                  <a:srgbClr val="9900cc"/>
                </a:solidFill>
                <a:latin typeface="Georgia"/>
              </a:rPr>
              <a:t>Пусть со мною не общается родня, </a:t>
            </a:r>
            <a:br>
              <a:rPr sz="2400"/>
            </a:br>
            <a:r>
              <a:rPr b="0" lang="ru-RU" sz="2400" spc="-1" strike="noStrike">
                <a:solidFill>
                  <a:srgbClr val="9900cc"/>
                </a:solidFill>
                <a:latin typeface="Georgia"/>
              </a:rPr>
              <a:t>Я теперь веду здоровый образ жизни - </a:t>
            </a:r>
            <a:br>
              <a:rPr sz="2400"/>
            </a:br>
            <a:r>
              <a:rPr b="0" lang="ru-RU" sz="2400" spc="-1" strike="noStrike">
                <a:solidFill>
                  <a:srgbClr val="9900cc"/>
                </a:solidFill>
                <a:latin typeface="Georgia"/>
              </a:rPr>
              <a:t>Здоровее становлюсь день ото дня!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788000" y="40428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4603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Georgia"/>
              </a:rPr>
              <a:t>День зарядкой начинаю утром ранним, 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Georgia"/>
              </a:rPr>
              <a:t>И овсянку на воде на завтрак ем, 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Georgia"/>
              </a:rPr>
              <a:t>Не валяюсь с детективом на диване, 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Georgia"/>
              </a:rPr>
              <a:t>К телевизору не подхожу совсем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2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27"/>
          <p:cNvPicPr/>
          <p:nvPr/>
        </p:nvPicPr>
        <p:blipFill>
          <a:blip r:embed="rId1"/>
          <a:stretch/>
        </p:blipFill>
        <p:spPr>
          <a:xfrm>
            <a:off x="6372360" y="765000"/>
            <a:ext cx="1761840" cy="2664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35"/>
          <p:cNvPicPr/>
          <p:nvPr/>
        </p:nvPicPr>
        <p:blipFill>
          <a:blip r:embed="rId2"/>
          <a:stretch/>
        </p:blipFill>
        <p:spPr>
          <a:xfrm>
            <a:off x="1258920" y="3860640"/>
            <a:ext cx="2952720" cy="22240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6"/>
          <p:cNvSpPr/>
          <p:nvPr/>
        </p:nvSpPr>
        <p:spPr>
          <a:xfrm>
            <a:off x="1187280" y="128520"/>
            <a:ext cx="3889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Georgia"/>
              </a:rPr>
              <a:t>Не дружу я с ветчиной и колбасою, 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Georgia"/>
              </a:rPr>
              <a:t>Сахар с солью просто видеть не могу, 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Georgia"/>
              </a:rPr>
              <a:t>Ем в обед сырые овощи и сою, 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Georgia"/>
              </a:rPr>
              <a:t>Ну, а ужин завсегда отдам врагу !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6,-83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96,-9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6,-83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96,-9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34"/>
          <p:cNvPicPr/>
          <p:nvPr/>
        </p:nvPicPr>
        <p:blipFill>
          <a:blip r:embed="rId1"/>
          <a:stretch/>
        </p:blipFill>
        <p:spPr>
          <a:xfrm>
            <a:off x="5867280" y="549360"/>
            <a:ext cx="1897200" cy="2016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39"/>
          <p:cNvPicPr/>
          <p:nvPr/>
        </p:nvPicPr>
        <p:blipFill>
          <a:blip r:embed="rId2"/>
          <a:stretch/>
        </p:blipFill>
        <p:spPr>
          <a:xfrm>
            <a:off x="611280" y="4437000"/>
            <a:ext cx="2735280" cy="18162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6"/>
          <p:cNvSpPr/>
          <p:nvPr/>
        </p:nvSpPr>
        <p:spPr>
          <a:xfrm>
            <a:off x="1872360" y="2459880"/>
            <a:ext cx="695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Georgia"/>
              </a:rPr>
              <a:t>Холода. Народ толпой бредёт в аптеки. 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Georgia"/>
              </a:rPr>
              <a:t>Мне ж  не страшен этот, как его? - ринит! 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Georgia"/>
              </a:rPr>
              <a:t>Хорошо, что скоро лёд покроет реки -</a:t>
            </a:r>
            <a:r>
              <a:rPr b="1" lang="ru-RU" sz="2000" spc="-1" strike="noStrike">
                <a:solidFill>
                  <a:srgbClr val="9900cc"/>
                </a:solidFill>
                <a:latin typeface="Garamond"/>
              </a:rPr>
              <a:t> </a:t>
            </a:r>
            <a:br>
              <a:rPr sz="2000"/>
            </a:br>
            <a:r>
              <a:rPr b="1" lang="ru-RU" sz="2400" spc="-1" strike="noStrike">
                <a:solidFill>
                  <a:srgbClr val="9900cc"/>
                </a:solidFill>
                <a:latin typeface="Georgia"/>
              </a:rPr>
              <a:t>Меня прорубь с ледяной водой манит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25648"/>
          <p:cNvPicPr/>
          <p:nvPr/>
        </p:nvPicPr>
        <p:blipFill>
          <a:blip r:embed="rId1"/>
          <a:stretch/>
        </p:blipFill>
        <p:spPr>
          <a:xfrm>
            <a:off x="1604880" y="1303200"/>
            <a:ext cx="5934240" cy="42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shema_zdorovia"/>
          <p:cNvPicPr/>
          <p:nvPr/>
        </p:nvPicPr>
        <p:blipFill>
          <a:blip r:embed="rId1"/>
          <a:stretch/>
        </p:blipFill>
        <p:spPr>
          <a:xfrm>
            <a:off x="826920" y="620640"/>
            <a:ext cx="5329440" cy="33908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5"/>
          <p:cNvSpPr/>
          <p:nvPr/>
        </p:nvSpPr>
        <p:spPr>
          <a:xfrm>
            <a:off x="634320" y="4280040"/>
            <a:ext cx="832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Franklin Gothic Heavy"/>
              </a:rPr>
              <a:t>Кто сигареты поджигает- жизнь на годы сокращает,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Franklin Gothic Heavy"/>
              </a:rPr>
              <a:t>Алкоголь дурманит разум, лучше брось ты это сразу!!!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Franklin Gothic Heavy"/>
              </a:rPr>
              <a:t>Посмотри ты на природу, ведь в любую непогоду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Franklin Gothic Heavy"/>
              </a:rPr>
              <a:t>Мира, счастья столько в ней для людей и для зверей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Franklin Gothic Heavy"/>
              </a:rPr>
              <a:t> </a:t>
            </a:r>
            <a:r>
              <a:rPr b="0" lang="ru-RU" sz="2400" spc="-1" strike="noStrike">
                <a:solidFill>
                  <a:srgbClr val="9900cc"/>
                </a:solidFill>
                <a:latin typeface="Franklin Gothic Heavy"/>
              </a:rPr>
              <a:t>Набери себе здоровья и для будущих детей!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25"/>
          <p:cNvPicPr/>
          <p:nvPr/>
        </p:nvPicPr>
        <p:blipFill>
          <a:blip r:embed="rId1"/>
          <a:stretch/>
        </p:blipFill>
        <p:spPr>
          <a:xfrm>
            <a:off x="539640" y="2133720"/>
            <a:ext cx="1675080" cy="2520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29"/>
          <p:cNvPicPr/>
          <p:nvPr/>
        </p:nvPicPr>
        <p:blipFill>
          <a:blip r:embed="rId2"/>
          <a:stretch/>
        </p:blipFill>
        <p:spPr>
          <a:xfrm>
            <a:off x="4859280" y="3411360"/>
            <a:ext cx="3662280" cy="275292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6"/>
          <p:cNvSpPr/>
          <p:nvPr/>
        </p:nvSpPr>
        <p:spPr>
          <a:xfrm>
            <a:off x="1972440" y="402480"/>
            <a:ext cx="71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Georgia"/>
              </a:rPr>
              <a:t>Тренажёры, аэробика и йога - 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Georgia"/>
              </a:rPr>
              <a:t>К прочей жизни мной утрачен интерес. 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Georgia"/>
              </a:rPr>
              <a:t>Ну и что, что странной выгляжу немного? 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Georgia"/>
              </a:rPr>
              <a:t>Но зато ведь потеряла лишний вес!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26"/>
          <p:cNvPicPr/>
          <p:nvPr/>
        </p:nvPicPr>
        <p:blipFill>
          <a:blip r:embed="rId1"/>
          <a:stretch/>
        </p:blipFill>
        <p:spPr>
          <a:xfrm>
            <a:off x="684360" y="4006800"/>
            <a:ext cx="2950920" cy="2208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28"/>
          <p:cNvPicPr/>
          <p:nvPr/>
        </p:nvPicPr>
        <p:blipFill>
          <a:blip r:embed="rId2"/>
          <a:stretch/>
        </p:blipFill>
        <p:spPr>
          <a:xfrm>
            <a:off x="5364000" y="2565360"/>
            <a:ext cx="3097440" cy="229572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6"/>
          <p:cNvSpPr/>
          <p:nvPr/>
        </p:nvSpPr>
        <p:spPr>
          <a:xfrm>
            <a:off x="541440" y="690120"/>
            <a:ext cx="977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                                 </a:t>
            </a:r>
            <a:r>
              <a:rPr b="1" lang="ru-RU" sz="2400" spc="-1" strike="noStrike">
                <a:solidFill>
                  <a:srgbClr val="9900cc"/>
                </a:solidFill>
                <a:latin typeface="Georgia"/>
              </a:rPr>
              <a:t>Физкультурой мы в саду                                             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Georgia"/>
              </a:rPr>
              <a:t>                          Много занимаемся,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Georgia"/>
              </a:rPr>
              <a:t>                          Обливаемся водой,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Georgia"/>
              </a:rPr>
              <a:t>                          Крепко закаляемся!</a:t>
            </a:r>
            <a:r>
              <a:rPr b="1" lang="ru-RU" sz="2400" spc="-1" strike="noStrike">
                <a:solidFill>
                  <a:srgbClr val="9900cc"/>
                </a:solidFill>
                <a:latin typeface="Garamond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5T11:43:06Z</dcterms:created>
  <dc:creator>лапусик</dc:creator>
  <dc:description/>
  <dc:language>en-US</dc:language>
  <cp:lastModifiedBy>USER</cp:lastModifiedBy>
  <dcterms:modified xsi:type="dcterms:W3CDTF">2023-05-09T21:24:16Z</dcterms:modified>
  <cp:revision>6</cp:revision>
  <dc:subject/>
  <dc:title>Слайд 1</dc:title>
</cp:coreProperties>
</file>