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868ED-4292-4AE9-B9CF-36C65FAE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CEF5C-AB5E-4853-B4F7-8168001A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77EEA-D25F-44DA-AD24-BE78A7A4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F1E83-FB3E-4B9B-A2B1-E1502D8F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C8B2B-5571-44BA-9964-754C5ACB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43050-B4DC-46F8-BB9A-4FF0562B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74E6E-B49F-4CBC-A378-DA4CA159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CDBC7-3099-42BE-A413-24BE611F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CC810-CEBA-469A-A64C-B5D03855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4932D-6CF5-4E5A-B07B-F3678D31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C454E-F912-44B9-A77D-4B5990EA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D458-ED91-4E44-BD18-81F99783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0E74E-FBD8-4980-929C-388BD853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ECA4E-C921-4CCC-9387-87EBA7F6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26F70-C398-43A0-8BC9-8D42BB22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48954-589B-48A9-8BF7-D618A60F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466CF-F405-4054-A4D3-EE0B4CDF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E3AD5-A0C9-4EF4-8708-5F4964E4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E3798-2239-42A0-8561-82BC904E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AB690-7900-41AA-AF68-EB47A4ED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21BE0-DF61-4B8F-B7DC-4D782079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05D34-7346-4BAE-8AB4-E34605D7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BC3C-EA1A-4838-86DC-95533139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6A32D-17FE-4D20-8560-8C0A7C20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F09B7-AE6B-44E2-B12F-D68C1CC4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0A1D0-8650-446C-9E39-E277DEF7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C7CFE-C205-468E-9FE5-23E5FE0B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2F80E-A3B8-4773-92D4-86CE2EFA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1A77C-886D-4FA4-9864-2E594273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ED281-B621-475F-AF80-428F5DA9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004A7A-AB63-4584-9860-5166CB7D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6CAED1-60D2-427F-B214-021A36DD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6000F-626F-4623-92FB-66AB1F7F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57BF-D8A4-40AF-86CE-7B826653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848673-D622-4FCA-8D91-B50D0651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6FAE94-753B-437C-80CE-D5A559C8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C04957-BA0F-4716-90C2-68BB38C1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FE83C0-2A72-4B85-AD6B-74F35549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E728A5-B4D4-43E0-BABB-04D07408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FA452-B890-44E5-B246-2F4108F3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1893E1-8E67-484E-A6DC-0AC8FAE7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85495A-9D2A-450C-9FAE-2D6F8E15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1B2522-FBFF-4BFD-9BAB-64D28481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2CFA-8D53-4BAA-AD67-399E9942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3865-4692-4170-B47E-8A718F0C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B60C9-4FDB-40E0-B157-AD4FE52C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C40D-3144-4C51-B98A-DD12CA8F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FEAB9-C6E1-4843-862E-04E9AA1E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9F62-1330-4C1D-A994-9D5159F1F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25B2-34DD-4917-BCBA-F95E267807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6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" name=""/>
            <p:cNvGrpSpPr/>
            <p:nvPr/>
          </p:nvGrpSpPr>
          <p:grpSpPr>
            <a:xfrm>
              <a:off x="547560" y="536400"/>
              <a:ext cx="8056800" cy="5770800"/>
              <a:chOff x="547560" y="536400"/>
              <a:chExt cx="8056800" cy="5770800"/>
            </a:xfrm>
          </p:grpSpPr>
          <p:pic>
            <p:nvPicPr>
              <p:cNvPr id="8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7560" y="536400"/>
                <a:ext cx="8056800" cy="577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pic>
          <p:nvPicPr>
            <p:cNvPr id="87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1278000" y="235584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ftr" idx="7"/>
          </p:nvPr>
        </p:nvSpPr>
        <p:spPr>
          <a:xfrm>
            <a:off x="1176120" y="5960880"/>
            <a:ext cx="510372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8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7A91-496F-441E-B0D1-242873D7CD03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9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547560" y="536400"/>
              <a:ext cx="8056800" cy="5770800"/>
              <a:chOff x="547560" y="536400"/>
              <a:chExt cx="8056800" cy="5770800"/>
            </a:xfrm>
          </p:grpSpPr>
          <p:pic>
            <p:nvPicPr>
              <p:cNvPr id="13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7560" y="536400"/>
                <a:ext cx="8056800" cy="577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pic>
          <p:nvPicPr>
            <p:cNvPr id="136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1278000" y="235440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ftr" idx="10"/>
          </p:nvPr>
        </p:nvSpPr>
        <p:spPr>
          <a:xfrm>
            <a:off x="1176120" y="5960880"/>
            <a:ext cx="510372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Num" idx="11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59A4-C0A8-4E13-8DE6-EB09B0FEE1D7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2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-4680"/>
            <a:ext cx="9144000" cy="3078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067680" cy="5257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474920" y="615960"/>
            <a:ext cx="6114960" cy="706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550520" y="685800"/>
            <a:ext cx="505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bye!</a:t>
            </a:r>
            <a:endParaRPr b="0" lang="en-US" sz="9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66680" y="1447920"/>
            <a:ext cx="716292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ворим про мальчиков, мужчин)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ворим про девочек, женщин)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н, она, он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ворим о животных и неодушевлённых предметах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ы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ы, вы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ни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838080"/>
            <a:ext cx="4572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Личные местоимения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Запиши их в тетрадь!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14400" y="1127160"/>
            <a:ext cx="82296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  <a:ea typeface="Arial"/>
              </a:rPr>
              <a:t>Если мы говорим про</a:t>
            </a:r>
            <a:r>
              <a:rPr b="1" lang="en-US" sz="4000" spc="-1" strike="noStrike">
                <a:solidFill>
                  <a:srgbClr val="953735"/>
                </a:solidFill>
                <a:latin typeface="Calibri"/>
                <a:ea typeface="Arial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Calibri"/>
                <a:ea typeface="Arial"/>
              </a:rPr>
              <a:t>одно животное или предмет, то мы используем местоимение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i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The dog is big. </a:t>
            </a:r>
            <a:r>
              <a:rPr b="1" lang="ru-RU" sz="36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Собака большая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It is big.</a:t>
            </a:r>
            <a:r>
              <a:rPr b="1" lang="ru-RU" sz="36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 Она большая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14400" y="1127160"/>
            <a:ext cx="8229600" cy="44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  <a:ea typeface="Arial"/>
              </a:rPr>
              <a:t>Если мы говорим про</a:t>
            </a:r>
            <a:r>
              <a:rPr b="1" lang="en-US" sz="4000" spc="-1" strike="noStrike">
                <a:solidFill>
                  <a:srgbClr val="953735"/>
                </a:solidFill>
                <a:latin typeface="Calibri"/>
                <a:ea typeface="Arial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Calibri"/>
                <a:ea typeface="Arial"/>
              </a:rPr>
              <a:t>несколько животных или предметов, то мы используем местоимение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  <a:ea typeface="Arial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they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 – они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The dogs are big. </a:t>
            </a:r>
            <a:r>
              <a:rPr b="1" lang="ru-RU" sz="40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Собаки большие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They are big.</a:t>
            </a:r>
            <a:r>
              <a:rPr b="1" lang="ru-RU" sz="40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 Они большие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берите правильное местоимени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письменно)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6840" y="1484280"/>
            <a:ext cx="858996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36480" y="16524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пиши местоимения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: 1 – </a:t>
            </a:r>
            <a:r>
              <a:rPr b="0" lang="en-U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they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(их двое)</a:t>
            </a:r>
            <a:r>
              <a:rPr b="0" lang="en-U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2- it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(одно животное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36480" y="1668600"/>
            <a:ext cx="7593120" cy="52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3520" y="1522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d7154"/>
                </a:solidFill>
                <a:uFillTx/>
                <a:latin typeface="Times New Roman"/>
                <a:ea typeface="Times New Roman"/>
              </a:rPr>
              <a:t>Tim</a:t>
            </a:r>
            <a:r>
              <a:rPr b="0" lang="en-U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has got a pig.</a:t>
            </a:r>
            <a:br>
              <a:rPr sz="2800"/>
            </a:b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 Тима есть свинка.</a:t>
            </a:r>
            <a:br>
              <a:rPr sz="2800"/>
            </a:b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им – это он, поэтому </a:t>
            </a:r>
            <a:br>
              <a:rPr sz="2800"/>
            </a:b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ы можем слово Тим заменить</a:t>
            </a:r>
            <a:br>
              <a:rPr sz="2800"/>
            </a:b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на местоимение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н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6" name=""/>
          <p:cNvSpPr/>
          <p:nvPr/>
        </p:nvSpPr>
        <p:spPr>
          <a:xfrm>
            <a:off x="4782960" y="291960"/>
            <a:ext cx="449604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eb340"/>
                </a:solidFill>
                <a:uFillTx/>
                <a:latin typeface="Times New Roman"/>
                <a:ea typeface="Times New Roman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got a pig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есть свин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092400"/>
            <a:ext cx="406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 u="sng">
                <a:solidFill>
                  <a:srgbClr val="2d7154"/>
                </a:solidFill>
                <a:uFillTx/>
                <a:latin typeface="Times New Roman"/>
                <a:ea typeface="Times New Roman"/>
              </a:rPr>
              <a:t>The do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run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ка может бегат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8" name=""/>
          <p:cNvSpPr/>
          <p:nvPr/>
        </p:nvSpPr>
        <p:spPr>
          <a:xfrm>
            <a:off x="5310360" y="3151080"/>
            <a:ext cx="39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b34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 u="sng">
                <a:solidFill>
                  <a:srgbClr val="deb340"/>
                </a:solidFill>
                <a:uFillTx/>
                <a:latin typeface="Times New Roman"/>
                <a:ea typeface="Times New Roman"/>
              </a:rPr>
              <a:t>It</a:t>
            </a:r>
            <a:r>
              <a:rPr b="0" lang="en-US" sz="2800" spc="-1" strike="noStrike">
                <a:solidFill>
                  <a:srgbClr val="deb3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run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может бега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267080"/>
            <a:ext cx="4457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d7154"/>
                </a:solidFill>
                <a:uFillTx/>
                <a:latin typeface="Times New Roman"/>
                <a:ea typeface="Times New Roman"/>
              </a:rPr>
              <a:t>My friend  and 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ance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друг и я можем танцеват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друг и я – это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ы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4362480"/>
            <a:ext cx="464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 u="sng">
                <a:solidFill>
                  <a:srgbClr val="deb340"/>
                </a:solidFill>
                <a:uFillTx/>
                <a:latin typeface="Times New Roman"/>
                <a:ea typeface="Times New Roman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dance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можем танцеват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3520" y="506520"/>
            <a:ext cx="472428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d7154"/>
                </a:solidFill>
                <a:uFillTx/>
                <a:latin typeface="Times New Roman"/>
                <a:ea typeface="Times New Roman"/>
              </a:rPr>
              <a:t>Tom and An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happy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 и Ан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ливые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 и Анна – это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н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2" name=""/>
          <p:cNvSpPr/>
          <p:nvPr/>
        </p:nvSpPr>
        <p:spPr>
          <a:xfrm>
            <a:off x="1176480" y="3243240"/>
            <a:ext cx="333828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80000"/>
              </a:lnSpc>
              <a:spcBef>
                <a:spcPts val="638"/>
              </a:spcBef>
              <a:spcAft>
                <a:spcPts val="612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</a:t>
            </a:r>
            <a:r>
              <a:rPr b="0" lang="en-US" sz="2500" spc="-1" strike="noStrike" u="sng">
                <a:solidFill>
                  <a:srgbClr val="2d7154"/>
                </a:solidFill>
                <a:uFillTx/>
                <a:latin typeface="Times New Roman"/>
                <a:ea typeface="Times New Roman"/>
              </a:rPr>
              <a:t>Anna</a:t>
            </a:r>
            <a:r>
              <a:rPr b="0" lang="en-US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has got a cat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85840" indent="-285840">
              <a:lnSpc>
                <a:spcPct val="80000"/>
              </a:lnSpc>
              <a:spcBef>
                <a:spcPts val="638"/>
              </a:spcBef>
              <a:spcAft>
                <a:spcPts val="612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 Анны есть кошка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85840" indent="-285840">
              <a:lnSpc>
                <a:spcPct val="80000"/>
              </a:lnSpc>
              <a:spcBef>
                <a:spcPts val="638"/>
              </a:spcBef>
              <a:spcAft>
                <a:spcPts val="612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нна – это </a:t>
            </a:r>
            <a:r>
              <a:rPr b="0" lang="ru-RU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на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85840" indent="-285840">
              <a:lnSpc>
                <a:spcPct val="80000"/>
              </a:lnSpc>
              <a:spcBef>
                <a:spcPts val="638"/>
              </a:spcBef>
              <a:spcAft>
                <a:spcPts val="612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этому мы можем заменить</a:t>
            </a:r>
            <a:r>
              <a:rPr b="0" lang="en-US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лово Анна на местоимение </a:t>
            </a:r>
            <a:r>
              <a:rPr b="0" lang="en-US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she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755640"/>
            <a:ext cx="4041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814"/>
              </a:spcBef>
              <a:spcAft>
                <a:spcPts val="612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 u="sng">
                <a:solidFill>
                  <a:srgbClr val="deb340"/>
                </a:solidFill>
                <a:uFillTx/>
                <a:latin typeface="Times New Roman"/>
                <a:ea typeface="Times New Roman"/>
              </a:rPr>
              <a:t>They</a:t>
            </a:r>
            <a:r>
              <a:rPr b="0" lang="en-U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are merry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4" name=""/>
          <p:cNvSpPr/>
          <p:nvPr/>
        </p:nvSpPr>
        <p:spPr>
          <a:xfrm>
            <a:off x="4876920" y="34290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 u="sng">
                <a:solidFill>
                  <a:srgbClr val="b78e20"/>
                </a:solidFill>
                <a:uFillTx/>
                <a:latin typeface="Times New Roman"/>
                <a:ea typeface="Times New Roman"/>
              </a:rPr>
              <a:t>S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got a cat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ё есть кошка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Garamond"/>
              </a:rPr>
              <a:t>Соедините существительное и местоимение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52280" y="2590920"/>
            <a:ext cx="8791560" cy="3720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3:09:19Z</dcterms:created>
  <dc:creator>user</dc:creator>
  <dc:description/>
  <dc:language>en-US</dc:language>
  <cp:lastModifiedBy>Nikku ga Kill</cp:lastModifiedBy>
  <dcterms:modified xsi:type="dcterms:W3CDTF">2023-05-11T02:58:43Z</dcterms:modified>
  <cp:revision>1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