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8736-822D-465A-908C-41F79CD8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EBBE-0543-4D02-A2E7-A8387A99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B1C1-0B57-458B-9A86-AF55AC39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EC27-88DA-4B4F-8C0A-B70C24C6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4BC80-42D4-4F4E-9455-5B1A285F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7E50F-C30D-4768-B92E-E4A5F120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D2E2F-192F-4219-8907-17BA26C1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A88DC-67E8-4ADD-BE95-C8295AD8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94269-D3CA-44E4-8A0D-E40EFBE3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DC961-7180-48BF-B556-D34ADC2F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DEBEC-86DA-4336-9592-CDEC830A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9511-2B36-44D0-B0E8-3C2A9447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8E53B-0C91-4F3D-B41E-36959B8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FE8FB-EBF3-4901-8B0B-35470748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8B807-E8A6-498E-B1C5-0018E877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DF95D-D21C-45BD-8E94-2CD6230C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D04B7-7817-420B-95AC-D063DE44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E2D02-BA1F-48C7-99B0-CDE7A70E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5D6B1-0190-4A1A-A09F-62D94D8F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007D3-1D56-4F71-A364-1ED22306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1112A-035D-4883-A1C4-B40906BB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5F0B5-79C8-458F-A119-B0F913B0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3B82-DE9F-4D11-9102-894ACCCB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A2727-E9AF-43C0-9D2B-D58475B1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8C9FF-0797-48DE-9835-F4802650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0F953-6DC0-4774-8FA4-3C43719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C5C94-E1A3-4A39-85FB-3D3EE9C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D3FA0-7C23-4539-9904-E973917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A2698-0442-49E2-B2EE-0C3862B5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0B646-FD26-4BD0-8529-2C2CA4AB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A1802-140D-4511-B085-05ACB477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D8654-CC4F-4F9F-B49F-BD4CCFF5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3C045-5211-4F9F-B57B-5CA9AEB0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BCD5-BABF-4FF1-8AAC-FD47F12B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F2BD7-6D01-4175-A60F-960AB1E3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BA436-0CE6-4658-B7D6-0548E63C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A6D2B-0809-42ED-9F44-1B1CE2A6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A5007-BF12-4284-96E9-5A36AA11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05ECD-8CD7-454D-96A3-F6FDB004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297CA-1F9E-46D3-BD49-77E0255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12430-8F26-4C90-A9BE-FEFADC64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84528-225A-48E5-B852-A1F463AE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42843-724B-47E8-9D0C-3BCDE6F3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7C9D-B33B-40E7-AAFC-E7D8783D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5792-F421-44A0-9548-FCBB690F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B0B8-D497-4C3A-BE69-D7F631E2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BD07-451D-484A-8D9C-EB1003DA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E3C9-0FCB-4D1D-8150-55FC6359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9629-B82A-4E03-A726-179C6AC51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582-850A-4782-B7A9-A22F6A6FC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"/>
            <p:cNvGrpSpPr/>
            <p:nvPr/>
          </p:nvGrpSpPr>
          <p:grpSpPr>
            <a:xfrm>
              <a:off x="547560" y="536400"/>
              <a:ext cx="8056800" cy="5770800"/>
              <a:chOff x="547560" y="536400"/>
              <a:chExt cx="8056800" cy="5770800"/>
            </a:xfrm>
          </p:grpSpPr>
          <p:pic>
            <p:nvPicPr>
              <p:cNvPr id="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560" y="536400"/>
                <a:ext cx="8056800" cy="577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pic>
          <p:nvPicPr>
            <p:cNvPr id="87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1278000" y="235584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ftr" idx="7"/>
          </p:nvPr>
        </p:nvSpPr>
        <p:spPr>
          <a:xfrm>
            <a:off x="1176120" y="5960880"/>
            <a:ext cx="510372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8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69C0-66BD-46E7-B210-3F2FF2640968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9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547560" y="536400"/>
              <a:ext cx="8056800" cy="5770800"/>
              <a:chOff x="547560" y="536400"/>
              <a:chExt cx="8056800" cy="5770800"/>
            </a:xfrm>
          </p:grpSpPr>
          <p:pic>
            <p:nvPicPr>
              <p:cNvPr id="1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560" y="536400"/>
                <a:ext cx="8056800" cy="577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pic>
          <p:nvPicPr>
            <p:cNvPr id="136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1278000" y="235440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ftr" idx="10"/>
          </p:nvPr>
        </p:nvSpPr>
        <p:spPr>
          <a:xfrm>
            <a:off x="1176120" y="5960880"/>
            <a:ext cx="510372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11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9EA3-FAEB-4B9B-9CE8-27FA58BE9E9B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2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-4680"/>
            <a:ext cx="9144000" cy="3078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67680" cy="5257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74920" y="615960"/>
            <a:ext cx="6114960" cy="706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50520" y="685800"/>
            <a:ext cx="505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bye!</a:t>
            </a:r>
            <a:endParaRPr b="0" lang="en-US" sz="9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6680" y="1447920"/>
            <a:ext cx="716292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ворим про мальчиков, мужчин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ворим про девочек, женщин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н, она, он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ворим о животных и неодушевлённых предметах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ы, в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ни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838080"/>
            <a:ext cx="4572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Личные местоимения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пиши их в тетрадь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14400" y="1127160"/>
            <a:ext cx="82296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Если мы говорим про</a:t>
            </a:r>
            <a:r>
              <a:rPr b="1" lang="en-US" sz="4000" spc="-1" strike="noStrike">
                <a:solidFill>
                  <a:srgbClr val="953735"/>
                </a:solidFill>
                <a:latin typeface="Calibri"/>
                <a:ea typeface="Arial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одно животное или предмет, то мы используем местоимение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i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The dog is big. </a:t>
            </a:r>
            <a:r>
              <a:rPr b="1" lang="ru-RU" sz="36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Собака большая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It is big.</a:t>
            </a:r>
            <a:r>
              <a:rPr b="1" lang="ru-RU" sz="36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 Она большая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14400" y="1127160"/>
            <a:ext cx="8229600" cy="44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Если мы говорим про</a:t>
            </a:r>
            <a:r>
              <a:rPr b="1" lang="en-US" sz="4000" spc="-1" strike="noStrike">
                <a:solidFill>
                  <a:srgbClr val="953735"/>
                </a:solidFill>
                <a:latin typeface="Calibri"/>
                <a:ea typeface="Arial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несколько животных или предметов, то мы используем местоимени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libri"/>
                <a:ea typeface="Arial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they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– они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The dogs are big. </a:t>
            </a:r>
            <a:r>
              <a:rPr b="1" lang="ru-RU" sz="40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Собаки большие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They are big.</a:t>
            </a:r>
            <a:r>
              <a:rPr b="1" lang="ru-RU" sz="40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 Они большие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берите правильное местоимен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исьменно)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6840" y="1484280"/>
            <a:ext cx="858996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36480" y="16524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пиши местоимения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: 1 – </a:t>
            </a:r>
            <a:r>
              <a:rPr b="0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hey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их двое)</a:t>
            </a:r>
            <a:r>
              <a:rPr b="0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2- it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одно животное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36480" y="1668600"/>
            <a:ext cx="759312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1522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Tim</a:t>
            </a:r>
            <a:r>
              <a:rPr b="0" lang="en-U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has got a pig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 Тима есть свинка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им – это он, поэтому 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ы можем слово Тим заменить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на местоимени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"/>
          <p:cNvSpPr/>
          <p:nvPr/>
        </p:nvSpPr>
        <p:spPr>
          <a:xfrm>
            <a:off x="4782960" y="291960"/>
            <a:ext cx="449604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eb340"/>
                </a:solidFill>
                <a:uFillTx/>
                <a:latin typeface="Times New Roman"/>
                <a:ea typeface="Times New Roman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got a pig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есть сви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092400"/>
            <a:ext cx="406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The do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un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может бега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"/>
          <p:cNvSpPr/>
          <p:nvPr/>
        </p:nvSpPr>
        <p:spPr>
          <a:xfrm>
            <a:off x="5310360" y="3151080"/>
            <a:ext cx="39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b34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 u="sng">
                <a:solidFill>
                  <a:srgbClr val="deb340"/>
                </a:solidFill>
                <a:uFillTx/>
                <a:latin typeface="Times New Roman"/>
                <a:ea typeface="Times New Roman"/>
              </a:rPr>
              <a:t>It</a:t>
            </a:r>
            <a:r>
              <a:rPr b="0" lang="en-US" sz="2800" spc="-1" strike="noStrike">
                <a:solidFill>
                  <a:srgbClr val="deb3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un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может бега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267080"/>
            <a:ext cx="4457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My friend  and 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nce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руг и я можем танцева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руг и я – эт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436248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 u="sng">
                <a:solidFill>
                  <a:srgbClr val="deb340"/>
                </a:solidFill>
                <a:uFillTx/>
                <a:latin typeface="Times New Roman"/>
                <a:ea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dance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можем танцева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506520"/>
            <a:ext cx="47242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Tom and An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happy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 и Ан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ливы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 и Анна – эт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н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"/>
          <p:cNvSpPr/>
          <p:nvPr/>
        </p:nvSpPr>
        <p:spPr>
          <a:xfrm>
            <a:off x="1176480" y="3243240"/>
            <a:ext cx="33382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80000"/>
              </a:lnSpc>
              <a:spcBef>
                <a:spcPts val="638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 u="sng">
                <a:solidFill>
                  <a:srgbClr val="2d7154"/>
                </a:solidFill>
                <a:uFillTx/>
                <a:latin typeface="Times New Roman"/>
                <a:ea typeface="Times New Roman"/>
              </a:rPr>
              <a:t>Anna</a:t>
            </a:r>
            <a:r>
              <a:rPr b="0" lang="en-US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has got a cat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80000"/>
              </a:lnSpc>
              <a:spcBef>
                <a:spcPts val="638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 Анны есть кошка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80000"/>
              </a:lnSpc>
              <a:spcBef>
                <a:spcPts val="638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нна – это </a:t>
            </a:r>
            <a:r>
              <a:rPr b="0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на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85840" indent="-285840">
              <a:lnSpc>
                <a:spcPct val="80000"/>
              </a:lnSpc>
              <a:spcBef>
                <a:spcPts val="638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этому мы можем заменить</a:t>
            </a:r>
            <a:r>
              <a:rPr b="0" lang="en-US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лово Анна на местоимение </a:t>
            </a:r>
            <a:r>
              <a:rPr b="0" lang="en-US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she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755640"/>
            <a:ext cx="4041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814"/>
              </a:spcBef>
              <a:spcAft>
                <a:spcPts val="612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 u="sng">
                <a:solidFill>
                  <a:srgbClr val="deb340"/>
                </a:solidFill>
                <a:uFillTx/>
                <a:latin typeface="Times New Roman"/>
                <a:ea typeface="Times New Roman"/>
              </a:rPr>
              <a:t>They</a:t>
            </a:r>
            <a:r>
              <a:rPr b="0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are merry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34290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 u="sng">
                <a:solidFill>
                  <a:srgbClr val="b78e20"/>
                </a:solidFill>
                <a:uFillTx/>
                <a:latin typeface="Times New Roman"/>
                <a:ea typeface="Times New Roman"/>
              </a:rPr>
              <a:t>S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got a cat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ё есть кошк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Garamond"/>
              </a:rPr>
              <a:t>Соедините существительное и местоимение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8791560" cy="372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3:09:19Z</dcterms:created>
  <dc:creator>user</dc:creator>
  <dc:description/>
  <dc:language>en-US</dc:language>
  <cp:lastModifiedBy>Nikku ga Kill</cp:lastModifiedBy>
  <dcterms:modified xsi:type="dcterms:W3CDTF">2023-05-11T02:58:43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