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2908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37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38"/>
          </p:nvPr>
        </p:nvSpPr>
        <p:spPr>
          <a:xfrm>
            <a:off x="0" y="1015488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39"/>
          </p:nvPr>
        </p:nvSpPr>
        <p:spPr>
          <a:xfrm>
            <a:off x="4278240" y="1015488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FA9BE00-AF89-492E-B996-1A469C9237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2407306-B508-47E0-AF67-0CB884A712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13A43E6-E386-471A-B20D-C6073BE96D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C0B5F83-0763-4E0B-859C-AF03E612A1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705EC3A7-79B2-43F1-90F5-94E5D494A4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7B2DBCDC-16B5-4FEB-ACC9-9E3C4176E6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C9A8290-8C63-4880-82AD-738EA6039E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4F93223-79B4-4633-A758-BC906EAD79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AB44C58D-ED98-4B0B-8D05-9BB1A90B09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B3FBD47-6FBE-41D5-AAAF-D254D8BB9F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798DB6B2-A364-4DBF-B92B-91C76ED96D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FDE-2E71-403A-BA74-CBC1B9EA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33B-CE3E-405E-9E62-30156ACD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14B27-B821-464A-B048-67B6A6C2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9CA14-A44F-4D06-A9FB-EDE5FDF7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16752-717F-4360-B91C-27155288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92124-93FB-4755-90D8-67CBAB07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B94CA-C5A5-4FF3-A912-73C839AE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DDEF8-1CD2-4CD9-8419-872340CC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9D24F-392F-4F2C-93C3-FECF8E98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9A9D5-4612-4B15-8228-7C05AEBC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588DA-C6B3-470B-B045-6B27C461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11546-7DA5-43BC-A519-B91FF759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FCC-A73A-4370-8553-96EB6233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2017A-BE21-4B24-94D8-984A95E5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572C3-5F94-4D47-A916-C80F75A2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DF2E6-5AF5-4362-844E-4603607F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4299F-DF7E-4562-BFDA-DB02440D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C8575-93A4-4A12-83D5-41C7CD0D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9FB39-C0E4-4624-B78B-D35F64EC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4BE53-CD9D-46C0-9195-1E335643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36398-EFF1-47D5-8CAD-D49DFB32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BA2F4-E3B9-4BCB-8FEA-C4381FA8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EFB9E-6726-4B5C-9D08-FD3BC521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796-61CF-4CDC-AEA7-30A48024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7DDF5-0A8D-4E75-A0C0-902A8CF2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0A144-694B-4605-BFDD-84A66536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ED937-7F0E-4BF8-A99D-ABA45452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6DA31-766B-4B7E-9A1B-1E9035AA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D6BDD-F645-41FE-A262-A5E84EB6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10609-C9B4-4D5C-8DCB-5DDF1275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44224-D1D6-4825-A9C7-AA4FD235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9B522-B9B7-4A3E-9255-490E9738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F1911-4941-40FA-BB3D-8C877C02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E3794-5D9B-4798-90AE-B5E4302C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C0AB-6FE3-40F1-B70D-A0DB4554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3EC05-C086-44E3-BF68-A7F27B8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894EA-8040-4003-96A3-ACF3A5A6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F15AF-AF36-4E07-89E7-41A8C62A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A4574-AA75-433B-BFA0-BAE40EA2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F26CF-76FA-44CE-91F8-9840EBCA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BA01C-DFFF-401B-ADDB-FC7B20BE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174EA-42F4-4239-8FF0-8CB88EB4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88DA1-2048-41FE-999E-76621CAD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581F0-1C23-4765-8848-70BF2001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603AF-D73E-46AA-9ADC-D36CB3A9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F64A-C1F2-4759-90E4-B0FE6E3C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04FB3-6600-41C5-B5C6-200320AA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76F33-5735-4AED-A9FC-E110AE5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42366-B8A1-4D5D-91AE-CC26EF90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A8639-6E67-477F-A1F7-93E7C8CE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BBFAE-BF1F-41C3-B3D4-5E113F08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BB3B-16B6-4B3B-A7C1-D9D5F49C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67EB-46CA-4ADE-9F17-6C5C06B2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BE12-94F6-447D-80CF-F44D39ED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3DB5-9235-495D-A1C2-810BC2E2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3FBF-2121-4F87-813B-676C3711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FA5-4544-4BF8-AE7A-05D7F841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4C97-85C9-4BA1-94DC-5FFECF40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0471-D471-4A3C-B46C-C18CC02A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6E93-95F6-464E-9904-606F0BC7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5E84-C4EB-4A7F-AD9C-546C5C26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B171-CB61-4028-BE00-1C8A9C98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068C-16CA-4E0D-921E-128CC1BC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7D1C-262F-4A9D-86C1-EFB0CC32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4490-2278-4C50-8014-03675F83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5105-E289-444A-A2E8-58936445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4B56-3889-42AC-951C-9C2FD3CD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030-E7CF-4286-8544-920976A6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9EB6-497B-42AF-8B01-F4C37302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006B6-BAED-45D1-81B9-8A857B3A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AF47-98ED-49CF-98DD-E9EFA65D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126E-68F1-4DAD-8187-4B15CAE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0721-3EBD-430E-AC54-B0670EA7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EA64-9A34-4160-8604-6DA9C831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250D-CD2E-44CF-ABCB-F1FC72E6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71CA4-4398-44F3-83D5-A85B08F7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93088-3462-435E-B02C-0B46EE96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0D7BC-2D67-484E-9824-7D80CAE0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952-91D9-4FBB-A291-DAEDB846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6BB09-2626-463E-936B-3298550B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2FD1-02A9-44AA-87F2-D73816F2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6717-2FE7-4F55-B6F5-76016089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C091A-AB87-4685-918E-4833976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2A0D5-2BDF-4477-A380-695299B3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D22F-C602-4C3C-9474-A5BC798C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21DBB-9CD0-414C-B965-4F5563DA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0AB76-DC76-4652-B885-D7ED1ACE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17B07-41FA-43CA-90B7-7BBE53FB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C3BBE-F334-454B-B877-D08A9E6A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A7A-3846-4426-9AA1-DF911635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2733-BC48-401C-A097-56BF1614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BDE43-1909-4A24-8CC2-365AAA42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BCA34-EF73-4EF7-A291-62B88853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C3EBD-260D-4897-A7F2-6C3B7A58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B09B1-1F6D-40A5-94ED-09B4D1FE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BA235-42CB-40F4-84E2-DCA793B2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360B4-8BFF-4D0B-9560-1DE276B3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3EAB-D173-4FEA-8AE7-5B39DC5A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6BDB5-DC57-4602-A9C4-3E1DD133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CAC4A-DB2F-43BD-B7B5-009129DC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D71-6C20-450F-89A3-06784DAE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7D337-8200-4317-BEDA-07EDCEED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A57B2-BA88-4416-B2A9-A83EB276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B0428-313C-4046-BC6E-94A84D15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2A39C-D824-4689-A150-9222D9B1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69F66-C7C1-44B7-BB91-8C2FD454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58425-A3B3-4BE2-9701-A8694960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8F8B5-B01A-4CEC-906C-00AC551A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3E9E0-6BE6-460D-8A5D-242EA714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3B056-BC9D-48E0-A3C0-5330A22A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F58F8-7D2B-48E0-9043-99E173D7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643-0EAF-4DCE-98CC-678B81ED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5A0F1-68DB-4330-812D-2E77E929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9CCD9-6B31-4959-9935-554C064C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B1885-C5C8-4EA8-AB00-99FE18A0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401DE-B3B1-4B4E-9486-7A32EF55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76589-C571-443A-AB2E-CB4C1144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D0FFA-CCB9-48BA-BB78-9AC81E96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D2183-9628-4A84-955A-8ED919EC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0886F-93F1-4688-8E0F-442CE799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E179-E5D8-4FCD-AD42-EB1265EA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A4344-6F0C-44CE-A630-F2935FBD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D49-E1A6-484D-880F-58AB8D26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86A83-A0DC-46EB-A5A5-167D156D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BA8B1-A331-41AA-95B1-4411A186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37308-7E77-42CA-A971-AD91346C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9053E-D705-4FA1-971A-D3C23E12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FB040-ED4C-4E51-8FEC-B0701E1C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0A918-C139-47EB-90C9-18F56DA0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BC6DD-3226-4F7F-9FD2-8F22306C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6DAE1-2BB4-40FD-9F78-D42AD5AC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EF4AA-113E-45B5-B3D8-B5E6B83A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1860B-BB4E-4F58-BCFE-FE6CCCCC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174-12D1-4D1F-B562-03C27A8F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BB497-494B-4805-9DEC-C1B939CE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BB850-7CAA-461D-8D30-1D32C8C7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23472-DD00-46BB-BF1F-ABCE8A0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2419B-1B2D-48A3-9C65-4748A563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294BC-DED9-43DF-A338-A57ABC9F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03846-DA76-4EAD-8E85-6408400A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8EBF6-548F-455C-8445-C7C42388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6DCD0-5AED-417F-92AC-E5924AAA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0A554-0E10-42E9-A592-F2B37A6B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E2A9F-B501-42E8-980A-A59AE7D1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0BDCCE3-EC3A-4A90-93DC-37649964F2A9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911DC1D-6196-41D3-832B-BF19188DC57D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C9174E0-97FC-4325-9739-6605A50E43F6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346F14E-A13A-4E1C-948D-CB1252553DFA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C8BE396-598C-4730-A853-58B5E4624670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C6359E9-4219-4431-A385-55D6B0DD2A1C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6455698-244A-42D0-9AAC-D0BFE274940E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53B232E-FA98-4906-8592-E036207E0716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D3B787E-5C95-47BB-9EAD-376CF0851A33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ADA3563-B7D3-431A-B8D4-02FD65B7EB28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C4A14B3-D419-4F6A-BE73-FFDA24642313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9DFDED2-1201-4478-AAE4-AD25514D1783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ниципалдыг бюджеттиг ниити өөредилге чери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гес-Аксы ортумак школаз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ѲЛЕВИЛЕЛ АЖЫ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зы: «ѲПЕЙ ЫРЛА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Автору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-ки класстың сургуул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ргит Субуда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Элегес-Акс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1260360" y="539640"/>
            <a:ext cx="809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41960"/>
                <a:tab algn="l" pos="5054760"/>
                <a:tab algn="l" pos="5776920"/>
                <a:tab algn="l" pos="6500880"/>
                <a:tab algn="l" pos="7224840"/>
                <a:tab algn="l" pos="7948440"/>
                <a:tab algn="l" pos="8072280"/>
                <a:tab algn="l" pos="8521560"/>
                <a:tab algn="l" pos="8970840"/>
                <a:tab algn="l" pos="9420120"/>
                <a:tab algn="l" pos="9869400"/>
                <a:tab algn="l" pos="10317240"/>
                <a:tab algn="l" pos="10774440"/>
                <a:tab algn="l" pos="10775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uva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uva Ne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uva New"/>
              </a:rPr>
              <a:t>Амгы үеде аныяк ава уруун бичиизинден тура чайгап өөренгени-биле ону дүрген кавайынга аатпышаан, ѳпей ырын ырлап тура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363760" y="2448000"/>
            <a:ext cx="6095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дум кыска үе иштинде ырлап ѳѳренип алд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Ѳ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пей-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ө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пей, о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Ѳ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пей сарыым, ээ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Ѳ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у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 к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о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рем, о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Айны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ң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 чырыын, ээ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Оон артык, о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ү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уң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 чырыы, ээ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Оглум се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ң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ээ, о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Эртен келир, ээ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Кылган ажылывыс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Ѳпей ырларының чыындызы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0320" y="360360"/>
            <a:ext cx="8599680" cy="32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uva New"/>
              </a:rPr>
              <a:t>Ажыглаан литература даңзызы: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uva New"/>
              </a:rPr>
              <a:t>1. Монгуш Б. К. Тыва чоннуң бурунгу ужурлары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uva New"/>
              </a:rPr>
              <a:t>2. Монгуш Б. К. Тыва чаңчы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2160360"/>
            <a:ext cx="8607600" cy="17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528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058320"/>
                <a:tab algn="l" pos="1006488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uva New"/>
              </a:rPr>
              <a:t>Ч</a:t>
            </a:r>
            <a:r>
              <a:rPr b="1" lang="en-GB" sz="4000" spc="-1" strike="noStrike">
                <a:solidFill>
                  <a:srgbClr val="000000"/>
                </a:solidFill>
                <a:latin typeface="Tuva New"/>
              </a:rPr>
              <a:t>еттирди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25440" y="207720"/>
            <a:ext cx="9252000" cy="642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левилелдиң хевир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п-тыварының болгаш чогаадыкчы чорукту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з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пей ырларын  кыска үе иштинде ырлап өөренип алыр бе? Материалдар чыып шыдаар мен б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улгаз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ва улустуң биче жанры өпей ырларының дугайында билип алыры; янзы-бүрү аянга ырлап өөренип алыры; эштеринге өөреди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итпирлээр айтырыглар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пей ырларын информантылардан чыыры, оларның күүседир аяны; төлевилел дугайында бирги билиглерни шиңгээдип алы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узу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Ѳпей ырлары» деп бичии чыынды тургузары; презентация кылыры, видео кылы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576360" y="324000"/>
          <a:ext cx="8786880" cy="681660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1244520">
                <a:tc gridSpan="2">
                  <a:txBody>
                    <a:bodyPr lIns="68400" rIns="68400" tIns="902160" bIns="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ѲПЕЙ ЫРЛАР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3800">
                <a:tc>
                  <a:txBody>
                    <a:bodyPr lIns="68400" rIns="68400" tIns="701280" bIns="0" anchor="t">
                      <a:noAutofit/>
                    </a:bodyPr>
                    <a:p>
                      <a:pPr algn="just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Тыва улус шаандан тура-ла өпей ырын бедии-биле үнелеп,  салгалдан салгалче дамчыдып чора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701280" bIns="0" anchor="t">
                      <a:noAutofit/>
                    </a:bodyPr>
                    <a:p>
                      <a:pPr algn="just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Олар бөдүүн, ынчалза-даа сагыш-сеткилди хайныктырып кээр аяны-биле онзагай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08280">
                <a:tc>
                  <a:txBody>
                    <a:bodyPr lIns="68400" rIns="68400" tIns="701280" bIns="0" anchor="t">
                      <a:noAutofit/>
                    </a:bodyPr>
                    <a:p>
                      <a:pPr algn="just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Ие кижи кавайда чаш уруун чайгап оргаш төлүнге ынаан илередип ырлаар.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701280" bIns="0" anchor="t">
                      <a:noAutofit/>
                    </a:bodyPr>
                    <a:p>
                      <a:pPr algn="just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Ук ырлар тускай тааланчыг аянны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1008000" y="1042920"/>
          <a:ext cx="8137440" cy="4535640"/>
        </p:xfrm>
        <a:graphic>
          <a:graphicData uri="http://schemas.openxmlformats.org/drawingml/2006/table">
            <a:tbl>
              <a:tblPr/>
              <a:tblGrid>
                <a:gridCol w="2711520"/>
                <a:gridCol w="2712960"/>
                <a:gridCol w="2712960"/>
              </a:tblGrid>
              <a:tr h="1984320">
                <a:tc>
                  <a:txBody>
                    <a:bodyPr lIns="68400" rIns="68400" tIns="1103760" bIns="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Ава кижи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1103760" bIns="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уруг кавайы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1103760" bIns="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уран ырла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551320">
                <a:tc gridSpan="3">
                  <a:txBody>
                    <a:bodyPr lIns="68400" rIns="68400" tIns="1103760" bIns="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Ожуктуң үш дажы дег, тудуш харылзаалыг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1"/>
          <p:cNvSpPr/>
          <p:nvPr/>
        </p:nvSpPr>
        <p:spPr>
          <a:xfrm>
            <a:off x="576360" y="539640"/>
            <a:ext cx="928836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Helvetica Neue"/>
              </a:rPr>
              <a:t>Эштерим-биле ажылы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Helvetica Neue"/>
              </a:rPr>
              <a:t>Айтырыг-харыы (класста 18 сургуул бар 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Helvetica Neu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vetica Neue"/>
              </a:rPr>
              <a:t>Ѳпей ырларын ырлап билир силер б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682560" y="2422440"/>
          <a:ext cx="8750520" cy="1285920"/>
        </p:xfrm>
        <a:graphic>
          <a:graphicData uri="http://schemas.openxmlformats.org/drawingml/2006/table">
            <a:tbl>
              <a:tblPr/>
              <a:tblGrid>
                <a:gridCol w="2916360"/>
                <a:gridCol w="2917800"/>
                <a:gridCol w="291636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ю-баюшки-баю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Өпей-өпей оой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ят усталые игрушки 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1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13" name="Прямоугольник 3"/>
          <p:cNvSpPr/>
          <p:nvPr/>
        </p:nvSpPr>
        <p:spPr>
          <a:xfrm>
            <a:off x="792000" y="3565440"/>
            <a:ext cx="8712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 Neue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Helvetica Neue"/>
              </a:rPr>
              <a:t>. Ада-иелери үргүлчү ырлап турар б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825480" y="4565520"/>
          <a:ext cx="8569440" cy="150048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7509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й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9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468360" y="279360"/>
            <a:ext cx="9358200" cy="72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900000" y="2340000"/>
            <a:ext cx="8460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en-GB" sz="2400" spc="-1" strike="noStrike">
                <a:solidFill>
                  <a:srgbClr val="e6e6e6"/>
                </a:solidFill>
                <a:latin typeface="Arial"/>
              </a:rPr>
              <a:t> </a:t>
            </a:r>
            <a:br>
              <a:rPr sz="2400"/>
            </a:br>
            <a:r>
              <a:rPr b="1" lang="en-GB" sz="3600" spc="-1" strike="noStrike">
                <a:solidFill>
                  <a:srgbClr val="0070c0"/>
                </a:solidFill>
                <a:latin typeface="Tuva New"/>
              </a:rPr>
              <a:t>Шаандагыны</a:t>
            </a:r>
            <a:r>
              <a:rPr b="1" lang="ru-RU" sz="3600" spc="-1" strike="noStrike">
                <a:solidFill>
                  <a:srgbClr val="0070c0"/>
                </a:solidFill>
                <a:latin typeface="Tuva New"/>
              </a:rPr>
              <a:t>ң</a:t>
            </a:r>
            <a:r>
              <a:rPr b="1" lang="en-GB" sz="3600" spc="-1" strike="noStrike">
                <a:solidFill>
                  <a:srgbClr val="0070c0"/>
                </a:solidFill>
                <a:latin typeface="Tuva New"/>
              </a:rPr>
              <a:t> өпей ырларын болгаш амгы шагны</a:t>
            </a:r>
            <a:r>
              <a:rPr b="1" lang="ru-RU" sz="3600" spc="-1" strike="noStrike">
                <a:solidFill>
                  <a:srgbClr val="0070c0"/>
                </a:solidFill>
                <a:latin typeface="Tuva New"/>
              </a:rPr>
              <a:t>ң</a:t>
            </a:r>
            <a:r>
              <a:rPr b="1" lang="en-GB" sz="3600" spc="-1" strike="noStrike">
                <a:solidFill>
                  <a:srgbClr val="0070c0"/>
                </a:solidFill>
                <a:latin typeface="Tuva New"/>
              </a:rPr>
              <a:t> өпей ырларын силерни</a:t>
            </a:r>
            <a:r>
              <a:rPr b="1" lang="ru-RU" sz="3600" spc="-1" strike="noStrike">
                <a:solidFill>
                  <a:srgbClr val="0070c0"/>
                </a:solidFill>
                <a:latin typeface="Tuva New"/>
              </a:rPr>
              <a:t>ң</a:t>
            </a:r>
            <a:r>
              <a:rPr b="1" lang="en-GB" sz="3600" spc="-1" strike="noStrike">
                <a:solidFill>
                  <a:srgbClr val="0070c0"/>
                </a:solidFill>
                <a:latin typeface="Tuva New"/>
              </a:rPr>
              <a:t> мурну</a:t>
            </a:r>
            <a:r>
              <a:rPr b="1" lang="ru-RU" sz="3600" spc="-1" strike="noStrike">
                <a:solidFill>
                  <a:srgbClr val="0070c0"/>
                </a:solidFill>
                <a:latin typeface="Tuva New"/>
              </a:rPr>
              <a:t>ң</a:t>
            </a:r>
            <a:r>
              <a:rPr b="1" lang="en-GB" sz="3600" spc="-1" strike="noStrike">
                <a:solidFill>
                  <a:srgbClr val="0070c0"/>
                </a:solidFill>
                <a:latin typeface="Tuva New"/>
              </a:rPr>
              <a:t>арга бараалгадыыл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900000" y="2637000"/>
            <a:ext cx="8640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uva New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uva New"/>
              </a:rPr>
              <a:t>Ава кижи чаш төлүн удудуп кааш ажылды дүрген кылып аарын бодап, шала дүрген аян-биле ырлап олура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41240" y="422280"/>
            <a:ext cx="8979120" cy="1558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Ѳпей ырларының ырлаар аяны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3"/>
          <p:cNvSpPr/>
          <p:nvPr/>
        </p:nvSpPr>
        <p:spPr>
          <a:xfrm>
            <a:off x="2160720" y="2448000"/>
            <a:ext cx="6095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1084320" y="612720"/>
            <a:ext cx="77342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uva New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uva New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uva New"/>
              </a:rPr>
              <a:t>Уруу тамчыктыг дыштанып удузун дээш, иези таваар, маажым үн-биле өпей ырызын ырлап олурар</a:t>
            </a:r>
            <a:r>
              <a:rPr b="0" lang="ru-RU" sz="2600" spc="-1" strike="noStrike">
                <a:solidFill>
                  <a:srgbClr val="000000"/>
                </a:solidFill>
                <a:latin typeface="Tuva New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3"/>
          <p:cNvSpPr/>
          <p:nvPr/>
        </p:nvSpPr>
        <p:spPr>
          <a:xfrm>
            <a:off x="2519280" y="244800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3-05-11T17:38:00Z</dcterms:modified>
  <cp:revision>53</cp:revision>
  <dc:subject/>
  <dc:title>Презентация PowerPoint</dc:title>
</cp:coreProperties>
</file>