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29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37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8"/>
          </p:nvPr>
        </p:nvSpPr>
        <p:spPr>
          <a:xfrm>
            <a:off x="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9"/>
          </p:nvPr>
        </p:nvSpPr>
        <p:spPr>
          <a:xfrm>
            <a:off x="427824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A7A1193-74A9-4595-A591-9CBD49C9D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2487906-3ECC-472A-8CB4-F5FF586540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E1DEF41-4ACA-442C-8EE8-6EAD55EE4D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57AB675-D6F7-4891-89F0-C42AA7269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E7DA2CF-716D-4E42-A4FD-8890A368E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5AEE37F-5EDC-4343-8135-9507ECAA0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076F17A-1929-454A-B002-3FF65148C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31D0322-42EC-4D52-8F8B-B7AAE3BC0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8C2A9F5-A80D-4434-83F8-CA5FBA3A3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297FDE3-4FD8-436E-B887-B8441694F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4278240" y="1015524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17D2A17-AFAB-4139-88A5-D1AC5EA2F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F13-8BE7-4FB6-91D6-B64ADE91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4BC-21FD-4C4D-A301-23E9D84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34C9-F38E-458D-A85E-C6FB0DF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134D6-A6BB-4C62-B522-819183F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3DF4-990B-4AF3-A65C-B4CEE2C6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F5496-492E-4C28-BEFE-37EE741D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5E04-044C-4A8A-AF25-C72E68B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8D28-7088-438E-8181-5C5F847D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0A27F-B917-4CE2-8F8C-98E2F51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6954D-1361-46CE-BE42-B66BEAC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C8F47-117B-4FAE-A4EE-8E4BF3B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F651C-D82C-46BA-BF67-A8DAC025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A5B-CDA9-4F34-8F87-649B44E1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1229D-5D38-40DD-98C9-2FFA354B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91F0F-515D-439F-855E-578206F7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95323-99B7-4B23-8023-9730A738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28E39-F016-4120-97EF-956030C1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9B14-08F1-4D85-A755-014C666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8E8A-FC1E-4A37-8276-248F286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3405-B4AD-42F6-A5AD-B25EC3D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9405A-F8A1-4548-8F68-4EBEE34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13953-A221-4DE2-BEDD-A7F45D8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E1645-8752-49FB-BACA-D35032C9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59F-ED7F-4918-B1A8-73153AF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1322C-157E-40E6-9077-6DA0F0CF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65F0B-9FFC-4B50-9B3F-1528C06F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02FC-B5C1-43BB-A964-9E441FA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60C7-BBA7-4226-9F21-798BB751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6E0D-8948-4608-A0BB-25C5DD30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605DC-762B-4B10-BF3B-C8F9F29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9EB12-A47C-4CC4-AA0B-3B3A45AD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B601-BD1B-4872-B096-5DED3D2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20C5-F3E0-4AC4-A27C-892012E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FA5A-0DF4-4E42-8D09-ABC2388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A1F-D575-4EF4-A075-B1F16F63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9A78-3344-4CDB-AFC4-A0E7C00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866D6-67EF-48E8-8C79-86D79BBC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9545-AA34-4C35-9FB7-C8261E83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CA80F-F3EA-46E6-863E-2804B9C4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D4FC-78D2-4113-9E31-0D7DA9B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C9394-0091-404D-86E6-BCAF9C3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420B4-61E1-44B4-89A0-4E6C41E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D5B5C-1BD2-4303-BFEA-70AA2EB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EF819-0451-4D89-9C27-5448A25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9672E-7AD4-45A5-A28D-4459FA6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4623-353D-46C8-8549-10F8AB09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F93C1-A8BA-4CA2-9057-3B6A904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21499-C7EB-4747-B512-F22CEF9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4222C-F5E4-43E6-9B71-B037056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5B4A6-18F5-4900-95C8-D794B85E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07148-E8E1-4000-BA1E-99F143E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43A-C512-42FD-AB85-CDB5738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49D4-52DD-45C3-81D2-82D41C8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536-F447-4B0B-8A1F-7B12C927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18AF-BF15-43C2-B247-116D1BC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7975-E124-4263-A4AE-DE30F21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08B-596B-412B-9A66-CD4B8A6E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FDD-FBB7-462D-9F41-57B1D3B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32EB-1A81-488A-83F4-E81050A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577-28DE-4791-852C-CB45B19E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C04-0718-42DF-A655-E9B8F896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442F-2955-475D-AA28-BA66BE7C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5FD0-B77D-4EE0-9322-DD461F3D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FB78-B86F-4BB1-A299-960DD3DF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F32B-F29C-413A-8812-9F74B9E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24F4-0E8D-4B28-9C7E-1829A8F5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9E6D-8742-44CC-A5DF-AE7760E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946-59AE-46DD-BBF4-70E42ED2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0726-7004-41CD-8C17-240027D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05C2-5384-4AC1-B3D0-263EA6B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FFEC-69DE-4D45-B3D6-C4DF2FB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61C3-6EA9-4D3F-B810-444778C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34A3-77FB-4466-9914-8837E3C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6C0A-8AA9-4B4D-ACCE-47390CE9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2E5F-4B35-401D-9F52-295B303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2F8D-1BAF-442F-A1EA-0E20D9C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AD56-8399-4428-A69B-FBB32CDA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4675-8517-4C7A-8B9A-9AC6104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A06-7BF8-44C1-9C2C-2E26F6A9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A9D6-A15A-43E6-9BD5-DE7D574C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E370-625D-41C5-9EE8-6D476424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EC13-C527-401F-BBDE-8534FAD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EBC5-F0F9-4157-AD9E-86CD046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637D-F9AD-4447-ABD1-E23827F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1ADC-4705-4164-819C-A6A48C4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AC9B-8692-4D27-926C-E0ADCA7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8017-081D-4D9C-881F-BA5E3D7A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94C5-5063-4D4C-81CD-E338400C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E87F-5DAC-45C7-A712-0F2FA208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DDB-E699-4E51-A803-2AB26CA4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4CB3-91F6-4F9C-B4B5-AC59FAB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36B7-BF9C-423F-8E9C-3991854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E4CA-0343-4374-B52D-4088878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8EEE-88AD-4659-A236-32DC272B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519F-80E1-4A81-9CD0-7F0C953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3C0A-92E0-4022-844B-35CF80E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DDC9C-D5F4-43BE-9F5B-97EC4A4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0774-91C2-4E72-916D-33F3ECE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17D9-1A48-4167-B417-007FF95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25EC-C66C-4A75-93A4-36787D6A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56C-3556-4F4F-8F8C-69393C9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390C-BE7B-4AFD-91F9-B7F90381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CF33-C309-47DC-9D3B-07D635A4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8847-6241-4CBE-A165-E72645FB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2B9B-C4FB-4A94-AB8D-A4624FDC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2769-B1B7-4F56-B79C-5D5F493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76A6-BBF9-4F1D-9374-9BED929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CDF6-D3A0-4901-B79A-66BF601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1FDC-B519-483E-AA70-AFF2FB2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F7DA-3450-4776-86E1-7B6FB58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C3BD-2A06-454F-A71C-DD7651C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9BC-9B85-4430-85A8-100649E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6C87-CA33-4C57-AEEA-ADB6A76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1293-1F40-4F3D-B3D7-321518B2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A31C-BF19-4430-9CFA-1523C95B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C992-A52E-4528-92B4-AED847E5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1B2E8-FFC5-489A-899A-053A9E8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919B-0740-4117-A850-4FEC5FC9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ADE9-4771-4B9C-A469-1A5C813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2F34-6AD2-467F-A582-E8C97C5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A6D9-0A1D-4326-9B88-A379386D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D3BB-550B-4BA2-B87E-F8C3214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EBF-0F06-42C8-8F5C-DCF815F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D905-FD4F-4E67-91A0-0D8B5D0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DBCD-E9F4-4125-AC41-DE6A44D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98F2-93DC-4013-8A3B-C02AC25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33F7-C0F5-471F-8EED-3E9BA94F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C9734-4CCD-4F4A-88D7-6B6604C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26D6-CCBF-466A-9208-A5F43475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F826-C5CA-4BEC-88F9-A149D29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B3E1F-330F-4315-A014-5020E90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137C3-1646-4D16-9904-CCC8970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652AF-8E50-4930-9353-3684DE9D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74F-7A93-41C2-82BD-C47C442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22D2-C53B-42E5-9FE0-105CA0D3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1557B-2444-4B17-83A4-AC35899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18468-95E1-469C-B65B-C214481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57C3C-BE51-46BE-9535-5C24E4D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8C01-2147-4EFC-9916-4FF82CE9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EE4B-D6E8-4FBF-8A6C-F9270210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F12B-B706-4DB5-8C64-775D200F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84FFB-CC74-49CD-8D07-42834884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4C95-F3C8-423D-8091-088006CC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D320A-8800-4D36-B720-201CE4B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B98E44D-B55B-465E-BC10-35C33555CEEC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FDA6473-50CD-4B69-A393-9A9A547ECDAB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8974321-847F-405C-80BB-3FD9E1540E78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1685857-7C62-43F1-934E-494D5FA95C14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51B6FC0-5C55-4B34-A5F9-8F209C498CA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6169A6A-604D-41C5-8D0C-24322F8E0AD6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508CFFE-976F-4540-B840-AC897B978437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008D337-BAC4-43A2-B172-F361B3A00B4B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0048350-31D2-45DC-8230-D594CB8467B0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65BBA6A-750D-45EF-9D41-0D93ACE06387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9FCA48A-E73E-4E4C-BB9B-6D0D0E95CDEA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0400" indent="-2505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8A6AEEF-CB86-4C6E-BB60-617FBDE58D5B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дыг бюджеттиг ниити өөредилге чери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гес-Аксы ортумак школаз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ѲЛЕВИЛЕЛ АЖЫ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зы: «ѲПЕЙ ЫРЛА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Автору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-ки класстың сургуул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ргит Субуда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легес-Акс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260360" y="539640"/>
            <a:ext cx="809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41960"/>
                <a:tab algn="l" pos="5054760"/>
                <a:tab algn="l" pos="5776920"/>
                <a:tab algn="l" pos="6500880"/>
                <a:tab algn="l" pos="7224840"/>
                <a:tab algn="l" pos="7948440"/>
                <a:tab algn="l" pos="8072280"/>
                <a:tab algn="l" pos="8521560"/>
                <a:tab algn="l" pos="8970840"/>
                <a:tab algn="l" pos="9420120"/>
                <a:tab algn="l" pos="9869400"/>
                <a:tab algn="l" pos="10317240"/>
                <a:tab algn="l" pos="10774440"/>
                <a:tab algn="l" pos="10775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uva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uva Ne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Амгы үеде аныяк ава уруун бичиизинден тура чайгап өөренгени-биле ону дүрген кавайынга аатпышаан, ѳпей ырын ырлап тура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363760" y="244800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дум кыска үе иштинде ырлап ѳѳренип алд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-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ө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пей сарыым, ээ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Ѳ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к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о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рем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Айны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чырыын, ээ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Оон артык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ү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у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 чырыы, ээ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Оглум се</a:t>
            </a:r>
            <a:r>
              <a:rPr b="0" lang="ru-RU" sz="3200" spc="-1" strike="noStrike">
                <a:solidFill>
                  <a:srgbClr val="000000"/>
                </a:solidFill>
                <a:latin typeface="Tuva New"/>
              </a:rPr>
              <a:t>ң</a:t>
            </a: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ээ, о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uva New"/>
              </a:rPr>
              <a:t>Эртен келир, ээ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2120" indent="-422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9212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75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Кылган ажылывыс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Ѳпей ырларының чыындыз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0320" y="360360"/>
            <a:ext cx="8599680" cy="32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uva New"/>
              </a:rPr>
              <a:t>Ажыглаан литература даңзызы: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uva New"/>
              </a:rPr>
              <a:t>1. Монгуш Б. К. Тыва чоннуң бурунгу ужурлар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uva New"/>
              </a:rPr>
              <a:t>2. Монгуш Б. К. Тыва чаңчы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2160360"/>
            <a:ext cx="8607600" cy="17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528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058320"/>
                <a:tab algn="l" pos="1006488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uva New"/>
              </a:rPr>
              <a:t>Ч</a:t>
            </a:r>
            <a:r>
              <a:rPr b="1" lang="en-GB" sz="4000" spc="-1" strike="noStrike">
                <a:solidFill>
                  <a:srgbClr val="000000"/>
                </a:solidFill>
                <a:latin typeface="Tuva New"/>
              </a:rPr>
              <a:t>еттирди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5440" y="207720"/>
            <a:ext cx="9252000" cy="642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левилелдиң хевир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п-тыварының болгаш чогаадыкчы чорукту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з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пей ырларын  кыска үе иштинде ырлап өөренип алыр бе? Материалдар чыып шыдаар мен б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улгаз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улустуң биче жанры өпей ырларының дугайында билип алыры; янзы-бүрү аянга ырлап өөренип алыры; эштеринге өөреди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итпирлээр айтырыгла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пей ырларын информантылардан чыыры, оларның күүседир аяны; төлевилел дугайында бирги билиглерни шиңгээдип алы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узу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Ѳпей ырлары» деп бичии чыынды тургузары; презентация кылыры, видео кылы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76200" indent="-376200" algn="just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576360" y="324000"/>
          <a:ext cx="8786880" cy="681660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1244520">
                <a:tc gridSpan="2">
                  <a:txBody>
                    <a:bodyPr lIns="68400" rIns="68400" tIns="9021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ѲПЕЙ ЫРЛАР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3800"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Тыва улус шаандан тура-ла өпей ырын бедии-биле үнелеп,  салгалдан салгалче дамчыдып чора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Олар бөдүүн, ынчалза-даа сагыш-сеткилди хайныктырып кээр аяны-биле онзага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08280"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Ие кижи кавайда чаш уруун чайгап оргаш төлүнге ынаан илередип ырлаар.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701280" bIns="0" anchor="t">
                      <a:noAutofit/>
                    </a:bodyPr>
                    <a:p>
                      <a:pPr algn="just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к ырлар тускай тааланчыг аянны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1008000" y="1042920"/>
          <a:ext cx="8137440" cy="4535640"/>
        </p:xfrm>
        <a:graphic>
          <a:graphicData uri="http://schemas.openxmlformats.org/drawingml/2006/table">
            <a:tbl>
              <a:tblPr/>
              <a:tblGrid>
                <a:gridCol w="2711520"/>
                <a:gridCol w="2712960"/>
                <a:gridCol w="2712960"/>
              </a:tblGrid>
              <a:tr h="1984320"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Ава киж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руг кавайы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уран ырла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551320">
                <a:tc gridSpan="3">
                  <a:txBody>
                    <a:bodyPr lIns="68400" rIns="68400" tIns="1103760" bIns="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uva New"/>
                        </a:rPr>
                        <a:t>Ожуктуң үш дажы дег, тудуш харылзаалыг.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576360" y="539640"/>
            <a:ext cx="928836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vetica Neue"/>
              </a:rPr>
              <a:t>Эштерим-биле ажылы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Helvetica Neue"/>
              </a:rPr>
              <a:t>Айтырыг-харыы (класста 18 сургуул бар 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Helvetica Neu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Helvetica Neue"/>
              </a:rPr>
              <a:t>Ѳпей ырларын ырлап билир силер б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82560" y="2422440"/>
          <a:ext cx="8750520" cy="1285920"/>
        </p:xfrm>
        <a:graphic>
          <a:graphicData uri="http://schemas.openxmlformats.org/drawingml/2006/table">
            <a:tbl>
              <a:tblPr/>
              <a:tblGrid>
                <a:gridCol w="2916360"/>
                <a:gridCol w="2917800"/>
                <a:gridCol w="29163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ю-баюшки-баю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Өпей-өпей оой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ят усталые игрушки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13" name="Прямоугольник 3"/>
          <p:cNvSpPr/>
          <p:nvPr/>
        </p:nvSpPr>
        <p:spPr>
          <a:xfrm>
            <a:off x="792000" y="3565440"/>
            <a:ext cx="8712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 Neue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Helvetica Neue"/>
              </a:rPr>
              <a:t>. Ада-иелери үргүлчү ырлап турар б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825480" y="4565520"/>
          <a:ext cx="8569440" cy="150048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7509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й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468360" y="279360"/>
            <a:ext cx="935820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900000" y="2340000"/>
            <a:ext cx="846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en-GB" sz="2400" spc="-1" strike="noStrike">
                <a:solidFill>
                  <a:srgbClr val="e6e6e6"/>
                </a:solidFill>
                <a:latin typeface="Arial"/>
              </a:rPr>
              <a:t> </a:t>
            </a:r>
            <a:br>
              <a:rPr sz="2400"/>
            </a:b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Шаандагыны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өпей ырларын болгаш амгы шагны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өпей ырларын силерни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 мурну</a:t>
            </a:r>
            <a:r>
              <a:rPr b="1" lang="ru-RU" sz="3600" spc="-1" strike="noStrike">
                <a:solidFill>
                  <a:srgbClr val="0070c0"/>
                </a:solidFill>
                <a:latin typeface="Tuva New"/>
              </a:rPr>
              <a:t>ң</a:t>
            </a:r>
            <a:r>
              <a:rPr b="1" lang="en-GB" sz="3600" spc="-1" strike="noStrike">
                <a:solidFill>
                  <a:srgbClr val="0070c0"/>
                </a:solidFill>
                <a:latin typeface="Tuva New"/>
              </a:rPr>
              <a:t>арга бараалгадыыл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900000" y="2637000"/>
            <a:ext cx="8640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uva New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Ава кижи чаш төлүн удудуп кааш ажылды дүрген кылып аарын бодап, шала дүрген аян-биле ырлап олур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1240" y="422280"/>
            <a:ext cx="8979120" cy="1558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Ѳпей ырларының ырлаар аяны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2160720" y="244800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1084320" y="612720"/>
            <a:ext cx="77342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uva New"/>
              </a:rPr>
              <a:t>Уруу тамчыктыг дыштанып удузун дээш, иези таваар, маажым үн-биле өпей ырызын ырлап олурар</a:t>
            </a:r>
            <a:r>
              <a:rPr b="0" lang="ru-RU" sz="2600" spc="-1" strike="noStrike">
                <a:solidFill>
                  <a:srgbClr val="000000"/>
                </a:solidFill>
                <a:latin typeface="Tuva New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2519280" y="2448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3-05-11T17:38:00Z</dcterms:modified>
  <cp:revision>53</cp:revision>
  <dc:subject/>
  <dc:title>Презентация PowerPoint</dc:title>
</cp:coreProperties>
</file>