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6DA51-0FEA-4F22-AA80-796F6B51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ей ночью, на рассв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июня 1941 г. в 4 часа 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объявления вой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шистская Герм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ала на нашу Род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рвав мир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BC962-F595-4D58-B343-F08DD338C36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F9DEF-779E-4C26-A271-6394A466607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36A-4F62-4735-B09E-C0077994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8F0-5F0B-4A0B-BF5D-C775ACA5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D54-7F9A-4D2B-90A7-77A85325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367-4798-475A-96E0-29DF7236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8A2B-896B-4518-AFD8-2B10D927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107-633F-419B-906B-FD47144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A3B-71A1-4959-8CC0-552DC860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5E23-E999-4426-9230-3CC9DD1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D39C-89C3-412C-9560-3C810A23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18D2-DCF0-4FDB-9E0F-98FE061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4E62-F4DA-469C-851A-E8FBB50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132-4058-46D8-9801-A0F0618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D14-F5D0-45D3-9F1A-94F5D84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2B6E-8785-4B3C-AB30-9DB3CF9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F5F4-F82D-4178-8FED-CC696FF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7234-C9C9-4F0F-9163-5D871CA8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3BD1-BFCF-4AD3-9FA5-B359DC94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6CB0-15C1-4EE4-BB9D-311BF16B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644A-790B-4D50-AB51-0A20810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087C-F604-4B33-9153-3641EB14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4FCD-2043-47E1-83CF-8CD422E5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6DF9-B910-49C7-9743-53C838A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A55-4984-4688-8E6B-695FB4E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2562-02A9-4BB6-89F4-F47AAEF4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48BB-98DB-4766-9F81-7A7C519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D931-B228-4AB2-A9CC-5B40D0B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D524-D8E0-46BB-B4A3-2A7FA88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961D-A22C-461E-B731-DDB1576E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0F2A-1C71-471E-B975-99FF558A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796E-3DD6-4D31-A271-696798D1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7312-FB3B-4E2D-B96B-9104760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A0B0-392F-4D61-B3C3-BB533FD3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1935-9EE3-4F0B-8C26-B8CB0760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C2B-4F1A-4B2D-A3A7-519A898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CD80-1AED-4F59-869F-D70C9F7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D66E-8A49-4EA8-93E3-BBBB53C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67B7-D181-46CC-BF4F-7AC78D01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496D-A41C-4CBD-A549-87DF066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178A-FC76-407B-BB5B-0A0D17A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F61B-6A78-4410-BAFD-7C74944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78D1-62EE-4D55-ACD0-875FB61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70DC-1C9E-4691-ABBD-9424F584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0159-4CEB-47A6-93FA-F1008316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CFB-DFEF-46BE-99AE-CFE45E09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23A-61B5-4115-8C07-9B43CDD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40-3605-47C0-9E6E-A0D2BC0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55E-6387-4A05-8C3F-91916EE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CC7-8FEB-4334-A2A7-55E553E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F025BB-A95D-4973-ADD5-D30F1BD6D77F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C77156-E068-4908-B591-F05AEC6ADC8B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56320" y="1400400"/>
            <a:ext cx="3346200" cy="27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647240" y="731520"/>
            <a:ext cx="334620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645080" y="1398960"/>
            <a:ext cx="3346200" cy="27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29E3C2-9D39-4D5B-BE18-B123E4DB3319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8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4B649C-F58D-40D5-B3A3-81074E28FA63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3069000"/>
            <a:ext cx="717516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«ДЕНЬ ПОБЕДЫ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Шептарская Н.В.</a:t>
            </a:r>
            <a:endParaRPr b="0" lang="ru-RU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5" name="Picture 2" descr="C:\Users\NAO\Desktop\ЛЕНТА.png"/>
          <p:cNvPicPr/>
          <p:nvPr/>
        </p:nvPicPr>
        <p:blipFill>
          <a:blip r:embed="rId1"/>
          <a:stretch/>
        </p:blipFill>
        <p:spPr>
          <a:xfrm>
            <a:off x="827640" y="105840"/>
            <a:ext cx="7224480" cy="21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Объект 5" descr=""/>
          <p:cNvPicPr/>
          <p:nvPr/>
        </p:nvPicPr>
        <p:blipFill>
          <a:blip r:embed="rId1"/>
          <a:stretch/>
        </p:blipFill>
        <p:spPr>
          <a:xfrm>
            <a:off x="179640" y="736920"/>
            <a:ext cx="3456000" cy="23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4" name="Picture 2" descr="C:\Users\NAO\Desktop\ЛЕНТА 2.png"/>
          <p:cNvPicPr/>
          <p:nvPr/>
        </p:nvPicPr>
        <p:blipFill>
          <a:blip r:embed="rId2"/>
          <a:stretch/>
        </p:blipFill>
        <p:spPr>
          <a:xfrm>
            <a:off x="1331640" y="4811400"/>
            <a:ext cx="7207920" cy="1932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11640" y="152280"/>
            <a:ext cx="417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и велись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3"/>
          <a:stretch/>
        </p:blipFill>
        <p:spPr>
          <a:xfrm>
            <a:off x="2627640" y="3069000"/>
            <a:ext cx="3346200" cy="2162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7" name="Объект 5" descr=""/>
          <p:cNvPicPr/>
          <p:nvPr/>
        </p:nvPicPr>
        <p:blipFill>
          <a:blip r:embed="rId4"/>
          <a:stretch/>
        </p:blipFill>
        <p:spPr>
          <a:xfrm>
            <a:off x="4932000" y="836640"/>
            <a:ext cx="3312000" cy="216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83876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2028600" y="582480"/>
            <a:ext cx="5271480" cy="3516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30" name="Прямоугольник 5"/>
          <p:cNvSpPr/>
          <p:nvPr/>
        </p:nvSpPr>
        <p:spPr>
          <a:xfrm>
            <a:off x="0" y="3357720"/>
            <a:ext cx="9000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такие солдатские треугольники приходили с фронта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4866480"/>
            <a:ext cx="7425720" cy="19911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33" name="Picture 5" descr="42879_or"/>
          <p:cNvPicPr/>
          <p:nvPr/>
        </p:nvPicPr>
        <p:blipFill>
          <a:blip r:embed="rId2"/>
          <a:stretch/>
        </p:blipFill>
        <p:spPr>
          <a:xfrm>
            <a:off x="1643040" y="214200"/>
            <a:ext cx="5962320" cy="4043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34" name="Прямоугольник 9"/>
          <p:cNvSpPr/>
          <p:nvPr/>
        </p:nvSpPr>
        <p:spPr>
          <a:xfrm>
            <a:off x="0" y="3000240"/>
            <a:ext cx="914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9 мая война, которая длилась 4 года, закончилась в Берлине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60400" y="4725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240" y="357120"/>
            <a:ext cx="2499840" cy="42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38" name="Picture 4" descr="http://www.vladtime.ru/uploads/posts/2016-03/1457430630_436829.jpeg"/>
          <p:cNvPicPr/>
          <p:nvPr/>
        </p:nvPicPr>
        <p:blipFill>
          <a:blip r:embed="rId2"/>
          <a:stretch/>
        </p:blipFill>
        <p:spPr>
          <a:xfrm>
            <a:off x="214200" y="428760"/>
            <a:ext cx="6095520" cy="4066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60400" y="4725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41" name="Picture 2" descr="http://mil.ru/images/military/military/photo/MA_74882.jpg"/>
          <p:cNvPicPr/>
          <p:nvPr/>
        </p:nvPicPr>
        <p:blipFill>
          <a:blip r:embed="rId2"/>
          <a:stretch/>
        </p:blipFill>
        <p:spPr>
          <a:xfrm>
            <a:off x="2339640" y="332640"/>
            <a:ext cx="4000320" cy="266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2" name="Прямоугольник 9"/>
          <p:cNvSpPr/>
          <p:nvPr/>
        </p:nvSpPr>
        <p:spPr>
          <a:xfrm>
            <a:off x="785880" y="3105720"/>
            <a:ext cx="7786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ждый год в День Победы в нашем городе проходит праздничный па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06400" y="481572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img-fotki.yandex.ru/get/6306/24332511.8b/0_6ffce_27f74100_XXL"/>
          <p:cNvPicPr/>
          <p:nvPr/>
        </p:nvPicPr>
        <p:blipFill>
          <a:blip r:embed="rId2"/>
          <a:srcRect l="10753" t="6046" r="20694" b="11330"/>
          <a:stretch/>
        </p:blipFill>
        <p:spPr>
          <a:xfrm>
            <a:off x="2195640" y="153720"/>
            <a:ext cx="5178240" cy="4162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5" name="Прямоугольник 9"/>
          <p:cNvSpPr/>
          <p:nvPr/>
        </p:nvSpPr>
        <p:spPr>
          <a:xfrm>
            <a:off x="1285920" y="3105720"/>
            <a:ext cx="65005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звучит праздничный салю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755640" y="48078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7"/>
          <p:cNvSpPr/>
          <p:nvPr/>
        </p:nvSpPr>
        <p:spPr>
          <a:xfrm>
            <a:off x="1331640" y="548640"/>
            <a:ext cx="6552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7640" y="2302920"/>
            <a:ext cx="820872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 формирование знаний детей о великом празднике «День Победы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. Формировать представления детей  о Великой Отечественной войне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Развивать интерес детей к подвигу народа и воинов победителей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Воспитывать чувство любви к России, желание жить в мире и уважение к памяти воинов-победителей, к ветеранам. </a:t>
            </a:r>
            <a:endParaRPr b="0" lang="ru-RU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7" name="Picture 2" descr="C:\Users\NAO\Desktop\ЛЕНТА.png"/>
          <p:cNvPicPr/>
          <p:nvPr/>
        </p:nvPicPr>
        <p:blipFill>
          <a:blip r:embed="rId1"/>
          <a:stretch/>
        </p:blipFill>
        <p:spPr>
          <a:xfrm>
            <a:off x="827640" y="105840"/>
            <a:ext cx="7224480" cy="21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39520" y="483876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003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ней ночью, на рассвете,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4 часа утра 22 июня 1941 г.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объявления войны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шистская Германия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ала на нашу Родину,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ушив мир и покой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ого народа.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ась Великая 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чественная  война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00" name="Picture 4" descr="C:\Users\User\Desktop\images.jpg"/>
          <p:cNvPicPr/>
          <p:nvPr/>
        </p:nvPicPr>
        <p:blipFill>
          <a:blip r:embed="rId2"/>
          <a:stretch/>
        </p:blipFill>
        <p:spPr>
          <a:xfrm>
            <a:off x="5004000" y="404640"/>
            <a:ext cx="3847680" cy="41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Объект 6" descr=""/>
          <p:cNvPicPr/>
          <p:nvPr/>
        </p:nvPicPr>
        <p:blipFill>
          <a:blip r:embed="rId1"/>
          <a:stretch/>
        </p:blipFill>
        <p:spPr>
          <a:xfrm>
            <a:off x="4094640" y="260640"/>
            <a:ext cx="4874040" cy="396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2" name="Picture 2" descr="C:\Users\NAO\Desktop\ЛЕНТА 2.png"/>
          <p:cNvPicPr/>
          <p:nvPr/>
        </p:nvPicPr>
        <p:blipFill>
          <a:blip r:embed="rId2"/>
          <a:stretch/>
        </p:blipFill>
        <p:spPr>
          <a:xfrm>
            <a:off x="899640" y="48276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"/>
          <p:cNvSpPr/>
          <p:nvPr/>
        </p:nvSpPr>
        <p:spPr>
          <a:xfrm>
            <a:off x="611640" y="332640"/>
            <a:ext cx="33120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ащиту Родины поднялся весь народ: молодежь и пожилые, женщины и дети. Все те, кто остались в тылу, как могли, помогали фронту, заменив ушедших на фронт мужчин у станков и в п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Объект 4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190760" cy="3142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5" name="Объект 6" descr=""/>
          <p:cNvPicPr/>
          <p:nvPr/>
        </p:nvPicPr>
        <p:blipFill>
          <a:blip r:embed="rId2"/>
          <a:stretch/>
        </p:blipFill>
        <p:spPr>
          <a:xfrm>
            <a:off x="4643280" y="1340640"/>
            <a:ext cx="4232520" cy="3105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6" name="Picture 2" descr="C:\Users\NAO\Desktop\ЛЕНТА 2.png"/>
          <p:cNvPicPr/>
          <p:nvPr/>
        </p:nvPicPr>
        <p:blipFill>
          <a:blip r:embed="rId3"/>
          <a:stretch/>
        </p:blipFill>
        <p:spPr>
          <a:xfrm>
            <a:off x="899640" y="4509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1403640" y="330480"/>
            <a:ext cx="63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и выживали, как мог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5072040"/>
            <a:ext cx="7386840" cy="19807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8"/>
          <p:cNvSpPr/>
          <p:nvPr/>
        </p:nvSpPr>
        <p:spPr>
          <a:xfrm>
            <a:off x="357120" y="2413440"/>
            <a:ext cx="85006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jpg2045210983"/>
          <p:cNvPicPr/>
          <p:nvPr/>
        </p:nvPicPr>
        <p:blipFill>
          <a:blip r:embed="rId2"/>
          <a:stretch/>
        </p:blipFill>
        <p:spPr>
          <a:xfrm>
            <a:off x="3996000" y="548640"/>
            <a:ext cx="5012280" cy="374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1" name="Прямоугольник 9"/>
          <p:cNvSpPr/>
          <p:nvPr/>
        </p:nvSpPr>
        <p:spPr>
          <a:xfrm>
            <a:off x="357120" y="548640"/>
            <a:ext cx="3494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стро становились взрослыми, заменяя ушедших на фронт отцов и братьев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5229360"/>
            <a:ext cx="7386840" cy="198072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8"/>
          <p:cNvSpPr/>
          <p:nvPr/>
        </p:nvSpPr>
        <p:spPr>
          <a:xfrm>
            <a:off x="357120" y="2413440"/>
            <a:ext cx="85006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E49d2096cdbe"/>
          <p:cNvPicPr/>
          <p:nvPr/>
        </p:nvPicPr>
        <p:blipFill>
          <a:blip r:embed="rId2"/>
          <a:stretch/>
        </p:blipFill>
        <p:spPr>
          <a:xfrm>
            <a:off x="3632760" y="422640"/>
            <a:ext cx="5234400" cy="3825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5" name="Прямоугольник 9"/>
          <p:cNvSpPr/>
          <p:nvPr/>
        </p:nvSpPr>
        <p:spPr>
          <a:xfrm>
            <a:off x="539640" y="332640"/>
            <a:ext cx="30927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ногие освоили рабочие специальности. Подросткам небольшого роста ставили подставки, чтобы они могли достать до станка.  Преодолевая все трудности, они выпускали вооружение для фронта и поб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58100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young-soldier-16"/>
          <p:cNvPicPr/>
          <p:nvPr/>
        </p:nvPicPr>
        <p:blipFill>
          <a:blip r:embed="rId2"/>
          <a:stretch/>
        </p:blipFill>
        <p:spPr>
          <a:xfrm>
            <a:off x="107640" y="404640"/>
            <a:ext cx="2459880" cy="332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8" name="Picture 6" descr="04_warkids_80601"/>
          <p:cNvPicPr/>
          <p:nvPr/>
        </p:nvPicPr>
        <p:blipFill>
          <a:blip r:embed="rId3"/>
          <a:stretch/>
        </p:blipFill>
        <p:spPr>
          <a:xfrm>
            <a:off x="6520680" y="260640"/>
            <a:ext cx="2408760" cy="3406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9" name="Прямоугольник 6"/>
          <p:cNvSpPr/>
          <p:nvPr/>
        </p:nvSpPr>
        <p:spPr>
          <a:xfrm>
            <a:off x="2195640" y="476640"/>
            <a:ext cx="46800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ие боролись против фашистов в партизанских отрядах, участвовали в боевых действиях и удостаивались на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581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5080" y="731520"/>
            <a:ext cx="33462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0">
              <a:lnSpc>
                <a:spcPct val="12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нщины тоже участвовали в войне: они, в основном, были связистками, снайперами, врачами и медсестрами.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22" name="Picture 5" descr="51911920_Sestrica"/>
          <p:cNvPicPr/>
          <p:nvPr/>
        </p:nvPicPr>
        <p:blipFill>
          <a:blip r:embed="rId2"/>
          <a:stretch/>
        </p:blipFill>
        <p:spPr>
          <a:xfrm>
            <a:off x="467640" y="548640"/>
            <a:ext cx="3600000" cy="3934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414</TotalTime>
  <Application>LibreOffice/7.4.7.2$Linux_X86_64 LibreOffice_project/40$Build-2</Application>
  <AppVersion>15.0000</AppVersion>
  <Words>285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7:05:07Z</dcterms:created>
  <dc:creator>NAO</dc:creator>
  <dc:description/>
  <dc:language>en-US</dc:language>
  <cp:lastModifiedBy>Надежда</cp:lastModifiedBy>
  <dcterms:modified xsi:type="dcterms:W3CDTF">2023-05-12T12:41:37Z</dcterms:modified>
  <cp:revision>52</cp:revision>
  <dc:subject/>
  <dc:title>9  МАЯ ДЕНЬ ПОБЕ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39370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16</vt:r8>
  </property>
</Properties>
</file>