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577-EBF8-4767-9C80-4C380E87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0A21-66BD-46F6-9F3A-D4DB6BA2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FBE-5008-426F-BE8E-50F26985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5DA-CC9B-4C32-A188-425B0599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36FB-8359-4452-8999-4E0127CB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F05C-DA3D-400D-A079-734F6442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620C-9E0A-4DF7-8EC6-F163BB2E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BB20-A825-49CC-B207-F6EC3CBA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98EB-CC34-4494-B657-0A0E66CC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F2C2-8352-4052-B8FA-613E60B9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D8E2-40DD-491D-BBE5-67EB3431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938-72D1-490A-947B-731D6B23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C668-32A6-44DD-B9A2-D6598362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98F6-6046-47E1-B699-ED518C69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D0DD-4984-4D5A-9E43-14D41C8C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79AA-A592-46AC-A119-52C23A4D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80F8-2AD1-470F-9B38-CDE2506A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E8695-1691-46DF-83C5-C4813FB2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932A8-5C5E-43D4-9B0F-78EE1112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3AC43-1A27-499F-8A54-8A6B954E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CA4C5-B5C5-49D5-A014-878880FE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AD04A-3778-4AC5-A862-A2EAC587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BFC-4978-4283-A433-0E7888D2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06E39-698F-41DD-A8A5-17743387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5DE21-1266-4CC1-97B5-F7F8F9DF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E182A-48A8-4B57-9D1B-27820DB2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BFE47-F54B-4B85-B725-192FCF11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4F514-EA7F-442C-B91F-FF4BD0F8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15F51-BC83-4853-929F-B09B8E22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F9B26-C769-462B-A021-6AAD11D3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FEDBC-0363-4E3D-845B-BDCDC218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39DE6-084B-4AA4-B2D9-A97CAFB2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AD8CC-3307-42E8-A76B-541283C4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58F-CEE2-4432-844F-389F561F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66642-105E-4AA1-BAC2-E66DED61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C187C-77C8-4133-B51A-C80CA527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46208-161B-4DB3-8DE7-5773E438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9B4F-07BD-4DEB-AA0E-7355DC96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D7CBC-7623-418A-800F-3FE68BCF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11FA7-3B63-413F-8A24-E6FF30F6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91656-FEE4-43D1-9578-9BE9432B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09ED5-A198-424E-ACEA-87C17BD4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2E996-9E82-44DE-9974-15AFEB64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4A7-2FED-4444-88E6-9FCBBDCE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72F-1FE8-4366-811C-0E5D49B4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12A-5CFD-4378-867B-FE228345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8A7-939D-445B-BFDF-0E571802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6B3-E483-4C1D-9DC4-F94B1295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8FBA-4D4B-4283-84A3-9220D07E88A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83A8-3CE6-489D-AE75-399BAC8B6C4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81D4-D410-4556-B463-4481FC879EF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7819-C475-4D0A-84C5-DF179CE4A9C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Прямоугольник 3" descr=""/>
          <p:cNvPicPr/>
          <p:nvPr/>
        </p:nvPicPr>
        <p:blipFill>
          <a:blip r:embed="rId1"/>
          <a:stretch/>
        </p:blipFill>
        <p:spPr>
          <a:xfrm>
            <a:off x="469800" y="1054080"/>
            <a:ext cx="8259840" cy="17496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5940360" y="4437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спитатель: Медведева К.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1476360" y="306864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торая младшая группа «Гномики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611280" y="907920"/>
            <a:ext cx="40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 стаканчике, рожке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усное и нежно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но на молоке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— белоснежно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розилках проживаю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солнце сразу таю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4211640" y="479520"/>
            <a:ext cx="447660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1547640" y="47628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з чего состоит наше мороженное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0" name="Рисунок 3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2307960" cy="16891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4"/>
          <p:cNvSpPr/>
          <p:nvPr/>
        </p:nvSpPr>
        <p:spPr>
          <a:xfrm>
            <a:off x="971640" y="105264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14124"/>
                </a:solidFill>
                <a:latin typeface="Trebuchet MS"/>
              </a:rPr>
              <a:t>Молок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Рисунок 5" descr=""/>
          <p:cNvPicPr/>
          <p:nvPr/>
        </p:nvPicPr>
        <p:blipFill>
          <a:blip r:embed="rId2"/>
          <a:stretch/>
        </p:blipFill>
        <p:spPr>
          <a:xfrm>
            <a:off x="3851280" y="1700280"/>
            <a:ext cx="2268360" cy="1701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6"/>
          <p:cNvSpPr/>
          <p:nvPr/>
        </p:nvSpPr>
        <p:spPr>
          <a:xfrm>
            <a:off x="3708360" y="10969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14124"/>
                </a:solidFill>
                <a:latin typeface="Trebuchet MS"/>
                <a:ea typeface="Times New Roman"/>
              </a:rPr>
              <a:t>Сгущенное молок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Рисунок 8" descr=""/>
          <p:cNvPicPr/>
          <p:nvPr/>
        </p:nvPicPr>
        <p:blipFill>
          <a:blip r:embed="rId3"/>
          <a:srcRect l="22001" t="4444" r="21306" b="8453"/>
          <a:stretch/>
        </p:blipFill>
        <p:spPr>
          <a:xfrm>
            <a:off x="7020000" y="1682640"/>
            <a:ext cx="1766880" cy="18097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9"/>
          <p:cNvSpPr/>
          <p:nvPr/>
        </p:nvSpPr>
        <p:spPr>
          <a:xfrm>
            <a:off x="6948360" y="119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4124"/>
                </a:solidFill>
                <a:latin typeface="Trebuchet MS"/>
              </a:rPr>
              <a:t>Сливк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Рисунок 10" descr=""/>
          <p:cNvPicPr/>
          <p:nvPr/>
        </p:nvPicPr>
        <p:blipFill>
          <a:blip r:embed="rId4"/>
          <a:srcRect l="0" t="0" r="15799" b="2008"/>
          <a:stretch/>
        </p:blipFill>
        <p:spPr>
          <a:xfrm>
            <a:off x="611280" y="4341960"/>
            <a:ext cx="2307960" cy="17920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1"/>
          <p:cNvSpPr/>
          <p:nvPr/>
        </p:nvSpPr>
        <p:spPr>
          <a:xfrm>
            <a:off x="611280" y="3933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4124"/>
                </a:solidFill>
                <a:latin typeface="Trebuchet MS"/>
              </a:rPr>
              <a:t>Сахарный песо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Рисунок 12" descr=""/>
          <p:cNvPicPr/>
          <p:nvPr/>
        </p:nvPicPr>
        <p:blipFill>
          <a:blip r:embed="rId5"/>
          <a:stretch/>
        </p:blipFill>
        <p:spPr>
          <a:xfrm>
            <a:off x="3855960" y="4302000"/>
            <a:ext cx="2362320" cy="1575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3"/>
          <p:cNvSpPr/>
          <p:nvPr/>
        </p:nvSpPr>
        <p:spPr>
          <a:xfrm>
            <a:off x="3924360" y="386064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4124"/>
                </a:solidFill>
                <a:latin typeface="Trebuchet MS"/>
              </a:rPr>
              <a:t>Масло сливочно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14" descr=""/>
          <p:cNvPicPr/>
          <p:nvPr/>
        </p:nvPicPr>
        <p:blipFill>
          <a:blip r:embed="rId6"/>
          <a:stretch/>
        </p:blipFill>
        <p:spPr>
          <a:xfrm>
            <a:off x="6678720" y="4302000"/>
            <a:ext cx="2482920" cy="1656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5"/>
          <p:cNvSpPr/>
          <p:nvPr/>
        </p:nvSpPr>
        <p:spPr>
          <a:xfrm>
            <a:off x="7236000" y="38606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4124"/>
                </a:solidFill>
                <a:latin typeface="Trebuchet MS"/>
              </a:rPr>
              <a:t>Яйц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539640" y="3333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иды мороженного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639720" y="839880"/>
            <a:ext cx="73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Шоколадное                                             Клубничное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3" descr=""/>
          <p:cNvPicPr/>
          <p:nvPr/>
        </p:nvPicPr>
        <p:blipFill>
          <a:blip r:embed="rId1"/>
          <a:stretch/>
        </p:blipFill>
        <p:spPr>
          <a:xfrm>
            <a:off x="652320" y="1341360"/>
            <a:ext cx="2714760" cy="21718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4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2944800" cy="208764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5" descr=""/>
          <p:cNvPicPr/>
          <p:nvPr/>
        </p:nvPicPr>
        <p:blipFill>
          <a:blip r:embed="rId3"/>
          <a:stretch/>
        </p:blipFill>
        <p:spPr>
          <a:xfrm>
            <a:off x="2987640" y="4149720"/>
            <a:ext cx="2492280" cy="24922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6"/>
          <p:cNvSpPr/>
          <p:nvPr/>
        </p:nvSpPr>
        <p:spPr>
          <a:xfrm>
            <a:off x="3203640" y="3789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анильно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"/>
          <p:cNvPicPr/>
          <p:nvPr/>
        </p:nvPicPr>
        <p:blipFill>
          <a:blip r:embed="rId1"/>
          <a:stretch/>
        </p:blipFill>
        <p:spPr>
          <a:xfrm>
            <a:off x="892080" y="1052640"/>
            <a:ext cx="7315200" cy="48765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1116000" y="836640"/>
            <a:ext cx="65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4124"/>
                </a:solidFill>
                <a:latin typeface="Trebuchet MS"/>
              </a:rPr>
              <a:t>Креманк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1" descr=""/>
          <p:cNvPicPr/>
          <p:nvPr/>
        </p:nvPicPr>
        <p:blipFill>
          <a:blip r:embed="rId1"/>
          <a:srcRect l="12362" t="2266" r="12220" b="8667"/>
          <a:stretch/>
        </p:blipFill>
        <p:spPr>
          <a:xfrm>
            <a:off x="2556000" y="907920"/>
            <a:ext cx="4070160" cy="51404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1042920" y="404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ппликация, мороженное в креманк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27T06:18:24Z</dcterms:created>
  <dc:creator>Magicscreen</dc:creator>
  <dc:description/>
  <dc:language>en-US</dc:language>
  <cp:lastModifiedBy>RePack by Diakov</cp:lastModifiedBy>
  <dcterms:modified xsi:type="dcterms:W3CDTF">2023-05-12T10:33:18Z</dcterms:modified>
  <cp:revision>9</cp:revision>
  <dc:subject/>
  <dc:title>Презентация PowerPoint</dc:title>
</cp:coreProperties>
</file>