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50D4-4033-4FDF-9808-15C41B26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5F9-5195-40CC-962B-B620155E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B8D-F075-4810-B071-F9E3FF93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813-B465-4685-9DE2-E164F871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7BEE-7AE1-4855-9FB2-5C7DDB78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968B-3F65-4AB9-A876-00180A69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29A8-A873-417C-ABD0-42B09151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E317-7055-4AFE-97D7-B7C8B731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B7FC-F13F-429B-9FC5-B5C4EA9D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E9CC-6135-4C68-BE9D-BE70C777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BC6F-1FE2-4856-8DD7-DE821583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34A1-2ED1-4406-B06F-F5D1F3DD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994D-9214-46BD-9DFF-DC10FC1E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DF42-4760-40BB-AD5B-1FABC9E0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953D-4829-4662-9AC6-7B2E907D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C3F3-107C-477C-A048-0486B44E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E649-A91D-4276-9397-9CC31005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B1141-DA6B-4578-BE11-C6853C6F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4EFE3-7632-4EC5-AB0E-28CAAF01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0423C-4835-40F9-9E60-6AA45158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13702-717B-4ED0-BD7A-C8778B89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B7DBC-3118-4D5F-8C29-841D232B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BAF-D094-4890-980F-127D6112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1F98F-2561-4B18-A0C6-BF13CA38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37351-8008-4DA8-BD77-18E5850B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77BB0-79E2-4D9B-A258-F7F5EB92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B109A-90ED-4535-A3AC-5C72210A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33E27-D907-432C-924C-5C599150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A0D80-E554-4A90-B7DC-A794E850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4B062-4594-40B4-9C6A-A040D25A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8899E-6E70-4478-A185-A8A07D31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B922B-1D37-4F2A-96A9-2358A4CC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D2D3A-D4B2-429E-8D16-200D8B52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FAD2-70F5-4837-8473-154403B7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AD7EA-9237-4994-8043-63D0145D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867EC-B43E-44DB-8947-0C8C29D9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F5B25-9AF0-4161-BCF4-A72CE71F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5ABFB-D277-4A62-88DA-2EAA3E0E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2272D-CF7D-48FC-9318-8727679D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57C4C-F6A9-4DD2-8ADF-FA6596A9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01655-19FD-42F7-B01C-D6D476A0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09ECB-9464-4468-AC81-3A6994E6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24A36-43EF-4B7A-8FEA-03A1F680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FF61-BEB2-4745-A18B-7370730F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F429-C93E-4EFF-A6E8-3DC809AC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8A7C-172C-4888-8536-5666E7D9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B64-5C6D-4AF6-86B9-86AA8F46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6B1A-8C28-4ECD-8A1E-F7574EB4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7869-4D91-45D0-B0F2-7569A8301F3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A264-9041-4CF1-86FF-CA8D31DEA51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058C-1CA9-4565-94FF-F38D67CF237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B781-82A0-4500-A90F-697AF692FF0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Прямоугольник 3" descr=""/>
          <p:cNvPicPr/>
          <p:nvPr/>
        </p:nvPicPr>
        <p:blipFill>
          <a:blip r:embed="rId1"/>
          <a:stretch/>
        </p:blipFill>
        <p:spPr>
          <a:xfrm>
            <a:off x="469800" y="1054080"/>
            <a:ext cx="8259840" cy="17496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5940360" y="4437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оспитатель: Медведева К.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1476360" y="306864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торая младшая группа «Гномики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611280" y="907920"/>
            <a:ext cx="40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 стаканчике, рожке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усное и нежно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но на молоке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— белоснежно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розилках проживаю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солнце сразу таю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4211640" y="479520"/>
            <a:ext cx="447660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1547640" y="47628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з чего состоит наше мороженное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0" name="Рисунок 3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2307960" cy="16891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4"/>
          <p:cNvSpPr/>
          <p:nvPr/>
        </p:nvSpPr>
        <p:spPr>
          <a:xfrm>
            <a:off x="971640" y="1052640"/>
            <a:ext cx="151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14124"/>
                </a:solidFill>
                <a:latin typeface="Trebuchet MS"/>
              </a:rPr>
              <a:t>Молоко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Рисунок 5" descr=""/>
          <p:cNvPicPr/>
          <p:nvPr/>
        </p:nvPicPr>
        <p:blipFill>
          <a:blip r:embed="rId2"/>
          <a:stretch/>
        </p:blipFill>
        <p:spPr>
          <a:xfrm>
            <a:off x="3851280" y="1700280"/>
            <a:ext cx="2268360" cy="17017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6"/>
          <p:cNvSpPr/>
          <p:nvPr/>
        </p:nvSpPr>
        <p:spPr>
          <a:xfrm>
            <a:off x="3708360" y="10969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14124"/>
                </a:solidFill>
                <a:latin typeface="Trebuchet MS"/>
                <a:ea typeface="Times New Roman"/>
              </a:rPr>
              <a:t>Сгущенное молоко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Рисунок 8" descr=""/>
          <p:cNvPicPr/>
          <p:nvPr/>
        </p:nvPicPr>
        <p:blipFill>
          <a:blip r:embed="rId3"/>
          <a:srcRect l="22001" t="4444" r="21306" b="8453"/>
          <a:stretch/>
        </p:blipFill>
        <p:spPr>
          <a:xfrm>
            <a:off x="7020000" y="1682640"/>
            <a:ext cx="1766880" cy="18097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9"/>
          <p:cNvSpPr/>
          <p:nvPr/>
        </p:nvSpPr>
        <p:spPr>
          <a:xfrm>
            <a:off x="6948360" y="119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4124"/>
                </a:solidFill>
                <a:latin typeface="Trebuchet MS"/>
              </a:rPr>
              <a:t>Сливк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Рисунок 10" descr=""/>
          <p:cNvPicPr/>
          <p:nvPr/>
        </p:nvPicPr>
        <p:blipFill>
          <a:blip r:embed="rId4"/>
          <a:srcRect l="0" t="0" r="15799" b="2008"/>
          <a:stretch/>
        </p:blipFill>
        <p:spPr>
          <a:xfrm>
            <a:off x="611280" y="4341960"/>
            <a:ext cx="2307960" cy="17920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1"/>
          <p:cNvSpPr/>
          <p:nvPr/>
        </p:nvSpPr>
        <p:spPr>
          <a:xfrm>
            <a:off x="611280" y="3933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4124"/>
                </a:solidFill>
                <a:latin typeface="Trebuchet MS"/>
              </a:rPr>
              <a:t>Сахарный песо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Рисунок 12" descr=""/>
          <p:cNvPicPr/>
          <p:nvPr/>
        </p:nvPicPr>
        <p:blipFill>
          <a:blip r:embed="rId5"/>
          <a:stretch/>
        </p:blipFill>
        <p:spPr>
          <a:xfrm>
            <a:off x="3855960" y="4302000"/>
            <a:ext cx="2362320" cy="1575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3"/>
          <p:cNvSpPr/>
          <p:nvPr/>
        </p:nvSpPr>
        <p:spPr>
          <a:xfrm>
            <a:off x="3924360" y="386064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4124"/>
                </a:solidFill>
                <a:latin typeface="Trebuchet MS"/>
              </a:rPr>
              <a:t>Масло сливочно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14" descr=""/>
          <p:cNvPicPr/>
          <p:nvPr/>
        </p:nvPicPr>
        <p:blipFill>
          <a:blip r:embed="rId6"/>
          <a:stretch/>
        </p:blipFill>
        <p:spPr>
          <a:xfrm>
            <a:off x="6678720" y="4302000"/>
            <a:ext cx="2482920" cy="1656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5"/>
          <p:cNvSpPr/>
          <p:nvPr/>
        </p:nvSpPr>
        <p:spPr>
          <a:xfrm>
            <a:off x="7236000" y="38606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4124"/>
                </a:solidFill>
                <a:latin typeface="Trebuchet MS"/>
              </a:rPr>
              <a:t>Яйц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539640" y="3333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иды мороженного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639720" y="839880"/>
            <a:ext cx="73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Шоколадное                                             Клубничное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3" descr=""/>
          <p:cNvPicPr/>
          <p:nvPr/>
        </p:nvPicPr>
        <p:blipFill>
          <a:blip r:embed="rId1"/>
          <a:stretch/>
        </p:blipFill>
        <p:spPr>
          <a:xfrm>
            <a:off x="652320" y="1341360"/>
            <a:ext cx="2714760" cy="21718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4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2944800" cy="208764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5" descr=""/>
          <p:cNvPicPr/>
          <p:nvPr/>
        </p:nvPicPr>
        <p:blipFill>
          <a:blip r:embed="rId3"/>
          <a:stretch/>
        </p:blipFill>
        <p:spPr>
          <a:xfrm>
            <a:off x="2987640" y="4149720"/>
            <a:ext cx="2492280" cy="2492280"/>
          </a:xfrm>
          <a:prstGeom prst="rect">
            <a:avLst/>
          </a:prstGeom>
          <a:ln w="0">
            <a:noFill/>
          </a:ln>
        </p:spPr>
      </p:pic>
      <p:sp>
        <p:nvSpPr>
          <p:cNvPr id="237" name="TextBox 6"/>
          <p:cNvSpPr/>
          <p:nvPr/>
        </p:nvSpPr>
        <p:spPr>
          <a:xfrm>
            <a:off x="3203640" y="3789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анильно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" descr=""/>
          <p:cNvPicPr/>
          <p:nvPr/>
        </p:nvPicPr>
        <p:blipFill>
          <a:blip r:embed="rId1"/>
          <a:stretch/>
        </p:blipFill>
        <p:spPr>
          <a:xfrm>
            <a:off x="892080" y="1052640"/>
            <a:ext cx="7315200" cy="48765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1116000" y="836640"/>
            <a:ext cx="65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4124"/>
                </a:solidFill>
                <a:latin typeface="Trebuchet MS"/>
              </a:rPr>
              <a:t>Креманк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1" descr=""/>
          <p:cNvPicPr/>
          <p:nvPr/>
        </p:nvPicPr>
        <p:blipFill>
          <a:blip r:embed="rId1"/>
          <a:srcRect l="12362" t="2266" r="12220" b="8667"/>
          <a:stretch/>
        </p:blipFill>
        <p:spPr>
          <a:xfrm>
            <a:off x="2556000" y="907920"/>
            <a:ext cx="4070160" cy="51404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"/>
          <p:cNvSpPr/>
          <p:nvPr/>
        </p:nvSpPr>
        <p:spPr>
          <a:xfrm>
            <a:off x="1042920" y="404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ппликация, мороженное в креманк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27T06:18:24Z</dcterms:created>
  <dc:creator>Magicscreen</dc:creator>
  <dc:description/>
  <dc:language>en-US</dc:language>
  <cp:lastModifiedBy>RePack by Diakov</cp:lastModifiedBy>
  <dcterms:modified xsi:type="dcterms:W3CDTF">2023-05-12T10:33:18Z</dcterms:modified>
  <cp:revision>9</cp:revision>
  <dc:subject/>
  <dc:title>Презентация PowerPoint</dc:title>
</cp:coreProperties>
</file>