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50B6-43E9-47A1-A00B-8659BAB1C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1A15-9A3A-4F21-BDE8-1640948B9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93B8-3184-41F9-BF6C-154834C6D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EAE8F-3FBB-4EEE-BE20-DEC4900A53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0CC8-6338-4693-A8A1-7249E5E14E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21657-1D04-4992-9599-A7D477B0A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5F16-B433-4257-852C-6893F8601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EAC4-88E7-4D1E-AC17-F70A9169A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7000" cy="52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896B-26AA-48EC-8CBF-71B46720C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2144-6FDE-4E55-BF24-5109BE6E1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98A5-74DD-4E17-82BF-5AB699124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0CDC-48FF-4D84-8BEC-BB29D3C19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90B03-2F03-4777-AC3B-EBA85081981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1152360" y="36036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80"/>
                </a:solidFill>
                <a:latin typeface="Arial"/>
              </a:rPr>
              <a:t>МАДОУ №6 «Золушк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647640" y="1224000"/>
            <a:ext cx="7920000" cy="25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sq"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«Развитие речевой активности детей дошкольного возраста посредством пальчиковых игр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427640" y="3935520"/>
            <a:ext cx="45720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80"/>
                </a:solidFill>
                <a:latin typeface="Arial"/>
              </a:rPr>
              <a:t>Подготовила: Яркова Ю. 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1280" y="216000"/>
            <a:ext cx="885672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альчиковые игры с элементами самомассаж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Су-джок 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уются традиционные для массажа движения – разминание, растирание, надавливание, пощипывание – такие движения выполняются от периферии к цент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144360" y="1982880"/>
            <a:ext cx="4751640" cy="3095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4896000" y="3024360"/>
            <a:ext cx="396072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-1260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1371600" y="304920"/>
            <a:ext cx="685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79280" y="115920"/>
            <a:ext cx="849636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еты для работы с детьми по использованию пальчиковых иг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.  Подбирайте игры, которые малышу окажутся по сил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начала покажите все действия с пальчиками, а потом предложите повторить. Терпеливо помогайте крохе ставить пальчики как положе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снова не выходит – упростите игру, проработайте каждый этап отде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2.  Сопровождайте игры стихами и потешками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х легко сочинить на ходу, сопровождая действия или придумать движения на подходящие стихи. Побуждайте ребенка повторять за вами отдельные слова, а затем и весь тек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1295280" y="228600"/>
            <a:ext cx="6858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33520" y="1371600"/>
            <a:ext cx="7924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64960" y="431640"/>
            <a:ext cx="872496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3.  В играх обязательно должен поучаствовать каждый из 10-и пальчиков ребенка (все вместе или поочередно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айтесь, чтобы в игры вовлекались все пальчики (особенно безымянный и мизинчик – они самые ленивы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4.  Подбирайте игры, чередуя расслабление, сжатие и растяжение ки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5.  Играйте часто, но понемног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br>
              <a:rPr sz="15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609480" y="228600"/>
            <a:ext cx="78868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Вывод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60200" y="781200"/>
            <a:ext cx="88394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результате предложенных упражнений развивается мелкая моторика, кисти рук приобретают подвижность гибкость, исчезает скованность движений, развивается речь дет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ети проявляют интерес к пальчиковым играм, используют пальчиковую гимнастику в повседневной жизни. Родители становятся единомышленниками с педагогами ДОУ по использованию речевых пальчиковых иг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аким образом, целенаправленная, регулярно осуществляемая работа воспитателями и родителями по развитию речи детей посредством пальчиковых игр позволяет добиться положительных результатов в речевом развитии дет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2"/>
          <p:cNvSpPr txBox="1"/>
          <p:nvPr/>
        </p:nvSpPr>
        <p:spPr>
          <a:xfrm>
            <a:off x="901800" y="417600"/>
            <a:ext cx="7234200" cy="16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0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</a:t>
            </a:r>
            <a:endParaRPr b="1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 ВНИМАНИЕ!!!</a:t>
            </a:r>
            <a:endParaRPr b="1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-71280" y="2556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71280" y="25560"/>
            <a:ext cx="8999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Ум ребенка находится на кончиках его пальцев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.А. Сухомли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Движения руки всегда тесно связаны с речью и способствуют ее развитию» В.М. Бехтер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125360"/>
            <a:ext cx="889164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3366"/>
                </a:solidFill>
                <a:latin typeface="Arial"/>
              </a:rPr>
              <a:t>Пальчиковые игры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3366"/>
                </a:solidFill>
                <a:latin typeface="Arial"/>
              </a:rPr>
              <a:t>общепринятое название занятий на развитие мелкой моторики у дете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3366"/>
                </a:solidFill>
                <a:latin typeface="Arial"/>
              </a:rPr>
              <a:t>Как правило, пальчиковые игры сопровождаются</a:t>
            </a:r>
            <a:r>
              <a:rPr b="1" i="1" lang="ru-RU" sz="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3366"/>
                </a:solidFill>
                <a:latin typeface="Arial"/>
              </a:rPr>
              <a:t>рифмованными историями или сказками, чтобы занятие было интересно ребенк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2971800" y="36576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981080" y="838080"/>
            <a:ext cx="601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33520" y="50328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Цель темы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мелкой моторики и речевой активности у детей дошкольного возраста посредством пальчиковых иг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Задачи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Интегрировать пальчиковые игры, упражнения в речевой деятельности де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Совершенствовать мелкую моторику детей через пальчиковые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Систематизировать работу по совершенствованию мелкой мотор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Продолжать давать знания родителям о значимости пальчиковых иг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1800360" y="282600"/>
            <a:ext cx="58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начение пальчиковых иг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720720" y="768240"/>
            <a:ext cx="7923240" cy="57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3366"/>
                </a:solidFill>
                <a:latin typeface="Arial"/>
              </a:rPr>
              <a:t>Виды пальчиковых игр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льчиковые игры с предме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гры со стихотворным сопровожде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гры-манипуля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льчиковые игры на основе сказ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льчиковые кинезиологические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льчиковые игры с элемен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амомассаж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-джок 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1349280" y="1443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85800" y="12193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240" y="271440"/>
            <a:ext cx="904068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Игры со стихотворным сопровождение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ети могут проговаривать и выполнять движение пальчиками как в свободное время, так в образовательно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еятель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287280" y="2160720"/>
            <a:ext cx="3456000" cy="424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4535640" y="2160720"/>
            <a:ext cx="3743280" cy="43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57200" y="274680"/>
            <a:ext cx="82216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9000"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гры-манипуляции</a:t>
            </a:r>
            <a:br>
              <a:rPr sz="32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е игры ребенок может выполнять самостоятельно или с помощью взрослого. Они развивают воображение: в каждом пальчике ребенок види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т или иной обра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Ладушки-ладушки…», «Сорока-белобока…» - указательным пальцем осуществляют круговые дви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альчик-мальчик, где ты был?..», «Мы делили апельсин…», «Этот пальчик хочет спать…», «Этот пальчик - дедушка…», «Раз, два, три, четыре, кто живет в моей квартире?..», «Пальчики пошли гулять…» - ребенок поочередно загибает каждый пальч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4032360" y="3600360"/>
            <a:ext cx="44877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287280" y="144360"/>
            <a:ext cx="8783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224000" y="274680"/>
            <a:ext cx="67500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альчиковые игры на основе сказ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льчиковые игры по мотивам сказок помогают не только совершенствовать мелкую моторику, но и закреплять знание содержания сказок, развивать речь и образное мышл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1440000" y="1871640"/>
            <a:ext cx="61912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0" y="360360"/>
            <a:ext cx="8928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альчиковые кинезиологические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е игры позволяют активизировать межполушарное взаимодействие, улучшают мыслительную деятельность, стрессоустойчивость, способствуют улучшению памяти и вним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287280" y="1854360"/>
            <a:ext cx="4319640" cy="477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5111640" y="1800360"/>
            <a:ext cx="3322800" cy="489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8T08:23:25Z</dcterms:created>
  <dc:creator>User</dc:creator>
  <dc:description/>
  <dc:language>en-US</dc:language>
  <cp:lastModifiedBy>Роман Ярков</cp:lastModifiedBy>
  <dcterms:modified xsi:type="dcterms:W3CDTF">2023-05-12T14:07:5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