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C99-B97B-49FA-86A9-EA80DCFF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8D1-3E2B-41B2-8313-FB30185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6C3-9BC5-4568-BA98-9542EB32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0B4-0DAB-4228-8F67-8087D96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5C3-F75B-426D-8EF7-BE4916E5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1E8-30FD-463E-89BB-5B1B7205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6E7-5F9D-482D-BC1E-A918670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986-4C76-44E6-89DC-8BD71DC7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3F4-3CF5-4599-9543-BC0DF447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76B-BC87-46D3-8894-C741D03A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5D0-35FA-400D-90EC-0724574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D14-0D9A-42ED-AAF6-58D5EAE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371-3750-4316-8F5C-74DE7E72A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1080" y="19782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 Light"/>
              </a:rPr>
              <a:t>Разбор задания № 23, ЕГЭ 2022 года.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38400" y="574560"/>
            <a:ext cx="9410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3000" y="339840"/>
            <a:ext cx="1129032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1760" y="236520"/>
            <a:ext cx="113094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1480" y="236520"/>
            <a:ext cx="105156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412920"/>
            <a:ext cx="114444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324000"/>
            <a:ext cx="10515600" cy="585288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Изменения в КИМах 2022 года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Официальные изменения ФИПИ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100807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В экзаменационном варианте уменьшено с 35 до 34 общее количество заданий. Это достигнуто в результате объединения контролируемых элементов содержания, имеющих близкую тематическую принадлежность или сходные виды деятельности при их выполн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38080" y="766800"/>
            <a:ext cx="10515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ы содержания «Химические свойства углеводородов» и «Химические свойства кислородсодержащих органических соединений» (в 2021 г. – задания 13 и 14) будут проверяться заданием 12. В обновлённом задании будет снято ограничение на количество элементов ответа, из которых может состоять полный правильный отв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Исключено задание 6 (по нумерации 2021 г.), так как умение характеризовать химические свойства простых веществ и оксидов проверяется заданиями 7 и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855360"/>
            <a:ext cx="10515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зменён формат предъявления условий задания 5, проверяющего умение классифицировать неорганические вещества, и задания 21 (в 2021 г. – задание 23), проверяющего умение определять среду водных растворов: в текущем году потребуется не только определить среду раствора, но и расставить вещества в порядке уменьшения/увеличения кислотности среды (р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ключено задание (23), ориентированное на проверку умения проводить расчёты на основе данных таблицы, отражающих изменения концентрации веще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914400"/>
            <a:ext cx="105156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Изменён вид расчётов в задании 28: требуется определить значение «выхода продукта реакции» или «массовой доли примес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Изменена шкала оценивания некоторых заданий в связи с уточнением уровня их сложности и количеством мыслительных операций при их выполнении. В результате этого максимальный балл за выполнение работы в целом составит 56 баллов (в 2021 г. – 58 бал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Разбор задания № 23 ЕГЭ 2022 года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Объект 7" descr=""/>
          <p:cNvPicPr/>
          <p:nvPr/>
        </p:nvPicPr>
        <p:blipFill>
          <a:blip r:embed="rId1"/>
          <a:stretch/>
        </p:blipFill>
        <p:spPr>
          <a:xfrm>
            <a:off x="1444680" y="987480"/>
            <a:ext cx="9380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84120" y="58680"/>
            <a:ext cx="109728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66960" y="331920"/>
            <a:ext cx="960912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365120" y="388800"/>
            <a:ext cx="936972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4T17:34:19Z</dcterms:created>
  <dc:creator>Анжела Рамонова</dc:creator>
  <dc:description/>
  <dc:language>en-US</dc:language>
  <cp:lastModifiedBy>Анжела Рамонова</cp:lastModifiedBy>
  <dcterms:modified xsi:type="dcterms:W3CDTF">2022-02-27T17:41:29Z</dcterms:modified>
  <cp:revision>7</cp:revision>
  <dc:subject/>
  <dc:title>Обратимые реакции – это реакции, в которых при одних и тех же условиях реагенты превращаются в продукты и продукты в реагенты (в записи реакции это отражают двумя противоположно направленными стрелочками), например:</dc:title>
</cp:coreProperties>
</file>