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9A90-4934-431C-80D4-9FDCDEC55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8E26-C0DD-4F4C-BD32-E47B6AFAE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11E8-2F5C-4151-8B86-FAC9C076D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4981-6ED5-42C3-BE1C-BC6B8027A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DC5B-EF8E-487D-AF76-A48417A14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521C-F185-4585-8F2C-5642892A5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D671-3B9D-4AE1-B1DB-7B85D8FCB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9BF1-9778-49AF-A5D3-25F8B6D12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4E1F-498B-48D3-AB6C-7064A938F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7BA3-BF9A-4C25-9C30-99B17CC77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0FA5-2C24-46D6-8483-F4419DADC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D9DC-CCF3-4419-9E65-3881AA2FE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FAC64-5B84-447A-BE14-2C15AAF9205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81080" y="197820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Calibri Light"/>
              </a:rPr>
              <a:t>Разбор задания № 23, ЕГЭ 2022 года.</a:t>
            </a: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1238400" y="574560"/>
            <a:ext cx="9410400" cy="592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243000" y="339840"/>
            <a:ext cx="11290320" cy="58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401760" y="236520"/>
            <a:ext cx="11309400" cy="638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501480" y="236520"/>
            <a:ext cx="10515600" cy="59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0" y="412920"/>
            <a:ext cx="11444400" cy="64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838080" y="324000"/>
            <a:ext cx="10515600" cy="5852880"/>
          </a:xfrm>
          <a:prstGeom prst="rect">
            <a:avLst/>
          </a:prstGeom>
          <a:solidFill>
            <a:srgbClr val="a9d18e"/>
          </a:solidFill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Спасибо за внимание !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 Light"/>
              </a:rPr>
              <a:t>Изменения в КИМах 2022 года.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Calibri Light"/>
              </a:rPr>
              <a:t>Официальные изменения ФИПИ.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10080720" cy="28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 В экзаменационном варианте уменьшено с 35 до 34 общее количество заданий. Это достигнуто в результате объединения контролируемых элементов содержания, имеющих близкую тематическую принадлежность или сходные виды деятельности при их выполнен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838080" y="766800"/>
            <a:ext cx="10515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лементы содержания «Химические свойства углеводородов» и «Химические свойства кислородсодержащих органических соединений» (в 2021 г. – задания 13 и 14) будут проверяться заданием 12. В обновлённом задании будет снято ограничение на количество элементов ответа, из которых может состоять полный правильный ответ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- Исключено задание 6 (по нумерации 2021 г.), так как умение характеризовать химические свойства простых веществ и оксидов проверяется заданиями 7 и 8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838080" y="855360"/>
            <a:ext cx="1051560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Изменён формат предъявления условий задания 5, проверяющего умение классифицировать неорганические вещества, и задания 21 (в 2021 г. – задание 23), проверяющего умение определять среду водных растворов: в текущем году потребуется не только определить среду раствора, но и расставить вещества в порядке уменьшения/увеличения кислотности среды (рН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Включено задание (23), ориентированное на проверку умения проводить расчёты на основе данных таблицы, отражающих изменения концентрации вещест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838080" y="914400"/>
            <a:ext cx="10515600" cy="526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 Изменён вид расчётов в задании 28: требуется определить значение «выхода продукта реакции» или «массовой доли примеси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 Изменена шкала оценивания некоторых заданий в связи с уточнением уровня их сложности и количеством мыслительных операций при их выполнении. В результате этого максимальный балл за выполнение работы в целом составит 56 баллов (в 2021 г. – 58 баллов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4680"/>
            <a:ext cx="10515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 Light"/>
              </a:rPr>
              <a:t>Разбор задания № 23 ЕГЭ 2022 года.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8" name="Объект 7" descr=""/>
          <p:cNvPicPr/>
          <p:nvPr/>
        </p:nvPicPr>
        <p:blipFill>
          <a:blip r:embed="rId1"/>
          <a:stretch/>
        </p:blipFill>
        <p:spPr>
          <a:xfrm>
            <a:off x="1444680" y="987480"/>
            <a:ext cx="9380520" cy="56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384120" y="58680"/>
            <a:ext cx="10972800" cy="674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966960" y="331920"/>
            <a:ext cx="9609120" cy="63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1365120" y="388800"/>
            <a:ext cx="9369720" cy="610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24T17:34:19Z</dcterms:created>
  <dc:creator>Анжела Рамонова</dc:creator>
  <dc:description/>
  <dc:language>en-US</dc:language>
  <cp:lastModifiedBy>Анжела Рамонова</cp:lastModifiedBy>
  <dcterms:modified xsi:type="dcterms:W3CDTF">2022-02-27T17:41:29Z</dcterms:modified>
  <cp:revision>7</cp:revision>
  <dc:subject/>
  <dc:title>Обратимые реакции – это реакции, в которых при одних и тех же условиях реагенты превращаются в продукты и продукты в реагенты (в записи реакции это отражают двумя противоположно направленными стрелочками), например:</dc:title>
</cp:coreProperties>
</file>