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5D2-CACB-454A-8EAD-CB9E1BC5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7FE-0090-4101-ADAE-9594FD8E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3A6-A301-4551-9062-E94C96E3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FDA-4570-438E-A0EF-234FA970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A17F-2270-4449-851E-B2BFB0DF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4CDC-3CF9-43A6-9BE2-3FCC12A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CBA-A0C1-4F5E-A687-1AAFF48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0755-EE7A-4EF6-B88D-B665ADA6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30F-B4C7-4FA6-A1A3-12B58A7C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C596-37C0-4B29-8D55-049D455F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5C78-B5CD-450F-B37D-8BC925F7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22C-5306-4E2C-8FBE-DCFC4CA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B186-69E6-4DB8-B1CE-37A371B1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CE7-2EB5-45B7-8BDA-90F25F9F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78B-329C-4015-9227-8A9A4F29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1DA2-08D2-457F-BB25-A796F3B1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585-17E1-4B09-863F-775BF329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F3A-479F-4EF3-A313-62AF39B9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B2E-24BB-4B83-BB71-59BB5668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EDD-9E24-47C4-8EEE-70ED9F31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F2E-8344-4676-8955-D12B6AC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EEF-F302-427E-8F61-490E118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537-6555-4AC1-A812-03709A1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F60-48C4-4C23-85B9-6D7A1C7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27D5-D202-48E1-86FF-D2431D89A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4EC8-3685-45F8-9E6C-5ED49C32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042480" cy="26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6f3fa"/>
                </a:solidFill>
                <a:latin typeface="Arial"/>
              </a:rPr>
              <a:t>Государственное автономное профессиональное образовательное учреждение </a:t>
            </a:r>
            <a:br>
              <a:rPr sz="1800"/>
            </a:br>
            <a:r>
              <a:rPr b="0" i="1" lang="ru-RU" sz="1800" spc="-1" strike="noStrike">
                <a:solidFill>
                  <a:srgbClr val="f6f3fa"/>
                </a:solidFill>
                <a:latin typeface="Arial"/>
              </a:rPr>
              <a:t>Чукотского автономного округа </a:t>
            </a:r>
            <a:br>
              <a:rPr sz="1800"/>
            </a:br>
            <a:r>
              <a:rPr b="0" i="1" lang="ru-RU" sz="1800" spc="-1" strike="noStrike">
                <a:solidFill>
                  <a:srgbClr val="f6f3fa"/>
                </a:solidFill>
                <a:latin typeface="Arial"/>
              </a:rPr>
              <a:t>«Чукотский полярный техникум посёлка Эгвекинот»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рок по основам социально-правов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7080" y="2895120"/>
            <a:ext cx="8904240" cy="13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Государство и прав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740400" y="4832280"/>
            <a:ext cx="517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6f3fa"/>
                </a:solidFill>
                <a:latin typeface="Calibri"/>
              </a:rPr>
              <a:t>Подготовила и пров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6f3fa"/>
                </a:solidFill>
                <a:latin typeface="Calibri"/>
              </a:rPr>
              <a:t>Н.Н. Уварова, педагог-психол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8593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240" y="274680"/>
            <a:ext cx="8866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6f3fa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6f3fa"/>
                </a:solidFill>
                <a:latin typeface="Arial"/>
              </a:rPr>
              <a:t>. Символы Российского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5600" y="1257480"/>
            <a:ext cx="87487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Гер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Государственный флаг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                            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Гим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28" descr="наш герб"/>
          <p:cNvPicPr/>
          <p:nvPr/>
        </p:nvPicPr>
        <p:blipFill>
          <a:blip r:embed="rId1"/>
          <a:stretch/>
        </p:blipFill>
        <p:spPr>
          <a:xfrm>
            <a:off x="317520" y="1866960"/>
            <a:ext cx="240012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j0400812-1213084566"/>
          <p:cNvPicPr/>
          <p:nvPr/>
        </p:nvPicPr>
        <p:blipFill>
          <a:blip r:embed="rId2"/>
          <a:stretch/>
        </p:blipFill>
        <p:spPr>
          <a:xfrm>
            <a:off x="3154320" y="1905120"/>
            <a:ext cx="563400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92006708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3 основы конст строя.bmp"/>
          <p:cNvPicPr/>
          <p:nvPr/>
        </p:nvPicPr>
        <p:blipFill>
          <a:blip r:embed="rId2"/>
          <a:stretch/>
        </p:blipFill>
        <p:spPr>
          <a:xfrm>
            <a:off x="122400" y="103320"/>
            <a:ext cx="3249360" cy="3268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00280" y="214200"/>
            <a:ext cx="542952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нституция Российской Федер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708360" y="896760"/>
            <a:ext cx="54356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– (лат.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titutio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становление, 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нституция – Основной Закон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пределяе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стройств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образованы органы государственн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вы права и обязанности граж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мн, герб, флаг и сто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24000" y="2708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76360" y="260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 такое Конститу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910529667"/>
          <p:cNvPicPr/>
          <p:nvPr/>
        </p:nvPicPr>
        <p:blipFill>
          <a:blip r:embed="rId1"/>
          <a:stretch/>
        </p:blipFill>
        <p:spPr>
          <a:xfrm>
            <a:off x="431640" y="1376280"/>
            <a:ext cx="2914920" cy="4500720"/>
          </a:xfrm>
          <a:prstGeom prst="rect">
            <a:avLst/>
          </a:prstGeom>
          <a:ln w="9360">
            <a:solidFill>
              <a:srgbClr val="b2bbe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429080" y="0"/>
            <a:ext cx="454824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ействующая Конституция РФ принята всенародным голос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(референдумом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ополн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июле 20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55760" y="293760"/>
            <a:ext cx="3821040" cy="48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711000"/>
            <a:ext cx="9031320" cy="54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Ф имеет высшую юридическую силу, прямое действие и применяется на всей территории РФ. Законы и иные правовые акты не должны противоречить Конституции РФ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5427720" y="789120"/>
            <a:ext cx="3446280" cy="5265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74760" y="1708560"/>
            <a:ext cx="49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нституция РФ состоит из преамбулы (вводной част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 разделов, 9 гл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37 ста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944800" y="269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3471840" y="847800"/>
            <a:ext cx="567216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ы, многонациональный на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оссийской Федер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единенные общей судьбой на своей зем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верждая права и свободы челове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мир и соглас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храняя исторически сложившее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сударственное един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ходя из общепризнанных принц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вноправия и самоопределения народ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я память предков, передавших 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юбовь и уважение к Отечеств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у в добро и справедлив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рождая суверенную государственность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утверждая незыбл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е демократической основ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емясь обеспечить благополуч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процветание Росс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ходя из ответственности за свою Роди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д нынешним и будущими поколения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знавая себя частью мирового сообще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им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СТИТУЦИЮ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553000" y="20628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амб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22636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Без слов - Гимн России.mp3" descr=""/>
          <p:cNvPicPr/>
          <p:nvPr/>
        </p:nvPicPr>
        <p:blipFill>
          <a:blip r:embed="rId1"/>
          <a:stretch/>
        </p:blipFill>
        <p:spPr>
          <a:xfrm>
            <a:off x="701640" y="5000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5452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50920" y="19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708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2400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116000" y="198900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826920" y="2060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16000" y="19224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дание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е схему «Форма государства» подтверждая правильность заполнения статьями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1547640" y="2559600"/>
            <a:ext cx="55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0" y="166716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Форма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Форма правления          Форма государственного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Политический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устройства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режим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3"/>
          <p:cNvSpPr/>
          <p:nvPr/>
        </p:nvSpPr>
        <p:spPr>
          <a:xfrm flipH="1">
            <a:off x="1968480" y="2754360"/>
            <a:ext cx="218448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4546440" y="272412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5143680" y="2776680"/>
            <a:ext cx="21970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0600" y="244440"/>
            <a:ext cx="891072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Форма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Форма правления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Форма государственного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Политический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устройства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еспублика                  Федеративная                     Демократический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1534680" y="922320"/>
            <a:ext cx="2562120" cy="9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295880" y="949320"/>
            <a:ext cx="288900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4183200" y="949320"/>
            <a:ext cx="17280" cy="9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1234800" y="2424240"/>
            <a:ext cx="612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10200" y="270036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H="1">
            <a:off x="7470720" y="2717640"/>
            <a:ext cx="792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эконо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72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53a3"/>
                </a:solidFill>
                <a:latin typeface="Calibri"/>
              </a:rPr>
              <a:t>ПОНЯТИЕ 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2680" y="1168200"/>
            <a:ext cx="857412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осудар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ейший институт общества, призванный обеспечить порядок и организовать жизнь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goodbye-ussr.com/wp-content/uploads/2018/04/%D8%A7%D9%84%D8%A7%D8%AA%D8%AD%D8%A7%D8%AF-%D8%A7%D9%84%D8%A7%D9%88%D8%B1%D9%88%D8%A8%D9%8A.jpg"/>
          <p:cNvPicPr/>
          <p:nvPr/>
        </p:nvPicPr>
        <p:blipFill>
          <a:blip r:embed="rId1"/>
          <a:stretch/>
        </p:blipFill>
        <p:spPr>
          <a:xfrm>
            <a:off x="3938760" y="3333600"/>
            <a:ext cx="484020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ституционные обязанности граждан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ать зак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ить налоги и с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ть От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ть при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титься о детях и нетрудоспособных родите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чь памятники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05200" y="101520"/>
            <a:ext cx="89298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Существует несколько </a:t>
            </a:r>
            <a:br>
              <a:rPr sz="3600"/>
            </a:b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главных признаков 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91960" y="1295280"/>
            <a:ext cx="85852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Единая терр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Суверенит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Аппарат упр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Нало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Наличие закон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                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Граждан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7.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Символы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                                                 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государ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1. Единая территория – это пространственная основа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840" y="1653840"/>
            <a:ext cx="84726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территории государства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государства может со временем изменя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одного государства отделяется от территории другого государственной границ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ывает государства без населения, которое проживает на его терр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74320"/>
            <a:ext cx="875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2. Суверенитет – это государственная независ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онятие обозначает верховенство государственной власти внутри страны и её независимость в международных отношениях. То есть именно власть имеет право устанавливать единый порядок на территории всей страны и действовать от имени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засед Прват"/>
          <p:cNvPicPr/>
          <p:nvPr/>
        </p:nvPicPr>
        <p:blipFill>
          <a:blip r:embed="rId1"/>
          <a:stretch/>
        </p:blipFill>
        <p:spPr>
          <a:xfrm>
            <a:off x="3130560" y="5075280"/>
            <a:ext cx="295272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госдума"/>
          <p:cNvPicPr/>
          <p:nvPr/>
        </p:nvPicPr>
        <p:blipFill>
          <a:blip r:embed="rId2"/>
          <a:stretch/>
        </p:blipFill>
        <p:spPr>
          <a:xfrm>
            <a:off x="249120" y="4913280"/>
            <a:ext cx="258624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0" y="2595600"/>
            <a:ext cx="3363840" cy="223524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конода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ое собр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арла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            Государстве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ции           Д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795840" y="3287880"/>
            <a:ext cx="2043000" cy="125856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149880" y="3046320"/>
            <a:ext cx="2409840" cy="218124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удебная в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ды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конститу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гражда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дминистр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уголо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743280" y="741240"/>
            <a:ext cx="2303640" cy="1227240"/>
          </a:xfrm>
          <a:prstGeom prst="roundRect">
            <a:avLst>
              <a:gd name="adj" fmla="val 16667"/>
            </a:avLst>
          </a:prstGeom>
          <a:solidFill>
            <a:srgbClr val="efe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ва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482760" y="3908520"/>
            <a:ext cx="76824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517760" y="3875040"/>
            <a:ext cx="71568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засед суда"/>
          <p:cNvPicPr/>
          <p:nvPr/>
        </p:nvPicPr>
        <p:blipFill>
          <a:blip r:embed="rId3"/>
          <a:stretch/>
        </p:blipFill>
        <p:spPr>
          <a:xfrm>
            <a:off x="6207120" y="5307120"/>
            <a:ext cx="2341440" cy="155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0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осударственная власть в Российской Федераци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3192480" y="2130480"/>
            <a:ext cx="13111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4735440" y="2182680"/>
            <a:ext cx="2700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5192640" y="2182680"/>
            <a:ext cx="108756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5" descr="http://www.vsekartinki.com/photos/160/med_1133600009-1603.jpg"/>
          <p:cNvPicPr/>
          <p:nvPr/>
        </p:nvPicPr>
        <p:blipFill>
          <a:blip r:embed="rId4"/>
          <a:stretch/>
        </p:blipFill>
        <p:spPr>
          <a:xfrm>
            <a:off x="2014560" y="428760"/>
            <a:ext cx="1257120" cy="16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9720" y="485280"/>
            <a:ext cx="859968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4. Налоги – это обязательные платежи с доходов граждан и орган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600" y="2849400"/>
            <a:ext cx="8462880" cy="26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размеры и сроки уплаты устанавливает госуд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алогов, которые собираются с населения, не может существовать и действовать ни одно государ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480" y="274320"/>
            <a:ext cx="85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f3fa"/>
                </a:solidFill>
                <a:latin typeface="Arial"/>
              </a:rPr>
              <a:t>5. Наличие зак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2920" y="1600200"/>
            <a:ext cx="879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онах записаны обязательные правила поведения для людей, находящихся на территории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блюдение законов влечет юридическую ответ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274320"/>
            <a:ext cx="87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6f3fa"/>
                </a:solidFill>
                <a:latin typeface="Arial"/>
              </a:rPr>
              <a:t>6. Гражда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30120" y="1600200"/>
            <a:ext cx="8701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живающие в государстве люди являются гражданами данн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ражданин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человек, который обладает правами, свободами, несет определенные обязанности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Психолог</cp:lastModifiedBy>
  <dcterms:modified xsi:type="dcterms:W3CDTF">2023-05-13T01:00:16Z</dcterms:modified>
  <cp:revision>109</cp:revision>
  <dc:subject/>
  <dc:title>Слайд 1</dc:title>
</cp:coreProperties>
</file>