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7629-D331-4102-80CF-5F1AD723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4443-A88F-45A3-8096-5EC951A2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1DBF-55AB-486D-8C7C-0FCFC722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373-2FBC-41DE-A95C-EBA0AB9F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FCEB-9F38-4DAF-9037-DF80C33B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D097-5021-4736-B7F9-7704C85F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A3B6-20A1-41CF-82E5-F482E7D2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AED1-6D01-49FA-B6EC-086E4AD8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3696-CDD3-4809-A3A9-7DC92F98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28C0-7C0E-4C33-84B7-7CE7EC41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F738-2583-4825-A721-36205A91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7077-DB87-4C6E-A721-D2DCC01B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1815-3F84-41AF-8E61-C0FF68DF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87ED-268D-4EC5-BA8C-B6B47410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31A6-D7A5-44BB-8298-406CCE70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3333-4E5D-4B11-855B-8C549111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4CDE-C493-44C7-A822-64BFDB3F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D77-5E09-4FB0-9910-410391A2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468-C1B1-425E-B6BD-5BC78495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897D-F969-4ADB-9602-D5C46EB4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277C-6F8C-4461-A12D-C660BEDA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E296-83DB-4F5A-966B-AC7325F5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080-CED8-4E03-8EE3-45F33596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4F19-FB64-47D2-8B39-784D9EDE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BA05-E26F-4909-9949-69CFC6511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BE7B-38D9-45F1-BB8D-AEAF01102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14480"/>
            <a:ext cx="9042480" cy="26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6f3fa"/>
                </a:solidFill>
                <a:latin typeface="Arial"/>
              </a:rPr>
              <a:t>Государственное автономное профессиональное образовательное учреждение </a:t>
            </a:r>
            <a:br>
              <a:rPr sz="1800"/>
            </a:br>
            <a:r>
              <a:rPr b="0" i="1" lang="ru-RU" sz="1800" spc="-1" strike="noStrike">
                <a:solidFill>
                  <a:srgbClr val="f6f3fa"/>
                </a:solidFill>
                <a:latin typeface="Arial"/>
              </a:rPr>
              <a:t>Чукотского автономного округа </a:t>
            </a:r>
            <a:br>
              <a:rPr sz="1800"/>
            </a:br>
            <a:r>
              <a:rPr b="0" i="1" lang="ru-RU" sz="1800" spc="-1" strike="noStrike">
                <a:solidFill>
                  <a:srgbClr val="f6f3fa"/>
                </a:solidFill>
                <a:latin typeface="Arial"/>
              </a:rPr>
              <a:t>«Чукотский полярный техникум посёлка Эгвекинот»</a:t>
            </a:r>
            <a:br>
              <a:rPr sz="1800"/>
            </a:br>
            <a:br>
              <a:rPr sz="18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Урок по основам социально-правовых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27080" y="2895120"/>
            <a:ext cx="8904240" cy="13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Государство и прав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740400" y="4832280"/>
            <a:ext cx="517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6f3fa"/>
                </a:solidFill>
                <a:latin typeface="Calibri"/>
              </a:rPr>
              <a:t>Подготовила и пров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6f3fa"/>
                </a:solidFill>
                <a:latin typeface="Calibri"/>
              </a:rPr>
              <a:t>Н.Н. Уварова, педагог-психоло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8593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5240" y="274680"/>
            <a:ext cx="88660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6f3fa"/>
                </a:solidFill>
                <a:latin typeface="Arial"/>
              </a:rPr>
              <a:t>7</a:t>
            </a:r>
            <a:r>
              <a:rPr b="1" lang="ru-RU" sz="3200" spc="-1" strike="noStrike">
                <a:solidFill>
                  <a:srgbClr val="f6f3fa"/>
                </a:solidFill>
                <a:latin typeface="Arial"/>
              </a:rPr>
              <a:t>. Символы Российского государ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5600" y="1257480"/>
            <a:ext cx="87487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Гер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Государственный флаг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                               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Гим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28" descr="наш герб"/>
          <p:cNvPicPr/>
          <p:nvPr/>
        </p:nvPicPr>
        <p:blipFill>
          <a:blip r:embed="rId1"/>
          <a:stretch/>
        </p:blipFill>
        <p:spPr>
          <a:xfrm>
            <a:off x="317520" y="1866960"/>
            <a:ext cx="2400120" cy="2819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j0400812-1213084566"/>
          <p:cNvPicPr/>
          <p:nvPr/>
        </p:nvPicPr>
        <p:blipFill>
          <a:blip r:embed="rId2"/>
          <a:stretch/>
        </p:blipFill>
        <p:spPr>
          <a:xfrm>
            <a:off x="3154320" y="1905120"/>
            <a:ext cx="5634000" cy="2781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4" descr="92006708.jpg"/>
          <p:cNvPicPr/>
          <p:nvPr/>
        </p:nvPicPr>
        <p:blipFill>
          <a:blip r:embed="rId1"/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" descr="3 основы конст строя.bmp"/>
          <p:cNvPicPr/>
          <p:nvPr/>
        </p:nvPicPr>
        <p:blipFill>
          <a:blip r:embed="rId2"/>
          <a:stretch/>
        </p:blipFill>
        <p:spPr>
          <a:xfrm>
            <a:off x="122400" y="103320"/>
            <a:ext cx="3249360" cy="32684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00280" y="214200"/>
            <a:ext cx="5429520" cy="33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онституция Российской Федерац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3708360" y="896760"/>
            <a:ext cx="543564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нститу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– (лат.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nstitutio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установление, устро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онституция – Основной Закон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пределяет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стройство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к образованы органы государственной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ковы права и обязанности гражд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имн, герб, флаг и сто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50920" y="1916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24000" y="27082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24000" y="35002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476360" y="26028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то такое Конститу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910529667"/>
          <p:cNvPicPr/>
          <p:nvPr/>
        </p:nvPicPr>
        <p:blipFill>
          <a:blip r:embed="rId1"/>
          <a:stretch/>
        </p:blipFill>
        <p:spPr>
          <a:xfrm>
            <a:off x="431640" y="1376280"/>
            <a:ext cx="2914920" cy="4500720"/>
          </a:xfrm>
          <a:prstGeom prst="rect">
            <a:avLst/>
          </a:prstGeom>
          <a:ln w="9360">
            <a:solidFill>
              <a:srgbClr val="b2bbe4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429080" y="0"/>
            <a:ext cx="454824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Действующая Конституция РФ принята всенародным голосов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(референдумом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2 декабря 1993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Дополн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 июле 202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455760" y="293760"/>
            <a:ext cx="3821040" cy="48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-360" y="711000"/>
            <a:ext cx="9031320" cy="54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РФ имеет высшую юридическую силу, прямое действие и применяется на всей территории РФ. Законы и иные правовые акты не должны противоречить Конституции РФ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5427720" y="789120"/>
            <a:ext cx="3446280" cy="5265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74760" y="1708560"/>
            <a:ext cx="4924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онституция РФ состоит из преамбулы (вводной части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2 разделов, 9 гла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37 ста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2944800" y="2698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3471840" y="847800"/>
            <a:ext cx="5672160" cy="58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ы, многонациональный нар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оссийской Федерац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единенные общей судьбой на своей земл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тверждая права и свободы челове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ражданский мир и соглас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храняя исторически сложившее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осударственное един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сходя из общепризнанных принци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вноправия и самоопределения народ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тя память предков, передавших н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любовь и уважение к Отечеств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еру в добро и справедливо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зрождая суверенную государственность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утверждая незыбле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ее демократической основ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тремясь обеспечить благополуч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процветание Росс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сходя из ответственности за свою Роди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д нынешним и будущими поколениям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знавая себя частью мирового сообщест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нима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СТИТУЦИЮ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5553000" y="20628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амб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0" y="226368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Без слов - Гимн России.mp3" descr=""/>
          <p:cNvPicPr/>
          <p:nvPr/>
        </p:nvPicPr>
        <p:blipFill>
          <a:blip r:embed="rId1"/>
          <a:stretch/>
        </p:blipFill>
        <p:spPr>
          <a:xfrm>
            <a:off x="701640" y="5000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54522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250920" y="1916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4000" y="27082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24000" y="35002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116000" y="1989000"/>
            <a:ext cx="67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826920" y="206064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216000" y="192240"/>
            <a:ext cx="89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Задание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ите схему «Форма государства» подтверждая правильность заполнения статьями Конститу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9"/>
          <p:cNvSpPr/>
          <p:nvPr/>
        </p:nvSpPr>
        <p:spPr>
          <a:xfrm>
            <a:off x="1547640" y="2559600"/>
            <a:ext cx="555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1"/>
          <p:cNvSpPr/>
          <p:nvPr/>
        </p:nvSpPr>
        <p:spPr>
          <a:xfrm>
            <a:off x="0" y="1667160"/>
            <a:ext cx="9144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Форма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Форма правления          Форма государственного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Политический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устройства                            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 режим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3"/>
          <p:cNvSpPr/>
          <p:nvPr/>
        </p:nvSpPr>
        <p:spPr>
          <a:xfrm flipH="1">
            <a:off x="1968480" y="2754360"/>
            <a:ext cx="218448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4"/>
          <p:cNvSpPr/>
          <p:nvPr/>
        </p:nvSpPr>
        <p:spPr>
          <a:xfrm>
            <a:off x="4546440" y="272412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5"/>
          <p:cNvSpPr/>
          <p:nvPr/>
        </p:nvSpPr>
        <p:spPr>
          <a:xfrm>
            <a:off x="5143680" y="2776680"/>
            <a:ext cx="21970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20600" y="244440"/>
            <a:ext cx="891072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Форма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Форма правления    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Форма государственного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Политический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устройства                           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 реж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еспублика                  Федеративная                     Демократический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"/>
          <p:cNvSpPr/>
          <p:nvPr/>
        </p:nvSpPr>
        <p:spPr>
          <a:xfrm flipH="1">
            <a:off x="1534680" y="922320"/>
            <a:ext cx="2562120" cy="95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4295880" y="949320"/>
            <a:ext cx="2889000" cy="93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 flipH="1">
            <a:off x="4183200" y="949320"/>
            <a:ext cx="17280" cy="99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 flipH="1">
            <a:off x="1234800" y="2424240"/>
            <a:ext cx="612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4210200" y="270036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 flipH="1">
            <a:off x="7470720" y="2717640"/>
            <a:ext cx="792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ждан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ит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о-эконом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льтур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01720" y="27468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53a3"/>
                </a:solidFill>
                <a:latin typeface="Calibri"/>
              </a:rPr>
              <a:t>ПОНЯТИЕ  ГОСУД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02680" y="1168200"/>
            <a:ext cx="857412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Государ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ейший институт общества, призванный обеспечить порядок и организовать жизнь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s://goodbye-ussr.com/wp-content/uploads/2018/04/%D8%A7%D9%84%D8%A7%D8%AA%D8%AD%D8%A7%D8%AF-%D8%A7%D9%84%D8%A7%D9%88%D8%B1%D9%88%D8%A8%D9%8A.jpg"/>
          <p:cNvPicPr/>
          <p:nvPr/>
        </p:nvPicPr>
        <p:blipFill>
          <a:blip r:embed="rId1"/>
          <a:stretch/>
        </p:blipFill>
        <p:spPr>
          <a:xfrm>
            <a:off x="3938760" y="3333600"/>
            <a:ext cx="4840200" cy="3122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ституционные обязанности граждан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людать зак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тить налоги и сб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щать Оте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ять прир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ботиться о детях и нетрудоспособных родител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чь памятники куль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205200" y="101520"/>
            <a:ext cx="892980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6f3fa"/>
                </a:solidFill>
                <a:latin typeface="Arial"/>
              </a:rPr>
              <a:t>Существует несколько </a:t>
            </a:r>
            <a:br>
              <a:rPr sz="3600"/>
            </a:br>
            <a:r>
              <a:rPr b="1" lang="ru-RU" sz="3600" spc="-1" strike="noStrike">
                <a:solidFill>
                  <a:srgbClr val="f6f3fa"/>
                </a:solidFill>
                <a:latin typeface="Arial"/>
              </a:rPr>
              <a:t>главных признаков государ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291960" y="1295280"/>
            <a:ext cx="85852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1. </a:t>
            </a: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Единая территор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2. </a:t>
            </a: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Суверенит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Аппарат управ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              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4. </a:t>
            </a: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Налог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                     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5. </a:t>
            </a: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Наличие закон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                              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6. </a:t>
            </a: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Гражданст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                                    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7. </a:t>
            </a: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Символы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                                                  </a:t>
            </a: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государ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6f3fa"/>
                </a:solidFill>
                <a:latin typeface="Arial"/>
              </a:rPr>
              <a:t>1. Единая территория – это пространственная основа госуд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13840" y="1653840"/>
            <a:ext cx="84726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территории государства не существу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рритория государства может со временем изменять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рритория одного государства отделяется от территории другого государственной границ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бывает государства без населения, которое проживает на его терри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520" y="274320"/>
            <a:ext cx="875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6f3fa"/>
                </a:solidFill>
                <a:latin typeface="Arial"/>
              </a:rPr>
              <a:t>2. Суверенитет – это государственная независи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понятие обозначает верховенство государственной власти внутри страны и её независимость в международных отношениях. То есть именно власть имеет право устанавливать единый порядок на территории всей страны и действовать от имени нас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4" descr="засед Прват"/>
          <p:cNvPicPr/>
          <p:nvPr/>
        </p:nvPicPr>
        <p:blipFill>
          <a:blip r:embed="rId1"/>
          <a:stretch/>
        </p:blipFill>
        <p:spPr>
          <a:xfrm>
            <a:off x="3130560" y="5075280"/>
            <a:ext cx="2952720" cy="152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госдума"/>
          <p:cNvPicPr/>
          <p:nvPr/>
        </p:nvPicPr>
        <p:blipFill>
          <a:blip r:embed="rId2"/>
          <a:stretch/>
        </p:blipFill>
        <p:spPr>
          <a:xfrm>
            <a:off x="249120" y="4913280"/>
            <a:ext cx="2586240" cy="194472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4"/>
          <p:cNvSpPr/>
          <p:nvPr/>
        </p:nvSpPr>
        <p:spPr>
          <a:xfrm>
            <a:off x="0" y="2595600"/>
            <a:ext cx="3363840" cy="2235240"/>
          </a:xfrm>
          <a:prstGeom prst="roundRect">
            <a:avLst>
              <a:gd name="adj" fmla="val 16667"/>
            </a:avLst>
          </a:prstGeom>
          <a:solidFill>
            <a:srgbClr val="efeb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конодатель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едеральное собр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арламен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             Государстве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едерации           Ду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3795840" y="3287880"/>
            <a:ext cx="2043000" cy="1258560"/>
          </a:xfrm>
          <a:prstGeom prst="roundRect">
            <a:avLst>
              <a:gd name="adj" fmla="val 16667"/>
            </a:avLst>
          </a:prstGeom>
          <a:solidFill>
            <a:srgbClr val="efeb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сполн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тель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6149880" y="3046320"/>
            <a:ext cx="2409840" cy="2181240"/>
          </a:xfrm>
          <a:prstGeom prst="roundRect">
            <a:avLst>
              <a:gd name="adj" fmla="val 16667"/>
            </a:avLst>
          </a:prstGeom>
          <a:solidFill>
            <a:srgbClr val="efeb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удебная в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ды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конституцио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граждан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дминистратив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уголов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743280" y="741240"/>
            <a:ext cx="2303640" cy="1227240"/>
          </a:xfrm>
          <a:prstGeom prst="roundRect">
            <a:avLst>
              <a:gd name="adj" fmla="val 16667"/>
            </a:avLst>
          </a:prstGeom>
          <a:solidFill>
            <a:srgbClr val="efeb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лава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идент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 flipH="1">
            <a:off x="482760" y="3908520"/>
            <a:ext cx="76824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1517760" y="3875040"/>
            <a:ext cx="71568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засед суда"/>
          <p:cNvPicPr/>
          <p:nvPr/>
        </p:nvPicPr>
        <p:blipFill>
          <a:blip r:embed="rId3"/>
          <a:stretch/>
        </p:blipFill>
        <p:spPr>
          <a:xfrm>
            <a:off x="6207120" y="5307120"/>
            <a:ext cx="2341440" cy="1550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0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Государственная власть в Российской Федерации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1"/>
          <p:cNvSpPr/>
          <p:nvPr/>
        </p:nvSpPr>
        <p:spPr>
          <a:xfrm flipH="1">
            <a:off x="3192480" y="2130480"/>
            <a:ext cx="13111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2"/>
          <p:cNvSpPr/>
          <p:nvPr/>
        </p:nvSpPr>
        <p:spPr>
          <a:xfrm>
            <a:off x="4735440" y="2182680"/>
            <a:ext cx="27000" cy="93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3"/>
          <p:cNvSpPr/>
          <p:nvPr/>
        </p:nvSpPr>
        <p:spPr>
          <a:xfrm>
            <a:off x="5192640" y="2182680"/>
            <a:ext cx="1087560" cy="62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5" descr="http://www.vsekartinki.com/photos/160/med_1133600009-1603.jpg"/>
          <p:cNvPicPr/>
          <p:nvPr/>
        </p:nvPicPr>
        <p:blipFill>
          <a:blip r:embed="rId4"/>
          <a:stretch/>
        </p:blipFill>
        <p:spPr>
          <a:xfrm>
            <a:off x="2014560" y="428760"/>
            <a:ext cx="1257120" cy="16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9720" y="485280"/>
            <a:ext cx="8599680" cy="18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6f3fa"/>
                </a:solidFill>
                <a:latin typeface="Arial"/>
              </a:rPr>
              <a:t>4. Налоги – это обязательные платежи с доходов граждан и организ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28600" y="2849400"/>
            <a:ext cx="8462880" cy="26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размеры и сроки уплаты устанавливает государ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налогов, которые собираются с населения, не может существовать и действовать ни одно государст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7480" y="274320"/>
            <a:ext cx="858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6f3fa"/>
                </a:solidFill>
                <a:latin typeface="Arial"/>
              </a:rPr>
              <a:t>5. Наличие зако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32920" y="1600200"/>
            <a:ext cx="879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конах записаны обязательные правила поведения для людей, находящихся на территории государ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облюдение законов влечет юридическую ответств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0120" y="274320"/>
            <a:ext cx="87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6f3fa"/>
                </a:solidFill>
                <a:latin typeface="Arial"/>
              </a:rPr>
              <a:t>6. Граждан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30120" y="1600200"/>
            <a:ext cx="8701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живающие в государстве люди являются гражданами данного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Гражданин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человек, который обладает правами, свободами, несет определенные обязанности в обще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Психолог</cp:lastModifiedBy>
  <dcterms:modified xsi:type="dcterms:W3CDTF">2023-05-13T01:00:16Z</dcterms:modified>
  <cp:revision>109</cp:revision>
  <dc:subject/>
  <dc:title>Слайд 1</dc:title>
</cp:coreProperties>
</file>