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7BBA-8258-448E-AE86-5A85DC9F4C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8CD1-7FF1-436A-BC39-70E2BCF056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C51-1E9D-4696-9BBF-4F49377A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FE8-551B-4318-8F27-DEB8C37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258-81BC-4058-9C79-9EB5B5B3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4D5-0808-45DC-B90D-5D69901D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C5F-E0C5-4D0E-B956-4E3184BA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B1D-FC0B-4916-A867-52D2F119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F1B-C238-4357-85F9-AE0A0B2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EAE-B90E-4B78-A84F-A0768A93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A56-4C50-4048-9660-BDBA5385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D52-B7EF-4026-9CA9-0C13CD8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5C0-8F54-4FD4-BDAF-B418249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633-A1C7-4037-BD1F-62791ACD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95DC-94BD-46C7-B046-87F49E411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23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Мастер-класс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«Изготовление гвоздики из гофрированной бумаги к празднику – День Побед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3040" y="3657240"/>
            <a:ext cx="396252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йбулатова Светлана Петр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ДОУ «Детский сад №5 «Ромашка»» пгт. Совет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840360" y="5638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3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ее изолентой зеленого цвета обматываем всю палочку. Так у нас получиться стебель нашего цветка. Из зеленой гофрированной бумаги вырезаем 2 продолговатых лис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ентой зеленого цвета приматываем листья к стебля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76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124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1066680" y="239760"/>
            <a:ext cx="4267440" cy="30002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1371600" y="3276720"/>
            <a:ext cx="7315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..Гвоздики красные – как наши ветеран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не сгибаются под тяжестью судьб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не сдаются никогда на поле брани!!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Цветы огня»! «Цветы любви»! «Цветы борьбы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Гвоздики росами искрятся в День Победы..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Елена Буторина-Палаг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ÐÐ°ÑÑÐ¸Ð½ÐºÐ¸ Ð¿Ð¾ Ð·Ð°Ð¿ÑÐ¾ÑÑ Ð³Ð²Ð¾Ð·Ð´Ð¸ÐºÐ¸ 9 Ð¼Ð°Ñ"/>
          <p:cNvPicPr/>
          <p:nvPr/>
        </p:nvPicPr>
        <p:blipFill>
          <a:blip r:embed="rId2"/>
          <a:stretch/>
        </p:blipFill>
        <p:spPr>
          <a:xfrm>
            <a:off x="5629320" y="380880"/>
            <a:ext cx="3021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782640" y="620640"/>
            <a:ext cx="7561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Цель мастер-класс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гвоздики из гофрированной бумаги к празднику –День Поб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900000" y="1444680"/>
            <a:ext cx="73440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дачи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основными элементарными элементами техники изготовления гвоздики; обучить основным приемам работы, научить создавать композиции в данной технике; развивать моторику, чувство вкуса, воображение, творческое мышление; воспитывать уважение к ветеранам Великой Отечественной войны, нравственно-патриотические чув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ядет великая дата для нашей страны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мая, День Победы в Великой Отечественной войн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и популярными цветами на День Победы являются гвоздики.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гвоздика является символом пролитой кров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ÐÐ°ÑÑÐ¸Ð½ÐºÐ¸ Ð¿Ð¾ Ð·Ð°Ð¿ÑÐ¾ÑÑ 9 Ð¼Ð°Ñ 1945"/>
          <p:cNvPicPr/>
          <p:nvPr/>
        </p:nvPicPr>
        <p:blipFill>
          <a:blip r:embed="rId1"/>
          <a:srcRect l="0" t="25988" r="0" b="0"/>
          <a:stretch/>
        </p:blipFill>
        <p:spPr>
          <a:xfrm>
            <a:off x="2286000" y="1447920"/>
            <a:ext cx="4114800" cy="201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ÐÐ°ÑÑÐ¸Ð½ÐºÐ¸ Ð¿Ð¾ Ð·Ð°Ð¿ÑÐ¾ÑÑ Ð²ÐµÑÐµÑÐ°Ð½Ñ Ñ Ð³Ð²Ð¾Ð·Ð´Ð¸ÐºÐ°Ð¼Ð¸"/>
          <p:cNvPicPr/>
          <p:nvPr/>
        </p:nvPicPr>
        <p:blipFill>
          <a:blip r:embed="rId2"/>
          <a:stretch/>
        </p:blipFill>
        <p:spPr>
          <a:xfrm>
            <a:off x="228600" y="4529160"/>
            <a:ext cx="27050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ÐÐ°ÑÑÐ¸Ð½ÐºÐ¸ Ð¿Ð¾ Ð·Ð°Ð¿ÑÐ¾ÑÑ Ð²ÐµÑÐµÑÐ°Ð½Ñ Ñ Ð³Ð²Ð¾Ð·Ð´Ð¸ÐºÐ°Ð¼Ð¸"/>
          <p:cNvPicPr/>
          <p:nvPr/>
        </p:nvPicPr>
        <p:blipFill>
          <a:blip r:embed="rId3"/>
          <a:stretch/>
        </p:blipFill>
        <p:spPr>
          <a:xfrm>
            <a:off x="6073920" y="4529160"/>
            <a:ext cx="2703240" cy="180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ÐÐ°ÑÑÐ¸Ð½ÐºÐ¸ Ð¿Ð¾ Ð·Ð°Ð¿ÑÐ¾ÑÑ Ð²ÐµÑÐµÑÐ°Ð½Ñ Ñ Ð³Ð²Ð¾Ð·Ð´Ð¸ÐºÐ°Ð¼Ð¸"/>
          <p:cNvPicPr/>
          <p:nvPr/>
        </p:nvPicPr>
        <p:blipFill>
          <a:blip r:embed="rId4"/>
          <a:stretch/>
        </p:blipFill>
        <p:spPr>
          <a:xfrm>
            <a:off x="3162240" y="4529160"/>
            <a:ext cx="2706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19160" y="3886200"/>
            <a:ext cx="5562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работы понадобя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и (длинные шпажк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фрированная бумага красного цве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фрированная бумага зелёного цве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енты красного и зеленого цв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59436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003560" cy="2662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003560" cy="2662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1447920" y="3886200"/>
            <a:ext cx="750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аем полоску бумаги, шириной 6 см. На один цветок уходит один отрезок бумаг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езаем эти полоски так, чтобы у нас получилось много квадр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343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квадрат складываем аккуратно два раза попол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s://pp.userapi.com/c844721/v844721039/334ab/HekqCkmWIZU.jpg"/>
          <p:cNvPicPr/>
          <p:nvPr/>
        </p:nvPicPr>
        <p:blipFill>
          <a:blip r:embed="rId1"/>
          <a:stretch/>
        </p:blipFill>
        <p:spPr>
          <a:xfrm>
            <a:off x="1785960" y="685800"/>
            <a:ext cx="5572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ьше обрезаем верхние края так, чтобы получился полукру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внешней стороне наших заготовок для бумажных гвоздик делаем частые надрезы на глубину 2-3  с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pp.userapi.com/c844617/v844617039/331d8/odWkz4yKQ0I.jpg"/>
          <p:cNvPicPr/>
          <p:nvPr/>
        </p:nvPicPr>
        <p:blipFill>
          <a:blip r:embed="rId1"/>
          <a:srcRect l="16235" t="0" r="24340" b="0"/>
          <a:stretch/>
        </p:blipFill>
        <p:spPr>
          <a:xfrm>
            <a:off x="609480" y="380880"/>
            <a:ext cx="3353040" cy="31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pp.userapi.com/c845017/v845017039/31807/uHGr8-KD1eI.jpg"/>
          <p:cNvPicPr/>
          <p:nvPr/>
        </p:nvPicPr>
        <p:blipFill>
          <a:blip r:embed="rId2"/>
          <a:srcRect l="17648" t="0" r="11766" b="0"/>
          <a:stretch/>
        </p:blipFill>
        <p:spPr>
          <a:xfrm>
            <a:off x="4343400" y="388800"/>
            <a:ext cx="39830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ой кусочек красной бумаги наматываем на тупой край шпажки и закрепляем изолентой красного цвета. Это – середин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еваем на палочку первый кружок-заготовку (в середине круга делаем проем), обжимаем его вокруг палочки. Равномерно расправляем края нашего цвет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2416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4568760" y="304920"/>
            <a:ext cx="40863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ьше все то же самое проделываем с остальными кругами. Таким образом, у нас получается очень даже привлекательная гвоздика из гофрированной бумаг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pp.userapi.com/c846021/v846021039/2ca02/glsFxfanwrk.jpg"/>
          <p:cNvPicPr/>
          <p:nvPr/>
        </p:nvPicPr>
        <p:blipFill>
          <a:blip r:embed="rId1"/>
          <a:stretch/>
        </p:blipFill>
        <p:spPr>
          <a:xfrm>
            <a:off x="457200" y="762120"/>
            <a:ext cx="3889440" cy="2187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4732200" y="750960"/>
            <a:ext cx="33069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09:23:38Z</dcterms:created>
  <dc:creator>андрей</dc:creator>
  <dc:description/>
  <dc:language>en-US</dc:language>
  <cp:lastModifiedBy>Пользователь Windows</cp:lastModifiedBy>
  <dcterms:modified xsi:type="dcterms:W3CDTF">2018-04-26T18:45:35Z</dcterms:modified>
  <cp:revision>33</cp:revision>
  <dc:subject/>
  <dc:title>Слайд 1</dc:title>
</cp:coreProperties>
</file>