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6075-103B-4B1D-A21B-97481EF2CB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D3D0-E685-4F30-A751-1488CC236D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FCC-5DEB-48B8-AE35-8015F680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6BAA-57AB-4705-957E-745042E0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AAC-D2DB-4C40-89BA-E97C3FDD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E2D-CBBF-4120-A829-D79BC96C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C8A-BABD-4CDA-9BE5-38705F94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0AB-1CE2-4149-B955-8E0365DF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FD7-9F51-43FA-8994-71080AC2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06A8-026E-488E-A9B2-3283F6B5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439-6363-4FB6-AA1C-7F34F100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7032-2B2F-44E0-9100-A1289093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725-C224-4E3F-9A24-97AD30FA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C89-D2A7-4133-83CD-66BF505E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011B-82CC-4337-8377-24F19C28C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236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Мастер-класс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«Изготовление гвоздики из гофрированной бумаги к празднику – День Побед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43040" y="3657240"/>
            <a:ext cx="396252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йбулатова Светлана Петровн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МДОУ «Детский сад №5 «Ромашка»» пгт. Советс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6840360" y="56386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3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лее изолентой зеленого цвета обматываем всю палочку. Так у нас получиться стебель нашего цветка. Из зеленой гофрированной бумаги вырезаем 2 продолговатых лис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олентой зеленого цвета приматываем листья к стебля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spcBef>
                <a:spcPts val="476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4124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1066680" y="239760"/>
            <a:ext cx="4267440" cy="30002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1371600" y="3276720"/>
            <a:ext cx="73152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..Гвоздики красные – как наши ветераны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не сгибаются под тяжестью судьб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не сдаются никогда на поле брани!!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Цветы огня»! «Цветы любви»! «Цветы борьбы»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Гвоздики росами искрятся в День Победы...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Елена Буторина-Палагут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ÐÐ°ÑÑÐ¸Ð½ÐºÐ¸ Ð¿Ð¾ Ð·Ð°Ð¿ÑÐ¾ÑÑ Ð³Ð²Ð¾Ð·Ð´Ð¸ÐºÐ¸ 9 Ð¼Ð°Ñ"/>
          <p:cNvPicPr/>
          <p:nvPr/>
        </p:nvPicPr>
        <p:blipFill>
          <a:blip r:embed="rId2"/>
          <a:stretch/>
        </p:blipFill>
        <p:spPr>
          <a:xfrm>
            <a:off x="5629320" y="380880"/>
            <a:ext cx="3021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4"/>
          <p:cNvSpPr/>
          <p:nvPr/>
        </p:nvSpPr>
        <p:spPr>
          <a:xfrm>
            <a:off x="782640" y="620640"/>
            <a:ext cx="7561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Цель мастер-класс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готовление гвоздики из гофрированной бумаги к празднику –День Побе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900000" y="1444680"/>
            <a:ext cx="7344000" cy="38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дачи: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 основными элементарными элементами техники изготовления гвоздики; обучить основным приемам работы, научить создавать композиции в данной технике; развивать моторику, чувство вкуса, воображение, творческое мышление; воспитывать уважение к ветеранам Великой Отечественной войны, нравственно-патриотические чув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ядет великая дата для нашей страны 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 мая, День Победы в Великой Отечественной войн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и популярными цветами на День Победы являются гвоздики.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ая гвоздика является символом пролитой кров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ÐÐ°ÑÑÐ¸Ð½ÐºÐ¸ Ð¿Ð¾ Ð·Ð°Ð¿ÑÐ¾ÑÑ 9 Ð¼Ð°Ñ 1945"/>
          <p:cNvPicPr/>
          <p:nvPr/>
        </p:nvPicPr>
        <p:blipFill>
          <a:blip r:embed="rId1"/>
          <a:srcRect l="0" t="25988" r="0" b="0"/>
          <a:stretch/>
        </p:blipFill>
        <p:spPr>
          <a:xfrm>
            <a:off x="2286000" y="1447920"/>
            <a:ext cx="4114800" cy="2017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ÐÐ°ÑÑÐ¸Ð½ÐºÐ¸ Ð¿Ð¾ Ð·Ð°Ð¿ÑÐ¾ÑÑ Ð²ÐµÑÐµÑÐ°Ð½Ñ Ñ Ð³Ð²Ð¾Ð·Ð´Ð¸ÐºÐ°Ð¼Ð¸"/>
          <p:cNvPicPr/>
          <p:nvPr/>
        </p:nvPicPr>
        <p:blipFill>
          <a:blip r:embed="rId2"/>
          <a:stretch/>
        </p:blipFill>
        <p:spPr>
          <a:xfrm>
            <a:off x="228600" y="4529160"/>
            <a:ext cx="27050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ÐÐ°ÑÑÐ¸Ð½ÐºÐ¸ Ð¿Ð¾ Ð·Ð°Ð¿ÑÐ¾ÑÑ Ð²ÐµÑÐµÑÐ°Ð½Ñ Ñ Ð³Ð²Ð¾Ð·Ð´Ð¸ÐºÐ°Ð¼Ð¸"/>
          <p:cNvPicPr/>
          <p:nvPr/>
        </p:nvPicPr>
        <p:blipFill>
          <a:blip r:embed="rId3"/>
          <a:stretch/>
        </p:blipFill>
        <p:spPr>
          <a:xfrm>
            <a:off x="6073920" y="4529160"/>
            <a:ext cx="2703240" cy="1803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ÐÐ°ÑÑÐ¸Ð½ÐºÐ¸ Ð¿Ð¾ Ð·Ð°Ð¿ÑÐ¾ÑÑ Ð²ÐµÑÐµÑÐ°Ð½Ñ Ñ Ð³Ð²Ð¾Ð·Ð´Ð¸ÐºÐ°Ð¼Ð¸"/>
          <p:cNvPicPr/>
          <p:nvPr/>
        </p:nvPicPr>
        <p:blipFill>
          <a:blip r:embed="rId4"/>
          <a:stretch/>
        </p:blipFill>
        <p:spPr>
          <a:xfrm>
            <a:off x="3162240" y="4529160"/>
            <a:ext cx="270684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819160" y="3886200"/>
            <a:ext cx="5562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работы понадобя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очки (длинные шпажк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фрированная бумага красного цве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фрированная бумага зелёного цве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ниц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енты красного и зеленого цве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594360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бъект 4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4003560" cy="26622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"/>
          <p:cNvPicPr/>
          <p:nvPr/>
        </p:nvPicPr>
        <p:blipFill>
          <a:blip r:embed="rId2"/>
          <a:stretch/>
        </p:blipFill>
        <p:spPr>
          <a:xfrm>
            <a:off x="4572000" y="609480"/>
            <a:ext cx="4003560" cy="2662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6"/>
          <p:cNvSpPr/>
          <p:nvPr/>
        </p:nvSpPr>
        <p:spPr>
          <a:xfrm>
            <a:off x="1447920" y="3886200"/>
            <a:ext cx="750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аем полоску бумаги, шириной 6 см. На один цветок уходит один отрезок бумаг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езаем эти полоски так, чтобы у нас получилось много квадр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4343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ждый квадрат складываем аккуратно два раза попол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s://pp.userapi.com/c844721/v844721039/334ab/HekqCkmWIZU.jpg"/>
          <p:cNvPicPr/>
          <p:nvPr/>
        </p:nvPicPr>
        <p:blipFill>
          <a:blip r:embed="rId1"/>
          <a:stretch/>
        </p:blipFill>
        <p:spPr>
          <a:xfrm>
            <a:off x="1785960" y="685800"/>
            <a:ext cx="55720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льше обрезаем верхние края так, чтобы получился полукруг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внешней стороне наших заготовок для бумажных гвоздик делаем частые надрезы на глубину 2-3  с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s://pp.userapi.com/c844617/v844617039/331d8/odWkz4yKQ0I.jpg"/>
          <p:cNvPicPr/>
          <p:nvPr/>
        </p:nvPicPr>
        <p:blipFill>
          <a:blip r:embed="rId1"/>
          <a:srcRect l="16235" t="0" r="24340" b="0"/>
          <a:stretch/>
        </p:blipFill>
        <p:spPr>
          <a:xfrm>
            <a:off x="609480" y="380880"/>
            <a:ext cx="3353040" cy="317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s://pp.userapi.com/c845017/v845017039/31807/uHGr8-KD1eI.jpg"/>
          <p:cNvPicPr/>
          <p:nvPr/>
        </p:nvPicPr>
        <p:blipFill>
          <a:blip r:embed="rId2"/>
          <a:srcRect l="17648" t="0" r="11766" b="0"/>
          <a:stretch/>
        </p:blipFill>
        <p:spPr>
          <a:xfrm>
            <a:off x="4343400" y="388800"/>
            <a:ext cx="398304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большой кусочек красной бумаги наматываем на тупой край шпажки и закрепляем изолентой красного цвета. Это – середин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еваем на палочку первый кружок-заготовку (в середине круга делаем проем), обжимаем его вокруг палочки. Равномерно расправляем края нашего цвет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24160" cy="27432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"/>
          <p:cNvPicPr/>
          <p:nvPr/>
        </p:nvPicPr>
        <p:blipFill>
          <a:blip r:embed="rId2"/>
          <a:stretch/>
        </p:blipFill>
        <p:spPr>
          <a:xfrm>
            <a:off x="4568760" y="304920"/>
            <a:ext cx="40863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3733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льше все то же самое проделываем с остальными кругами. Таким образом, у нас получается очень даже привлекательная гвоздика из гофрированной бумаг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s://pp.userapi.com/c846021/v846021039/2ca02/glsFxfanwrk.jpg"/>
          <p:cNvPicPr/>
          <p:nvPr/>
        </p:nvPicPr>
        <p:blipFill>
          <a:blip r:embed="rId1"/>
          <a:stretch/>
        </p:blipFill>
        <p:spPr>
          <a:xfrm>
            <a:off x="457200" y="762120"/>
            <a:ext cx="3889440" cy="2187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"/>
          <p:cNvPicPr/>
          <p:nvPr/>
        </p:nvPicPr>
        <p:blipFill>
          <a:blip r:embed="rId2"/>
          <a:stretch/>
        </p:blipFill>
        <p:spPr>
          <a:xfrm>
            <a:off x="4732200" y="750960"/>
            <a:ext cx="330696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09:23:38Z</dcterms:created>
  <dc:creator>андрей</dc:creator>
  <dc:description/>
  <dc:language>en-US</dc:language>
  <cp:lastModifiedBy>Пользователь Windows</cp:lastModifiedBy>
  <dcterms:modified xsi:type="dcterms:W3CDTF">2018-04-26T18:45:35Z</dcterms:modified>
  <cp:revision>33</cp:revision>
  <dc:subject/>
  <dc:title>Слайд 1</dc:title>
</cp:coreProperties>
</file>