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783A-3C8B-4ECC-B083-F9344594C0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58F8-94ED-42CA-BA19-1F4476D5C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AD5-60BA-475E-87C2-3D2316BE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93F-63CC-4E7E-A2C4-F30F95C8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9A2-4E50-4585-8417-CAC03868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581-747D-43F7-BCCA-4C4BD424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3B9-0608-485E-A9FD-6B75D65E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713-F4F2-47CB-A469-7991D27A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B21-763B-4A7D-B7F3-293F0AEF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B658-E5B4-4F96-B75F-E652E96B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07E-D2FF-48C2-BBAC-D18F98C2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076-50D3-4F04-93D3-51BE7E5E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986-DFE4-410E-A69A-E11C9FAA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0D44-8E6F-493D-B5E7-8A2E2BAE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D591-47EC-4D1A-8DDB-F1A40474487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renityhavasu.com/images/frontpageman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473040" y="13413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ентация по обществозн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Свобода и необходимость в челове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вопросы кодификатора 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743200" y="39625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рнет-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2590920" y="45720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52280" y="1143000"/>
            <a:ext cx="8858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 ЕГЭ 2017. Обществознание. 10 тренировочных вариантов / П. А. Баранов, С.В. Шевченко. – М.: издательство АСТ, 20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 Обществознание: новый полный справочник  для подготовки к ЕГЭ / П.А. Баранов, А.В. Воронцов, С.В. Шевченко / Под ред. П.А. Баранова. – М.: АСТ: Астрель, 201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) Обществознание. 10 класс. Модульный триактив-курс / О.А. Котова, Т.Е. Лискова. – М.: Издательство «Национальное образование», 20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) ЕГЭ. Обществознание : типовые экзаменационные Е31 варианты : 30 вариантов / О. А. Котова, Т.Е. Лискова. – М. : Издательство «Национальное образование», 201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228600" y="4648320"/>
            <a:ext cx="86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85.142.162.119/os11/xmodules/qprint/index.php?proj=756DF168F63F9A6341711C61AA5EC578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ФИПИ. Открытый банк заданий ЕГЭ. Обществозн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soc.reshuege.ru/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Решу ЕГ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2970360" y="333360"/>
            <a:ext cx="32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Э. Обще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547640" y="573408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знание. Кодификатор вопросов ЕГ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934920" y="191628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Человек и обществ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116000" y="1413000"/>
            <a:ext cx="712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95320" y="213372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7. Свобода и необходимость в челове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93680" y="2448000"/>
            <a:ext cx="878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вобода – это умение познавать объективную необходимость и, опираясь на это познание, вырабатывать правильные цели, принимать и выбирать обоснованные решения, и на практике воплощать их в действ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85760" y="4711680"/>
            <a:ext cx="878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оциальные условия реализации своб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о человека в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ы обществен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развития общест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85760" y="115920"/>
            <a:ext cx="877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вобода – способность человека действовать в соответствии со своими интересами и целями; возможность совершать те или иные поступки в зависимости от обстоятельств (предоставленность самому себе, политические свободы, религиозная своб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193680" y="2425680"/>
            <a:ext cx="8771040" cy="44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208080" y="4508640"/>
            <a:ext cx="8772480" cy="45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Картинка 11 из 1731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4400" y="4711680"/>
            <a:ext cx="31143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79280" y="189000"/>
            <a:ext cx="885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вобода может пониматься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ь действовать, повинуясь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им желаниям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волюнтар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ь действовать, подвергаясь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м ограничениям, которые обеспечи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знание и уважение прав других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Всеоб­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екларация прав челове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знанная необходимость (Б. Спино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негативная» и «позитивная» своб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. Фромм). Негатив­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бода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«свобода от» - свобода от внешних обстоятельств, от предопределенности, довлеющей над человеком. Позитивная свобода -«свобода для» - условие роста и развития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324000" y="415440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еобходимость - это условия, в которые изначально поставлен че­ловек и которое определяют его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539640" y="5025960"/>
            <a:ext cx="840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 любом понимании, абсолютная свобода недостижим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евоз­мож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-первых, в силу наличия необходимости - довлеющие над человеком природные и общественные зак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-вторых, в силу нали­чия ответ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187200" y="3981600"/>
            <a:ext cx="8769600" cy="45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187200" y="4979880"/>
            <a:ext cx="87696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s://works.doklad.ru/images/7B3mDtlMykw/4f3c93b5.gif"/>
          <p:cNvPicPr/>
          <p:nvPr/>
        </p:nvPicPr>
        <p:blipFill>
          <a:blip r:embed="rId1"/>
          <a:srcRect l="5868" t="0" r="13244" b="0"/>
          <a:stretch/>
        </p:blipFill>
        <p:spPr>
          <a:xfrm>
            <a:off x="6916680" y="115920"/>
            <a:ext cx="2084400" cy="2112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6916680" y="222876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. Фро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82520" y="3068640"/>
            <a:ext cx="892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о должно предоставлять человеку определенную степень внешней свободы, которая необходима для свободной деятельно­сти.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вободное общество - общество, предоставляющ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экономиче­ской сфере свободу предприниматель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и, защищающее конкурен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олитической сфере - плюрализм и демокра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ы у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уховной - свободомыслие, религиозный и идеолог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юр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оциальной - возможность социальной моби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s://pbs.twimg.com/media/DR3gVDcXcAAW716.jpg"/>
          <p:cNvPicPr/>
          <p:nvPr/>
        </p:nvPicPr>
        <p:blipFill>
          <a:blip r:embed="rId1"/>
          <a:stretch/>
        </p:blipFill>
        <p:spPr>
          <a:xfrm>
            <a:off x="5219640" y="549360"/>
            <a:ext cx="3724200" cy="20876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184320" y="115920"/>
            <a:ext cx="5035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етение человеком свободы неизбежно приводит к ответствен­ности за свои поступ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тветственность - осознание себя как причины совершаемых по­ступков, во внутреннем контроле за ними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ая ответствен­ность - поведение человека в соответствии с интересами других лю­дей и общества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184320" y="3286080"/>
            <a:ext cx="875952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357120" y="28584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. Выберите верные суждения о соотношении свободы, необходимости и ответственности в деятельност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Многообразие выбора ограничивает свободу в деятельност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Одним из проявлений необходимости в деятельности человека выступают объективные законы развития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Ответственность человека повышается в условиях ограниченного выбора стратегий поведения в определённых ситу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Неограниченная свобода является безусловным благом дл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Готовность человека оценивать свои действия с точки зрения их последствий для окружающих служит одним из проявлений чувства ответ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7715160" y="600084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250920" y="260280"/>
            <a:ext cx="864216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. Используя обществоведческие зн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) раскройте смысл понятия «свобод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) составьте два предло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−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дно предложение, содержащее информацию о причинах, почему невозможна абсолютная своб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−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дно предложение, раскрывающее связь свободы и ответ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Свобода — это возможность выбора видов деятельности в соответствии со своими желаниями, интересами и целями, формируемых в рамках существующих общественных 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Абсолютная свобода личности невозможна, так как ее выбор ограничен действующими физическими законами и социальными нормами регламентирующими общественн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Ответственность предполагает готовность человека принять на себя последствия своего свободного вы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500040" y="42876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. Используя обществоведческие знания, составьте сложный план, позволяющий раскрыть по существу тему  «Свобода и ответственност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дин из вариантов плана раскрытия данной т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Свобода в деятельности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свобода личности - важнейшая ценность циви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«свобода есть осознанная необходимость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категория свободы в философских исканиях челов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Ответственность - важнейший регулятор деятельности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сознательное следование установленным норм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оценивание своих поступков с точки зрения их последствий для окружающ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принципы и убеждени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Свобода и ответственность в свободном общ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2:03:25Z</dcterms:created>
  <dc:creator>Сафонова Н.С.;Ганюшин М.Е.</dc:creator>
  <dc:description/>
  <dc:language>en-US</dc:language>
  <cp:lastModifiedBy>dell</cp:lastModifiedBy>
  <dcterms:modified xsi:type="dcterms:W3CDTF">2023-05-13T01:21:16Z</dcterms:modified>
  <cp:revision>180</cp:revision>
  <dc:subject/>
  <dc:title>Человек и общество</dc:title>
</cp:coreProperties>
</file>