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1B5-B2DB-40A5-BFC6-D2DD44CB4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B18-2E47-4E01-A99A-722B321BB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0D3-3C0E-494D-A042-BB596F06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424-4F58-4A74-A32C-D2F1720A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128-BB13-4820-8136-41739BFA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825-8086-48D6-838D-704076B2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A36-8EF2-4028-AA53-AD2F034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649-2C91-45FA-92B1-2307B00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0B4-DA7F-4D7A-9E2B-5C4B20E2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F60-A9AD-4CE0-93EF-6DFA462E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29B-8392-4108-85AF-68694D1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91F-A1A3-4BD7-B384-1AA8A78F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A3B-31CA-4C82-8BB7-4161C57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401-A77D-4E08-9A25-DE6E2E1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4D9D-C741-46E5-9FF4-2920F4CB10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renityhavasu.com/images/frontpageman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73040" y="13413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по обществозн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вобода и необходимость в челове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опросы кодификатора 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743200" y="39625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590920" y="45720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52280" y="1143000"/>
            <a:ext cx="885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 ЕГЭ 2017. Обществознание. 10 тренировочных вариантов / П. А. Баранов, С.В. Шевченко. – М.: издательство АСТ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 Обществознание: новый полный справочник  для подготовки к ЕГЭ / П.А. Баранов, А.В. Воронцов, С.В. Шевченко / Под ред. П.А. Баранова. – М.: АСТ: Астрель, 20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) Обществознание. 10 класс. Модульный триактив-курс / О.А. Котова, Т.Е. Лискова. – М.: Издательство «Национальное образование»,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) ЕГЭ. Обществознание : типовые экзаменационные Е31 варианты : 30 вариантов / О. А. Котова, Т.Е. Лискова. – М. : Издательство «Национальное образование», 20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228600" y="46483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85.142.162.119/os11/xmodules/qprint/index.php?proj=756DF168F63F9A6341711C61AA5EC578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ФИПИ. Открытый банк заданий ЕГЭ. 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soc.reshuege.r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Решу ЕГ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970360" y="333360"/>
            <a:ext cx="32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Э. Обще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547640" y="5734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знание. Кодификатор вопросов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34920" y="1916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еловек и обществ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116000" y="1413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95320" y="213372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7. Свобода и необходимость в челове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93680" y="244800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бода – это умение познавать объективную необходимость и, опираясь на это познание, вырабатывать правильные цели, принимать и выбирать обоснованные решения, и на практике воплощать их в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85760" y="4711680"/>
            <a:ext cx="878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оциальные условия реализации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человека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обще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развития общест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85760" y="1159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бода – способность человека действовать в соответствии со своими интересами и целями; возможность совершать те или иные поступки в зависимости от обстоятельств (предоставленность самому себе, политические свободы, религиозная своб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193680" y="2425680"/>
            <a:ext cx="8771040" cy="4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208080" y="4508640"/>
            <a:ext cx="877248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Картинка 11 из 1731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4400" y="4711680"/>
            <a:ext cx="3114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79280" y="189000"/>
            <a:ext cx="885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бода может понимать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действовать, повинуясь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 желания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волюн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действовать, подвергаясь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граничениям, которые обеспеч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нание и уважение прав други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Всеоб­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екларация прав челов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знанная необходимость (Б. Спин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негативная» и «позитивная» своб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. Фромм). Негатив­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бода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«свобода от» - свобода от внешних обстоятельств, от предопределенности, довлеющей над человеком. Позитивная свобода -«свобода для» - условие роста и развит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24000" y="41544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обходимость - это условия, в которые изначально поставлен че­ловек и которое определяют его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39640" y="5025960"/>
            <a:ext cx="840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 любом понимании, абсолютная свобода недостижи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воз­мож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-первых, в силу наличия необходимости - довлеющие над человеком природные и общественные зак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-вторых, в силу нали­чия ответ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87200" y="3981600"/>
            <a:ext cx="876960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87200" y="4979880"/>
            <a:ext cx="87696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works.doklad.ru/images/7B3mDtlMykw/4f3c93b5.gif"/>
          <p:cNvPicPr/>
          <p:nvPr/>
        </p:nvPicPr>
        <p:blipFill>
          <a:blip r:embed="rId1"/>
          <a:srcRect l="5868" t="0" r="13244" b="0"/>
          <a:stretch/>
        </p:blipFill>
        <p:spPr>
          <a:xfrm>
            <a:off x="6916680" y="115920"/>
            <a:ext cx="2084400" cy="2112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916680" y="222876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. Фро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82520" y="3068640"/>
            <a:ext cx="892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о должно предоставлять человеку определенную степень внешней свободы, которая необходима для свободной деятельно­сти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бодное общество - общество, предоставля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экономиче­ской сфере свободу предприниматель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, защищающее конкурен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литической сфере - плюрализм и демокра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уховной - свободомыслие, религиозный и идеол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юр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циальной - возможность социальной моби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s://pbs.twimg.com/media/DR3gVDcXcAAW716.jpg"/>
          <p:cNvPicPr/>
          <p:nvPr/>
        </p:nvPicPr>
        <p:blipFill>
          <a:blip r:embed="rId1"/>
          <a:stretch/>
        </p:blipFill>
        <p:spPr>
          <a:xfrm>
            <a:off x="5219640" y="549360"/>
            <a:ext cx="3724200" cy="2087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84320" y="115920"/>
            <a:ext cx="5035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етение человеком свободы неизбежно приводит к ответствен­ности за свои посту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тветственность - осознание себя как причины совершаемых по­ступков, во внутреннем контроле за ним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ая ответствен­ность - поведение человека в соответствии с интересами других лю­дей и обществ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84320" y="3286080"/>
            <a:ext cx="875952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57120" y="28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. Выберите верные суждения о соотношении свободы, необходимости и ответственности в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Многообразие выбора ограничивает свободу в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Одним из проявлений необходимости в деятельности человека выступают объективные законы развития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Ответственность человека повышается в условиях ограниченного выбора стратегий поведения в определён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Неограниченная свобода является безусловным благом дл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Готовность человека оценивать свои действия с точки зрения их последствий для окружающих служит одним из проявлений чувства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7715160" y="60008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50920" y="260280"/>
            <a:ext cx="864216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. Используя обществоведческие зн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) раскройте смысл понятия «свобод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) составьте два предло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−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дно предложение, содержащее информацию о причинах, почему невозможна абсолютная своб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−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дно предложение, раскрывающее связь свободы и ответ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Свобода — это возможность выбора видов деятельности в соответствии со своими желаниями, интересами и целями, формируемых в рамках существующих общественных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Абсолютная свобода личности невозможна, так как ее выбор ограничен действующими физическими законами и социальными нормами регламентирующими обществен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Ответственность предполагает готовность человека принять на себя последствия своего свободного вы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00040" y="42876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. Используя обществоведческие знания, составьте сложный план, позволяющий раскрыть по существу тему  «Свобода и ответственнос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дин из вариантов плана раскрытия данной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Свобода в деятельности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вобода личности - важнейшая ценность циви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«свобода есть осознанная необходимост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категория свободы в философских исканиях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тветственность - важнейший регулятор деятельности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ознательное следование установленным норм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оценивание своих поступков с точки зрения их последствий для окружающ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принципы и убежд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вобода и ответственность в свободном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2:03:25Z</dcterms:created>
  <dc:creator>Сафонова Н.С.;Ганюшин М.Е.</dc:creator>
  <dc:description/>
  <dc:language>en-US</dc:language>
  <cp:lastModifiedBy>dell</cp:lastModifiedBy>
  <dcterms:modified xsi:type="dcterms:W3CDTF">2023-05-13T01:21:16Z</dcterms:modified>
  <cp:revision>180</cp:revision>
  <dc:subject/>
  <dc:title>Человек и общество</dc:title>
</cp:coreProperties>
</file>