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2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9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CAA-A0DC-4672-BDE6-91D529D63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3CAF-EC89-4F0E-9C4A-3E76A4011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7DF7-428E-487E-AA17-1BEFF7BD5D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D17-9C2B-42EA-9139-EB9CA758D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1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C8E-E079-4E3E-891D-BD8B3782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6C9-EDF6-48C9-B78F-6445147A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D22A0-C26A-446B-9F73-114D340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D958B-169D-4B41-8F47-7CF384D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E711B-42BC-4776-941A-65EA912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829FF-82C7-4FED-983C-87E91BD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372AA-341A-463F-86C7-F6482BB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70124-48FC-4E09-9D47-57F69E0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451C0-B2D7-46B3-9BD1-0AD1005E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9D99-5506-4DC5-8FF7-615A39F9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24635-0187-4C86-8C84-F5A0A456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0855C-95A6-458B-B2D2-60173B3B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50B-788B-42D6-BD7C-4C38AD24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DBF87-1D21-46BF-BD0F-9A639DD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3ECFE-7AF8-4FF1-984E-3E090310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83C24-8D6C-4A5B-87A6-773A4751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59CB4-3992-4AB3-9716-84267702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2CB9F-1B7A-4AF8-B327-3DA3CFF3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E936C-F0AA-4C5F-8875-D668C97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AC967-583C-40E7-BB02-7F764B3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B312E-1368-4A8A-923A-F2A05BE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0622E-7654-4776-8C11-72D8826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A793A-3D9E-4471-A81F-706C9E34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863-DFB9-418B-8102-5282ECE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D7C28-D2ED-48D2-8974-E5ADF898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3FB9-D408-4953-B517-06C62590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8A2-0EE1-4A05-9BFB-FE9788D9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2F8C-3686-44BD-B1B3-8ED3000C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B764-81A6-4362-876D-38E6D539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786-72CB-44B4-B6E5-8A5A3FA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1AA0-ADA0-4FB9-A149-CD6944E8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DF5F-B52F-4744-8475-86B9A1BD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64A-E684-4A1A-9135-79B0AF34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99C-92E6-44DC-A9B8-8E94E08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6D04-09BD-469F-BD13-8CC7DD1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8B85-3BC8-48A6-A6CB-435F854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6EF-D16E-40EB-8C0C-364789F5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A998-B108-4D12-9338-17C87CBF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F805-CF0C-4AB5-969E-E4A18465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0147-164D-4ACF-928E-341851C5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F183-A165-4268-8F36-D744E59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8070-C78C-43BB-B9AE-D6D1D639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B112-DE18-45D2-A839-26ADE575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4CF-34E2-4854-BB63-7CBDED1E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E752-0039-4DB8-95E0-251B5AB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4BD7-BE57-4403-B014-3084C3F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940C-A62C-4078-A37A-03331D9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0F54-0A3B-4B8E-A27C-180274A3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53AD-9452-4C7E-9EA2-0B3A1BF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9F99-B086-473E-9558-6CC503ED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D2DB-9668-46A9-9846-C4049CA6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4624-9336-4B73-86EF-66277F0F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8B4B-9301-4E68-8EF9-007D5A36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5EFF-A65C-4B04-9F4D-4E25B4B5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34F-9922-4280-9111-0959841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6618-0F45-45C9-B89D-1D6D252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8098-D047-4C39-8CAF-92EDCC5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C48A-01DC-4553-A4B6-84FB10D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DFAF-2E9B-4470-9BBE-A43773C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5547-AE5A-40CC-9EA3-705BC6A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44FA-A753-481B-8EAA-26D253B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C990-AAFB-45A6-B602-6CCC6AB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0DE9-F2FD-4A40-B808-594ACF80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34D1-E78A-4889-901F-C49F57C6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3C12-AE7A-4725-B481-54BF5183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9A7-35CD-4547-ACA2-03D2318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1AF49-A8E3-42E7-8534-B198AD1A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5B16-0115-4E5F-9677-B2F395EA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E64D-51FB-46DD-AEA6-B0925545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FBB4-AF01-4DC8-9439-452CE173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500A-A401-4EDE-A5E2-276F478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9F49C-5272-4F99-9B76-043A484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DF5F-FD7F-4562-B3FE-DE96C1D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56AA-3DF9-4D42-B03D-62828B6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96FA-2126-463B-AA8D-2E806BC5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0389-3921-446B-967A-A2ED67FB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01C-FDBF-423C-8537-79426B4D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C7A51-484C-45CE-AABC-1A0F84FE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05177-AF8A-4F7D-A976-8947FED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4CCD-6CFF-4518-8B6A-3D26957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1AF69-10CE-49A9-9024-89C31DE2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2DEB1-B1D6-4037-BEBF-CC81A3ED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8535-86F0-4E72-9548-E4127ACF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D777-6F6D-4578-AEE3-D95BC2AC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02740-4192-4D70-8650-EEC0DDF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4DCA-9ED4-4F5C-B0A2-B24AFBE9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FA75-A439-41A3-9B76-55B4E82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0A4-D192-494E-B521-6DC9121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B01C3-0439-4F9A-997D-2FB02B4A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A0A8-54AF-4872-8EE7-5E609944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C27A-A28E-49CB-B5D1-16506182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EAC2D-B19C-414A-992C-8106002F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8391-3C14-41D9-B6B6-66D4869A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6EB10-3DE8-479A-B0F2-A296FEEE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42CE8-C466-4C00-92AC-B0D559A4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8C08-DA7A-457A-82FF-0D87847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7CEAE-8B15-4AA2-AD60-052F0A8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F362-604D-4D30-9B4E-E0A561FD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6A4-F4BB-415F-BB9D-1382C00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3799-8D1B-4D1C-834A-7FF5544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0C3D1-7F69-4617-B349-EBF48E4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598B-403F-43DF-85D7-57226DE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B424-B58F-4F72-A170-BFD843CB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D4A3-13BA-4B83-B76A-6C0D1B8F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8C42F-A96B-4F24-A51D-DAC1A1C0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BFA4-72BC-40E5-BBAF-9AAA0FF2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96F6-186F-4D88-B3CC-1431BD2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BAC0-C46D-4755-9068-34D9E70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6112-348B-4B0D-8146-979AAFD9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312-5C99-4688-92E2-C3436F4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EDB7-8DE3-4EAE-B854-47C88F0E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1BA28-05F4-4744-A251-88BB3BE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7713-8511-45FB-97F8-A50A601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8B94-DE7D-4E93-AA96-A118EEC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703C8-8149-4B51-AA1C-B971A4E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D964-7FFD-4738-BC8C-4536FADD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7B1FF-3823-43E8-B4BD-5B75DCF8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157FD-E051-415C-99F3-615459D6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9CA32-3665-4051-9C44-433A046C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B4DA6-7319-4C40-90DD-F3787C5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29B9-7EC0-482C-A00A-EDFE645E6D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57A-3DE7-4D10-A76B-7812418059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5CF-8275-49A7-B8E2-031809FDA5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EC6-6573-4E12-99B6-22ACCB469E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7618-A3D1-4161-A53C-CDD3FDA3FE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344-7274-4591-968D-FBD699A02E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B1B-53AF-4946-BA4F-6F78E7F730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51D-B73F-44A1-9515-29CAC2060D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C1F-0BB2-4FBC-BFD8-7DCB8B0312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9E1-ACA4-41FA-9207-51D4F44131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30harab-koch.edusite.ru/images/67560126fc5f.gif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3329"/>
                </a:solidFill>
                <a:latin typeface="Franklin Gothic Book"/>
              </a:rPr>
              <a:t>Выполнила: Конаржевская Е.А.,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3329"/>
                </a:solidFill>
                <a:latin typeface="Franklin Gothic Book"/>
              </a:rPr>
              <a:t>учитель русского языка и литератур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Состояние природ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Внутреннее (эмоциональное) состояние челове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Мыслительные процесс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Цвет различных предме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a22e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Похолодало, голубеют, мыслить, смеркается, размышлять, засинели, соображать, скучать, зазеленеет, смеяться, светает, розовеют, думать, потеплело, радоваться, сострада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Oval 2"/>
          <p:cNvGrpSpPr/>
          <p:nvPr/>
        </p:nvGrpSpPr>
        <p:grpSpPr>
          <a:xfrm>
            <a:off x="2560680" y="1494000"/>
            <a:ext cx="3754440" cy="1322280"/>
            <a:chOff x="2560680" y="1494000"/>
            <a:chExt cx="3754440" cy="1322280"/>
          </a:xfrm>
        </p:grpSpPr>
        <p:pic>
          <p:nvPicPr>
            <p:cNvPr id="497" name="Oval 2" descr=""/>
            <p:cNvPicPr/>
            <p:nvPr/>
          </p:nvPicPr>
          <p:blipFill>
            <a:blip r:embed="rId1"/>
            <a:stretch/>
          </p:blipFill>
          <p:spPr>
            <a:xfrm>
              <a:off x="2560680" y="1494000"/>
              <a:ext cx="37544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124080" y="1698480"/>
              <a:ext cx="26258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Глагол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Oval 3"/>
          <p:cNvSpPr/>
          <p:nvPr/>
        </p:nvSpPr>
        <p:spPr>
          <a:xfrm>
            <a:off x="179280" y="260280"/>
            <a:ext cx="2160720" cy="91440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Oval 4"/>
          <p:cNvGrpSpPr/>
          <p:nvPr/>
        </p:nvGrpSpPr>
        <p:grpSpPr>
          <a:xfrm>
            <a:off x="6742080" y="195120"/>
            <a:ext cx="2170080" cy="1000440"/>
            <a:chOff x="6742080" y="195120"/>
            <a:chExt cx="2170080" cy="1000440"/>
          </a:xfrm>
        </p:grpSpPr>
        <p:pic>
          <p:nvPicPr>
            <p:cNvPr id="501" name="Oval 4" descr=""/>
            <p:cNvPicPr/>
            <p:nvPr/>
          </p:nvPicPr>
          <p:blipFill>
            <a:blip r:embed="rId2"/>
            <a:stretch/>
          </p:blipFill>
          <p:spPr>
            <a:xfrm>
              <a:off x="6742080" y="195120"/>
              <a:ext cx="21700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062840" y="345960"/>
              <a:ext cx="15285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Что делать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Что сделать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Oval 5"/>
          <p:cNvSpPr/>
          <p:nvPr/>
        </p:nvSpPr>
        <p:spPr>
          <a:xfrm>
            <a:off x="428760" y="3000240"/>
            <a:ext cx="2520720" cy="93528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Постоян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Oval 6"/>
          <p:cNvGrpSpPr/>
          <p:nvPr/>
        </p:nvGrpSpPr>
        <p:grpSpPr>
          <a:xfrm>
            <a:off x="6480" y="4803840"/>
            <a:ext cx="1736640" cy="731880"/>
            <a:chOff x="6480" y="4803840"/>
            <a:chExt cx="1736640" cy="731880"/>
          </a:xfrm>
        </p:grpSpPr>
        <p:pic>
          <p:nvPicPr>
            <p:cNvPr id="505" name="Oval 6" descr=""/>
            <p:cNvPicPr/>
            <p:nvPr/>
          </p:nvPicPr>
          <p:blipFill>
            <a:blip r:embed="rId3"/>
            <a:stretch/>
          </p:blipFill>
          <p:spPr>
            <a:xfrm>
              <a:off x="6480" y="4803840"/>
              <a:ext cx="17366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63520" y="4915080"/>
              <a:ext cx="1224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0a22e"/>
                  </a:solidFill>
                  <a:latin typeface="Arial"/>
                </a:rPr>
                <a:t>Спряжен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0a22e"/>
                  </a:solidFill>
                  <a:latin typeface="Arial"/>
                </a:rPr>
                <a:t>I</a:t>
              </a: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f0a22e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7" name="Oval 7"/>
          <p:cNvGrpSpPr/>
          <p:nvPr/>
        </p:nvGrpSpPr>
        <p:grpSpPr>
          <a:xfrm>
            <a:off x="5224320" y="2932200"/>
            <a:ext cx="3035520" cy="1017360"/>
            <a:chOff x="5224320" y="2932200"/>
            <a:chExt cx="3035520" cy="1017360"/>
          </a:xfrm>
        </p:grpSpPr>
        <p:pic>
          <p:nvPicPr>
            <p:cNvPr id="508" name="Oval 7" descr=""/>
            <p:cNvPicPr/>
            <p:nvPr/>
          </p:nvPicPr>
          <p:blipFill>
            <a:blip r:embed="rId4"/>
            <a:stretch/>
          </p:blipFill>
          <p:spPr>
            <a:xfrm>
              <a:off x="5224320" y="2932200"/>
              <a:ext cx="30355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672160" y="3086280"/>
              <a:ext cx="21384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Непостоянны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0a22e"/>
                  </a:solidFill>
                  <a:latin typeface="Arial"/>
                </a:rPr>
                <a:t>призна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" name="Oval 8"/>
          <p:cNvGrpSpPr/>
          <p:nvPr/>
        </p:nvGrpSpPr>
        <p:grpSpPr>
          <a:xfrm>
            <a:off x="3498840" y="4370400"/>
            <a:ext cx="1785960" cy="1079640"/>
            <a:chOff x="3498840" y="4370400"/>
            <a:chExt cx="1785960" cy="1079640"/>
          </a:xfrm>
        </p:grpSpPr>
        <p:pic>
          <p:nvPicPr>
            <p:cNvPr id="511" name="Oval 8" descr=""/>
            <p:cNvPicPr/>
            <p:nvPr/>
          </p:nvPicPr>
          <p:blipFill>
            <a:blip r:embed="rId5"/>
            <a:stretch/>
          </p:blipFill>
          <p:spPr>
            <a:xfrm>
              <a:off x="3498840" y="4370400"/>
              <a:ext cx="17859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3763800" y="4532400"/>
              <a:ext cx="12574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0a22e"/>
                  </a:solidFill>
                  <a:latin typeface="Arial"/>
                </a:rPr>
                <a:t>Настоящее</a:t>
              </a:r>
              <a:r>
                <a:rPr b="0" lang="ru-RU" sz="1400" spc="-1" strike="noStrike">
                  <a:solidFill>
                    <a:srgbClr val="f0a22e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0a22e"/>
                  </a:solidFill>
                  <a:latin typeface="Arial"/>
                </a:rPr>
                <a:t>время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3" name="Oval 9"/>
          <p:cNvSpPr/>
          <p:nvPr/>
        </p:nvSpPr>
        <p:spPr>
          <a:xfrm>
            <a:off x="7164360" y="5877000"/>
            <a:ext cx="1008000" cy="64764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Р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" name="Oval 10"/>
          <p:cNvGrpSpPr/>
          <p:nvPr/>
        </p:nvGrpSpPr>
        <p:grpSpPr>
          <a:xfrm>
            <a:off x="5218200" y="6022800"/>
            <a:ext cx="1225440" cy="646200"/>
            <a:chOff x="5218200" y="6022800"/>
            <a:chExt cx="1225440" cy="646200"/>
          </a:xfrm>
        </p:grpSpPr>
        <p:pic>
          <p:nvPicPr>
            <p:cNvPr id="515" name="Oval 10" descr=""/>
            <p:cNvPicPr/>
            <p:nvPr/>
          </p:nvPicPr>
          <p:blipFill>
            <a:blip r:embed="rId6"/>
            <a:stretch/>
          </p:blipFill>
          <p:spPr>
            <a:xfrm>
              <a:off x="5218200" y="6022800"/>
              <a:ext cx="1225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403960" y="6122880"/>
              <a:ext cx="855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0a22e"/>
                  </a:solidFill>
                  <a:latin typeface="Arial"/>
                </a:rPr>
                <a:t>Число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7" name="AutoShape 11"/>
          <p:cNvSpPr/>
          <p:nvPr/>
        </p:nvSpPr>
        <p:spPr>
          <a:xfrm rot="3450000">
            <a:off x="6467760" y="884880"/>
            <a:ext cx="234720" cy="569880"/>
          </a:xfrm>
          <a:prstGeom prst="upArrow">
            <a:avLst>
              <a:gd name="adj1" fmla="val 50000"/>
              <a:gd name="adj2" fmla="val 74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AutoShape 12"/>
          <p:cNvSpPr/>
          <p:nvPr/>
        </p:nvSpPr>
        <p:spPr>
          <a:xfrm rot="17882400">
            <a:off x="2348640" y="833760"/>
            <a:ext cx="257040" cy="782640"/>
          </a:xfrm>
          <a:prstGeom prst="upArrow">
            <a:avLst>
              <a:gd name="adj1" fmla="val 50000"/>
              <a:gd name="adj2" fmla="val 539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AutoShape 13"/>
          <p:cNvSpPr/>
          <p:nvPr/>
        </p:nvSpPr>
        <p:spPr>
          <a:xfrm rot="8371200">
            <a:off x="6238440" y="2181960"/>
            <a:ext cx="201600" cy="806760"/>
          </a:xfrm>
          <a:prstGeom prst="upArrow">
            <a:avLst>
              <a:gd name="adj1" fmla="val 50000"/>
              <a:gd name="adj2" fmla="val 667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AutoShape 14"/>
          <p:cNvSpPr/>
          <p:nvPr/>
        </p:nvSpPr>
        <p:spPr>
          <a:xfrm rot="13896000">
            <a:off x="2293560" y="2141280"/>
            <a:ext cx="231840" cy="863280"/>
          </a:xfrm>
          <a:prstGeom prst="upArrow">
            <a:avLst>
              <a:gd name="adj1" fmla="val 50000"/>
              <a:gd name="adj2" fmla="val 498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AutoShape 15"/>
          <p:cNvSpPr/>
          <p:nvPr/>
        </p:nvSpPr>
        <p:spPr>
          <a:xfrm rot="11464200">
            <a:off x="971280" y="3933360"/>
            <a:ext cx="223920" cy="719280"/>
          </a:xfrm>
          <a:prstGeom prst="upArrow">
            <a:avLst>
              <a:gd name="adj1" fmla="val 50000"/>
              <a:gd name="adj2" fmla="val 41670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16"/>
          <p:cNvSpPr/>
          <p:nvPr/>
        </p:nvSpPr>
        <p:spPr>
          <a:xfrm rot="13896000">
            <a:off x="5034600" y="3326040"/>
            <a:ext cx="247680" cy="1173240"/>
          </a:xfrm>
          <a:prstGeom prst="upArrow">
            <a:avLst>
              <a:gd name="adj1" fmla="val 50000"/>
              <a:gd name="adj2" fmla="val 73312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AutoShape 17"/>
          <p:cNvSpPr/>
          <p:nvPr/>
        </p:nvSpPr>
        <p:spPr>
          <a:xfrm rot="11797200">
            <a:off x="6155640" y="3933360"/>
            <a:ext cx="198360" cy="738360"/>
          </a:xfrm>
          <a:prstGeom prst="upArrow">
            <a:avLst>
              <a:gd name="adj1" fmla="val 50000"/>
              <a:gd name="adj2" fmla="val 79220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AutoShape 18"/>
          <p:cNvSpPr/>
          <p:nvPr/>
        </p:nvSpPr>
        <p:spPr>
          <a:xfrm rot="8385000">
            <a:off x="7956360" y="3789000"/>
            <a:ext cx="169560" cy="839880"/>
          </a:xfrm>
          <a:prstGeom prst="upArrow">
            <a:avLst>
              <a:gd name="adj1" fmla="val 50000"/>
              <a:gd name="adj2" fmla="val 37425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1835280" y="4724280"/>
            <a:ext cx="1728720" cy="86544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a22e"/>
                </a:solidFill>
                <a:latin typeface="Tahoma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AutoShape 15"/>
          <p:cNvSpPr/>
          <p:nvPr/>
        </p:nvSpPr>
        <p:spPr>
          <a:xfrm rot="11464200">
            <a:off x="2194920" y="3933360"/>
            <a:ext cx="223560" cy="719280"/>
          </a:xfrm>
          <a:prstGeom prst="upArrow">
            <a:avLst>
              <a:gd name="adj1" fmla="val 50000"/>
              <a:gd name="adj2" fmla="val 41737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3"/>
          <p:cNvSpPr/>
          <p:nvPr/>
        </p:nvSpPr>
        <p:spPr>
          <a:xfrm>
            <a:off x="3132000" y="189000"/>
            <a:ext cx="2160720" cy="985680"/>
          </a:xfrm>
          <a:prstGeom prst="ellipse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Сказуем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AutoShape 11"/>
          <p:cNvSpPr/>
          <p:nvPr/>
        </p:nvSpPr>
        <p:spPr>
          <a:xfrm rot="3450000">
            <a:off x="6467760" y="884880"/>
            <a:ext cx="234720" cy="569880"/>
          </a:xfrm>
          <a:prstGeom prst="upArrow">
            <a:avLst>
              <a:gd name="adj1" fmla="val 50000"/>
              <a:gd name="adj2" fmla="val 74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11"/>
          <p:cNvSpPr/>
          <p:nvPr/>
        </p:nvSpPr>
        <p:spPr>
          <a:xfrm rot="3450000">
            <a:off x="4162680" y="1029600"/>
            <a:ext cx="235080" cy="569880"/>
          </a:xfrm>
          <a:prstGeom prst="upArrow">
            <a:avLst>
              <a:gd name="adj1" fmla="val 50000"/>
              <a:gd name="adj2" fmla="val 748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7380360" y="4581360"/>
            <a:ext cx="1763640" cy="93348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Прошедше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val 9"/>
          <p:cNvSpPr/>
          <p:nvPr/>
        </p:nvSpPr>
        <p:spPr>
          <a:xfrm>
            <a:off x="3419640" y="5950080"/>
            <a:ext cx="1152360" cy="72072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Лиц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5364000" y="4581360"/>
            <a:ext cx="1944720" cy="100836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Будуще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utoShape 17"/>
          <p:cNvSpPr/>
          <p:nvPr/>
        </p:nvSpPr>
        <p:spPr>
          <a:xfrm rot="11797200">
            <a:off x="3850560" y="5229360"/>
            <a:ext cx="198360" cy="738000"/>
          </a:xfrm>
          <a:prstGeom prst="upArrow">
            <a:avLst>
              <a:gd name="adj1" fmla="val 50000"/>
              <a:gd name="adj2" fmla="val 7918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Oval 9"/>
          <p:cNvSpPr/>
          <p:nvPr/>
        </p:nvSpPr>
        <p:spPr>
          <a:xfrm>
            <a:off x="8280360" y="5877000"/>
            <a:ext cx="863640" cy="647640"/>
          </a:xfrm>
          <a:prstGeom prst="ellipse">
            <a:avLst/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0a22e"/>
                </a:solidFill>
                <a:latin typeface="Arial"/>
              </a:rPr>
              <a:t>Числ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AutoShape 17"/>
          <p:cNvSpPr/>
          <p:nvPr/>
        </p:nvSpPr>
        <p:spPr>
          <a:xfrm rot="11797200">
            <a:off x="6442920" y="5516640"/>
            <a:ext cx="198360" cy="738000"/>
          </a:xfrm>
          <a:prstGeom prst="upArrow">
            <a:avLst>
              <a:gd name="adj1" fmla="val 50000"/>
              <a:gd name="adj2" fmla="val 7918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AutoShape 17"/>
          <p:cNvSpPr/>
          <p:nvPr/>
        </p:nvSpPr>
        <p:spPr>
          <a:xfrm rot="11797200">
            <a:off x="7666920" y="5373720"/>
            <a:ext cx="198360" cy="738000"/>
          </a:xfrm>
          <a:prstGeom prst="upArrow">
            <a:avLst>
              <a:gd name="adj1" fmla="val 50000"/>
              <a:gd name="adj2" fmla="val 7918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AutoShape 17"/>
          <p:cNvSpPr/>
          <p:nvPr/>
        </p:nvSpPr>
        <p:spPr>
          <a:xfrm rot="11797200">
            <a:off x="8459280" y="5229360"/>
            <a:ext cx="216000" cy="720720"/>
          </a:xfrm>
          <a:prstGeom prst="upArrow">
            <a:avLst>
              <a:gd name="adj1" fmla="val 50000"/>
              <a:gd name="adj2" fmla="val 71012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AutoShape 16"/>
          <p:cNvSpPr/>
          <p:nvPr/>
        </p:nvSpPr>
        <p:spPr>
          <a:xfrm rot="13896000">
            <a:off x="5034600" y="5198040"/>
            <a:ext cx="247680" cy="1461960"/>
          </a:xfrm>
          <a:prstGeom prst="upArrow">
            <a:avLst>
              <a:gd name="adj1" fmla="val 50000"/>
              <a:gd name="adj2" fmla="val 91354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AutoShape 18"/>
          <p:cNvSpPr/>
          <p:nvPr/>
        </p:nvSpPr>
        <p:spPr>
          <a:xfrm rot="8385000">
            <a:off x="4936680" y="5271480"/>
            <a:ext cx="169920" cy="1081080"/>
          </a:xfrm>
          <a:prstGeom prst="upArrow">
            <a:avLst>
              <a:gd name="adj1" fmla="val 50000"/>
              <a:gd name="adj2" fmla="val 48071"/>
            </a:avLst>
          </a:prstGeom>
          <a:solidFill>
            <a:srgbClr val="fdf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2" descr="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2"/>
          <p:cNvSpPr/>
          <p:nvPr/>
        </p:nvSpPr>
        <p:spPr>
          <a:xfrm>
            <a:off x="685800" y="228600"/>
            <a:ext cx="792468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42f"/>
                </a:solidFill>
                <a:latin typeface="Arial"/>
              </a:rPr>
              <a:t>Разноуровневые  за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1981080" y="91440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текст упражнения 517. Вставьте  устно глаго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1"/>
          <a:stretch/>
        </p:blipFill>
        <p:spPr>
          <a:xfrm>
            <a:off x="0" y="914400"/>
            <a:ext cx="2057400" cy="42670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380880" y="548640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их общее значение? Как бы вы назвали эту группу глагол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На то и печь, чтобы в ней хлеб печ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Снежное покрывало все поле покрывало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Стоя на нашем берегу, покой границы берег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7" name="Picture 16" descr=""/>
          <p:cNvPicPr/>
          <p:nvPr/>
        </p:nvPicPr>
        <p:blipFill>
          <a:blip r:embed="rId2"/>
          <a:stretch/>
        </p:blipFill>
        <p:spPr>
          <a:xfrm>
            <a:off x="6610320" y="3933720"/>
            <a:ext cx="2533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42f"/>
                </a:solidFill>
                <a:latin typeface="Comic Sans MS"/>
              </a:rPr>
              <a:t>РЕФЛЕКСИЯ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0" name="Рисунок 1" descr=""/>
          <p:cNvPicPr/>
          <p:nvPr/>
        </p:nvPicPr>
        <p:blipFill>
          <a:blip r:embed="rId1"/>
          <a:stretch/>
        </p:blipFill>
        <p:spPr>
          <a:xfrm>
            <a:off x="339840" y="620640"/>
            <a:ext cx="847872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3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-360" y="1977840"/>
            <a:ext cx="3814920" cy="464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43120" y="-360"/>
            <a:ext cx="7400880" cy="26172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1280" indent="0">
              <a:lnSpc>
                <a:spcPct val="100000"/>
              </a:lnSpc>
              <a:spcBef>
                <a:spcPts val="1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     </a:t>
            </a: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Спасибо!</a:t>
            </a:r>
            <a:endParaRPr b="0" lang="en-US" sz="65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lnSpc>
                <a:spcPct val="100000"/>
              </a:lnSpc>
              <a:spcBef>
                <a:spcPts val="1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  </a:t>
            </a:r>
            <a:r>
              <a:rPr b="0" lang="ru-RU" sz="6500" spc="-1" strike="noStrike">
                <a:solidFill>
                  <a:srgbClr val="00ff00"/>
                </a:solidFill>
                <a:latin typeface="Times New Roman"/>
                <a:ea typeface="MS Gothic"/>
              </a:rPr>
              <a:t>Уд</a:t>
            </a:r>
            <a:r>
              <a:rPr b="0" lang="ru-RU" sz="6500" spc="-1" strike="noStrike">
                <a:solidFill>
                  <a:srgbClr val="ccff66"/>
                </a:solidFill>
                <a:latin typeface="Times New Roman"/>
                <a:ea typeface="MS Gothic"/>
              </a:rPr>
              <a:t>ач</a:t>
            </a:r>
            <a:r>
              <a:rPr b="0" lang="ru-RU" sz="6500" spc="-1" strike="noStrike">
                <a:solidFill>
                  <a:srgbClr val="ffff66"/>
                </a:solidFill>
                <a:latin typeface="Times New Roman"/>
                <a:ea typeface="MS Gothic"/>
              </a:rPr>
              <a:t>и </a:t>
            </a:r>
            <a:r>
              <a:rPr b="0" lang="ru-RU" sz="6500" spc="-1" strike="noStrike">
                <a:solidFill>
                  <a:srgbClr val="ffff00"/>
                </a:solidFill>
                <a:latin typeface="Times New Roman"/>
                <a:ea typeface="MS Gothic"/>
              </a:rPr>
              <a:t>в</a:t>
            </a:r>
            <a:r>
              <a:rPr b="0" lang="ru-RU" sz="6500" spc="-1" strike="noStrike">
                <a:solidFill>
                  <a:srgbClr val="ffcc00"/>
                </a:solidFill>
                <a:latin typeface="Times New Roman"/>
                <a:ea typeface="MS Gothic"/>
              </a:rPr>
              <a:t>се</a:t>
            </a:r>
            <a:r>
              <a:rPr b="0" lang="ru-RU" sz="6500" spc="-1" strike="noStrike">
                <a:solidFill>
                  <a:srgbClr val="ff9900"/>
                </a:solidFill>
                <a:latin typeface="Times New Roman"/>
                <a:ea typeface="MS Gothic"/>
              </a:rPr>
              <a:t>м</a:t>
            </a:r>
            <a:r>
              <a:rPr b="0" lang="ru-RU" sz="6500" spc="-1" strike="noStrike">
                <a:solidFill>
                  <a:srgbClr val="ff9933"/>
                </a:solidFill>
                <a:latin typeface="Times New Roman"/>
                <a:ea typeface="MS Gothic"/>
              </a:rPr>
              <a:t>!</a:t>
            </a:r>
            <a:endParaRPr b="0" lang="en-US" sz="65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0">
              <a:lnSpc>
                <a:spcPct val="100000"/>
              </a:lnSpc>
              <a:spcBef>
                <a:spcPts val="1638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900" spc="-1" strike="noStrike">
                <a:solidFill>
                  <a:srgbClr val="ff9933"/>
                </a:solidFill>
                <a:latin typeface="Times New Roman"/>
                <a:ea typeface="MS Gothic"/>
              </a:rPr>
              <a:t>.</a:t>
            </a: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652840" cy="3819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609480" y="1752480"/>
            <a:ext cx="4038840" cy="453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2235240" cy="391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4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ошла ненастная осень. Солнце греет все меньше. Наступила зима. Ударил сильный мороз. В воздухе чувствуется свежесть. Снег покрыл окрестности деревни. Счастливые мальчишки и девчонки бегут на каток. Лопатами чистят они снег, метлой подметают лед. Каток готов. Хорошо будет кататься по скользкому льду на коньках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424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Объект 5" descr=""/>
          <p:cNvPicPr/>
          <p:nvPr/>
        </p:nvPicPr>
        <p:blipFill>
          <a:blip r:embed="rId1"/>
          <a:stretch/>
        </p:blipFill>
        <p:spPr>
          <a:xfrm>
            <a:off x="468360" y="-1046160"/>
            <a:ext cx="8064360" cy="7788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лагол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ш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ступи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дари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увствует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284720" y="1557360"/>
            <a:ext cx="4402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Существительные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Осень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Зима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Мороз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вежесть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395280" y="62064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лагол как часть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0" name="Picture 5" descr="7"/>
          <p:cNvPicPr/>
          <p:nvPr/>
        </p:nvPicPr>
        <p:blipFill>
          <a:blip r:embed="rId1"/>
          <a:stretch/>
        </p:blipFill>
        <p:spPr>
          <a:xfrm>
            <a:off x="228600" y="3657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5"/>
          <p:cNvSpPr/>
          <p:nvPr/>
        </p:nvSpPr>
        <p:spPr>
          <a:xfrm>
            <a:off x="914400" y="228600"/>
            <a:ext cx="754380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Arial"/>
              </a:rPr>
              <a:t>Определяем проблему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545040" y="1523880"/>
            <a:ext cx="67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те слова. Что их объединяе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2845440" y="2492280"/>
            <a:ext cx="127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иш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тро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ар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шь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4876920" y="2514600"/>
            <a:ext cx="196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звен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шурша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рем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шелест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43600" y="4508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слова в 1-м столбике? А во 2-м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639720" y="533412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уйте основной вопрос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utoShape 14">
            <a:hlinkClick r:id="" action="ppaction://hlinkshowjump?jump=nextslide"/>
          </p:cNvPr>
          <p:cNvSpPr/>
          <p:nvPr/>
        </p:nvSpPr>
        <p:spPr>
          <a:xfrm>
            <a:off x="7467480" y="60199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3794"/>
                </a:moveTo>
                <a:lnTo>
                  <a:pt x="35082" y="10800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533520" y="152280"/>
            <a:ext cx="8381880" cy="10670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Arial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Arial"/>
              </a:rPr>
              <a:t>могут иметь глагол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AutoShape 12"/>
          <p:cNvSpPr/>
          <p:nvPr/>
        </p:nvSpPr>
        <p:spPr>
          <a:xfrm>
            <a:off x="685800" y="1981080"/>
            <a:ext cx="3429000" cy="5335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AutoShape 13"/>
          <p:cNvSpPr/>
          <p:nvPr/>
        </p:nvSpPr>
        <p:spPr>
          <a:xfrm>
            <a:off x="4419720" y="2057400"/>
            <a:ext cx="3352680" cy="5335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ч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15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6" descr=""/>
          <p:cNvPicPr/>
          <p:nvPr/>
        </p:nvPicPr>
        <p:blipFill>
          <a:blip r:embed="rId2"/>
          <a:stretch/>
        </p:blipFill>
        <p:spPr>
          <a:xfrm>
            <a:off x="6877080" y="2637000"/>
            <a:ext cx="1838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c42f"/>
                </a:solidFill>
                <a:latin typeface="Arial"/>
              </a:rPr>
              <a:t>Роль глаголов в ре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765000" y="1600200"/>
            <a:ext cx="150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ыг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лы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ид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Box 3"/>
          <p:cNvSpPr/>
          <p:nvPr/>
        </p:nvSpPr>
        <p:spPr>
          <a:xfrm>
            <a:off x="3058560" y="1600200"/>
            <a:ext cx="243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овори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ассказыв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оизноси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твети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Блок-схема: альтернативный процесс 5"/>
          <p:cNvSpPr/>
          <p:nvPr/>
        </p:nvSpPr>
        <p:spPr>
          <a:xfrm>
            <a:off x="6477120" y="4191120"/>
            <a:ext cx="2133360" cy="45720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Выноска-облако 7"/>
          <p:cNvSpPr/>
          <p:nvPr/>
        </p:nvSpPr>
        <p:spPr>
          <a:xfrm>
            <a:off x="324000" y="4005360"/>
            <a:ext cx="2590560" cy="1447560"/>
          </a:xfrm>
          <a:prstGeom prst="cloudCallout">
            <a:avLst>
              <a:gd name="adj1" fmla="val -22226"/>
              <a:gd name="adj2" fmla="val -95319"/>
            </a:avLst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ви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Выноска-облако 8"/>
          <p:cNvSpPr/>
          <p:nvPr/>
        </p:nvSpPr>
        <p:spPr>
          <a:xfrm>
            <a:off x="3348000" y="4221000"/>
            <a:ext cx="2209680" cy="1295640"/>
          </a:xfrm>
          <a:prstGeom prst="cloudCallout">
            <a:avLst>
              <a:gd name="adj1" fmla="val -43347"/>
              <a:gd name="adj2" fmla="val -149634"/>
            </a:avLst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Picture 18" descr="http://30harab-koch.edusite.ru/images/67560126fc5f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5029200"/>
            <a:ext cx="1017720" cy="1600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"/>
          <p:cNvPicPr/>
          <p:nvPr/>
        </p:nvPicPr>
        <p:blipFill>
          <a:blip r:embed="rId3"/>
          <a:stretch/>
        </p:blipFill>
        <p:spPr>
          <a:xfrm>
            <a:off x="755640" y="5589720"/>
            <a:ext cx="1905120" cy="1123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"/>
          <p:cNvPicPr/>
          <p:nvPr/>
        </p:nvPicPr>
        <p:blipFill>
          <a:blip r:embed="rId4"/>
          <a:stretch/>
        </p:blipFill>
        <p:spPr>
          <a:xfrm>
            <a:off x="5219640" y="5084640"/>
            <a:ext cx="2019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отовит     осматривает                насажива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арит        выслушивает               закидыва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жарит       расспрашивает            лови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лит        выписывает                 вытаскива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обует    лечи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3:38:38Z</dcterms:created>
  <dc:creator>МАЛЫШ</dc:creator>
  <dc:description/>
  <dc:language>en-US</dc:language>
  <cp:lastModifiedBy>ученик</cp:lastModifiedBy>
  <dcterms:modified xsi:type="dcterms:W3CDTF">2023-05-14T10:41:13Z</dcterms:modified>
  <cp:revision>30</cp:revision>
  <dc:subject/>
  <dc:title>Слайд 1</dc:title>
</cp:coreProperties>
</file>