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1.gif" ContentType="image/gif"/>
  <Override PartName="/ppt/media/image2.png" ContentType="image/png"/>
  <Override PartName="/ppt/media/image4.jpeg" ContentType="image/jpeg"/>
  <Override PartName="/ppt/media/image25.png" ContentType="image/png"/>
  <Override PartName="/ppt/media/image27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9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6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52C4-6431-4C64-A557-74170C3142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CD59-FBC8-4FC7-BE50-E2C5C1D90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A1CF-4C97-413A-976E-410CDBD153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53D7-13A7-4354-BC0D-23F1A7854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100" spc="-1" strike="noStrike">
              <a:solidFill>
                <a:srgbClr val="000000"/>
              </a:solidFill>
              <a:latin typeface="Arial"/>
              <a:ea typeface="M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BF9-3517-4AEF-BF70-C3A529DD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75F-8A4D-4B94-B13D-EFD48D31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65AD1-15BC-4ACC-AB93-56DE9511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CFE72-E2B5-4411-9960-CDFB52EB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28291-0CCE-4D91-B6E7-36BD9DDB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F3EFB-7852-41FA-8D05-472EDB84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81397-BA8E-4FEF-8907-2F5F873D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7E4B6-D937-4DF8-A0CA-73F0A7F6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10561-A79A-4FF2-88E4-BC1C8F13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B5139-1584-4BB2-98B2-74B346BC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9175B-D7F6-4558-B566-353C2663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638D4-DA5A-4DD2-8B9F-94080791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102-23F7-491F-8577-20758350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5A8E5-7723-4F13-A602-A7BC1264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77380-7876-484C-BFF9-87C4E5CB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B437F-86CB-4880-9A2D-9CD0AEB4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287B9-873F-4903-80A7-3E431DC7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B6FB1-4AC2-49DF-9FB0-0653AC87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9B68D-AD06-40F1-BCB7-CCAA07CC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92B76-753B-459D-AD79-E323FAD4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DD502-3F4C-4099-ABE5-9BB51F00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EF4B9-7A6B-4D43-B1C6-0CEBF012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88F1C-BCE8-4B0C-8263-6DA64158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41F-8454-4508-9713-C62DE8E6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0C32A-4575-4EBA-9B53-CAD096CF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A170-89DD-40A8-8BB5-23DED396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F0F1-FF67-4EDA-B67C-F0F74788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4328-C106-4219-AB7C-28F3185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BE43-8A16-42D1-A616-237B32AD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0FFF-42B6-4661-A7B9-4BE8BAB5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084C-6B9A-4C61-8B9A-D94A1DDE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432E-848A-4D08-BA30-23AF318A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6AD-DC11-4A64-A8D2-539D07A2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9B0E-4954-475A-BB46-B5274C8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D1DE-DEA4-4D72-B29D-1CB84B25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90D9-6E1C-4E99-920C-88C02367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1676-0769-45BA-A52D-269D4529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0C57-06E7-4A22-9540-687A13DA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D88BF-7BEC-48F4-B5B6-9AF1726C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F81D2-2E82-4413-B8DA-651F3AB3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C5FA-701F-40F5-A1F4-E726B03F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9DDC-C876-46F2-A207-EBAAA842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7A3DE-596B-40B9-95DE-1F73F82F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53F-E497-4334-ADFD-90BB98B5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93A9-2381-4DF7-8E42-81A5D8DC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ADDE2-5462-4739-BA35-AB71067B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F8FB0-91D7-4366-983C-F507BC6D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C523-AA8A-4FF4-A175-79644BA2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CC35-2A87-4096-A8E9-1C246E48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FC48-96B6-4773-8DA8-DCED4ABD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9F29-F36F-461B-AFE3-E797259D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2630E-BEA5-4005-BDE2-8ABA47BB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CC7E-E0C7-4CC4-99A7-AF84891E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88C86-6343-4EB3-9019-EA994D35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5C3-BAB1-49E4-8343-8925B01E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EAB1A-CD4D-47A4-A675-95BFFD79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8D340-6549-4AAB-9F42-FA244517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926C5-0A5C-486C-94E0-80796C47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FF98-1709-46DB-ABC7-9C213E92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4F3F9-FA38-41C8-ACD5-F93C00A7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09BA1-7AD7-4120-B899-6A2D6D2D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03AAF-96E4-4D4A-B7D9-4B443A4C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378B1-4653-4E64-B5BE-F3D25F81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02660-D468-4700-B7A9-891B33A1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0F8A-F5C0-4429-BC38-C4D6FCE0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7B8-8A6B-4C7E-A9B6-A79CDF4A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8FEE2-AF80-4E78-81F8-62A4ED9E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B99F9-75DC-4617-8716-E1DDD284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05668-1152-4E11-BABA-1BECA7EC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44C95-E44B-430E-8250-DD314518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6A034-D98F-468A-B43C-5A788C8D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F45DA-E314-4F15-AAE1-275E8E3C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BE2D0-C9B1-4740-98DE-21A44928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4DF93-CE05-4D39-9766-C40CD9E4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055D2-4DD2-47AE-BACB-0255ABB0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C505A-6E3B-4420-8BFC-63CF8A8A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86C-CED9-46CE-AA0E-8951A49A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29A43-D9D3-42E1-ACE9-5FC97378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6A127-7FA5-443A-9F61-DE974812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97E5-0D01-4966-A8EA-76F56585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B3B11-3B54-4E31-ABD0-3ED6CC76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74249-BE37-4C34-A9EB-6180C803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3A5C0-A77C-4A0D-B96F-88FCD090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D7BEB-3874-4397-811B-E3350D52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7A03A-7511-488A-832A-7E820074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508E1-2175-478B-B41B-9B067916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E3C81-99F0-4CAD-80DE-C2C141CB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767-6D29-4C00-8321-C8DFA24E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BC3F6-5496-4DDB-B9AD-3B01A74A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63146-757B-479B-B60E-C3E452F8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0CBCD-E4E4-414E-A210-CC50F0B1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64B86-3B5F-47CB-855B-C0C184CD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88E2D-2F15-4D6F-9EF1-04EFCEE6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F2809-A16E-4E9F-9039-069D8810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89622-1891-469E-A88E-DA420A99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5CB94-EF13-421F-883D-F519939E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D6986-A462-4E93-BC75-5182B846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8A252-C230-4945-AAFE-574C7767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BDB-3996-4F2A-B7D3-3E03A431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49D95-B7CE-4DB8-884D-E9EE8E06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FE342-646A-49DC-BA1D-90ACE970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98067-3626-463C-8902-C8AB832D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E9984-2FCF-416A-8D08-58FAA7CC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3A611-45F9-41A7-8C81-370A969C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07917-11E5-491A-9A55-CB3A8B42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BBD4B-AD3C-42FB-9BBB-05A73B48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26201-0EB8-4308-92FC-A6A54E89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84930-8A4C-424F-A1F9-F49281B5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CEF99-6110-405F-BC87-6FCC858A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838-F6BA-47A6-A4BD-7EACC03C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17C4E-9C04-4A70-BDC8-3F429942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E6ADB-4394-4B8F-84AE-F10BE978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96441-F68D-4508-8D69-D8E3DA83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A9CA3-0FA5-4D56-BEEA-3529254C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64B05-304B-441A-80F2-7D52A81A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3B9DF-64F5-407A-AFAE-BA9C7AD9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32659-96F7-4C25-B9AB-0C6FBC0A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0E998-DEF4-475A-9E32-D02BCC68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14D82-1EF8-4810-8AF0-DEA53A20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1D31F-3EE7-4E9C-966D-6D8ADAC8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6634-9B49-44AD-B252-6E4A12114B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9FE6-E6F9-40E3-A04D-7B21330E96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752F-26A7-4C36-89C0-550613D376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44F1-1EFF-4CE6-861D-EDFF29FF25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E6AC-3839-4545-A736-4B1B6D4091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E91E-1128-46E8-8145-6658699229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31DF-553A-4956-9B0D-8D50165618F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A22-967C-4516-81C0-A3EBCB0EEC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091C-5E10-4892-B726-FE043AE1DD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8E8C-6A30-40E1-9309-C2FF48045F4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30harab-koch.edusite.ru/images/67560126fc5f.gif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189000" y="4761000"/>
            <a:ext cx="8650080" cy="13158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3329"/>
                </a:solidFill>
                <a:latin typeface="Franklin Gothic Book"/>
              </a:rPr>
              <a:t>Выполнила: Конаржевская Е.А.,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3329"/>
                </a:solidFill>
                <a:latin typeface="Franklin Gothic Book"/>
              </a:rPr>
              <a:t>учитель русского языка и литературы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82280" cy="15429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Состояние природ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Внутреннее (эмоциональное) состояние человек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Мыслительные процессы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4.Цвет различных предмет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a22e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Похолодало, голубеют, мыслить, смеркается, размышлять, засинели, соображать, скучать, зазеленеет, смеяться, светает, розовеют, думать, потеплело, радоваться, сострадат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Oval 2"/>
          <p:cNvGrpSpPr/>
          <p:nvPr/>
        </p:nvGrpSpPr>
        <p:grpSpPr>
          <a:xfrm>
            <a:off x="2560680" y="1494000"/>
            <a:ext cx="3754440" cy="1322280"/>
            <a:chOff x="2560680" y="1494000"/>
            <a:chExt cx="3754440" cy="1322280"/>
          </a:xfrm>
        </p:grpSpPr>
        <p:pic>
          <p:nvPicPr>
            <p:cNvPr id="497" name="Oval 2" descr=""/>
            <p:cNvPicPr/>
            <p:nvPr/>
          </p:nvPicPr>
          <p:blipFill>
            <a:blip r:embed="rId1"/>
            <a:stretch/>
          </p:blipFill>
          <p:spPr>
            <a:xfrm>
              <a:off x="2560680" y="1494000"/>
              <a:ext cx="37544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3124080" y="1698480"/>
              <a:ext cx="262584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Глагол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Oval 3"/>
          <p:cNvSpPr/>
          <p:nvPr/>
        </p:nvSpPr>
        <p:spPr>
          <a:xfrm>
            <a:off x="179280" y="260280"/>
            <a:ext cx="2160720" cy="914400"/>
          </a:xfrm>
          <a:prstGeom prst="ellipse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0a22e"/>
                </a:solidFill>
                <a:latin typeface="Arial"/>
              </a:rPr>
              <a:t>Действ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Oval 4"/>
          <p:cNvGrpSpPr/>
          <p:nvPr/>
        </p:nvGrpSpPr>
        <p:grpSpPr>
          <a:xfrm>
            <a:off x="6742080" y="195120"/>
            <a:ext cx="2170080" cy="1000440"/>
            <a:chOff x="6742080" y="195120"/>
            <a:chExt cx="2170080" cy="1000440"/>
          </a:xfrm>
        </p:grpSpPr>
        <p:pic>
          <p:nvPicPr>
            <p:cNvPr id="501" name="Oval 4" descr=""/>
            <p:cNvPicPr/>
            <p:nvPr/>
          </p:nvPicPr>
          <p:blipFill>
            <a:blip r:embed="rId2"/>
            <a:stretch/>
          </p:blipFill>
          <p:spPr>
            <a:xfrm>
              <a:off x="6742080" y="195120"/>
              <a:ext cx="217008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7062840" y="345960"/>
              <a:ext cx="152856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0a22e"/>
                  </a:solidFill>
                  <a:latin typeface="Arial"/>
                </a:rPr>
                <a:t>Что делать?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0a22e"/>
                  </a:solidFill>
                  <a:latin typeface="Arial"/>
                </a:rPr>
                <a:t>Что сделать?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Oval 5"/>
          <p:cNvSpPr/>
          <p:nvPr/>
        </p:nvSpPr>
        <p:spPr>
          <a:xfrm>
            <a:off x="428760" y="3000240"/>
            <a:ext cx="2520720" cy="935280"/>
          </a:xfrm>
          <a:prstGeom prst="ellipse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0a22e"/>
                </a:solidFill>
                <a:latin typeface="Arial"/>
              </a:rPr>
              <a:t>Постоянны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0a22e"/>
                </a:solidFill>
                <a:latin typeface="Arial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Oval 6"/>
          <p:cNvGrpSpPr/>
          <p:nvPr/>
        </p:nvGrpSpPr>
        <p:grpSpPr>
          <a:xfrm>
            <a:off x="6480" y="4803840"/>
            <a:ext cx="1736640" cy="731880"/>
            <a:chOff x="6480" y="4803840"/>
            <a:chExt cx="1736640" cy="731880"/>
          </a:xfrm>
        </p:grpSpPr>
        <p:pic>
          <p:nvPicPr>
            <p:cNvPr id="505" name="Oval 6" descr=""/>
            <p:cNvPicPr/>
            <p:nvPr/>
          </p:nvPicPr>
          <p:blipFill>
            <a:blip r:embed="rId3"/>
            <a:stretch/>
          </p:blipFill>
          <p:spPr>
            <a:xfrm>
              <a:off x="6480" y="4803840"/>
              <a:ext cx="17366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263520" y="4915080"/>
              <a:ext cx="1224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0a22e"/>
                  </a:solidFill>
                  <a:latin typeface="Arial"/>
                </a:rPr>
                <a:t>Спряжени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0a22e"/>
                  </a:solidFill>
                  <a:latin typeface="Arial"/>
                </a:rPr>
                <a:t>I</a:t>
              </a:r>
              <a:r>
                <a:rPr b="0" lang="ru-RU" sz="1800" spc="-1" strike="noStrike">
                  <a:solidFill>
                    <a:srgbClr val="f0a22e"/>
                  </a:solidFill>
                  <a:latin typeface="Arial"/>
                </a:rPr>
                <a:t>, </a:t>
              </a:r>
              <a:r>
                <a:rPr b="0" lang="en-US" sz="1800" spc="-1" strike="noStrike">
                  <a:solidFill>
                    <a:srgbClr val="f0a22e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7" name="Oval 7"/>
          <p:cNvGrpSpPr/>
          <p:nvPr/>
        </p:nvGrpSpPr>
        <p:grpSpPr>
          <a:xfrm>
            <a:off x="5224320" y="2932200"/>
            <a:ext cx="3035520" cy="1017360"/>
            <a:chOff x="5224320" y="2932200"/>
            <a:chExt cx="3035520" cy="1017360"/>
          </a:xfrm>
        </p:grpSpPr>
        <p:pic>
          <p:nvPicPr>
            <p:cNvPr id="508" name="Oval 7" descr=""/>
            <p:cNvPicPr/>
            <p:nvPr/>
          </p:nvPicPr>
          <p:blipFill>
            <a:blip r:embed="rId4"/>
            <a:stretch/>
          </p:blipFill>
          <p:spPr>
            <a:xfrm>
              <a:off x="5224320" y="2932200"/>
              <a:ext cx="30355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672160" y="3086280"/>
              <a:ext cx="21384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0a22e"/>
                  </a:solidFill>
                  <a:latin typeface="Arial"/>
                </a:rPr>
                <a:t>Непостоянные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0a22e"/>
                  </a:solidFill>
                  <a:latin typeface="Arial"/>
                </a:rPr>
                <a:t>признак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" name="Oval 8"/>
          <p:cNvGrpSpPr/>
          <p:nvPr/>
        </p:nvGrpSpPr>
        <p:grpSpPr>
          <a:xfrm>
            <a:off x="3498840" y="4370400"/>
            <a:ext cx="1785960" cy="1079640"/>
            <a:chOff x="3498840" y="4370400"/>
            <a:chExt cx="1785960" cy="1079640"/>
          </a:xfrm>
        </p:grpSpPr>
        <p:pic>
          <p:nvPicPr>
            <p:cNvPr id="511" name="Oval 8" descr=""/>
            <p:cNvPicPr/>
            <p:nvPr/>
          </p:nvPicPr>
          <p:blipFill>
            <a:blip r:embed="rId5"/>
            <a:stretch/>
          </p:blipFill>
          <p:spPr>
            <a:xfrm>
              <a:off x="3498840" y="4370400"/>
              <a:ext cx="17859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3763800" y="4532400"/>
              <a:ext cx="12574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0a22e"/>
                  </a:solidFill>
                  <a:latin typeface="Arial"/>
                </a:rPr>
                <a:t>Настоящее</a:t>
              </a:r>
              <a:r>
                <a:rPr b="0" lang="ru-RU" sz="1400" spc="-1" strike="noStrike">
                  <a:solidFill>
                    <a:srgbClr val="f0a22e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0a22e"/>
                  </a:solidFill>
                  <a:latin typeface="Arial"/>
                </a:rPr>
                <a:t>время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3" name="Oval 9"/>
          <p:cNvSpPr/>
          <p:nvPr/>
        </p:nvSpPr>
        <p:spPr>
          <a:xfrm>
            <a:off x="7164360" y="5877000"/>
            <a:ext cx="1008000" cy="647640"/>
          </a:xfrm>
          <a:prstGeom prst="ellipse">
            <a:avLst/>
          </a:prstGeom>
          <a:gradFill rotWithShape="0">
            <a:gsLst>
              <a:gs pos="0">
                <a:srgbClr val="9a9a52"/>
              </a:gs>
              <a:gs pos="100000">
                <a:srgbClr val="ffff9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Р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" name="Oval 10"/>
          <p:cNvGrpSpPr/>
          <p:nvPr/>
        </p:nvGrpSpPr>
        <p:grpSpPr>
          <a:xfrm>
            <a:off x="5218200" y="6022800"/>
            <a:ext cx="1225440" cy="646200"/>
            <a:chOff x="5218200" y="6022800"/>
            <a:chExt cx="1225440" cy="646200"/>
          </a:xfrm>
        </p:grpSpPr>
        <p:pic>
          <p:nvPicPr>
            <p:cNvPr id="515" name="Oval 10" descr=""/>
            <p:cNvPicPr/>
            <p:nvPr/>
          </p:nvPicPr>
          <p:blipFill>
            <a:blip r:embed="rId6"/>
            <a:stretch/>
          </p:blipFill>
          <p:spPr>
            <a:xfrm>
              <a:off x="5218200" y="6022800"/>
              <a:ext cx="1225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5403960" y="6122880"/>
              <a:ext cx="8557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0a22e"/>
                  </a:solidFill>
                  <a:latin typeface="Arial"/>
                </a:rPr>
                <a:t>Число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7" name="AutoShape 11"/>
          <p:cNvSpPr/>
          <p:nvPr/>
        </p:nvSpPr>
        <p:spPr>
          <a:xfrm rot="3450000">
            <a:off x="6467760" y="884880"/>
            <a:ext cx="234720" cy="569880"/>
          </a:xfrm>
          <a:prstGeom prst="upArrow">
            <a:avLst>
              <a:gd name="adj1" fmla="val 50000"/>
              <a:gd name="adj2" fmla="val 74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AutoShape 12"/>
          <p:cNvSpPr/>
          <p:nvPr/>
        </p:nvSpPr>
        <p:spPr>
          <a:xfrm rot="17882400">
            <a:off x="2348640" y="833760"/>
            <a:ext cx="257040" cy="782640"/>
          </a:xfrm>
          <a:prstGeom prst="upArrow">
            <a:avLst>
              <a:gd name="adj1" fmla="val 50000"/>
              <a:gd name="adj2" fmla="val 539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AutoShape 13"/>
          <p:cNvSpPr/>
          <p:nvPr/>
        </p:nvSpPr>
        <p:spPr>
          <a:xfrm rot="8371200">
            <a:off x="6238440" y="2181960"/>
            <a:ext cx="201600" cy="806760"/>
          </a:xfrm>
          <a:prstGeom prst="upArrow">
            <a:avLst>
              <a:gd name="adj1" fmla="val 50000"/>
              <a:gd name="adj2" fmla="val 667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AutoShape 14"/>
          <p:cNvSpPr/>
          <p:nvPr/>
        </p:nvSpPr>
        <p:spPr>
          <a:xfrm rot="13896000">
            <a:off x="2293560" y="2141280"/>
            <a:ext cx="231840" cy="863280"/>
          </a:xfrm>
          <a:prstGeom prst="upArrow">
            <a:avLst>
              <a:gd name="adj1" fmla="val 50000"/>
              <a:gd name="adj2" fmla="val 498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AutoShape 15"/>
          <p:cNvSpPr/>
          <p:nvPr/>
        </p:nvSpPr>
        <p:spPr>
          <a:xfrm rot="11464200">
            <a:off x="971280" y="3933360"/>
            <a:ext cx="223920" cy="719280"/>
          </a:xfrm>
          <a:prstGeom prst="upArrow">
            <a:avLst>
              <a:gd name="adj1" fmla="val 50000"/>
              <a:gd name="adj2" fmla="val 41670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AutoShape 16"/>
          <p:cNvSpPr/>
          <p:nvPr/>
        </p:nvSpPr>
        <p:spPr>
          <a:xfrm rot="13896000">
            <a:off x="5034600" y="3326040"/>
            <a:ext cx="247680" cy="1173240"/>
          </a:xfrm>
          <a:prstGeom prst="upArrow">
            <a:avLst>
              <a:gd name="adj1" fmla="val 50000"/>
              <a:gd name="adj2" fmla="val 73312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AutoShape 17"/>
          <p:cNvSpPr/>
          <p:nvPr/>
        </p:nvSpPr>
        <p:spPr>
          <a:xfrm rot="11797200">
            <a:off x="6155640" y="3933360"/>
            <a:ext cx="198360" cy="738360"/>
          </a:xfrm>
          <a:prstGeom prst="upArrow">
            <a:avLst>
              <a:gd name="adj1" fmla="val 50000"/>
              <a:gd name="adj2" fmla="val 79220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AutoShape 18"/>
          <p:cNvSpPr/>
          <p:nvPr/>
        </p:nvSpPr>
        <p:spPr>
          <a:xfrm rot="8385000">
            <a:off x="7956360" y="3789000"/>
            <a:ext cx="169560" cy="839880"/>
          </a:xfrm>
          <a:prstGeom prst="upArrow">
            <a:avLst>
              <a:gd name="adj1" fmla="val 50000"/>
              <a:gd name="adj2" fmla="val 37425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Oval 5"/>
          <p:cNvSpPr/>
          <p:nvPr/>
        </p:nvSpPr>
        <p:spPr>
          <a:xfrm>
            <a:off x="1835280" y="4724280"/>
            <a:ext cx="1728720" cy="865440"/>
          </a:xfrm>
          <a:prstGeom prst="ellipse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0a22e"/>
                </a:solidFill>
                <a:latin typeface="Tahoma"/>
              </a:rPr>
              <a:t>Ви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AutoShape 15"/>
          <p:cNvSpPr/>
          <p:nvPr/>
        </p:nvSpPr>
        <p:spPr>
          <a:xfrm rot="11464200">
            <a:off x="2194920" y="3933360"/>
            <a:ext cx="223560" cy="719280"/>
          </a:xfrm>
          <a:prstGeom prst="upArrow">
            <a:avLst>
              <a:gd name="adj1" fmla="val 50000"/>
              <a:gd name="adj2" fmla="val 41737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Oval 3"/>
          <p:cNvSpPr/>
          <p:nvPr/>
        </p:nvSpPr>
        <p:spPr>
          <a:xfrm>
            <a:off x="3132000" y="189000"/>
            <a:ext cx="2160720" cy="985680"/>
          </a:xfrm>
          <a:prstGeom prst="ellipse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0a22e"/>
                </a:solidFill>
                <a:latin typeface="Arial"/>
              </a:rPr>
              <a:t>Сказуем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AutoShape 11"/>
          <p:cNvSpPr/>
          <p:nvPr/>
        </p:nvSpPr>
        <p:spPr>
          <a:xfrm rot="3450000">
            <a:off x="6467760" y="884880"/>
            <a:ext cx="234720" cy="569880"/>
          </a:xfrm>
          <a:prstGeom prst="upArrow">
            <a:avLst>
              <a:gd name="adj1" fmla="val 50000"/>
              <a:gd name="adj2" fmla="val 74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AutoShape 11"/>
          <p:cNvSpPr/>
          <p:nvPr/>
        </p:nvSpPr>
        <p:spPr>
          <a:xfrm rot="3450000">
            <a:off x="4162680" y="1029600"/>
            <a:ext cx="235080" cy="569880"/>
          </a:xfrm>
          <a:prstGeom prst="upArrow">
            <a:avLst>
              <a:gd name="adj1" fmla="val 50000"/>
              <a:gd name="adj2" fmla="val 748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Oval 9"/>
          <p:cNvSpPr/>
          <p:nvPr/>
        </p:nvSpPr>
        <p:spPr>
          <a:xfrm>
            <a:off x="7380360" y="4581360"/>
            <a:ext cx="1763640" cy="933480"/>
          </a:xfrm>
          <a:prstGeom prst="ellipse">
            <a:avLst/>
          </a:prstGeom>
          <a:gradFill rotWithShape="0">
            <a:gsLst>
              <a:gs pos="0">
                <a:srgbClr val="9a9a52"/>
              </a:gs>
              <a:gs pos="100000">
                <a:srgbClr val="ffff9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Прошедше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врем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Oval 9"/>
          <p:cNvSpPr/>
          <p:nvPr/>
        </p:nvSpPr>
        <p:spPr>
          <a:xfrm>
            <a:off x="3419640" y="5950080"/>
            <a:ext cx="1152360" cy="720720"/>
          </a:xfrm>
          <a:prstGeom prst="ellipse">
            <a:avLst/>
          </a:prstGeom>
          <a:gradFill rotWithShape="0">
            <a:gsLst>
              <a:gs pos="0">
                <a:srgbClr val="9a9a52"/>
              </a:gs>
              <a:gs pos="100000">
                <a:srgbClr val="ffff9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Лиц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Oval 9"/>
          <p:cNvSpPr/>
          <p:nvPr/>
        </p:nvSpPr>
        <p:spPr>
          <a:xfrm>
            <a:off x="5364000" y="4581360"/>
            <a:ext cx="1944720" cy="1008360"/>
          </a:xfrm>
          <a:prstGeom prst="ellipse">
            <a:avLst/>
          </a:prstGeom>
          <a:gradFill rotWithShape="0">
            <a:gsLst>
              <a:gs pos="0">
                <a:srgbClr val="9a9a52"/>
              </a:gs>
              <a:gs pos="100000">
                <a:srgbClr val="ffff9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Будуще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врем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utoShape 17"/>
          <p:cNvSpPr/>
          <p:nvPr/>
        </p:nvSpPr>
        <p:spPr>
          <a:xfrm rot="11797200">
            <a:off x="3850560" y="5229360"/>
            <a:ext cx="198360" cy="738000"/>
          </a:xfrm>
          <a:prstGeom prst="upArrow">
            <a:avLst>
              <a:gd name="adj1" fmla="val 50000"/>
              <a:gd name="adj2" fmla="val 79181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Oval 9"/>
          <p:cNvSpPr/>
          <p:nvPr/>
        </p:nvSpPr>
        <p:spPr>
          <a:xfrm>
            <a:off x="8280360" y="5877000"/>
            <a:ext cx="863640" cy="647640"/>
          </a:xfrm>
          <a:prstGeom prst="ellipse">
            <a:avLst/>
          </a:prstGeom>
          <a:gradFill rotWithShape="0">
            <a:gsLst>
              <a:gs pos="0">
                <a:srgbClr val="9a9a52"/>
              </a:gs>
              <a:gs pos="100000">
                <a:srgbClr val="ffff9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Числ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AutoShape 17"/>
          <p:cNvSpPr/>
          <p:nvPr/>
        </p:nvSpPr>
        <p:spPr>
          <a:xfrm rot="11797200">
            <a:off x="6442920" y="5516640"/>
            <a:ext cx="198360" cy="738000"/>
          </a:xfrm>
          <a:prstGeom prst="upArrow">
            <a:avLst>
              <a:gd name="adj1" fmla="val 50000"/>
              <a:gd name="adj2" fmla="val 79181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AutoShape 17"/>
          <p:cNvSpPr/>
          <p:nvPr/>
        </p:nvSpPr>
        <p:spPr>
          <a:xfrm rot="11797200">
            <a:off x="7666920" y="5373720"/>
            <a:ext cx="198360" cy="738000"/>
          </a:xfrm>
          <a:prstGeom prst="upArrow">
            <a:avLst>
              <a:gd name="adj1" fmla="val 50000"/>
              <a:gd name="adj2" fmla="val 79181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AutoShape 17"/>
          <p:cNvSpPr/>
          <p:nvPr/>
        </p:nvSpPr>
        <p:spPr>
          <a:xfrm rot="11797200">
            <a:off x="8459280" y="5229360"/>
            <a:ext cx="216000" cy="720720"/>
          </a:xfrm>
          <a:prstGeom prst="upArrow">
            <a:avLst>
              <a:gd name="adj1" fmla="val 50000"/>
              <a:gd name="adj2" fmla="val 71012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AutoShape 16"/>
          <p:cNvSpPr/>
          <p:nvPr/>
        </p:nvSpPr>
        <p:spPr>
          <a:xfrm rot="13896000">
            <a:off x="5034600" y="5198040"/>
            <a:ext cx="247680" cy="1461960"/>
          </a:xfrm>
          <a:prstGeom prst="upArrow">
            <a:avLst>
              <a:gd name="adj1" fmla="val 50000"/>
              <a:gd name="adj2" fmla="val 91354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AutoShape 18"/>
          <p:cNvSpPr/>
          <p:nvPr/>
        </p:nvSpPr>
        <p:spPr>
          <a:xfrm rot="8385000">
            <a:off x="4936680" y="5271480"/>
            <a:ext cx="169920" cy="1081080"/>
          </a:xfrm>
          <a:prstGeom prst="upArrow">
            <a:avLst>
              <a:gd name="adj1" fmla="val 50000"/>
              <a:gd name="adj2" fmla="val 48071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Рисунок 2" descr="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AutoShape 2"/>
          <p:cNvSpPr/>
          <p:nvPr/>
        </p:nvSpPr>
        <p:spPr>
          <a:xfrm>
            <a:off x="685800" y="228600"/>
            <a:ext cx="7924680" cy="5335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42f"/>
                </a:solidFill>
                <a:latin typeface="Arial"/>
              </a:rPr>
              <a:t>Разноуровневые  зад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Box 3"/>
          <p:cNvSpPr/>
          <p:nvPr/>
        </p:nvSpPr>
        <p:spPr>
          <a:xfrm>
            <a:off x="1981080" y="914400"/>
            <a:ext cx="63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йте текст упражнения 517. Вставьте  устно глагол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3" name="Picture 8" descr=""/>
          <p:cNvPicPr/>
          <p:nvPr/>
        </p:nvPicPr>
        <p:blipFill>
          <a:blip r:embed="rId1"/>
          <a:stretch/>
        </p:blipFill>
        <p:spPr>
          <a:xfrm>
            <a:off x="0" y="914400"/>
            <a:ext cx="2057400" cy="4267080"/>
          </a:xfrm>
          <a:prstGeom prst="rect">
            <a:avLst/>
          </a:prstGeom>
          <a:ln w="0">
            <a:noFill/>
          </a:ln>
        </p:spPr>
      </p:pic>
      <p:sp>
        <p:nvSpPr>
          <p:cNvPr id="544" name="TextBox 8"/>
          <p:cNvSpPr/>
          <p:nvPr/>
        </p:nvSpPr>
        <p:spPr>
          <a:xfrm>
            <a:off x="380880" y="548640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о их общее значение? Как бы вы назвали эту группу глагол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82280" cy="15429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На то и печь, чтобы в ней хлеб печ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.Снежное покрывало все поле покрывало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.Стоя на нашем берегу, покой границы берег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7" name="Picture 16" descr=""/>
          <p:cNvPicPr/>
          <p:nvPr/>
        </p:nvPicPr>
        <p:blipFill>
          <a:blip r:embed="rId2"/>
          <a:stretch/>
        </p:blipFill>
        <p:spPr>
          <a:xfrm>
            <a:off x="6610320" y="3933720"/>
            <a:ext cx="2533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42f"/>
                </a:solidFill>
                <a:latin typeface="Comic Sans MS"/>
              </a:rPr>
              <a:t>РЕФЛЕКСИЯ</a:t>
            </a:r>
            <a:br>
              <a:rPr sz="3600"/>
            </a:b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0" name="Рисунок 1" descr=""/>
          <p:cNvPicPr/>
          <p:nvPr/>
        </p:nvPicPr>
        <p:blipFill>
          <a:blip r:embed="rId1"/>
          <a:stretch/>
        </p:blipFill>
        <p:spPr>
          <a:xfrm>
            <a:off x="339840" y="620640"/>
            <a:ext cx="847872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3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-360" y="1977840"/>
            <a:ext cx="3814920" cy="464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743120" y="-360"/>
            <a:ext cx="7400880" cy="26172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1280" indent="0">
              <a:lnSpc>
                <a:spcPct val="100000"/>
              </a:lnSpc>
              <a:spcBef>
                <a:spcPts val="1638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6500" spc="-1" strike="noStrike">
                <a:solidFill>
                  <a:srgbClr val="00ff00"/>
                </a:solidFill>
                <a:latin typeface="Times New Roman"/>
                <a:ea typeface="MS Gothic"/>
              </a:rPr>
              <a:t>     </a:t>
            </a:r>
            <a:r>
              <a:rPr b="0" lang="ru-RU" sz="6500" spc="-1" strike="noStrike">
                <a:solidFill>
                  <a:srgbClr val="00ff00"/>
                </a:solidFill>
                <a:latin typeface="Times New Roman"/>
                <a:ea typeface="MS Gothic"/>
              </a:rPr>
              <a:t>Спасибо!</a:t>
            </a:r>
            <a:endParaRPr b="0" lang="en-US" sz="65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0">
              <a:lnSpc>
                <a:spcPct val="100000"/>
              </a:lnSpc>
              <a:spcBef>
                <a:spcPts val="1638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6500" spc="-1" strike="noStrike">
                <a:solidFill>
                  <a:srgbClr val="00ff00"/>
                </a:solidFill>
                <a:latin typeface="Times New Roman"/>
                <a:ea typeface="MS Gothic"/>
              </a:rPr>
              <a:t>  </a:t>
            </a:r>
            <a:r>
              <a:rPr b="0" lang="ru-RU" sz="6500" spc="-1" strike="noStrike">
                <a:solidFill>
                  <a:srgbClr val="00ff00"/>
                </a:solidFill>
                <a:latin typeface="Times New Roman"/>
                <a:ea typeface="MS Gothic"/>
              </a:rPr>
              <a:t>Уд</a:t>
            </a:r>
            <a:r>
              <a:rPr b="0" lang="ru-RU" sz="6500" spc="-1" strike="noStrike">
                <a:solidFill>
                  <a:srgbClr val="ccff66"/>
                </a:solidFill>
                <a:latin typeface="Times New Roman"/>
                <a:ea typeface="MS Gothic"/>
              </a:rPr>
              <a:t>ач</a:t>
            </a:r>
            <a:r>
              <a:rPr b="0" lang="ru-RU" sz="6500" spc="-1" strike="noStrike">
                <a:solidFill>
                  <a:srgbClr val="ffff66"/>
                </a:solidFill>
                <a:latin typeface="Times New Roman"/>
                <a:ea typeface="MS Gothic"/>
              </a:rPr>
              <a:t>и </a:t>
            </a:r>
            <a:r>
              <a:rPr b="0" lang="ru-RU" sz="6500" spc="-1" strike="noStrike">
                <a:solidFill>
                  <a:srgbClr val="ffff00"/>
                </a:solidFill>
                <a:latin typeface="Times New Roman"/>
                <a:ea typeface="MS Gothic"/>
              </a:rPr>
              <a:t>в</a:t>
            </a:r>
            <a:r>
              <a:rPr b="0" lang="ru-RU" sz="6500" spc="-1" strike="noStrike">
                <a:solidFill>
                  <a:srgbClr val="ffcc00"/>
                </a:solidFill>
                <a:latin typeface="Times New Roman"/>
                <a:ea typeface="MS Gothic"/>
              </a:rPr>
              <a:t>се</a:t>
            </a:r>
            <a:r>
              <a:rPr b="0" lang="ru-RU" sz="6500" spc="-1" strike="noStrike">
                <a:solidFill>
                  <a:srgbClr val="ff9900"/>
                </a:solidFill>
                <a:latin typeface="Times New Roman"/>
                <a:ea typeface="MS Gothic"/>
              </a:rPr>
              <a:t>м</a:t>
            </a:r>
            <a:r>
              <a:rPr b="0" lang="ru-RU" sz="6500" spc="-1" strike="noStrike">
                <a:solidFill>
                  <a:srgbClr val="ff9933"/>
                </a:solidFill>
                <a:latin typeface="Times New Roman"/>
                <a:ea typeface="MS Gothic"/>
              </a:rPr>
              <a:t>!</a:t>
            </a:r>
            <a:endParaRPr b="0" lang="en-US" sz="65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0">
              <a:lnSpc>
                <a:spcPct val="100000"/>
              </a:lnSpc>
              <a:spcBef>
                <a:spcPts val="1638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900" spc="-1" strike="noStrike">
                <a:solidFill>
                  <a:srgbClr val="ff9933"/>
                </a:solidFill>
                <a:latin typeface="Times New Roman"/>
                <a:ea typeface="MS Gothic"/>
              </a:rPr>
              <a:t>.</a:t>
            </a: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652840" cy="3819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609480" y="1752480"/>
            <a:ext cx="4038840" cy="453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8" name="Picture 7" descr=""/>
          <p:cNvPicPr/>
          <p:nvPr/>
        </p:nvPicPr>
        <p:blipFill>
          <a:blip r:embed="rId2"/>
          <a:stretch/>
        </p:blipFill>
        <p:spPr>
          <a:xfrm>
            <a:off x="6659640" y="1989000"/>
            <a:ext cx="2235240" cy="391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c4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рошла ненастная осень. Солнце греет все меньше. Наступила зима. Ударил сильный мороз. В воздухе чувствуется свежесть. Снег покрыл окрестности деревни. Счастливые мальчишки и девчонки бегут на каток. Лопатами чистят они снег, метлой подметают лед. Каток готов. Хорошо будет кататься по скользкому льду на коньках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262080" y="274680"/>
            <a:ext cx="8424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3" name="Объект 5" descr=""/>
          <p:cNvPicPr/>
          <p:nvPr/>
        </p:nvPicPr>
        <p:blipFill>
          <a:blip r:embed="rId1"/>
          <a:stretch/>
        </p:blipFill>
        <p:spPr>
          <a:xfrm>
            <a:off x="468360" y="-1046160"/>
            <a:ext cx="8064360" cy="7788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262080" y="274680"/>
            <a:ext cx="8424720" cy="115236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Глагол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шл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ступил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дари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увствуетс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284720" y="1557360"/>
            <a:ext cx="44020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Существительные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Осень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Зима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Мороз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вежесть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WordArt 4"/>
          <p:cNvSpPr txBox="1"/>
          <p:nvPr/>
        </p:nvSpPr>
        <p:spPr>
          <a:xfrm>
            <a:off x="395280" y="620640"/>
            <a:ext cx="82296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лагол как часть ре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70" name="Picture 5" descr="7"/>
          <p:cNvPicPr/>
          <p:nvPr/>
        </p:nvPicPr>
        <p:blipFill>
          <a:blip r:embed="rId1"/>
          <a:stretch/>
        </p:blipFill>
        <p:spPr>
          <a:xfrm>
            <a:off x="228600" y="3657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5"/>
          <p:cNvSpPr/>
          <p:nvPr/>
        </p:nvSpPr>
        <p:spPr>
          <a:xfrm>
            <a:off x="914400" y="228600"/>
            <a:ext cx="754380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Arial"/>
              </a:rPr>
              <a:t>Определяем проблему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Box 2"/>
          <p:cNvSpPr/>
          <p:nvPr/>
        </p:nvSpPr>
        <p:spPr>
          <a:xfrm>
            <a:off x="545040" y="1523880"/>
            <a:ext cx="67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йте слова. Что их объединяе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2845440" y="2492280"/>
            <a:ext cx="127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иш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тро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вар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шь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TextBox 4"/>
          <p:cNvSpPr/>
          <p:nvPr/>
        </p:nvSpPr>
        <p:spPr>
          <a:xfrm>
            <a:off x="4876920" y="2514600"/>
            <a:ext cx="196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звене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шурша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греме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шелесте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543600" y="4508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зывают слова в 1-м столбике? А во 2-м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639720" y="533412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улируйте основной вопрос уро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utoShape 14">
            <a:hlinkClick r:id="" action="ppaction://hlinkshowjump?jump=nextslide"/>
          </p:cNvPr>
          <p:cNvSpPr/>
          <p:nvPr/>
        </p:nvSpPr>
        <p:spPr>
          <a:xfrm>
            <a:off x="7467480" y="60199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3794"/>
                </a:moveTo>
                <a:lnTo>
                  <a:pt x="35082" y="10800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533520" y="152280"/>
            <a:ext cx="8381880" cy="10670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42f"/>
                </a:solidFill>
                <a:latin typeface="Arial"/>
              </a:rPr>
              <a:t>Какое знач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42f"/>
                </a:solidFill>
                <a:latin typeface="Arial"/>
              </a:rPr>
              <a:t>могут иметь глагол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AutoShape 12"/>
          <p:cNvSpPr/>
          <p:nvPr/>
        </p:nvSpPr>
        <p:spPr>
          <a:xfrm>
            <a:off x="685800" y="1981080"/>
            <a:ext cx="3429000" cy="5335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AutoShape 13"/>
          <p:cNvSpPr/>
          <p:nvPr/>
        </p:nvSpPr>
        <p:spPr>
          <a:xfrm>
            <a:off x="4419720" y="2057400"/>
            <a:ext cx="3352680" cy="5335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ч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1" name="Picture 15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6" descr=""/>
          <p:cNvPicPr/>
          <p:nvPr/>
        </p:nvPicPr>
        <p:blipFill>
          <a:blip r:embed="rId2"/>
          <a:stretch/>
        </p:blipFill>
        <p:spPr>
          <a:xfrm>
            <a:off x="6877080" y="2637000"/>
            <a:ext cx="1838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1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644e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ffc42f"/>
                </a:solidFill>
                <a:latin typeface="Arial"/>
              </a:rPr>
              <a:t>Роль глаголов в реч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765000" y="1600200"/>
            <a:ext cx="150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рыга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бега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лы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ид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Box 3"/>
          <p:cNvSpPr/>
          <p:nvPr/>
        </p:nvSpPr>
        <p:spPr>
          <a:xfrm>
            <a:off x="3058560" y="1600200"/>
            <a:ext cx="243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говори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рассказыва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роизноси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твети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Блок-схема: альтернативный процесс 5"/>
          <p:cNvSpPr/>
          <p:nvPr/>
        </p:nvSpPr>
        <p:spPr>
          <a:xfrm>
            <a:off x="6477120" y="4191120"/>
            <a:ext cx="2133360" cy="457200"/>
          </a:xfrm>
          <a:prstGeom prst="flowChartAlternateProcess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Выноска-облако 7"/>
          <p:cNvSpPr/>
          <p:nvPr/>
        </p:nvSpPr>
        <p:spPr>
          <a:xfrm>
            <a:off x="324000" y="4005360"/>
            <a:ext cx="2590560" cy="1447560"/>
          </a:xfrm>
          <a:prstGeom prst="cloudCallout">
            <a:avLst>
              <a:gd name="adj1" fmla="val -22226"/>
              <a:gd name="adj2" fmla="val -95319"/>
            </a:avLst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Глаг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движ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Выноска-облако 8"/>
          <p:cNvSpPr/>
          <p:nvPr/>
        </p:nvSpPr>
        <p:spPr>
          <a:xfrm>
            <a:off x="3348000" y="4221000"/>
            <a:ext cx="2209680" cy="1295640"/>
          </a:xfrm>
          <a:prstGeom prst="cloudCallout">
            <a:avLst>
              <a:gd name="adj1" fmla="val -43347"/>
              <a:gd name="adj2" fmla="val -149634"/>
            </a:avLst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Глаг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ре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Picture 18" descr="http://30harab-koch.edusite.ru/images/67560126fc5f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5029200"/>
            <a:ext cx="1017720" cy="16002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"/>
          <p:cNvPicPr/>
          <p:nvPr/>
        </p:nvPicPr>
        <p:blipFill>
          <a:blip r:embed="rId3"/>
          <a:stretch/>
        </p:blipFill>
        <p:spPr>
          <a:xfrm>
            <a:off x="755640" y="5589720"/>
            <a:ext cx="1905120" cy="1123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0" descr=""/>
          <p:cNvPicPr/>
          <p:nvPr/>
        </p:nvPicPr>
        <p:blipFill>
          <a:blip r:embed="rId4"/>
          <a:stretch/>
        </p:blipFill>
        <p:spPr>
          <a:xfrm>
            <a:off x="5219640" y="5084640"/>
            <a:ext cx="2019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готовит     осматривает                насаживае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арит        выслушивает               закидывае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жарит       расспрашивает            лови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лит        выписывает                 вытаскивае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обует    лечи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3:38:38Z</dcterms:created>
  <dc:creator>МАЛЫШ</dc:creator>
  <dc:description/>
  <dc:language>en-US</dc:language>
  <cp:lastModifiedBy>ученик</cp:lastModifiedBy>
  <dcterms:modified xsi:type="dcterms:W3CDTF">2023-05-14T10:41:13Z</dcterms:modified>
  <cp:revision>30</cp:revision>
  <dc:subject/>
  <dc:title>Слайд 1</dc:title>
</cp:coreProperties>
</file>