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0.png" ContentType="image/png"/>
  <Override PartName="/ppt/media/image36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420-84CF-4499-8B94-A7C86B6C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8AE-657D-4CBA-9885-B8D10D3F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A8E-EF93-487F-B128-AC55FC03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4A6-F3FD-4B73-A337-08B700C6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93CC-D32C-49BC-AE92-B6F3BA75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22ED-09D5-4A9A-B9D2-CA373A93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108A-82C5-436A-9D56-268B7E9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876D-0925-4674-BDAC-F684C857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DBFE-324B-4047-9F07-0D1B9A94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14DC-4562-47BA-8654-0F958C26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FEB0-FE6E-4DBB-A978-704332CE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DE9-5A0A-4AB7-8CC5-EC8FFC85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7E00-61AB-4FC0-8B38-18FBB07A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730D-1F4C-4FD3-92FA-6C771F60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E491-7B3C-4C31-A36B-1249AF7C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E593-1973-4B1A-AB29-ED7D9AAE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9F66-454B-4D21-B720-29903367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A778-2B07-498C-9A93-7510F42E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2265-375A-4EF0-B83D-40A35D21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DFA1-606F-434B-8843-4FC9953A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B456-7E61-4808-88B3-876DB1A8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ABD4-71B7-4B6E-B829-C1D94C9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284-4D1E-4E11-95D1-8A50E9F6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C438-B25F-45C0-9F99-C59E04B7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BE0F-42F6-4327-B592-4E41A176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3DE9-ACDC-44CF-B793-8D03290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750B-83FC-4059-A4DD-5533AB4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A4A7-F2B8-4B49-B102-6D3386A1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75F0-A5E8-4987-A1A2-1183C696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1E7E-6878-49DF-A8DE-669B9ACE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8437-22BD-473A-ABAA-1EAF7C7A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BBFFE-800C-47DA-95A5-B9CB9D7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FCD02-340E-4A65-8EBA-1668F2C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647-825A-4F9E-A7B4-B4F2DA26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33CB-6B05-4A0D-B45B-A91FF3CD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EEC4-3C2E-4ABD-A37A-DE7B8E3C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CF7F3-2B7D-4E93-BB8F-76B2FD49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AB4F-6904-4DE1-83A1-AD0E02F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529A-5209-4675-8F4C-6C8421F1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E676-A9A5-4410-87EC-B85BF0F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318E-D1D7-4211-A47F-51BFED2F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42111-2099-4867-AA09-D38A511E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08DA8-A371-47BF-A785-09B23781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F3F-93FF-42CD-87BE-A2E676C7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923-455E-441B-84EC-BE4BF1DC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A91-0F4A-4CCC-9FA3-3FC3006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759-5F2B-445C-8C95-AC3DB9A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51D-B321-49E3-A8FE-EB688B6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7985-CD3D-47F8-94CA-D0B6546B04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D295-39D9-4274-B189-C3E468349EE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636E-E4C3-447F-83C2-32544C90AD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E06-CED0-4DC3-AAB9-0321D32F5AB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66640" y="1816200"/>
            <a:ext cx="78645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2"/>
          <p:cNvSpPr/>
          <p:nvPr/>
        </p:nvSpPr>
        <p:spPr>
          <a:xfrm>
            <a:off x="785880" y="11430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кольная форма была отменена в 1992 году, и ученики сменили свои коричневые платья и синие костюмы на повседневную одеж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i60.photobucket.com/albums/h21/zontic/class_2A_web.jpg"/>
          <p:cNvPicPr/>
          <p:nvPr/>
        </p:nvPicPr>
        <p:blipFill>
          <a:blip r:embed="rId1"/>
          <a:stretch/>
        </p:blipFill>
        <p:spPr>
          <a:xfrm>
            <a:off x="1785960" y="2000160"/>
            <a:ext cx="5191200" cy="41594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2071800" y="64296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Отмена школьн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-12600" y="1596960"/>
            <a:ext cx="93027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8760" y="535788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еликобритании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кольная форма максимально консервативна и приближена к классическому стилю одежды. У каждой престижной школы есть свой логотип, поэтому ученики обязаны приходить на занятия с «фирменным» галстуком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833560" y="64296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Школьная форма в Великобритании"/>
          <p:cNvPicPr/>
          <p:nvPr/>
        </p:nvPicPr>
        <p:blipFill>
          <a:blip r:embed="rId1"/>
          <a:stretch/>
        </p:blipFill>
        <p:spPr>
          <a:xfrm>
            <a:off x="1643040" y="1214280"/>
            <a:ext cx="60008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714240" y="857160"/>
            <a:ext cx="687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орма в престижных школах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3286080" cy="4941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143680" y="1500120"/>
            <a:ext cx="30002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4572000" y="1652760"/>
            <a:ext cx="3660840" cy="48718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571680" y="2571840"/>
            <a:ext cx="321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Германии нет единой школьной формы, хотя ведутся дебаты о её введении. В некоторых школах введена единая школьная одежда, не являющаяся формой так как ученики могут участвовать в её разработ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857160" y="500040"/>
            <a:ext cx="6870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Школьники  из  Европы –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трог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4"/>
          <p:cNvSpPr/>
          <p:nvPr/>
        </p:nvSpPr>
        <p:spPr>
          <a:xfrm>
            <a:off x="3695040" y="50004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И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5" descr="http://st-fashiony.ru/pic/clothing/pic/24526/29.jpg"/>
          <p:cNvPicPr/>
          <p:nvPr/>
        </p:nvPicPr>
        <p:blipFill>
          <a:blip r:embed="rId1"/>
          <a:srcRect l="0" t="0" r="0" b="7862"/>
          <a:stretch/>
        </p:blipFill>
        <p:spPr>
          <a:xfrm>
            <a:off x="0" y="2357280"/>
            <a:ext cx="3357720" cy="2143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1076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Индии школьная форма обязательна и состои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 светлой рубашки и темных или синих брюк- для мальчиков. А у девоче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рубашка и юбка, в некоторых школах это может быть ещё сари , единого цвета и кроя . В дополн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алст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8" descr="http://st-fashiony.ru/pic/clothing/pic/24526/57.jpg"/>
          <p:cNvPicPr/>
          <p:nvPr/>
        </p:nvPicPr>
        <p:blipFill>
          <a:blip r:embed="rId2"/>
          <a:srcRect l="0" t="0" r="0" b="9465"/>
          <a:stretch/>
        </p:blipFill>
        <p:spPr>
          <a:xfrm>
            <a:off x="5072040" y="2286000"/>
            <a:ext cx="3452760" cy="21574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http://st-fashiony.ru/pic/clothing/pic/24526/30.jpg"/>
          <p:cNvPicPr/>
          <p:nvPr/>
        </p:nvPicPr>
        <p:blipFill>
          <a:blip r:embed="rId3"/>
          <a:srcRect l="0" t="0" r="0" b="7502"/>
          <a:stretch/>
        </p:blipFill>
        <p:spPr>
          <a:xfrm>
            <a:off x="2500200" y="4214880"/>
            <a:ext cx="3571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Школьная форма в Малайзии"/>
          <p:cNvPicPr/>
          <p:nvPr/>
        </p:nvPicPr>
        <p:blipFill>
          <a:blip r:embed="rId1"/>
          <a:stretch/>
        </p:blipFill>
        <p:spPr>
          <a:xfrm>
            <a:off x="1214280" y="1357200"/>
            <a:ext cx="6988320" cy="51436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1403280" y="785880"/>
            <a:ext cx="66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Малай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1740960" y="714240"/>
            <a:ext cx="60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Гамб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Школьная форма в Гамбии"/>
          <p:cNvPicPr/>
          <p:nvPr/>
        </p:nvPicPr>
        <p:blipFill>
          <a:blip r:embed="rId1"/>
          <a:srcRect l="0" t="11367" r="0" b="0"/>
          <a:stretch/>
        </p:blipFill>
        <p:spPr>
          <a:xfrm>
            <a:off x="2571840" y="1285920"/>
            <a:ext cx="39528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http://st-fashiony.ru/pic/clothing/pic/24526/28.jpg"/>
          <p:cNvPicPr/>
          <p:nvPr/>
        </p:nvPicPr>
        <p:blipFill>
          <a:blip r:embed="rId1"/>
          <a:srcRect l="0" t="0" r="0" b="9308"/>
          <a:stretch/>
        </p:blipFill>
        <p:spPr>
          <a:xfrm>
            <a:off x="2857680" y="1857240"/>
            <a:ext cx="3714480" cy="49644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1782720" y="64296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на Ку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285840" y="135720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Кубе школьная форма обязательна , и не только для школьников, но и для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285840" y="13615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урции почти все школьник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о всех государственных и частных образовательных учреждениях носят форму. На разных возрастных ступеня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различают цвета в форме. Летом ношение формы может быть отмен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760760" y="714240"/>
            <a:ext cx="60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Тур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3" descr="http://st-fashiony.ru/pic/clothing/pic/24526/35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571680" y="2571840"/>
            <a:ext cx="3714480" cy="41367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http://st-fashiony.ru/pic/clothing/pic/24526/31.jpg"/>
          <p:cNvPicPr/>
          <p:nvPr/>
        </p:nvPicPr>
        <p:blipFill>
          <a:blip r:embed="rId2"/>
          <a:srcRect l="0" t="0" r="0" b="6246"/>
          <a:stretch/>
        </p:blipFill>
        <p:spPr>
          <a:xfrm>
            <a:off x="4643280" y="2571840"/>
            <a:ext cx="3702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Гимназист"/>
          <p:cNvPicPr/>
          <p:nvPr/>
        </p:nvPicPr>
        <p:blipFill>
          <a:blip r:embed="rId1"/>
          <a:stretch/>
        </p:blipFill>
        <p:spPr>
          <a:xfrm>
            <a:off x="5643720" y="1000080"/>
            <a:ext cx="2771640" cy="51436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6361920" y="621504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мназ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571680" y="342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 всех учебных заведениях форма была военного фасона: неизменно фуражки, гимнастерки и шинели, которые отличались только цветом, кантами, пуговицами и эмблем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642960" y="14288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далеком 1834 году был принят закон, утвердивший общую систему всех гражданских мундиров в империи. В эту систему вошли гимназический и студенческий мунди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435680" y="57168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1834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0" y="1660680"/>
            <a:ext cx="3786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Японии школьная форма обязательна. Впервые форм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ли носить студенты Токийского императорского университета в 1885 году, и с тех пор уже более ста лет она не сильно изменилась. В каждой школе она своя, но обычно примерно одинаковая - это белая рубашка и темные пиджак и брюки для мальчиков называется такой костю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акура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; и белая рубашка и темные пиджак и юбка для девочек, или ж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"сейлор фуку"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тросский костю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795320" y="714240"/>
            <a:ext cx="61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Яп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http://kovaleva-yulya.narod.ru/uniform_image001.jpg"/>
          <p:cNvPicPr/>
          <p:nvPr/>
        </p:nvPicPr>
        <p:blipFill>
          <a:blip r:embed="rId1"/>
          <a:stretch/>
        </p:blipFill>
        <p:spPr>
          <a:xfrm>
            <a:off x="4143240" y="1428840"/>
            <a:ext cx="4162680" cy="28670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http://st-fashiony.ru/pic/clothing/pic/24526/33.jpg"/>
          <p:cNvPicPr/>
          <p:nvPr/>
        </p:nvPicPr>
        <p:blipFill>
          <a:blip r:embed="rId2"/>
          <a:srcRect l="0" t="0" r="0" b="12128"/>
          <a:stretch/>
        </p:blipFill>
        <p:spPr>
          <a:xfrm>
            <a:off x="3929040" y="4071960"/>
            <a:ext cx="47624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2" descr="http://st-fashiony.ru/pic/clothing/pic/24526/49.jpg"/>
          <p:cNvPicPr/>
          <p:nvPr/>
        </p:nvPicPr>
        <p:blipFill>
          <a:blip r:embed="rId1"/>
          <a:srcRect l="0" t="12504" r="0" b="5002"/>
          <a:stretch/>
        </p:blipFill>
        <p:spPr>
          <a:xfrm>
            <a:off x="2643120" y="1285920"/>
            <a:ext cx="4229280" cy="52862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1774080" y="71424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Бу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http://st-fashiony.ru/pic/clothing/pic/24526/47.jpg"/>
          <p:cNvPicPr/>
          <p:nvPr/>
        </p:nvPicPr>
        <p:blipFill>
          <a:blip r:embed="rId1"/>
          <a:srcRect l="0" t="0" r="0" b="9585"/>
          <a:stretch/>
        </p:blipFill>
        <p:spPr>
          <a:xfrm>
            <a:off x="928800" y="1428840"/>
            <a:ext cx="7742160" cy="50720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838080" y="7873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Северокорейские мальчики шк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http://st-fashiony.ru/pic/clothing/pic/24526/54.jpg"/>
          <p:cNvPicPr/>
          <p:nvPr/>
        </p:nvPicPr>
        <p:blipFill>
          <a:blip r:embed="rId1"/>
          <a:srcRect l="0" t="0" r="0" b="7623"/>
          <a:stretch/>
        </p:blipFill>
        <p:spPr>
          <a:xfrm>
            <a:off x="1143000" y="1643040"/>
            <a:ext cx="7215120" cy="4898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1080360" y="858600"/>
            <a:ext cx="74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Старшие школьницы из Южной Кор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http://st-fashiony.ru/pic/clothing/pic/24526/53.jpg"/>
          <p:cNvPicPr/>
          <p:nvPr/>
        </p:nvPicPr>
        <p:blipFill>
          <a:blip r:embed="rId1"/>
          <a:srcRect l="0" t="0" r="0" b="9214"/>
          <a:stretch/>
        </p:blipFill>
        <p:spPr>
          <a:xfrm>
            <a:off x="1214280" y="1571760"/>
            <a:ext cx="7099560" cy="4995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"/>
          <p:cNvSpPr/>
          <p:nvPr/>
        </p:nvSpPr>
        <p:spPr>
          <a:xfrm>
            <a:off x="1799640" y="787320"/>
            <a:ext cx="54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Колумбийские школьницы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http://st-fashiony.ru/pic/clothing/pic/24526/51.jpg"/>
          <p:cNvPicPr/>
          <p:nvPr/>
        </p:nvPicPr>
        <p:blipFill>
          <a:blip r:embed="rId1"/>
          <a:srcRect l="0" t="0" r="0" b="6249"/>
          <a:stretch/>
        </p:blipFill>
        <p:spPr>
          <a:xfrm>
            <a:off x="2143080" y="1285920"/>
            <a:ext cx="4286160" cy="5357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1858680" y="64440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Школьная форма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http://st-fashiony.ru/pic/clothing/pic/24526/52.jpg"/>
          <p:cNvPicPr/>
          <p:nvPr/>
        </p:nvPicPr>
        <p:blipFill>
          <a:blip r:embed="rId1"/>
          <a:srcRect l="0" t="0" r="0" b="9998"/>
          <a:stretch/>
        </p:blipFill>
        <p:spPr>
          <a:xfrm>
            <a:off x="1039680" y="1285920"/>
            <a:ext cx="6961320" cy="53974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"/>
          <p:cNvSpPr/>
          <p:nvPr/>
        </p:nvSpPr>
        <p:spPr>
          <a:xfrm>
            <a:off x="1012320" y="78732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Школьная форма в Новой Зелан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1" descr="http://st-fashiony.ru/pic/clothing/pic/24526/43.jpg"/>
          <p:cNvPicPr/>
          <p:nvPr/>
        </p:nvPicPr>
        <p:blipFill>
          <a:blip r:embed="rId1"/>
          <a:srcRect l="0" t="0" r="0" b="9702"/>
          <a:stretch/>
        </p:blipFill>
        <p:spPr>
          <a:xfrm>
            <a:off x="1214280" y="1285920"/>
            <a:ext cx="7059600" cy="5342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1884600" y="71604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Школьная форма в Мек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http://st-fashiony.ru/pic/clothing/pic/24526/42.jpg"/>
          <p:cNvPicPr/>
          <p:nvPr/>
        </p:nvPicPr>
        <p:blipFill>
          <a:blip r:embed="rId1"/>
          <a:srcRect l="0" t="0" r="0" b="12497"/>
          <a:stretch/>
        </p:blipFill>
        <p:spPr>
          <a:xfrm>
            <a:off x="1357200" y="1500120"/>
            <a:ext cx="6977160" cy="48578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1937160" y="785880"/>
            <a:ext cx="60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на Кип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rcRect l="0" t="0" r="0" b="15384"/>
          <a:stretch/>
        </p:blipFill>
        <p:spPr>
          <a:xfrm>
            <a:off x="500040" y="1428840"/>
            <a:ext cx="8136000" cy="47149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1857240" y="642960"/>
            <a:ext cx="542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Мусульманские  шк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Гимназистки"/>
          <p:cNvPicPr/>
          <p:nvPr/>
        </p:nvPicPr>
        <p:blipFill>
          <a:blip r:embed="rId1"/>
          <a:stretch/>
        </p:blipFill>
        <p:spPr>
          <a:xfrm>
            <a:off x="1857240" y="2857680"/>
            <a:ext cx="4953240" cy="35668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500040" y="5716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В 1896 году появилось положение о гимназической форме для девочек. 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121428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Ученицы женской гимназии с директором, 19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357120" y="150012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посещения гимназии было предусмотрено уставом три вида оде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бязательная форма для ежедневного посеще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состояла из коричневого шерстяного платья и шерстяного фартука чё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ав требовал «содержать платье в чистоте, опрятно, не носить его дома, ежедневно разглаживать и следить за чистотой белого воротн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527960" cy="5102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"/>
          <p:cNvSpPr/>
          <p:nvPr/>
        </p:nvSpPr>
        <p:spPr>
          <a:xfrm>
            <a:off x="1928880" y="714240"/>
            <a:ext cx="5143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Школьная  форма  Неп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12600" y="1335240"/>
            <a:ext cx="9095040" cy="28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www.zelenograd.ru/img/news/2011-02/2011-02-17_02_news.jpg"/>
          <p:cNvPicPr/>
          <p:nvPr/>
        </p:nvPicPr>
        <p:blipFill>
          <a:blip r:embed="rId1"/>
          <a:stretch/>
        </p:blipFill>
        <p:spPr>
          <a:xfrm>
            <a:off x="0" y="3571920"/>
            <a:ext cx="4694400" cy="3286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gov.cap.ru/home/121/olimpiady/2009/predmety/%D0%B8%D0%BD%D1%82%D0%B5%D0%BB%D0%BB%D0%B5%D0%BA%D1%82%D1%83%D0%B0%D0%BB%D1%8C%D0%BD%D1%8B%D0%B5%20%D0%B8%D0%B3%D1%80%D1%8B%20%D0%BC%D0%BB%D0%B0%D0%B4%D1%88%D0%B8%D1%85%20%D1%88%D0%BA%D0%BE%D0%BB%D1%8C%D0%BD%D0%B8%D0%BA%D0%BE%D0%B2/3.jpg"/>
          <p:cNvPicPr/>
          <p:nvPr/>
        </p:nvPicPr>
        <p:blipFill>
          <a:blip r:embed="rId2"/>
          <a:stretch/>
        </p:blipFill>
        <p:spPr>
          <a:xfrm>
            <a:off x="4243320" y="2143080"/>
            <a:ext cx="4900680" cy="3314880"/>
          </a:xfrm>
          <a:prstGeom prst="rect">
            <a:avLst/>
          </a:prstGeom>
          <a:ln w="0">
            <a:noFill/>
          </a:ln>
        </p:spPr>
      </p:pic>
      <p:sp>
        <p:nvSpPr>
          <p:cNvPr id="282" name="TextBox 7"/>
          <p:cNvSpPr/>
          <p:nvPr/>
        </p:nvSpPr>
        <p:spPr>
          <a:xfrm>
            <a:off x="306360" y="100008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Школьная форма: за или проти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85840" y="79308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дная фор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ояла из этого же платья, белого фартука и нарядного кружевного воротничка. В парадной форме гимназистки посещали театр, церковь по праздничным дням, в ней ходили на рождественские и новогодние вечера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же «никому не запрещалось иметь отдельное платье любой модели и покроя, если средства родителей позволяли такую роско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k"/>
          <p:cNvPicPr/>
          <p:nvPr/>
        </p:nvPicPr>
        <p:blipFill>
          <a:blip r:embed="rId1"/>
          <a:stretch/>
        </p:blipFill>
        <p:spPr>
          <a:xfrm>
            <a:off x="3214800" y="3071880"/>
            <a:ext cx="5286240" cy="3127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u"/>
          <p:cNvPicPr/>
          <p:nvPr/>
        </p:nvPicPr>
        <p:blipFill>
          <a:blip r:embed="rId2"/>
          <a:stretch/>
        </p:blipFill>
        <p:spPr>
          <a:xfrm>
            <a:off x="571680" y="2781360"/>
            <a:ext cx="2357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2"/>
          <p:cNvSpPr/>
          <p:nvPr/>
        </p:nvSpPr>
        <p:spPr>
          <a:xfrm>
            <a:off x="214200" y="100008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коре после революции, в 1918 был издан декрет, отменявший ношение школьной формы.  Старая форма считалась символом принадлежности к высшим сословиям. У этого отказа от формы главной причиной была бедность. Ученики ходили в школу в том, что могли предоставить им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revolform.jpg"/>
          <p:cNvPicPr/>
          <p:nvPr/>
        </p:nvPicPr>
        <p:blipFill>
          <a:blip r:embed="rId1"/>
          <a:stretch/>
        </p:blipFill>
        <p:spPr>
          <a:xfrm>
            <a:off x="1143000" y="2286000"/>
            <a:ext cx="6729480" cy="42624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2636280" y="5716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Первая отмена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799360" y="64296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Возвращение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57120" y="242892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льчики обязаны были носить военные гимнастерки с воротничком стоечкой, а девочки - коричневые шерстяные платья с черным передник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form49.jpg"/>
          <p:cNvPicPr/>
          <p:nvPr/>
        </p:nvPicPr>
        <p:blipFill>
          <a:blip r:embed="rId1"/>
          <a:stretch/>
        </p:blipFill>
        <p:spPr>
          <a:xfrm>
            <a:off x="5589720" y="1571760"/>
            <a:ext cx="3297240" cy="50720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6"/>
          <p:cNvSpPr/>
          <p:nvPr/>
        </p:nvSpPr>
        <p:spPr>
          <a:xfrm>
            <a:off x="357120" y="3786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 девочек тогда появились белые "праздничные" фартуки и пришивные воротнички и манжеты. В обычные дни полагалось носить чёрные фартучки и коричневые банты, в праздники – белые передники с белыми ба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285840" y="171468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 1949 г. в СССР вводится единая школьная фор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Форма 1949 г."/>
          <p:cNvPicPr/>
          <p:nvPr/>
        </p:nvPicPr>
        <p:blipFill>
          <a:blip r:embed="rId1"/>
          <a:srcRect l="0" t="0" r="46691" b="0"/>
          <a:stretch/>
        </p:blipFill>
        <p:spPr>
          <a:xfrm>
            <a:off x="285840" y="1071720"/>
            <a:ext cx="2786040" cy="55101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3"/>
          <p:cNvSpPr/>
          <p:nvPr/>
        </p:nvSpPr>
        <p:spPr>
          <a:xfrm>
            <a:off x="3286080" y="1143000"/>
            <a:ext cx="557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льчиков же одели в серые военные гимнастерки с воротником стоечкой, с пятью пуговицами, с двумя прорезными карманами с клапанами на груди. Элементом школьной формы также был ремень с пряжкой и кепка с кожаным козырьком, которую ребята носили на улице. Тогда же атрибутом у учащихся молодежи стала символика: у пионеров – красный галстук, у комсомольцев и октябрят – значок на груд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upload.wikimedia.org/wikipedia/commons/thumb/7/74/Oct_star.jpg/150px-Oct_star.jpg"/>
          <p:cNvPicPr/>
          <p:nvPr/>
        </p:nvPicPr>
        <p:blipFill>
          <a:blip r:embed="rId2"/>
          <a:stretch/>
        </p:blipFill>
        <p:spPr>
          <a:xfrm>
            <a:off x="3571920" y="4143240"/>
            <a:ext cx="1857240" cy="18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pics.livejournal.com/skaramanga_1970/pic/00a8b1ey"/>
          <p:cNvPicPr/>
          <p:nvPr/>
        </p:nvPicPr>
        <p:blipFill>
          <a:blip r:embed="rId3"/>
          <a:stretch/>
        </p:blipFill>
        <p:spPr>
          <a:xfrm>
            <a:off x="6512040" y="4143240"/>
            <a:ext cx="19555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14200" y="1143000"/>
            <a:ext cx="871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оклассники-мальчики 1 сентября 1962 года пошли в школу уже в новой форме. Гимнастёрки поменяли на серые шерстяные костюмы на четырех пуговиц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 середины 1970-х серые шерстяные брюки и курточки были заменены на форму из полушерстяной ткани сине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 боковой части рукава была нашита эмблема из мягкого пластика  с нарисованным открытым учебником и восходящим солнц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а девочек не изменила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2944800" y="857160"/>
            <a:ext cx="36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Форма «оттеп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Нашивки на рукавах школьной формы"/>
          <p:cNvPicPr/>
          <p:nvPr/>
        </p:nvPicPr>
        <p:blipFill>
          <a:blip r:embed="rId1"/>
          <a:stretch/>
        </p:blipFill>
        <p:spPr>
          <a:xfrm>
            <a:off x="4643280" y="3929040"/>
            <a:ext cx="4000680" cy="2509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://www.svk-klassiki.ru/assets/images/nov.jpg"/>
          <p:cNvPicPr/>
          <p:nvPr/>
        </p:nvPicPr>
        <p:blipFill>
          <a:blip r:embed="rId2"/>
          <a:stretch/>
        </p:blipFill>
        <p:spPr>
          <a:xfrm>
            <a:off x="285840" y="3929040"/>
            <a:ext cx="3929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14200" y="71424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ля девочек в 1984 году был введён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костюм-тройка синего цве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состоящий из юбки-трапеции со складками спереди, пиджака с накладными карманами и жил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r"/>
          <p:cNvPicPr/>
          <p:nvPr/>
        </p:nvPicPr>
        <p:blipFill>
          <a:blip r:embed="rId1"/>
          <a:stretch/>
        </p:blipFill>
        <p:spPr>
          <a:xfrm>
            <a:off x="1643040" y="1643040"/>
            <a:ext cx="58579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8:07:14Z</dcterms:created>
  <dc:creator>Admin</dc:creator>
  <dc:description/>
  <dc:language>en-US</dc:language>
  <cp:lastModifiedBy>Admin</cp:lastModifiedBy>
  <dcterms:modified xsi:type="dcterms:W3CDTF">2012-04-12T04:11:04Z</dcterms:modified>
  <cp:revision>17</cp:revision>
  <dc:subject/>
  <dc:title>История  школьной формы</dc:title>
</cp:coreProperties>
</file>