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0.png" ContentType="image/png"/>
  <Override PartName="/ppt/media/image36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9AD-1596-4D9B-982A-B2CFB184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05D-5B42-4A80-A45C-E5D0C0FE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8AF-A85B-498A-BFC7-30B7D1C3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13E-33E7-4C7A-BDCD-F7C809B7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DCA2-4D21-497E-AC53-86871EF2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C8E6-D396-4558-AE31-85AD0E99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0B34-31AF-4E17-A00E-C7E2D51F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7F57-714E-4B56-BA33-D771FBBF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1520-E988-43CE-BEAC-502475E4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7F84-84C3-4DF0-A30C-5E43C294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D1A7-1A9C-464A-AA27-CC033F5B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76C-7B09-4FA6-A51A-C19A0472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8266-D013-46BE-9549-8DFF5E37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6517-53DA-44B8-8CFF-8C9A5370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47B4-BFAC-4622-82EF-807DCAE0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CA8B-7663-410C-BB80-3DC50223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1F86-1B14-449A-AAEE-75453185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5C30-506A-4B59-A559-45C4AC4E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5DEC-D36B-41BC-8D52-266B0EEE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92067-26EB-40A6-9BF9-C765EAE9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0779F-3342-40EF-9FB9-3F55DAD4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17C03-198D-4DA2-B71A-C3E40DC3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080-9C51-44D4-8D66-44BAB930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196CE-2896-4E3C-859F-FCA4A227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B73DB-BBD3-46DF-9DE0-64A8B00F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449E-EE8F-4EC0-A642-6C45A448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ED742-93D8-4D8D-B806-A1156637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4E64F-FD26-4938-9605-68EE2D75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AB06-27EB-4E15-A633-A9A99694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56B5-85E9-4C3D-9E29-21B47B0A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2B410-A1D5-41E0-91DE-C92E7B24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D8A96-E742-4230-9366-1E291CF7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9C06E-2714-4119-B05B-00E0770C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F40-6F41-428B-A838-38C9C883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C812D-6559-4C5C-8BE1-301D19B6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82E03-8BD2-4C3E-9C08-57127618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F4292-E12C-4F9C-9AC6-CF973FA1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C4D1B-CA40-4606-9210-0F606337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E1F0D-F822-4891-8A18-CE9F83B6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343E8-3475-4F8B-9BD7-03FC7E82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CB45B-0B59-4157-80EF-E37CF12C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85CDE-7C79-4886-B5A8-4D29B31B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4734F-EA00-48F5-BA29-3033F63D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B4F-7528-4CB1-AB5C-435A380D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2BA-2134-49EC-B6C7-E9EF2BD0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7CC-A0D8-4865-A7A7-5C48E9C2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74B-C136-4B1F-A04F-3702B87B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EE8-31D0-478A-A2B2-21302831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C057-758A-4784-8BCC-2550E70ED0E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3F20-2720-47F0-9779-CD5F2EB1F5E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2511-E789-41AF-9583-6DB4BA7D089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2CC6-51F2-48BD-9EBD-53F83B0AAA5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66640" y="1816200"/>
            <a:ext cx="78645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2"/>
          <p:cNvSpPr/>
          <p:nvPr/>
        </p:nvSpPr>
        <p:spPr>
          <a:xfrm>
            <a:off x="785880" y="11430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Школьная форма была отменена в 1992 году, и ученики сменили свои коричневые платья и синие костюмы на повседневную одеж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http://i60.photobucket.com/albums/h21/zontic/class_2A_web.jpg"/>
          <p:cNvPicPr/>
          <p:nvPr/>
        </p:nvPicPr>
        <p:blipFill>
          <a:blip r:embed="rId1"/>
          <a:stretch/>
        </p:blipFill>
        <p:spPr>
          <a:xfrm>
            <a:off x="1785960" y="2000160"/>
            <a:ext cx="5191200" cy="41594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/>
          <p:cNvSpPr/>
          <p:nvPr/>
        </p:nvSpPr>
        <p:spPr>
          <a:xfrm>
            <a:off x="2071800" y="64296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Отмена школьной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-12600" y="1596960"/>
            <a:ext cx="93027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8760" y="535788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еликобритании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школьная форма максимально консервативна и приближена к классическому стилю одежды. У каждой престижной школы есть свой логотип, поэтому ученики обязаны приходить на занятия с «фирменным» галстуком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833560" y="64296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Великобр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Школьная форма в Великобритании"/>
          <p:cNvPicPr/>
          <p:nvPr/>
        </p:nvPicPr>
        <p:blipFill>
          <a:blip r:embed="rId1"/>
          <a:stretch/>
        </p:blipFill>
        <p:spPr>
          <a:xfrm>
            <a:off x="1643040" y="1214280"/>
            <a:ext cx="60008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714240" y="857160"/>
            <a:ext cx="6870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Форма в престижных школах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3286080" cy="4941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5143680" y="1500120"/>
            <a:ext cx="300024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" descr=""/>
          <p:cNvPicPr/>
          <p:nvPr/>
        </p:nvPicPr>
        <p:blipFill>
          <a:blip r:embed="rId1"/>
          <a:stretch/>
        </p:blipFill>
        <p:spPr>
          <a:xfrm>
            <a:off x="4572000" y="1652760"/>
            <a:ext cx="3660840" cy="48718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2"/>
          <p:cNvSpPr/>
          <p:nvPr/>
        </p:nvSpPr>
        <p:spPr>
          <a:xfrm>
            <a:off x="571680" y="2571840"/>
            <a:ext cx="321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Германии нет единой школьной формы, хотя ведутся дебаты о её введении. В некоторых школах введена единая школьная одежда, не являющаяся формой так как ученики могут участвовать в её разработ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857160" y="500040"/>
            <a:ext cx="6870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Школьники  из  Европы –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трогий 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4"/>
          <p:cNvSpPr/>
          <p:nvPr/>
        </p:nvSpPr>
        <p:spPr>
          <a:xfrm>
            <a:off x="3695040" y="50004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И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5" descr="http://st-fashiony.ru/pic/clothing/pic/24526/29.jpg"/>
          <p:cNvPicPr/>
          <p:nvPr/>
        </p:nvPicPr>
        <p:blipFill>
          <a:blip r:embed="rId1"/>
          <a:srcRect l="0" t="0" r="0" b="7862"/>
          <a:stretch/>
        </p:blipFill>
        <p:spPr>
          <a:xfrm>
            <a:off x="0" y="2357280"/>
            <a:ext cx="3357720" cy="2143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0" y="1076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Индии школьная форма обязательна и состои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 светлой рубашки и темных или синих брюк- для мальчиков. А у девоче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рубашка и юбка, в некоторых школах это может быть ещё сари , единого цвета и кроя . В дополнен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алст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8" descr="http://st-fashiony.ru/pic/clothing/pic/24526/57.jpg"/>
          <p:cNvPicPr/>
          <p:nvPr/>
        </p:nvPicPr>
        <p:blipFill>
          <a:blip r:embed="rId2"/>
          <a:srcRect l="0" t="0" r="0" b="9465"/>
          <a:stretch/>
        </p:blipFill>
        <p:spPr>
          <a:xfrm>
            <a:off x="5072040" y="2286000"/>
            <a:ext cx="3452760" cy="21574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7" descr="http://st-fashiony.ru/pic/clothing/pic/24526/30.jpg"/>
          <p:cNvPicPr/>
          <p:nvPr/>
        </p:nvPicPr>
        <p:blipFill>
          <a:blip r:embed="rId3"/>
          <a:srcRect l="0" t="0" r="0" b="7502"/>
          <a:stretch/>
        </p:blipFill>
        <p:spPr>
          <a:xfrm>
            <a:off x="2500200" y="4214880"/>
            <a:ext cx="35719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Школьная форма в Малайзии"/>
          <p:cNvPicPr/>
          <p:nvPr/>
        </p:nvPicPr>
        <p:blipFill>
          <a:blip r:embed="rId1"/>
          <a:stretch/>
        </p:blipFill>
        <p:spPr>
          <a:xfrm>
            <a:off x="1214280" y="1357200"/>
            <a:ext cx="6988320" cy="514368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"/>
          <p:cNvSpPr/>
          <p:nvPr/>
        </p:nvSpPr>
        <p:spPr>
          <a:xfrm>
            <a:off x="1403280" y="785880"/>
            <a:ext cx="66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Школьная форма в Малай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1740960" y="714240"/>
            <a:ext cx="60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Школьная форма в Гамб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Школьная форма в Гамбии"/>
          <p:cNvPicPr/>
          <p:nvPr/>
        </p:nvPicPr>
        <p:blipFill>
          <a:blip r:embed="rId1"/>
          <a:srcRect l="0" t="11367" r="0" b="0"/>
          <a:stretch/>
        </p:blipFill>
        <p:spPr>
          <a:xfrm>
            <a:off x="2571840" y="1285920"/>
            <a:ext cx="39528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http://st-fashiony.ru/pic/clothing/pic/24526/28.jpg"/>
          <p:cNvPicPr/>
          <p:nvPr/>
        </p:nvPicPr>
        <p:blipFill>
          <a:blip r:embed="rId1"/>
          <a:srcRect l="0" t="0" r="0" b="9308"/>
          <a:stretch/>
        </p:blipFill>
        <p:spPr>
          <a:xfrm>
            <a:off x="2857680" y="1857240"/>
            <a:ext cx="3714480" cy="49644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"/>
          <p:cNvSpPr/>
          <p:nvPr/>
        </p:nvSpPr>
        <p:spPr>
          <a:xfrm>
            <a:off x="1782720" y="642960"/>
            <a:ext cx="57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Школьная форма на Ку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285840" y="135720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Кубе школьная форма обязательна , и не только для школьников, но и для студ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285840" y="13615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Турции почти все школьник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о всех государственных и частных образовательных учреждениях носят форму. На разных возрастных ступеня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различают цвета в форме. Летом ношение формы может быть отмен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1760760" y="714240"/>
            <a:ext cx="60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Школьная форма в Тур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3" descr="http://st-fashiony.ru/pic/clothing/pic/24526/35.jpg"/>
          <p:cNvPicPr/>
          <p:nvPr/>
        </p:nvPicPr>
        <p:blipFill>
          <a:blip r:embed="rId1"/>
          <a:srcRect l="0" t="0" r="0" b="8126"/>
          <a:stretch/>
        </p:blipFill>
        <p:spPr>
          <a:xfrm>
            <a:off x="571680" y="2571840"/>
            <a:ext cx="3714480" cy="41367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4" descr="http://st-fashiony.ru/pic/clothing/pic/24526/31.jpg"/>
          <p:cNvPicPr/>
          <p:nvPr/>
        </p:nvPicPr>
        <p:blipFill>
          <a:blip r:embed="rId2"/>
          <a:srcRect l="0" t="0" r="0" b="6246"/>
          <a:stretch/>
        </p:blipFill>
        <p:spPr>
          <a:xfrm>
            <a:off x="4643280" y="2571840"/>
            <a:ext cx="37022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Гимназист"/>
          <p:cNvPicPr/>
          <p:nvPr/>
        </p:nvPicPr>
        <p:blipFill>
          <a:blip r:embed="rId1"/>
          <a:stretch/>
        </p:blipFill>
        <p:spPr>
          <a:xfrm>
            <a:off x="5643720" y="1000080"/>
            <a:ext cx="2771640" cy="514368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2"/>
          <p:cNvSpPr/>
          <p:nvPr/>
        </p:nvSpPr>
        <p:spPr>
          <a:xfrm>
            <a:off x="6361920" y="621504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имназ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571680" y="3429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 всех учебных заведениях форма была военного фасона: неизменно фуражки, гимнастерки и шинели, которые отличались только цветом, кантами, пуговицами и эмблем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642960" y="14288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далеком 1834 году был принят закон, утвердивший общую систему всех гражданских мундиров в империи. В эту систему вошли гимназический и студенческий мунди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435680" y="571680"/>
            <a:ext cx="229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1834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0" y="1660680"/>
            <a:ext cx="3786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Японии школьная форма обязательна. Впервые форм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али носить студенты Токийского императорского университета в 1885 году, и с тех пор уже более ста лет она не сильно изменилась. В каждой школе она своя, но обычно примерно одинаковая - это белая рубашка и темные пиджак и брюки для мальчиков называется такой костю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акура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; и белая рубашка и темные пиджак и юбка для девочек, или же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"сейлор фуку"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тросский костю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795320" y="714240"/>
            <a:ext cx="61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Школьная форма в Яп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http://kovaleva-yulya.narod.ru/uniform_image001.jpg"/>
          <p:cNvPicPr/>
          <p:nvPr/>
        </p:nvPicPr>
        <p:blipFill>
          <a:blip r:embed="rId1"/>
          <a:stretch/>
        </p:blipFill>
        <p:spPr>
          <a:xfrm>
            <a:off x="4143240" y="1428840"/>
            <a:ext cx="4162680" cy="28670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3" descr="http://st-fashiony.ru/pic/clothing/pic/24526/33.jpg"/>
          <p:cNvPicPr/>
          <p:nvPr/>
        </p:nvPicPr>
        <p:blipFill>
          <a:blip r:embed="rId2"/>
          <a:srcRect l="0" t="0" r="0" b="12128"/>
          <a:stretch/>
        </p:blipFill>
        <p:spPr>
          <a:xfrm>
            <a:off x="3929040" y="4071960"/>
            <a:ext cx="47624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2" descr="http://st-fashiony.ru/pic/clothing/pic/24526/49.jpg"/>
          <p:cNvPicPr/>
          <p:nvPr/>
        </p:nvPicPr>
        <p:blipFill>
          <a:blip r:embed="rId1"/>
          <a:srcRect l="0" t="12504" r="0" b="5002"/>
          <a:stretch/>
        </p:blipFill>
        <p:spPr>
          <a:xfrm>
            <a:off x="2643120" y="1285920"/>
            <a:ext cx="4229280" cy="52862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1774080" y="71424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Школьная форма в Бут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1" descr="http://st-fashiony.ru/pic/clothing/pic/24526/47.jpg"/>
          <p:cNvPicPr/>
          <p:nvPr/>
        </p:nvPicPr>
        <p:blipFill>
          <a:blip r:embed="rId1"/>
          <a:srcRect l="0" t="0" r="0" b="9585"/>
          <a:stretch/>
        </p:blipFill>
        <p:spPr>
          <a:xfrm>
            <a:off x="928800" y="1428840"/>
            <a:ext cx="7742160" cy="50720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"/>
          <p:cNvSpPr/>
          <p:nvPr/>
        </p:nvSpPr>
        <p:spPr>
          <a:xfrm>
            <a:off x="838080" y="78732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Verdana"/>
                <a:ea typeface="Times New Roman"/>
              </a:rPr>
              <a:t>Северокорейские мальчики шк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1" descr="http://st-fashiony.ru/pic/clothing/pic/24526/54.jpg"/>
          <p:cNvPicPr/>
          <p:nvPr/>
        </p:nvPicPr>
        <p:blipFill>
          <a:blip r:embed="rId1"/>
          <a:srcRect l="0" t="0" r="0" b="7623"/>
          <a:stretch/>
        </p:blipFill>
        <p:spPr>
          <a:xfrm>
            <a:off x="1143000" y="1643040"/>
            <a:ext cx="7215120" cy="48988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"/>
          <p:cNvSpPr/>
          <p:nvPr/>
        </p:nvSpPr>
        <p:spPr>
          <a:xfrm>
            <a:off x="1080360" y="858600"/>
            <a:ext cx="74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Verdana"/>
                <a:ea typeface="Times New Roman"/>
              </a:rPr>
              <a:t>Старшие школьницы из Южной Кор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" descr="http://st-fashiony.ru/pic/clothing/pic/24526/53.jpg"/>
          <p:cNvPicPr/>
          <p:nvPr/>
        </p:nvPicPr>
        <p:blipFill>
          <a:blip r:embed="rId1"/>
          <a:srcRect l="0" t="0" r="0" b="9214"/>
          <a:stretch/>
        </p:blipFill>
        <p:spPr>
          <a:xfrm>
            <a:off x="1214280" y="1571760"/>
            <a:ext cx="7099560" cy="49957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"/>
          <p:cNvSpPr/>
          <p:nvPr/>
        </p:nvSpPr>
        <p:spPr>
          <a:xfrm>
            <a:off x="1799640" y="787320"/>
            <a:ext cx="54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Verdana"/>
                <a:ea typeface="Times New Roman"/>
              </a:rPr>
              <a:t>Колумбийские школьницы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1" descr="http://st-fashiony.ru/pic/clothing/pic/24526/51.jpg"/>
          <p:cNvPicPr/>
          <p:nvPr/>
        </p:nvPicPr>
        <p:blipFill>
          <a:blip r:embed="rId1"/>
          <a:srcRect l="0" t="0" r="0" b="6249"/>
          <a:stretch/>
        </p:blipFill>
        <p:spPr>
          <a:xfrm>
            <a:off x="2143080" y="1285920"/>
            <a:ext cx="4286160" cy="5357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"/>
          <p:cNvSpPr/>
          <p:nvPr/>
        </p:nvSpPr>
        <p:spPr>
          <a:xfrm>
            <a:off x="1858680" y="64440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Verdana"/>
                <a:ea typeface="Times New Roman"/>
              </a:rPr>
              <a:t>Школьная форма Австр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1" descr="http://st-fashiony.ru/pic/clothing/pic/24526/52.jpg"/>
          <p:cNvPicPr/>
          <p:nvPr/>
        </p:nvPicPr>
        <p:blipFill>
          <a:blip r:embed="rId1"/>
          <a:srcRect l="0" t="0" r="0" b="9998"/>
          <a:stretch/>
        </p:blipFill>
        <p:spPr>
          <a:xfrm>
            <a:off x="1039680" y="1285920"/>
            <a:ext cx="6961320" cy="53974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"/>
          <p:cNvSpPr/>
          <p:nvPr/>
        </p:nvSpPr>
        <p:spPr>
          <a:xfrm>
            <a:off x="1012320" y="78732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Verdana"/>
                <a:ea typeface="Times New Roman"/>
              </a:rPr>
              <a:t>Школьная форма в Новой Зелан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1" descr="http://st-fashiony.ru/pic/clothing/pic/24526/43.jpg"/>
          <p:cNvPicPr/>
          <p:nvPr/>
        </p:nvPicPr>
        <p:blipFill>
          <a:blip r:embed="rId1"/>
          <a:srcRect l="0" t="0" r="0" b="9702"/>
          <a:stretch/>
        </p:blipFill>
        <p:spPr>
          <a:xfrm>
            <a:off x="1214280" y="1285920"/>
            <a:ext cx="7059600" cy="53420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"/>
          <p:cNvSpPr/>
          <p:nvPr/>
        </p:nvSpPr>
        <p:spPr>
          <a:xfrm>
            <a:off x="1884600" y="716040"/>
            <a:ext cx="55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Verdana"/>
                <a:ea typeface="Times New Roman"/>
              </a:rPr>
              <a:t>Школьная форма в Мекс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" descr="http://st-fashiony.ru/pic/clothing/pic/24526/42.jpg"/>
          <p:cNvPicPr/>
          <p:nvPr/>
        </p:nvPicPr>
        <p:blipFill>
          <a:blip r:embed="rId1"/>
          <a:srcRect l="0" t="0" r="0" b="12497"/>
          <a:stretch/>
        </p:blipFill>
        <p:spPr>
          <a:xfrm>
            <a:off x="1357200" y="1500120"/>
            <a:ext cx="6977160" cy="4857840"/>
          </a:xfrm>
          <a:prstGeom prst="rect">
            <a:avLst/>
          </a:prstGeom>
          <a:ln w="0">
            <a:noFill/>
          </a:ln>
        </p:spPr>
      </p:pic>
      <p:sp>
        <p:nvSpPr>
          <p:cNvPr id="274" name="TextBox 2"/>
          <p:cNvSpPr/>
          <p:nvPr/>
        </p:nvSpPr>
        <p:spPr>
          <a:xfrm>
            <a:off x="1937160" y="785880"/>
            <a:ext cx="60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Школьная форма на Кип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"/>
          <p:cNvPicPr/>
          <p:nvPr/>
        </p:nvPicPr>
        <p:blipFill>
          <a:blip r:embed="rId1"/>
          <a:srcRect l="0" t="0" r="0" b="15384"/>
          <a:stretch/>
        </p:blipFill>
        <p:spPr>
          <a:xfrm>
            <a:off x="500040" y="1428840"/>
            <a:ext cx="8136000" cy="47149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"/>
          <p:cNvSpPr/>
          <p:nvPr/>
        </p:nvSpPr>
        <p:spPr>
          <a:xfrm>
            <a:off x="1857240" y="642960"/>
            <a:ext cx="5429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Мусульманские  шк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Гимназистки"/>
          <p:cNvPicPr/>
          <p:nvPr/>
        </p:nvPicPr>
        <p:blipFill>
          <a:blip r:embed="rId1"/>
          <a:stretch/>
        </p:blipFill>
        <p:spPr>
          <a:xfrm>
            <a:off x="1857240" y="2857680"/>
            <a:ext cx="4953240" cy="356688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2"/>
          <p:cNvSpPr/>
          <p:nvPr/>
        </p:nvSpPr>
        <p:spPr>
          <a:xfrm>
            <a:off x="500040" y="5716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В 1896 году появилось положение о гимназической форме для девочек. 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121428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Ученицы женской гимназии с директором, 19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357120" y="1500120"/>
            <a:ext cx="82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посещения гимназии было предусмотрено уставом три вида оде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Обязательная форма для ежедневного посещен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состояла из коричневого шерстяного платья и шерстяного фартука чёр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тав требовал «содержать платье в чистоте, опрятно, не носить его дома, ежедневно разглаживать и следить за чистотой белого воротн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527960" cy="51022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"/>
          <p:cNvSpPr/>
          <p:nvPr/>
        </p:nvSpPr>
        <p:spPr>
          <a:xfrm>
            <a:off x="1928880" y="714240"/>
            <a:ext cx="51433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Школьная  форма  Неп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12600" y="1335240"/>
            <a:ext cx="9095040" cy="28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http://www.zelenograd.ru/img/news/2011-02/2011-02-17_02_news.jpg"/>
          <p:cNvPicPr/>
          <p:nvPr/>
        </p:nvPicPr>
        <p:blipFill>
          <a:blip r:embed="rId1"/>
          <a:stretch/>
        </p:blipFill>
        <p:spPr>
          <a:xfrm>
            <a:off x="0" y="3571920"/>
            <a:ext cx="4694400" cy="3286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http://gov.cap.ru/home/121/olimpiady/2009/predmety/%D0%B8%D0%BD%D1%82%D0%B5%D0%BB%D0%BB%D0%B5%D0%BA%D1%82%D1%83%D0%B0%D0%BB%D1%8C%D0%BD%D1%8B%D0%B5%20%D0%B8%D0%B3%D1%80%D1%8B%20%D0%BC%D0%BB%D0%B0%D0%B4%D1%88%D0%B8%D1%85%20%D1%88%D0%BA%D0%BE%D0%BB%D1%8C%D0%BD%D0%B8%D0%BA%D0%BE%D0%B2/3.jpg"/>
          <p:cNvPicPr/>
          <p:nvPr/>
        </p:nvPicPr>
        <p:blipFill>
          <a:blip r:embed="rId2"/>
          <a:stretch/>
        </p:blipFill>
        <p:spPr>
          <a:xfrm>
            <a:off x="4243320" y="2143080"/>
            <a:ext cx="4900680" cy="3314880"/>
          </a:xfrm>
          <a:prstGeom prst="rect">
            <a:avLst/>
          </a:prstGeom>
          <a:ln w="0">
            <a:noFill/>
          </a:ln>
        </p:spPr>
      </p:pic>
      <p:sp>
        <p:nvSpPr>
          <p:cNvPr id="282" name="TextBox 7"/>
          <p:cNvSpPr/>
          <p:nvPr/>
        </p:nvSpPr>
        <p:spPr>
          <a:xfrm>
            <a:off x="306360" y="1000080"/>
            <a:ext cx="88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Школьная форма: за или проти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285840" y="79308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радная форм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стояла из этого же платья, белого фартука и нарядного кружевного воротничка. В парадной форме гимназистки посещали театр, церковь по праздничным дням, в ней ходили на рождественские и новогодние вечера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же «никому не запрещалось иметь отдельное платье любой модели и покроя, если средства родителей позволяли такую роскош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k"/>
          <p:cNvPicPr/>
          <p:nvPr/>
        </p:nvPicPr>
        <p:blipFill>
          <a:blip r:embed="rId1"/>
          <a:stretch/>
        </p:blipFill>
        <p:spPr>
          <a:xfrm>
            <a:off x="3214800" y="3071880"/>
            <a:ext cx="5286240" cy="3127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u"/>
          <p:cNvPicPr/>
          <p:nvPr/>
        </p:nvPicPr>
        <p:blipFill>
          <a:blip r:embed="rId2"/>
          <a:stretch/>
        </p:blipFill>
        <p:spPr>
          <a:xfrm>
            <a:off x="571680" y="2781360"/>
            <a:ext cx="23572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2"/>
          <p:cNvSpPr/>
          <p:nvPr/>
        </p:nvSpPr>
        <p:spPr>
          <a:xfrm>
            <a:off x="214200" y="1000080"/>
            <a:ext cx="892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скоре после революции, в 1918 был издан декрет, отменявший ношение школьной формы.  Старая форма считалась символом принадлежности к высшим сословиям. У этого отказа от формы главной причиной была бедность. Ученики ходили в школу в том, что могли предоставить им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revolform.jpg"/>
          <p:cNvPicPr/>
          <p:nvPr/>
        </p:nvPicPr>
        <p:blipFill>
          <a:blip r:embed="rId1"/>
          <a:stretch/>
        </p:blipFill>
        <p:spPr>
          <a:xfrm>
            <a:off x="1143000" y="2286000"/>
            <a:ext cx="6729480" cy="42624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2636280" y="5716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Первая отмена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2799360" y="642960"/>
            <a:ext cx="36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Возвращение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357120" y="242892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альчики обязаны были носить военные гимнастерки с воротничком стоечкой, а девочки - коричневые шерстяные платья с черным передник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form49.jpg"/>
          <p:cNvPicPr/>
          <p:nvPr/>
        </p:nvPicPr>
        <p:blipFill>
          <a:blip r:embed="rId1"/>
          <a:stretch/>
        </p:blipFill>
        <p:spPr>
          <a:xfrm>
            <a:off x="5589720" y="1571760"/>
            <a:ext cx="3297240" cy="507204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6"/>
          <p:cNvSpPr/>
          <p:nvPr/>
        </p:nvSpPr>
        <p:spPr>
          <a:xfrm>
            <a:off x="357120" y="37861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 девочек тогда появились белые "праздничные" фартуки и пришивные воротнички и манжеты. В обычные дни полагалось носить чёрные фартучки и коричневые банты, в праздники – белые передники с белыми ба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"/>
          <p:cNvSpPr/>
          <p:nvPr/>
        </p:nvSpPr>
        <p:spPr>
          <a:xfrm>
            <a:off x="285840" y="171468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 1949 г. в СССР вводится единая школьная фор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Форма 1949 г."/>
          <p:cNvPicPr/>
          <p:nvPr/>
        </p:nvPicPr>
        <p:blipFill>
          <a:blip r:embed="rId1"/>
          <a:srcRect l="0" t="0" r="46691" b="0"/>
          <a:stretch/>
        </p:blipFill>
        <p:spPr>
          <a:xfrm>
            <a:off x="285840" y="1071720"/>
            <a:ext cx="2786040" cy="55101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3"/>
          <p:cNvSpPr/>
          <p:nvPr/>
        </p:nvSpPr>
        <p:spPr>
          <a:xfrm>
            <a:off x="3286080" y="1143000"/>
            <a:ext cx="5572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альчиков же одели в серые военные гимнастерки с воротником стоечкой, с пятью пуговицами, с двумя прорезными карманами с клапанами на груди. Элементом школьной формы также был ремень с пряжкой и кепка с кожаным козырьком, которую ребята носили на улице. Тогда же атрибутом у учащихся молодежи стала символика: у пионеров – красный галстук, у комсомольцев и октябрят – значок на груд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upload.wikimedia.org/wikipedia/commons/thumb/7/74/Oct_star.jpg/150px-Oct_star.jpg"/>
          <p:cNvPicPr/>
          <p:nvPr/>
        </p:nvPicPr>
        <p:blipFill>
          <a:blip r:embed="rId2"/>
          <a:stretch/>
        </p:blipFill>
        <p:spPr>
          <a:xfrm>
            <a:off x="3571920" y="4143240"/>
            <a:ext cx="1857240" cy="182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pics.livejournal.com/skaramanga_1970/pic/00a8b1ey"/>
          <p:cNvPicPr/>
          <p:nvPr/>
        </p:nvPicPr>
        <p:blipFill>
          <a:blip r:embed="rId3"/>
          <a:stretch/>
        </p:blipFill>
        <p:spPr>
          <a:xfrm>
            <a:off x="6512040" y="4143240"/>
            <a:ext cx="19555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214200" y="1143000"/>
            <a:ext cx="871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воклассники-мальчики 1 сентября 1962 года пошли в школу уже в новой форме. Гимнастёрки поменяли на серые шерстяные костюмы на четырех пуговиц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 середины 1970-х серые шерстяные брюки и курточки были заменены на форму из полушерстяной ткани синего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 боковой части рукава была нашита эмблема из мягкого пластика  с нарисованным открытым учебником и восходящим солнц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орма девочек не изменила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2944800" y="857160"/>
            <a:ext cx="36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Форма «оттепе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Нашивки на рукавах школьной формы"/>
          <p:cNvPicPr/>
          <p:nvPr/>
        </p:nvPicPr>
        <p:blipFill>
          <a:blip r:embed="rId1"/>
          <a:stretch/>
        </p:blipFill>
        <p:spPr>
          <a:xfrm>
            <a:off x="4643280" y="3929040"/>
            <a:ext cx="4000680" cy="2509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http://www.svk-klassiki.ru/assets/images/nov.jpg"/>
          <p:cNvPicPr/>
          <p:nvPr/>
        </p:nvPicPr>
        <p:blipFill>
          <a:blip r:embed="rId2"/>
          <a:stretch/>
        </p:blipFill>
        <p:spPr>
          <a:xfrm>
            <a:off x="285840" y="3929040"/>
            <a:ext cx="39290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214200" y="71424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ля девочек в 1984 году был введён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костюм-тройка синего цве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состоящий из юбки-трапеции со складками спереди, пиджака с накладными карманами и жил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r"/>
          <p:cNvPicPr/>
          <p:nvPr/>
        </p:nvPicPr>
        <p:blipFill>
          <a:blip r:embed="rId1"/>
          <a:stretch/>
        </p:blipFill>
        <p:spPr>
          <a:xfrm>
            <a:off x="1643040" y="1643040"/>
            <a:ext cx="58579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8:07:14Z</dcterms:created>
  <dc:creator>Admin</dc:creator>
  <dc:description/>
  <dc:language>en-US</dc:language>
  <cp:lastModifiedBy>Admin</cp:lastModifiedBy>
  <dcterms:modified xsi:type="dcterms:W3CDTF">2012-04-12T04:11:04Z</dcterms:modified>
  <cp:revision>17</cp:revision>
  <dc:subject/>
  <dc:title>История  школьной формы</dc:title>
</cp:coreProperties>
</file>