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C11-D2F9-443A-BBB8-72F9D9E5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3E4-C6B7-4E4F-BD73-8113C513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658-2434-4555-AD06-78010CF2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C72-85EF-4011-B8F5-DD426648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F84-EA7C-4ABE-B572-1B176F87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E05-5B6F-49CE-93A3-BA15E300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130-8BB4-433E-9645-AEDAFF38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6D2-99F9-42D4-8E62-7E6D60BC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A5A-2819-492E-9A54-B6D777BE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FB4-6BEB-4350-AA55-36C6FB9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D41-8B97-437A-94AA-5304CC38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278-F362-40FE-A08E-7F114B29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E6AF-C441-404B-B9F6-3297BBF8E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shutterstock_114300529"/>
          <p:cNvPicPr/>
          <p:nvPr/>
        </p:nvPicPr>
        <p:blipFill>
          <a:blip r:embed="rId1"/>
          <a:stretch/>
        </p:blipFill>
        <p:spPr>
          <a:xfrm>
            <a:off x="380880" y="609480"/>
            <a:ext cx="2880000" cy="5761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shutterstock_61281523"/>
          <p:cNvPicPr/>
          <p:nvPr/>
        </p:nvPicPr>
        <p:blipFill>
          <a:blip r:embed="rId2"/>
          <a:stretch/>
        </p:blipFill>
        <p:spPr>
          <a:xfrm>
            <a:off x="5715000" y="3429000"/>
            <a:ext cx="3178080" cy="298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картинки с шаттерстока\shutterstock_29235634.jpg"/>
          <p:cNvPicPr/>
          <p:nvPr/>
        </p:nvPicPr>
        <p:blipFill>
          <a:blip r:embed="rId3"/>
          <a:stretch/>
        </p:blipFill>
        <p:spPr>
          <a:xfrm>
            <a:off x="4807080" y="228600"/>
            <a:ext cx="4140000" cy="219852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>
            <a:off x="2590920" y="3048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Хочу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могу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умею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дела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640080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афо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слово или выражение, употребленное в переносном зна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уществу, метафора – это свернутое сравнение, которое всегда можно «развернуть» в настоящий сравнительный оборот. В основу метафоризации может быть положено сходство самых разных призна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расположению: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 груди утеса-великана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олова и хвост поезда, подошва 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цвету: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золото волос, шоколадный заг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характеру звучания: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дождь барабанит, визг пилы, стоны сосны, вой ветра, заржал в ответ на ш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тепени ценности: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жемчужина поэзии, золотой работник, соль стат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форме: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луковка церквей, лента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72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а Земля –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осмический корабль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етящий во Вселен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539640" y="1197000"/>
            <a:ext cx="273708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ляе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 или 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492360" y="1197000"/>
            <a:ext cx="2449800" cy="936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, с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156360" y="1197000"/>
            <a:ext cx="237636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и ч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1763640" y="2276640"/>
            <a:ext cx="144360" cy="576000"/>
          </a:xfrm>
          <a:prstGeom prst="downArrow">
            <a:avLst>
              <a:gd name="adj1" fmla="val 50000"/>
              <a:gd name="adj2" fmla="val 997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4572000" y="2205000"/>
            <a:ext cx="144360" cy="647640"/>
          </a:xfrm>
          <a:prstGeom prst="downArrow">
            <a:avLst>
              <a:gd name="adj1" fmla="val 50000"/>
              <a:gd name="adj2" fmla="val 11215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236000" y="220500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468360" y="2924280"/>
            <a:ext cx="27367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ша Зем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3492360" y="2924280"/>
            <a:ext cx="2376720" cy="100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см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аб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6156360" y="2924280"/>
            <a:ext cx="2160720" cy="93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ет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 Вс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shutterstock_83318827"/>
          <p:cNvPicPr/>
          <p:nvPr/>
        </p:nvPicPr>
        <p:blipFill>
          <a:blip r:embed="rId1"/>
          <a:stretch/>
        </p:blipFill>
        <p:spPr>
          <a:xfrm>
            <a:off x="1116000" y="4365720"/>
            <a:ext cx="4032360" cy="2313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19"/>
          <p:cNvSpPr txBox="1"/>
          <p:nvPr/>
        </p:nvSpPr>
        <p:spPr>
          <a:xfrm>
            <a:off x="684360" y="260280"/>
            <a:ext cx="7492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Как рождается метафор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афо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елает образ неожиданным,запоминающим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айдите метафо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Бродячая толпа облак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Барка жизни встала. (А.Бл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Весело пробираться по узкой дорожке, между двумя стенами высокой рж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Воспоминание безмолвно передо мной свой длинный развивает сви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оним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перенос названия с одного предмета на другой на основании смежност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еренесение свойств предмета на сам предм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Могут переноситьс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звание помещени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, территории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 люде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, живущих, работающих там: </a:t>
            </a:r>
            <a:r>
              <a:rPr b="1" i="1" lang="ru-RU" sz="1900" spc="-1" strike="noStrike">
                <a:solidFill>
                  <a:srgbClr val="800000"/>
                </a:solidFill>
                <a:latin typeface="Times New Roman"/>
              </a:rPr>
              <a:t>Вся школа пришла на стадион поболеть за свою команду. Москва снова готова голосовать за своего мэра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звание сосуд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, емкости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 его содержимо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1900" spc="-1" strike="noStrike">
                <a:solidFill>
                  <a:srgbClr val="800000"/>
                </a:solidFill>
                <a:latin typeface="Times New Roman"/>
              </a:rPr>
              <a:t>Съел две тарелки, попросил третью. Выпейте еще чашеч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звание вещества на издели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из него: </a:t>
            </a:r>
            <a:r>
              <a:rPr b="1" i="1" lang="ru-RU" sz="1900" spc="-1" strike="noStrike">
                <a:solidFill>
                  <a:srgbClr val="800000"/>
                </a:solidFill>
                <a:latin typeface="Times New Roman"/>
              </a:rPr>
              <a:t>выставка старинного фарфора; дама вся в мех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мя автора на его творения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800000"/>
                </a:solidFill>
                <a:latin typeface="Times New Roman"/>
              </a:rPr>
              <a:t>люблю Чехова, выставка Сурикова; достать с полки Бун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звание географического пункт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на то,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что там производитс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1900" spc="-1" strike="noStrike">
                <a:solidFill>
                  <a:srgbClr val="800000"/>
                </a:solidFill>
                <a:latin typeface="Times New Roman"/>
              </a:rPr>
              <a:t>она коллекционирует гжель; запретили продажу боржо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звание орудия на действия, производимые им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1900" spc="-1" strike="noStrike">
                <a:solidFill>
                  <a:srgbClr val="800000"/>
                </a:solidFill>
                <a:latin typeface="Times New Roman"/>
              </a:rPr>
              <a:t>Их села и нивы за буйный набег обрек он мечам и пожара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нимические замены позволяют сделать мысль более яркой, лаконичной, выразительной, придают изображаемому предметную нагляд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айдите метоним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у, скушай же еще тарелочку, мой милы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ет, не пошла Москва моя к нему с повинной голов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Янтарь на трубах Царегр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Фарфор и бронза на сто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, чувств изнеженных отр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ухи в граненом хруст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е до сна! Вся столица молила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Чтоб Нева в берега ворот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итрины были уставлены старинной бронз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Театр уж блещ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Читал охотно Апулея, а Цицерона не чит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571920" y="0"/>
            <a:ext cx="5572080" cy="685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ения могут быть выраж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формой творительного падежа существитель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уза  висела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розрачным абажуро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нкие закраины ее толстого купола дышали и волновались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синей желатиновой каймо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це тотчас зажглось в её слизи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серебряной звез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Рог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ставив  страшные  клешн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равнительными оборотами с союзами как, словно, будто, как будто и др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обжигающей, как крапива; увеличенные,  как  в  лупу; бледного, как меся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и помощи слов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одобный, похож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нкие закраины ее толстого купола дышали и волновались синей желатиновой каймой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, подобно краям  парашю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E:\картинки с шаттерстока\shutterstock_59967178.jpg"/>
          <p:cNvPicPr/>
          <p:nvPr/>
        </p:nvPicPr>
        <p:blipFill>
          <a:blip r:embed="rId1"/>
          <a:stretch/>
        </p:blipFill>
        <p:spPr>
          <a:xfrm>
            <a:off x="0" y="0"/>
            <a:ext cx="35719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5"/>
          <p:cNvSpPr/>
          <p:nvPr/>
        </p:nvSpPr>
        <p:spPr>
          <a:xfrm>
            <a:off x="1928880" y="357120"/>
            <a:ext cx="1500120" cy="2571840"/>
          </a:xfrm>
          <a:prstGeom prst="rect">
            <a:avLst/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0" y="4572000"/>
            <a:ext cx="3581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Сравнение.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Этот прием заключается в уподоблении какого-либо явления друго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Эпитет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 –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художественное, образное определение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ль которого не столько дать информацию, сколько создать образ, передать отношение  авто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тетами чаще всего бывают прилагательные, но нередко в качестве эпитетов выступают существительные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(волшебница-зима)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речия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(на севере диком стоит одиноко)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еепричастия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(волны несутся, гремя и свер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теты условно делят 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образ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выделяют существенные стороны изображаемого)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рическ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ыражается отношение автора к изображаемому):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«на мутном небе» и «мелькают образы бездушные люд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фольклоре встречаются постоянные эпитеты: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олнце красное, ветер буйный, добрый молод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ифра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перифраза) – оборот, состоящий в замене названия предмета или явления описанием их существенных признаков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царь зверей- лев, Петра творенье- Петербург, Поднебесная - Китай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Найдите перифраз, соответствующий указанным существитель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90720" y="2590920"/>
            <a:ext cx="228600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447920" y="2666880"/>
            <a:ext cx="2057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м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в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б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657600" y="2590920"/>
            <a:ext cx="449568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657600" y="2666880"/>
            <a:ext cx="4724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аситель Капито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истающая с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це русской поэ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на человеческ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дая чарод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насская бо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омок викингов отваж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шебный прибор Левенг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кованный к скале Т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смертный творец «Илиа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457200" y="304920"/>
            <a:ext cx="281952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у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м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в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аб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у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429000" y="762120"/>
            <a:ext cx="5486400" cy="60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арнасская боги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едая чародей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кованный к скале Тит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томок викингов отваж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листающая ста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паситель Капитол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олнце русской поэз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ессмертный творец «Илиады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лшебный прибор Левенг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есна человеческой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001000" cy="19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Гипербола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– образное выражение, содержащее непомерное преувеличение размера, силы, значения. 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Литота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– выражение, содержащее в противоположность гиперболе, непомерное преуменьшение размера, силы, значения какого-либо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пределите, гипербола или литота перед 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етя замолчал и до вечера был тише воды, ниже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иже тоненькой былиночки надо голову кло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альчик с паль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 сто сорок солнц закат пыл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Я живу в двух шагах от ме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 него ни капли тал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гурец, величиною с пизанскую башню, стоит на горизонте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дни дома длиною до звезд, другие до лу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560" y="1066320"/>
            <a:ext cx="5105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Изобразительно-выразительные средства язы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E:\картинки с шаттерстока\shutterstock_63554656.jpg"/>
          <p:cNvPicPr/>
          <p:nvPr/>
        </p:nvPicPr>
        <p:blipFill>
          <a:blip r:embed="rId1"/>
          <a:stretch/>
        </p:blipFill>
        <p:spPr>
          <a:xfrm>
            <a:off x="152280" y="214200"/>
            <a:ext cx="407196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илистические фигур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риторически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ин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парцел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нти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на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эпи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град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эллипсис…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нтитез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лужащая для усиления выразительности речи путем резкого противопоставления понятий, мыслей, образ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антитезу в каждом из данных предложений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) Кто создан из камня, кто создан из глины,- а я серебрюсь и сверка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2) Смотрю в века, живу в минут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3) Богатый и в будни пирует, а бедный и в праздник горю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4) От других мне хвала- что зола, от тебя и хула- похвала</a:t>
            </a:r>
            <a:r>
              <a:rPr b="0" i="1" lang="ru-RU" sz="2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рад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тилистическая фигура, состоящая в таком расположении частей высказывания, при котором каждая последующая заключает в себе усиливающееся или уменьшающееся смысловое или эмоционально- экспрессивное значение, благодаря чему создается нарастание или ослабление производимого ими 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градацию в предло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Я победил его, разгромил, уничтож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ветились, горели, сияли огромные голубые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е жалею, не зову, не плачу. Всё пройдёт, как с белых яблонь д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и одном предположении подобного случая вы бы должны…испустить ручьи…что я говорю! Реки, озера, океаны слез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9246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нверс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остоящая в нарушении обычного порядка слов; перестановка частей фразы придает ей своеобразный выразительный отте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инверсию в пред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Сижу за решёткой в темнице сыр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Белеет парус одинокой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Я памятник себе воздвиг нерукотворный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Твоих оград узор чугун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араллелизм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динаковое синтаксическое построение соседних предложений или отрезков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в следующих предложениях примеры паралле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Эти бедные селенья, эта скудная природа- край родной долготерпенья, край ты русско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Молятся звезды, мерцают и редеют, молится месяц, плывя по лазури, легкие тучки, свиваясь, не смеют с темной земли к ним притягивать б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Лениво дышит полдень мглистый, лениво катиться река, и тверди пламенной и чистой лениво тают обл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ляжу на будущность с боязнью, гляжу на прошлое с то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457200" y="380880"/>
            <a:ext cx="815328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080" y="304920"/>
            <a:ext cx="784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целля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такое членение предложения, при котором содержание высказывания делится на несколько речевых единиц, следующих одна за другой после разделительной  паузы: С девушкой он скоро поссорился. И вот из-за чего. (Г. Успенский.)  Митрофанов усмехнулся, помешал кофе. Сощурился. (Н. Ильин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457200" y="1981080"/>
            <a:ext cx="815328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62120" y="19810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фо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единоначалие ( схема А ... А ...), повтор слова или группы слов в начале некоторых стихов, строф или фраз. («Жара вставала стеной. Жара душила его своими горячими руками. Жара сводила с ума...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457200" y="3429000"/>
            <a:ext cx="815328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85800" y="3429000"/>
            <a:ext cx="7543800" cy="23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ифор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тор в конце фразы, предложения, строки, строфы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лый друг, 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этом тихо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хорадка бьет ме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найти мне мест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тихо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ле мирного огня.   (А.Бл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457200" y="5029200"/>
            <a:ext cx="815328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85800" y="5181480"/>
            <a:ext cx="7924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диплоси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хва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овтор последнего слова (группы слов)  предыдущего предложения в начале следующего. («Тогда он тихонько запел песню. Песню, которой его научила мать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ком случае дано неправильное определение троп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Метафора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том, что слово или выражение употребляется в переносном значении на основе сходства двух предметов или явлений по какому-либо призна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Б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Метоним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это изобразительный прием, основанный на том, что слово или выражение употребляется в переносном значении на основе смежности двух предметов или явлен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В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Олицетворение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ереносе признаков предмета или понятия на живое сущест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Г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равнени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сопоставлении одного явления или понятия с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ом случае дано неправильное определение фигур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нтитеза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резком противопоставлении противоположных понятий, положений, образ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Б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нафора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овторении слова или группы слов в конце строк, строф или предложен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В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Инверсия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изменении обычного порядка слов в предложен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Г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радация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оследовательном расположении слов, выражений, тропов (эпитетов, метафор, сравнений) в порядке усиления (возрастания) или ослабления (убывания) призн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ажите, какой троп используется в выражении «не съел ни крош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А) метафора  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  Б) сравнение  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  В) гипербола  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  Г) 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ажите, к какому типу тропов относится выражение «жрецы Фемиды» (о работниках системы правосуд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А) метафора    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  Б) перифраз    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  В) метонимия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  Г) 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s://ds03.infourok.ru/uploads/ex/0a6f/00000a6e-a624fb17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09480" y="1471680"/>
            <a:ext cx="41148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обиль, гудя и встряхиваясь, метался по…дор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ешных солдат из царских конюхов, сокольничих и даже из юношей изящных фамилий было у Пет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еперь человек т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ы! Он счастия не ищет и не от счастия беж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пот, робкое дыханье, трели соловья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876920" y="18288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. истор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Б. 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. 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. Фразеолог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Д. 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477120" y="4114800"/>
            <a:ext cx="1752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38080" y="1752480"/>
            <a:ext cx="3657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ели лошадей, не понравились они м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жалею, не зову, не плачу, все пройдет, как с белых яблонь 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за свечку – свечка в печку. Я за книж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а бе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теперь скупее стал в желаньях. Жизнь моя, иль ты приснилась м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952880" y="1828800"/>
            <a:ext cx="3200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. 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Б. 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. 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. Риторическое обра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Д. Синтаксический паралле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553080" y="4572000"/>
            <a:ext cx="1524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арцел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нт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яды однородных членов пред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иторически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рад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ве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shutterstock_116483020"/>
          <p:cNvPicPr/>
          <p:nvPr/>
        </p:nvPicPr>
        <p:blipFill>
          <a:blip r:embed="rId1"/>
          <a:stretch/>
        </p:blipFill>
        <p:spPr>
          <a:xfrm>
            <a:off x="684360" y="189000"/>
            <a:ext cx="8064360" cy="6119640"/>
          </a:xfrm>
          <a:prstGeom prst="rect">
            <a:avLst/>
          </a:prstGeom>
          <a:ln w="0">
            <a:noFill/>
          </a:ln>
        </p:spPr>
      </p:pic>
      <p:sp>
        <p:nvSpPr>
          <p:cNvPr id="144" name="WordArt 8"/>
          <p:cNvSpPr txBox="1"/>
          <p:nvPr/>
        </p:nvSpPr>
        <p:spPr>
          <a:xfrm>
            <a:off x="395280" y="5805360"/>
            <a:ext cx="8280360" cy="27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8c3d91"/>
                    </a:gs>
                  </a:gsLst>
                  <a:lin ang="0"/>
                </a:gradFill>
                <a:latin typeface="Arial"/>
              </a:rPr>
              <a:t>Творческих озарений от прикосновения к слову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цен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685800"/>
            <a:ext cx="8686800" cy="57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втор заставляет читателя задуматься о важных для каждого человека понят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ой целью уже в первом абзаце он использует(А)__(«разъединяет»- «объединяет»)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нтаксическое сред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(Б)__(в предложениях 4,13)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(В)__(«они-две колонны, поддерживающие крышу одного храма» в предложении 16) и лексическое средство – (Г)__(«делать первый шаг» в предложении 9) помогают автору выразить своё отношение к сущности рассматриваемых понят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hutterstock_119150455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6"/>
          <p:cNvSpPr txBox="1"/>
          <p:nvPr/>
        </p:nvSpPr>
        <p:spPr>
          <a:xfrm>
            <a:off x="250920" y="5877000"/>
            <a:ext cx="84978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щем средства выразительности в текст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3059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выполнения зад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6858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нимательно прочитайте рецензию. Обратите внимание на такие слова, как ТРОП, ЛЕКСИЧЕСКОЕ СРЕДСТВО, СИНТАКСИЧЕСКОЕ  СРЕДСТВО, т.к. они являются подсказк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04920" y="18288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анализируйте список терминов, перечисленных в задании. Сгруппируй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Ы  - 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Е СРЕДСТВА –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ИЕ  -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380880" y="37339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помните определения этих понятий. Сопоставьте с приме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380880" y="439884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Расположите термины в нуж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Изобразительно-выразительные средства язы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28600" y="297180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тр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638680" y="2743200"/>
            <a:ext cx="3276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тилистические фигуры, приё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1066680" y="1600200"/>
            <a:ext cx="733680" cy="1447920"/>
          </a:xfrm>
          <a:custGeom>
            <a:avLst/>
            <a:gdLst>
              <a:gd name="textAreaLeft" fmla="*/ 98280 w 733680"/>
              <a:gd name="textAreaRight" fmla="*/ 635400 w 733680"/>
              <a:gd name="textAreaTop" fmla="*/ 270720 h 1447920"/>
              <a:gd name="textAreaBottom" fmla="*/ 105552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83" stAng="-5400000" swAng="-5400000"/>
                <a:lnTo>
                  <a:pt x="0" y="11706"/>
                </a:lnTo>
                <a:arcTo wR="21600" hR="8083" stAng="10800000" swAng="-2797457"/>
                <a:lnTo>
                  <a:pt x="14400" y="21138"/>
                </a:lnTo>
                <a:lnTo>
                  <a:pt x="21600" y="17977"/>
                </a:lnTo>
                <a:lnTo>
                  <a:pt x="14400" y="13891"/>
                </a:lnTo>
                <a:lnTo>
                  <a:pt x="14400" y="15703"/>
                </a:lnTo>
                <a:arcTo wR="21600" hR="8083" stAng="8002543" swAng="2502349"/>
                <a:lnTo>
                  <a:pt x="550" y="9894"/>
                </a:lnTo>
                <a:arcTo wR="21600" hR="8083" stAng="-10504892" swAng="5104892"/>
                <a:close/>
              </a:path>
              <a:path fill="darkenLess" w="21600" h="21600">
                <a:moveTo>
                  <a:pt x="21600" y="0"/>
                </a:moveTo>
                <a:arcTo wR="21600" hR="8083" stAng="-5400000" swAng="-5400000"/>
                <a:lnTo>
                  <a:pt x="0" y="8083"/>
                </a:lnTo>
                <a:arcTo wR="21600" hR="8083" stAng="10800000" swAng="-295108"/>
                <a:lnTo>
                  <a:pt x="550" y="9894"/>
                </a:lnTo>
                <a:arcTo wR="21600" hR="8083" stAng="-10504892" swAng="510489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7162920" y="1523880"/>
            <a:ext cx="733320" cy="1366920"/>
          </a:xfrm>
          <a:custGeom>
            <a:avLst/>
            <a:gdLst>
              <a:gd name="textAreaLeft" fmla="*/ 98280 w 733320"/>
              <a:gd name="textAreaRight" fmla="*/ 635040 w 733320"/>
              <a:gd name="textAreaTop" fmla="*/ 250560 h 1366920"/>
              <a:gd name="textAreaBottom" fmla="*/ 99504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21" stAng="-5400000" swAng="5400000"/>
                <a:lnTo>
                  <a:pt x="21600" y="11760"/>
                </a:lnTo>
                <a:arcTo wR="21600" hR="7921" stAng="0" swAng="2762802"/>
                <a:lnTo>
                  <a:pt x="7200" y="21147"/>
                </a:lnTo>
                <a:lnTo>
                  <a:pt x="0" y="17762"/>
                </a:lnTo>
                <a:lnTo>
                  <a:pt x="7200" y="13470"/>
                </a:lnTo>
                <a:lnTo>
                  <a:pt x="7200" y="15389"/>
                </a:lnTo>
                <a:arcTo wR="21600" hR="7921" stAng="2762802" swAng="-2448795"/>
                <a:lnTo>
                  <a:pt x="20956" y="9841"/>
                </a:lnTo>
                <a:arcTo wR="21600" hR="7921" stAng="-314007" swAng="-5085993"/>
                <a:close/>
              </a:path>
              <a:path fill="darkenLess" w="21600" h="21600">
                <a:moveTo>
                  <a:pt x="0" y="0"/>
                </a:moveTo>
                <a:arcTo wR="21600" hR="7921" stAng="-5400000" swAng="5400000"/>
                <a:lnTo>
                  <a:pt x="21600" y="11760"/>
                </a:lnTo>
                <a:arcTo wR="21600" hR="7921" stAng="0" swAng="-314007"/>
                <a:lnTo>
                  <a:pt x="20956" y="9841"/>
                </a:lnTo>
                <a:arcTo wR="21600" hR="7921" stAng="-314007" swAng="-508599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6"/>
          <p:cNvSpPr/>
          <p:nvPr/>
        </p:nvSpPr>
        <p:spPr>
          <a:xfrm>
            <a:off x="4191120" y="1600200"/>
            <a:ext cx="484200" cy="12063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3048120" y="3048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екс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048120" y="3809880"/>
            <a:ext cx="266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тон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диалек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о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азговорная 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инон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ер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разеолог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моционально- окрашенная 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304920" y="3657600"/>
            <a:ext cx="286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гипер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р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лит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етон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лицетв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ереф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инекдо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п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6553080" y="3733920"/>
            <a:ext cx="213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град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нвер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рцелляц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иторический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пиф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304560"/>
            <a:ext cx="7924680" cy="61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анафора –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етафора – 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гипербола – 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рофессиональные слова –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арцелляция –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лексический повтор –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синекдоха – 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контекстные синонимы –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о., область поиска указанного языкового средства заметно суз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ропам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ся обороты речи, в которых слово или словосочетание употреблено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ренос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начении в целях достижения большей художественной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опами явля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эпит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метаф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олицетвор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метон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инекдо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перифр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гиперб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лит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W</cp:lastModifiedBy>
  <dcterms:modified xsi:type="dcterms:W3CDTF">2023-05-14T18:42:49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