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165-C2C1-4C88-9E91-C1844B0A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EE0-3958-41E2-B069-5D2F184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099-6D1F-481A-82F4-A74E814B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6FD-F633-45EE-B53B-F71B4F7E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D19-9E0C-4844-936B-214C79B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6A1-9B78-4E4E-A31C-7A0D803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C12-E98C-4159-9610-29F99E29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9E5-AD83-4279-AFF8-26A4B150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8D4-0AC6-4AB1-8860-B519EDB4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308-D11C-4098-BB2A-A5ADC5A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8D8-A63D-4091-84E6-90879C5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3BC-AA52-4290-9DEB-2666ADE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4CA-FF33-4B30-B4D4-2C3DEF60B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hutterstock_114300529"/>
          <p:cNvPicPr/>
          <p:nvPr/>
        </p:nvPicPr>
        <p:blipFill>
          <a:blip r:embed="rId1"/>
          <a:stretch/>
        </p:blipFill>
        <p:spPr>
          <a:xfrm>
            <a:off x="380880" y="609480"/>
            <a:ext cx="288000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shutterstock_61281523"/>
          <p:cNvPicPr/>
          <p:nvPr/>
        </p:nvPicPr>
        <p:blipFill>
          <a:blip r:embed="rId2"/>
          <a:stretch/>
        </p:blipFill>
        <p:spPr>
          <a:xfrm>
            <a:off x="5715000" y="3429000"/>
            <a:ext cx="3178080" cy="298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картинки с шаттерстока\shutterstock_29235634.jpg"/>
          <p:cNvPicPr/>
          <p:nvPr/>
        </p:nvPicPr>
        <p:blipFill>
          <a:blip r:embed="rId3"/>
          <a:stretch/>
        </p:blipFill>
        <p:spPr>
          <a:xfrm>
            <a:off x="4807080" y="228600"/>
            <a:ext cx="4140000" cy="219852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2590920" y="3048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Хочу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могу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умею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дела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640080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слово или выражение, употребленное в переносном зна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уществу, метафора – это свернутое сравнение, которое всегда можно «развернуть» в настоящий сравнительный оборот. В основу метафоризации может быть положено сходство самых разных призна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асположению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 груди утеса-великана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олова и хвост поезда, подошва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цвету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золото волос, шоколадный заг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арактеру звучания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ождь барабанит, визг пилы, стоны сосны, вой ветра, заржал в ответ на ш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тепени ценности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жемчужина поэзии, золотой работник, соль 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форме: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уковка церквей, лент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Земля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смический корабл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тящий во Всел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9640" y="1197000"/>
            <a:ext cx="273708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 или 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492360" y="1197000"/>
            <a:ext cx="2449800" cy="936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с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156360" y="1197000"/>
            <a:ext cx="237636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763640" y="227664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4572000" y="220500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236000" y="2205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68360" y="2924280"/>
            <a:ext cx="273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ша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492360" y="2924280"/>
            <a:ext cx="2376720" cy="100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см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6156360" y="2924280"/>
            <a:ext cx="2160720" cy="9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е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shutterstock_83318827"/>
          <p:cNvPicPr/>
          <p:nvPr/>
        </p:nvPicPr>
        <p:blipFill>
          <a:blip r:embed="rId1"/>
          <a:stretch/>
        </p:blipFill>
        <p:spPr>
          <a:xfrm>
            <a:off x="1116000" y="4365720"/>
            <a:ext cx="4032360" cy="2313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19"/>
          <p:cNvSpPr txBox="1"/>
          <p:nvPr/>
        </p:nvSpPr>
        <p:spPr>
          <a:xfrm>
            <a:off x="684360" y="260280"/>
            <a:ext cx="749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Как рождается метафор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лает образ неожиданным,запомин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дите метаф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Бродячая толпа облак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Барка жизни встала. (А.Б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есело пробираться по узкой дорожке, между двумя стенами высокой р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оспоминание безмолвно передо мной свой длинный развивает сви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ним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еренос названия с одного предмета на другой на основании смежно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еренесение свойств предмета на сам предм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гут переносить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помещ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территори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 люд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живущих, работающих там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Вся школа пришла на стадион поболеть за свою команду. Москва снова готова голосовать за своего мэра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сосуд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, емкост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 его содержимо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Съел две тарелки, попросил третью. Выпейте еще чашеч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вещества на издели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из него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выставка старинного фарфора; дама вся в мех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мя автора на его творения: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люблю Чехова, выставка Сурикова; достать с полки Бун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географического пункт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на то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что там производитс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она коллекционирует гжель; запретили продажу боржо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звание орудия на действия, производимые им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900" spc="-1" strike="noStrike">
                <a:solidFill>
                  <a:srgbClr val="800000"/>
                </a:solidFill>
                <a:latin typeface="Times New Roman"/>
              </a:rPr>
              <a:t>Их села и нивы за буйный набег обрек он мечам и пожара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нимические замены позволяют сделать мысль более яркой, лаконичной, выразительной, придают изображаемому предметную нагля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йдите метоним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у, скушай же еще тарелочку, мой мил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ет, не пошла Москва моя к нему с повинной голо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нтарь на трубах Ца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арфор и бронза на ст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, чувств изнеженных от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ухи в граненом хруст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 до сна! Вся столица моли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тоб Нева в берега воро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итрины были уставлены старинной брон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 уж блещ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итал охотно Апулея, а Цицерона не чи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571920" y="0"/>
            <a:ext cx="557208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ения могут быть выраж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формой творительного падежа существите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уза  висела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розрачным абажур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ие закраины ее толстого купола дышали и волновались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иней желатиновой кайм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тотчас зажглось в её слизи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еребряной звез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ог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ставив  страшные  клешн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равнительными оборотами с союзами как, словно, будто, как будто и др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обжигающей, как крапива; увеличенные,  как  в  лупу; бледного, как меся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 помощи слов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одобный, похож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ие закраины ее толстого купола дышали и волновались синей желатиновой каймой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, подобно краям  парашю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:\картинки с шаттерстока\shutterstock_59967178.jpg"/>
          <p:cNvPicPr/>
          <p:nvPr/>
        </p:nvPicPr>
        <p:blipFill>
          <a:blip r:embed="rId1"/>
          <a:stretch/>
        </p:blipFill>
        <p:spPr>
          <a:xfrm>
            <a:off x="0" y="0"/>
            <a:ext cx="3571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1928880" y="357120"/>
            <a:ext cx="1500120" cy="2571840"/>
          </a:xfrm>
          <a:prstGeom prst="rect">
            <a:avLst/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0" y="4572000"/>
            <a:ext cx="3581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ение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Этот прием заключается в уподоблении какого-либо явления друг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питет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художественное, образное определени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ь которого не столько дать информацию, сколько создать образ, передать отношение 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тетами чаще всего бывают прилагательные, но нередко в качестве эпитетов выступают существительные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волшебница-зима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ечия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на севере диком стоит одиноко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епричастия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волны несутся, гремя и свер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теты условно делят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выделяют существенные стороны изображаемого)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рическ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ыражается отношение автора к изображаемому)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«на мутном небе» и «мелькают образы бездушные лю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фольклоре встречаются постоянные эпитеты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лнце красное, ветер буйный, добрый молод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фр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перифраза) – оборот, состоящий в замене названия предмета или явления описанием их существенных признаков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царь зверей- лев, Петра творенье- Петербург, Поднебесная - Кита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Найдите перифраз, соответствующий указанным существитель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0720" y="2590920"/>
            <a:ext cx="22860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47920" y="26668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57600" y="2590920"/>
            <a:ext cx="44956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657600" y="2666880"/>
            <a:ext cx="4724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57200" y="304920"/>
            <a:ext cx="281952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29000" y="762120"/>
            <a:ext cx="5486400" cy="60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01000" cy="1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Гипербола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образное выражение, содержащее непомерное преувеличение размера, силы, значения.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Литота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выражение, содержащее в противоположность гиперболе, непомерное преуменьшение размера, силы, значения какого-либо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пределите, гипербола или литота перед 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тя замолчал и до вечера был тише воды, ниж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же тоненькой былиночки надо голову кло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альчик с паль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сто сорок солнц закат пы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 живу в двух шагах от ме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 него ни капли тал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гурец, величиною с пизанскую башню, стоит на горизонте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дни дома длиною до звезд, другие до л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1066320"/>
            <a:ext cx="5105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E:\картинки с шаттерстока\shutterstock_63554656.jpg"/>
          <p:cNvPicPr/>
          <p:nvPr/>
        </p:nvPicPr>
        <p:blipFill>
          <a:blip r:embed="rId1"/>
          <a:stretch/>
        </p:blipFill>
        <p:spPr>
          <a:xfrm>
            <a:off x="152280" y="214200"/>
            <a:ext cx="40719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илистические фигур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рад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ллипсис…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итез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лужащая для усиления выразительности речи путем резкого противопоставления понятий, мыслей, образ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антитезу в каждом из данных предложений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) Кто создан из камня, кто создан из глины,- а я серебрюсь и сверк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2) Смотрю в века, живу в минут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3) Богатый и в будни пирует, а бедный и в праздник горю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4) От других мне хвала- что зола, от тебя и хула- похвала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д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илистическая фигура, состоящая в таком расположении частей высказывания, при котором каждая последующая заключает в себе усиливающееся или уменьшающееся смысловое или эмоционально- экспрессивное значение, благодаря чему создается нарастание или ослабление производимого ими 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градацию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Я победил его, разгромил, уничтож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тились, горели, сияли огромные голубые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жалею, не зову, не плачу. Всё пройдёт, как с белых яблонь д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и одном предположении подобного случая вы бы должны…испустить ручьи…что я говорю! Реки, озера, океаны сле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верс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нарушении обычного порядка слов; перестановка частей фразы придает ей своеобразный выразительный отт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инверсию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Сижу за решёткой в темнице сыр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Белеет парус одинокой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Я памятник себе воздвиг нерукотворный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Твоих оград узор чугу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изм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динаковое синтаксическое построение соседних предложений или отрезко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паралле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Эти бедные селенья, эта скудная природа- край родной долготерпенья, край ты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олятся звезды, мерцают и редеют, молится месяц, плывя по лазури, легкие тучки, свиваясь, не смеют с темной земли к ним притягивать б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ениво дышит полдень мглистый, лениво катиться река, и тверди пламенной и чистой лениво тают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ляжу на будущность с боязнью, гляжу на прошлое с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457200" y="380880"/>
            <a:ext cx="815328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304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целля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такое членение предложения, при котором содержание высказывания делится на несколько речевых единиц, следующих одна за другой после разделительной  паузы: С девушкой он скоро поссорился. И вот из-за чего. (Г. Успенский.)  Митрофанов усмехнулся, помешал кофе. Сощурился. (Н. Иль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57200" y="198108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19810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фо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единоначалие ( схема А ... А ...), повтор слова или группы слов в начале некоторых стихов, строф или фраз. («Жара вставала стеной. Жара душила его своими горячими руками. Жара сводила с ума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457200" y="3429000"/>
            <a:ext cx="815328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5800" y="34290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ифор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 в конце фразы, предложения, строки, строф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лый друг,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том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хорадка бье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найти мне мест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ле мирного огня.   (А.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457200" y="502920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5800" y="518148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диплоси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хв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овтор последнего слова (группы слов)  предыдущего предложения в начале следующего. («Тогда он тихонько запел песню. Песню, которой его научила мать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дано неправильное определение троп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етафор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том, что слово или выражение употребляется в переносном значении на основе сходства двух предметов или явлений по какому-либо призна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Б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Метоним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это изобразительный прием, основанный на том, что слово или выражение употребляется в переносном значении на основе смежности двух предметов или явл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лицетворение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ереносе признаков предмета или понятия на живое сущ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равнени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сопоставлении одного явления или понятия с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ом случае дано неправильное определение фигур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резком противопоставлении противоположных понятий, положений, образ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Б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вторении слова или группы слов в конце строк, строф или предлож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Инверс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изменении обычного порядка слов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радация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следовательном расположении слов, выражений, тропов (эпитетов, метафор, сравнений) в порядке усиления (возрастания) или ослабления (убывания)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жите, какой троп используется в выражении «не съел ни кро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Б) сравнение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жите, к какому типу тропов относится выражение «жрецы Фемиды» (о работниках системы правосуд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) метафора    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Б) перифраз    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В) метонимия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   Г) 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s://ds03.infourok.ru/uploads/ex/0a6f/00000a6e-a624fb17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09480" y="1471680"/>
            <a:ext cx="4114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, гудя и встряхиваясь, метался по…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шных солдат из царских конюхов, сокольничих и даже из юношей изящных фамилий было 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перь человек т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ы! Он счастия не ищет и не от счастия бе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пот, робкое дыханье, трели соловь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87692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исто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 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 Фразеолог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477120" y="41148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38080" y="1752480"/>
            <a:ext cx="3657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ли лошадей, не понравились они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алею, не зову, не плачу, все пройдет, как с белых яблонь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 свечку – свечка в печку. Я за книж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еперь скупее стал в желаньях. Жизнь моя, иль ты приснилась м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2880" y="182880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 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 Риторическое 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Синтаксический паралле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553080" y="4572000"/>
            <a:ext cx="1524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нт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яды однородных членов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иторически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ве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hutterstock_116483020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61196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8"/>
          <p:cNvSpPr txBox="1"/>
          <p:nvPr/>
        </p:nvSpPr>
        <p:spPr>
          <a:xfrm>
            <a:off x="395280" y="5805360"/>
            <a:ext cx="828036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0"/>
                </a:gradFill>
                <a:latin typeface="Arial"/>
              </a:rPr>
              <a:t>Творческих озарений от прикосновения к слову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цен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85800"/>
            <a:ext cx="868680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втор заставляет читателя задуматься о важных для каждого человека пон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й целью уже в первом абзаце он использует(А)__(«разъединяет»- «объединяет»)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нтаксическое сре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Б)__(в предложениях 4,13)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В)__(«они-две колонны, поддерживающие крышу одного храма» в предложении 16) и лексическое средство – (Г)__(«делать первый шаг» в предложении 9) помогают автору выразить своё отношение к сущности рассматриваемых понят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hutterstock_119150455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250920" y="5877000"/>
            <a:ext cx="84978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щем средства выразительности в текст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059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выполнения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6858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нимательно прочитайте рецензию. Обратите внимание на такие слова, как ТРОП, ЛЕКСИЧЕСКОЕ СРЕДСТВО, СИНТАКСИЧЕСКОЕ  СРЕДСТВО, т.к. они являются подсказк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04920" y="18288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анализируйте список терминов, перечисленных в задании. Сгруппир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Ы  -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Е СРЕДСТВА –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Е  -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80880" y="37339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помните определения этих понятий. Сопоставьте с при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80880" y="43988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Расположите термины в нуж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" y="297180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638680" y="2743200"/>
            <a:ext cx="327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тилистические фигуры, при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066680" y="1600200"/>
            <a:ext cx="733680" cy="1447920"/>
          </a:xfrm>
          <a:custGeom>
            <a:avLst/>
            <a:gdLst>
              <a:gd name="textAreaLeft" fmla="*/ 98280 w 733680"/>
              <a:gd name="textAreaRight" fmla="*/ 635400 w 733680"/>
              <a:gd name="textAreaTop" fmla="*/ 270720 h 1447920"/>
              <a:gd name="textAreaBottom" fmla="*/ 10555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1706"/>
                </a:lnTo>
                <a:arcTo wR="21600" hR="8083" stAng="10800000" swAng="-2797457"/>
                <a:lnTo>
                  <a:pt x="14400" y="21138"/>
                </a:lnTo>
                <a:lnTo>
                  <a:pt x="21600" y="17977"/>
                </a:lnTo>
                <a:lnTo>
                  <a:pt x="14400" y="13891"/>
                </a:lnTo>
                <a:lnTo>
                  <a:pt x="14400" y="15703"/>
                </a:lnTo>
                <a:arcTo wR="21600" hR="8083" stAng="8002543" swAng="2502349"/>
                <a:lnTo>
                  <a:pt x="550" y="9894"/>
                </a:lnTo>
                <a:arcTo wR="21600" hR="8083" stAng="-10504892" swAng="5104892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295108"/>
                <a:lnTo>
                  <a:pt x="550" y="9894"/>
                </a:lnTo>
                <a:arcTo wR="21600" hR="8083" stAng="-10504892" swAng="510489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7162920" y="1523880"/>
            <a:ext cx="733320" cy="1366920"/>
          </a:xfrm>
          <a:custGeom>
            <a:avLst/>
            <a:gdLst>
              <a:gd name="textAreaLeft" fmla="*/ 98280 w 733320"/>
              <a:gd name="textAreaRight" fmla="*/ 635040 w 733320"/>
              <a:gd name="textAreaTop" fmla="*/ 250560 h 1366920"/>
              <a:gd name="textAreaBottom" fmla="*/ 99504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21" stAng="-5400000" swAng="5400000"/>
                <a:lnTo>
                  <a:pt x="21600" y="11760"/>
                </a:lnTo>
                <a:arcTo wR="21600" hR="7921" stAng="0" swAng="2762802"/>
                <a:lnTo>
                  <a:pt x="7200" y="21147"/>
                </a:lnTo>
                <a:lnTo>
                  <a:pt x="0" y="17762"/>
                </a:lnTo>
                <a:lnTo>
                  <a:pt x="7200" y="13470"/>
                </a:lnTo>
                <a:lnTo>
                  <a:pt x="7200" y="15389"/>
                </a:lnTo>
                <a:arcTo wR="21600" hR="7921" stAng="2762802" swAng="-2448795"/>
                <a:lnTo>
                  <a:pt x="20956" y="9841"/>
                </a:lnTo>
                <a:arcTo wR="21600" hR="7921" stAng="-314007" swAng="-5085993"/>
                <a:close/>
              </a:path>
              <a:path fill="darkenLess" w="21600" h="21600">
                <a:moveTo>
                  <a:pt x="0" y="0"/>
                </a:moveTo>
                <a:arcTo wR="21600" hR="7921" stAng="-5400000" swAng="5400000"/>
                <a:lnTo>
                  <a:pt x="21600" y="11760"/>
                </a:lnTo>
                <a:arcTo wR="21600" hR="7921" stAng="0" swAng="-314007"/>
                <a:lnTo>
                  <a:pt x="20956" y="9841"/>
                </a:lnTo>
                <a:arcTo wR="21600" hR="7921" stAng="-314007" swAng="-508599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4191120" y="1600200"/>
            <a:ext cx="484200" cy="12063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048120" y="3048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кс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048120" y="3809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т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говорн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н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разеолог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моционально- окрашенн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04920" y="3657600"/>
            <a:ext cx="286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р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ли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он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ереф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некдо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6553080" y="373392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ра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нве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целля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иторический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пиф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304560"/>
            <a:ext cx="7924680" cy="61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фора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тафор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гипербол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офессиональные слова –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арцелляция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лексический повтор –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синекдоха –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онтекстные синонимы –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о., область поиска указанного языкового средства заметно суз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оп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ся обороты речи, в которых слово или словосочетание употреблено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ено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ении в целях достижения большей художестве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опами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эпит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етаф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етон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инекдо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ериф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W</cp:lastModifiedBy>
  <dcterms:modified xsi:type="dcterms:W3CDTF">2023-05-14T18:42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