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D82-E9DB-4590-ABF4-0D0BCB9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627-24AA-4674-BB7C-9F9BEF29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344-D5D6-47B6-9CE2-F2A06681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E35-FF61-4722-86CE-626D8D7C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F4C-DB0A-4739-B1B4-2491EEC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7E3-EE7D-4572-9A91-8DCA53BA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7E5-8E59-43A7-B1A5-2405220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D00-C7AB-4C9D-A1A9-F44279F1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62B-2841-485A-820F-2724268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D1C-1342-4612-AA9E-9B513F3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620-F20C-4292-BF10-EF03A50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984-E50C-429C-A1EC-8962821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204-F9AE-4564-9AB9-61A343495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898560" y="16002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даптация 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новым условиям обуч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98560" y="512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3645000"/>
            <a:ext cx="26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ила: педагог-психоло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ОУ «СОШ № 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ванова Еле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абинет № 2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611280" y="474840"/>
            <a:ext cx="806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преодоления трево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равнивайте ребенка с окружающ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веряйте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ще хвалите его, но так, чтобы он знал, за ч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нстрируйте образцы уверенного поведения, будьте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 примером ребе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ьте последовательны в воспитании ребенка. Не запрещайт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 всяких причин того, что разрешали ран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райтесь делать ребенку меньше замеч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йте наказание лишь в крайних случа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нижайте ребенка, наказывая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сь с ребенком, не подрывайте авторитет друг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мых взрослых людей. Например, нельзя говорить ребенку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ного ваша учительница понимает, лучше меня слушай!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огите ему найти дело по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ятиугольник 5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611280" y="134136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являйте интерес к школьным делам, обсуждайте сложны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туации, вместе ищите выход из конфли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огите ребенку выучить имена новых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ощрение общения с одноклассниками не только в школе, но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 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ощь классному руководителю в проведении классн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ать пример экологичного межличностного общения (развивать умения разрешать конфликты, прощать, просить про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ивать такие ценности, как дружба, взаимопомощь, ув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584280" y="1047600"/>
            <a:ext cx="79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учебной мотивации и усп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2400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ы обучения в начальной школе практически у каждого ученика появляются неусвоенные темы, неотработанные умения и навыки. Они накапливаются как снежный к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чальной школе эти «шероховатости» сглаживаются индивидуальным подходом учителя и повторными объяснениями сразу, как только было замечено неусвоение ребенком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ятом классе такого отслеживания не происходит. И, не усвоив тему (и не подойдя сразу за разъяснением к учителю или родителям), ребенок рискует не понять следующую. Материал усложняется от урока к уроку. Так появляются двойки... Снижается мотивация, так как ребенок осознает свою не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ятиугольник 7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395280" y="404640"/>
            <a:ext cx="83534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увидите проблемы в усвоении программы, не затягивайте: подойдите к учителю, выясните причину появившихся сл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ролируйте поначалу выполнение домашних заданий с учетом требований уч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выполнением домашних заданий проверьте, усвоен ли классный материал. Важно добиться, чтобы ребенок понимал мельчайшие детали выполнения заданий и мог выполнить аналогичные. Просите ребенка объяснять, как он выполняет то или иное упражнение, почему именно эти вычисления применяет при выполнении определен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ребенок все понимает, но проблема успеваемости все равно остается, то займитесь развитием мышления, памяти, внимания. Ведь и наблюдательность, и внимательность, и способность увидеть мельчайшие детали - все это поможет разбору и усвоению материала. Развитие этих психических процессов лучше всего пойдет в играх, потому что в игре появляется более сильная  мотивация, чем в учебной деятельности. Потом закрепленные навыки перенесутся на  саму учебн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395280" y="33336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должны быть пятиклассн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ятиклассники долж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55640" y="220500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ибо за вним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сем вопросам Вы можете обратиться в 214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педагогу-психологу Ивановой Елене Владимиро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584280" y="1047600"/>
            <a:ext cx="794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ьная адаптация – это процесс приспособления к новым   условиям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школы и семьи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адаптации обучающихся 5-х классов к новым условиям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584280" y="620640"/>
            <a:ext cx="794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удности с которыми сталкиваются дети при переходе из начального звена в средне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овый классный руководит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много разных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еобходимость на каждом уроке приспосабливаться к своеобразному темпу, особенностям речи учителей, требов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рассогласованность, даже противоречивость требован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дельных педаго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епривычное распис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много новых кабин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овые дети в класс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возросший темп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возросший объем работы в классе и домашнего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слабление или отсутствие контроля со стороны роди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лабое развитие навыков самостоятельной работы и саморегуля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C:\Users\User\Downloads\d59babe6fef1fe27be9146668743b538.png"/>
          <p:cNvPicPr/>
          <p:nvPr/>
        </p:nvPicPr>
        <p:blipFill>
          <a:blip r:embed="rId2"/>
          <a:stretch/>
        </p:blipFill>
        <p:spPr>
          <a:xfrm>
            <a:off x="3276720" y="2349360"/>
            <a:ext cx="2644560" cy="2573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84280" y="10476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кета для родителей для оценки успешности прохождения процесса адапт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68360" y="476280"/>
            <a:ext cx="8207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успешной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ошее соматическое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бильное психо-эмоциональное 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классниками и уч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 (успешность и самостоятельность в освоении учебной программой, за помощью обращается лишь в том случае, когда сам попробовал выполнить зад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95280" y="476280"/>
            <a:ext cx="8353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дез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матические нарушения (усталый, утомлённый вид ребёнка, плохой сон, жалобы на плохое самочувств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табильное эмоциональное состояние (тревога, раздражительность, нежелание делиться своими впечатлениями о проведённом дне; стремление отвлечь взрослого от школьных событий, переключить внимание на другие тем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учебной мотивации (нежелания выполнять домашние задания; снижение успеваем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удовлетворенность межличностными взаимоотношениями в школе (негативные характеристики в адрес школы, учителей, одноклассников, жалобы на те или иные события, связанные со школ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иугольник 6"/>
          <p:cNvSpPr/>
          <p:nvPr/>
        </p:nvSpPr>
        <p:spPr>
          <a:xfrm>
            <a:off x="611280" y="476280"/>
            <a:ext cx="1224000" cy="485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584280" y="1047600"/>
            <a:ext cx="794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людение режима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рядок дня, а тем более правильный режим дня – важная составляющая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ение чередования труда, отдыха, учёбы, сна и питания значительно облегчает деятельность  и позволяет правильно использовать организма, сохраняя здоровь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ятиугольник 7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s://thumbs.dreamstime.com/b/%D1%80%D0%B0%D1%81%D0%BF%D0%B8%D1%81%D0%B0%D0%BD%D0%B8%D0%B5-%D1%88%D0%BA%D0%BE%D0%BB%D1%8F%D1%80%D0%B8%D0%BA-%D0%B5%D0%B6%D0%B5%D0%B4%D0%BD%D0%B5%D0%B2%D0%BD%D1%8B%D0%B5-%D1%80%D0%B5%D0%B3%D1%83%D0%BB%D1%8F%D1%80%D0%BD%D0%BE-%D0%B8-%D0%BD%D0%B0%D0%B1%D0%BE%D1%80-%D0%B6%D0%B8%D0%B7%D0%BD%D0%B8-%D0%BF%D0%BE%D0%B2%D1%81%D0%B5%D0%B4%D0%BD%D0%B5%D0%B2%D0%BD%D0%BE%D0%B9-206547847.jpg"/>
          <p:cNvPicPr/>
          <p:nvPr/>
        </p:nvPicPr>
        <p:blipFill>
          <a:blip r:embed="rId2"/>
          <a:stretch/>
        </p:blipFill>
        <p:spPr>
          <a:xfrm>
            <a:off x="2050920" y="3933720"/>
            <a:ext cx="49690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584280" y="1047600"/>
            <a:ext cx="79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хорошег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s://avatars.mds.yandex.net/get-pdb/1893445/265cf52f-88a5-4f1a-9061-ad46c9903e2d/s1200"/>
          <p:cNvPicPr/>
          <p:nvPr/>
        </p:nvPicPr>
        <p:blipFill>
          <a:blip r:embed="rId2"/>
          <a:stretch/>
        </p:blipFill>
        <p:spPr>
          <a:xfrm>
            <a:off x="1835280" y="1700280"/>
            <a:ext cx="53704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584280" y="10476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ое благополуч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ятиугольник 5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395280" y="1557360"/>
            <a:ext cx="83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Вас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User</cp:lastModifiedBy>
  <dcterms:modified xsi:type="dcterms:W3CDTF">2023-05-14T12:23:25Z</dcterms:modified>
  <cp:revision>28</cp:revision>
  <dc:subject/>
  <dc:title>Слайд 1</dc:title>
</cp:coreProperties>
</file>