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740-6F8A-4FDE-B74A-4126F5B1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2EE-8929-4A53-8CC2-396BDBF5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941-26E8-45A7-89B3-E21DF9DE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7C8-FF08-4DAE-BBE6-C9F7C638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CE27-6A83-415D-AFBD-EBC64762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C790-8360-48A4-8C4B-E72EC3E0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7508-5F0A-461E-A1FC-B466E71A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D975-88A0-4A6F-BD2A-386C9322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0A1-0640-423A-98FF-E8EEEDC6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3CEA-BB5B-4C40-96B2-E4E47D42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FCE4-D8A8-4C88-BF60-2924C7FA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6AF-43B1-4073-AE60-98DB3D66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7356-7CD6-44BA-A021-06B41AA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733A-4F5F-487D-A3BC-3EE8B30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A5CC-7B01-4ADC-A289-135EA5A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F5A0-3CA5-4B9A-BE5D-93923315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8A5B-AA61-4AD1-9E5F-75249E51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F6C-6F9B-4C57-B62E-DE18E36D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306-2DF0-4B55-9BB3-08842257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39A-D397-436C-AD7A-962E8850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839-0BFE-4010-906B-A5E08854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4DB-A8EF-4CFB-9F65-C8BF83F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B07-D342-4BDE-B32F-77056B27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475-024A-4146-840B-080BBD3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4B1E-8F3B-40F0-8964-BEC29D6302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54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5480"/>
              <a:ext cx="1203120" cy="68421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0800"/>
              <a:chOff x="7848720" y="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81680"/>
                <a:chOff x="8381880" y="0"/>
                <a:chExt cx="762120" cy="2281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0280" y="0"/>
                  <a:ext cx="279360" cy="275040"/>
                  <a:chOff x="8720280" y="0"/>
                  <a:chExt cx="279360" cy="27504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0280" y="0"/>
                    <a:ext cx="279360" cy="275040"/>
                    <a:chOff x="8720280" y="0"/>
                    <a:chExt cx="279360" cy="27504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9520" y="-39240"/>
                      <a:ext cx="20088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8520" y="91800"/>
                      <a:ext cx="1407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9800" y="142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3560" y="6660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4480" y="543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3960" y="1040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9800" y="20484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8320" y="18000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79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7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1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1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20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1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2080"/>
                <a:ext cx="828720" cy="4698720"/>
                <a:chOff x="7848720" y="1612080"/>
                <a:chExt cx="828720" cy="46987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2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5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39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22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4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4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04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2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2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05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8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0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0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2920"/>
              <a:ext cx="1190520" cy="193536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160"/>
              <a:ext cx="1219320" cy="199548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6720"/>
              <a:ext cx="1231920" cy="402768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000"/>
              <a:ext cx="979560" cy="21794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1720"/>
              <a:ext cx="914400" cy="50364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7200"/>
              <a:ext cx="909720" cy="30643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5480"/>
              <a:ext cx="576360" cy="33447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6920"/>
              <a:ext cx="300240" cy="33451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6920"/>
              <a:ext cx="88920" cy="68421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7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1880" y="3323880"/>
              <a:ext cx="6842160" cy="225360"/>
            </a:xfrm>
            <a:custGeom>
              <a:avLst/>
              <a:gdLst>
                <a:gd name="textAreaLeft" fmla="*/ 666720 w 6842160"/>
                <a:gd name="textAreaRight" fmla="*/ 6175440 w 68421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D398-E04E-4C6B-B37E-BA015D2EBB8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Заголовок 1"/>
          <p:cNvSpPr/>
          <p:nvPr/>
        </p:nvSpPr>
        <p:spPr>
          <a:xfrm>
            <a:off x="228600" y="76320"/>
            <a:ext cx="74772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«ВНУТРЕННИЙ   МИР РУССКОЙ   ИЗБЫ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6" descr="G:\народоведение\img1.jpg"/>
          <p:cNvPicPr/>
          <p:nvPr/>
        </p:nvPicPr>
        <p:blipFill>
          <a:blip r:embed="rId1"/>
          <a:stretch/>
        </p:blipFill>
        <p:spPr>
          <a:xfrm>
            <a:off x="1295280" y="2122560"/>
            <a:ext cx="5307120" cy="39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3897036kxu.jpg"/>
          <p:cNvPicPr/>
          <p:nvPr/>
        </p:nvPicPr>
        <p:blipFill>
          <a:blip r:embed="rId1"/>
          <a:stretch/>
        </p:blipFill>
        <p:spPr>
          <a:xfrm>
            <a:off x="380880" y="1295280"/>
            <a:ext cx="7320240" cy="48769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КУТНЫЙ УГО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201006282329-06.jpg"/>
          <p:cNvPicPr/>
          <p:nvPr/>
        </p:nvPicPr>
        <p:blipFill>
          <a:blip r:embed="rId1"/>
          <a:stretch/>
        </p:blipFill>
        <p:spPr>
          <a:xfrm rot="21341400">
            <a:off x="312840" y="1274400"/>
            <a:ext cx="3581280" cy="2378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E:\народоведение\vitoslavizy_v1_t2.jpg"/>
          <p:cNvPicPr/>
          <p:nvPr/>
        </p:nvPicPr>
        <p:blipFill>
          <a:blip r:embed="rId2"/>
          <a:stretch/>
        </p:blipFill>
        <p:spPr>
          <a:xfrm rot="318600">
            <a:off x="4224240" y="1369800"/>
            <a:ext cx="3367080" cy="2525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G:\народоведение\yxwat.jpg"/>
          <p:cNvPicPr/>
          <p:nvPr/>
        </p:nvPicPr>
        <p:blipFill>
          <a:blip r:embed="rId3"/>
          <a:stretch/>
        </p:blipFill>
        <p:spPr>
          <a:xfrm>
            <a:off x="304920" y="3886200"/>
            <a:ext cx="2981160" cy="226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G:\народоведение\13.slide.jpg"/>
          <p:cNvPicPr/>
          <p:nvPr/>
        </p:nvPicPr>
        <p:blipFill>
          <a:blip r:embed="rId4"/>
          <a:stretch/>
        </p:blipFill>
        <p:spPr>
          <a:xfrm>
            <a:off x="4267080" y="4572000"/>
            <a:ext cx="2571840" cy="20001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29320" y="60958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опата для печи, ухва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5405400" y="58672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черг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928800" y="228600"/>
            <a:ext cx="631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еревенская утварь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оршки, чашки, миски, короба, лукош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рукомойник.JPG"/>
          <p:cNvPicPr/>
          <p:nvPr/>
        </p:nvPicPr>
        <p:blipFill>
          <a:blip r:embed="rId1"/>
          <a:stretch/>
        </p:blipFill>
        <p:spPr>
          <a:xfrm>
            <a:off x="380880" y="1600200"/>
            <a:ext cx="3353040" cy="4470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укомойник            Рушни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2" descr="G:\народоведение\49db9c85fd51.jpg"/>
          <p:cNvPicPr/>
          <p:nvPr/>
        </p:nvPicPr>
        <p:blipFill>
          <a:blip r:embed="rId2"/>
          <a:stretch/>
        </p:blipFill>
        <p:spPr>
          <a:xfrm rot="20991600">
            <a:off x="4398480" y="144288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G:\народоведение\0_650_Konec_XIX_vekaStarinniy-Rushnik-polotence-uzkoebogato_dekorirovannoe_polotnische_domashnego_proizvodstva_4107767.jpg"/>
          <p:cNvPicPr/>
          <p:nvPr/>
        </p:nvPicPr>
        <p:blipFill>
          <a:blip r:embed="rId3"/>
          <a:stretch/>
        </p:blipFill>
        <p:spPr>
          <a:xfrm rot="255000">
            <a:off x="5729040" y="4103280"/>
            <a:ext cx="1866960" cy="24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\\server\pub\Секретарь\7 класс\русская изба 14 09 09\русская изба 14 09 09 (13).JPG"/>
          <p:cNvPicPr/>
          <p:nvPr/>
        </p:nvPicPr>
        <p:blipFill>
          <a:blip r:embed="rId1"/>
          <a:stretch/>
        </p:blipFill>
        <p:spPr>
          <a:xfrm rot="21261600">
            <a:off x="316080" y="1588680"/>
            <a:ext cx="4111560" cy="31417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ЯЛ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5" descr="G:\народоведение\6_29.jpg"/>
          <p:cNvPicPr/>
          <p:nvPr/>
        </p:nvPicPr>
        <p:blipFill>
          <a:blip r:embed="rId2"/>
          <a:stretch/>
        </p:blipFill>
        <p:spPr>
          <a:xfrm rot="202200">
            <a:off x="4952880" y="1981080"/>
            <a:ext cx="2362320" cy="3543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3" descr="русской избы_ординарки_Ок.JPG"/>
          <p:cNvPicPr/>
          <p:nvPr/>
        </p:nvPicPr>
        <p:blipFill>
          <a:blip r:embed="rId1"/>
          <a:stretch/>
        </p:blipFill>
        <p:spPr>
          <a:xfrm>
            <a:off x="457200" y="1143000"/>
            <a:ext cx="6934320" cy="4554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62000" y="38088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ый    у     крас     го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955400" y="3808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Красный уго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303480" y="327672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й    ру     ник     к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890240" y="335268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Рукомойни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80880" y="152388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315720" y="198108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й     мо    д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4961520" y="17524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ов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533520" y="243828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ир       му        ва      до     ше    м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847880" y="3429000"/>
            <a:ext cx="42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Мир вашему дому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829440" y="38088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м    род    печь    мать      на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604160" y="1295280"/>
            <a:ext cx="49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Печь нам мать родная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738080" y="5029200"/>
            <a:ext cx="44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русской избы_ординарки_Ок.JPG"/>
          <p:cNvPicPr/>
          <p:nvPr/>
        </p:nvPicPr>
        <p:blipFill>
          <a:blip r:embed="rId1"/>
          <a:stretch/>
        </p:blipFill>
        <p:spPr>
          <a:xfrm>
            <a:off x="380880" y="1447920"/>
            <a:ext cx="7077240" cy="4647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Внутренний мир изб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533520"/>
            <a:ext cx="74768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СПАСИБО </a:t>
            </a:r>
            <a:br>
              <a:rPr sz="5400"/>
            </a:br>
            <a:r>
              <a:rPr b="0" lang="ru-RU" sz="5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ЗА</a:t>
            </a:r>
            <a:br>
              <a:rPr sz="5400"/>
            </a:br>
            <a:r>
              <a:rPr b="0" lang="ru-RU" sz="5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ВНИМАНИЕ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5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Рисунок 3" descr="русской избы_ординарки_Ок.JPG"/>
          <p:cNvPicPr/>
          <p:nvPr/>
        </p:nvPicPr>
        <p:blipFill>
          <a:blip r:embed="rId1"/>
          <a:stretch/>
        </p:blipFill>
        <p:spPr>
          <a:xfrm>
            <a:off x="228600" y="533520"/>
            <a:ext cx="741996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Печь была основой жизни, главным оберегом семьи, семейным очагом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«Без печки  изба – не изба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Содержимое 4" descr="05.slide.jpg"/>
          <p:cNvPicPr/>
          <p:nvPr/>
        </p:nvPicPr>
        <p:blipFill>
          <a:blip r:embed="rId1"/>
          <a:stretch/>
        </p:blipFill>
        <p:spPr>
          <a:xfrm>
            <a:off x="685800" y="1523880"/>
            <a:ext cx="67150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ГУСИ - ЛЕБЕД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Содержимое 3" descr="gusi_lebedi.jpg"/>
          <p:cNvPicPr/>
          <p:nvPr/>
        </p:nvPicPr>
        <p:blipFill>
          <a:blip r:embed="rId1"/>
          <a:stretch/>
        </p:blipFill>
        <p:spPr>
          <a:xfrm>
            <a:off x="762120" y="1523880"/>
            <a:ext cx="6476760" cy="470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ПО-ЩУЧЬЕМУ ВЕЛЕНИЮ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Содержимое 3" descr="4XuuYASLMb.jpg"/>
          <p:cNvPicPr/>
          <p:nvPr/>
        </p:nvPicPr>
        <p:blipFill>
          <a:blip r:embed="rId1"/>
          <a:stretch/>
        </p:blipFill>
        <p:spPr>
          <a:xfrm>
            <a:off x="2057400" y="1219320"/>
            <a:ext cx="3809880" cy="5271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ЖИХАР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Содержимое 3" descr="7.jpg"/>
          <p:cNvPicPr/>
          <p:nvPr/>
        </p:nvPicPr>
        <p:blipFill>
          <a:blip r:embed="rId1"/>
          <a:stretch/>
        </p:blipFill>
        <p:spPr>
          <a:xfrm>
            <a:off x="533520" y="1295280"/>
            <a:ext cx="71103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овой - покровитель домашнего оча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77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РАСНЫЙ УГО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Содержимое 5" descr="3897039mdy.jpg"/>
          <p:cNvPicPr/>
          <p:nvPr/>
        </p:nvPicPr>
        <p:blipFill>
          <a:blip r:embed="rId1"/>
          <a:stretch/>
        </p:blipFill>
        <p:spPr>
          <a:xfrm>
            <a:off x="355680" y="1357200"/>
            <a:ext cx="7111800" cy="4738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5" descr="_104_____oe_595.jpg"/>
          <p:cNvPicPr/>
          <p:nvPr/>
        </p:nvPicPr>
        <p:blipFill>
          <a:blip r:embed="rId1"/>
          <a:stretch/>
        </p:blipFill>
        <p:spPr>
          <a:xfrm>
            <a:off x="762120" y="990720"/>
            <a:ext cx="650232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0:36:25Z</dcterms:created>
  <dc:creator>NIKA...)))</dc:creator>
  <dc:description/>
  <dc:language>en-US</dc:language>
  <cp:lastModifiedBy>Пользователь Windows</cp:lastModifiedBy>
  <dcterms:modified xsi:type="dcterms:W3CDTF">2023-05-13T21:11:49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