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5A3EE-B11D-4E86-B4CA-B9D93E25D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D0A15-1BD4-40DD-ADAF-7DD2A67F5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E8CCC-2D47-4AE2-BF59-F26F8B263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1AC9E-CD1F-4870-9254-7983843F7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78826-CA70-4437-926C-D4321E522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2F3E6-55D5-4FA0-9B0A-7D632BEA7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7A4D1-1134-4B6A-B1A6-9134B23D9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BA0B1-2027-444D-BD60-BA0E4FEF6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EFCAD-442E-41D9-B6E5-2B28BD82A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C0DE6-DECA-4D97-988F-683023A00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7A8D7-8BDB-4220-A293-C3BD3374A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052A6-AA6F-4F6A-9FFC-386533A79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6C135-D722-483A-A146-2BD8C954D8D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85840"/>
            <a:ext cx="7772400" cy="27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БДОУ </a:t>
            </a:r>
            <a:br>
              <a:rPr sz="2800"/>
            </a:br>
            <a:r>
              <a:rPr b="0" lang="ru-RU" sz="2400" spc="-1" strike="noStrike">
                <a:solidFill>
                  <a:srgbClr val="ff0000"/>
                </a:solidFill>
                <a:latin typeface="Calibri"/>
                <a:ea typeface="Trebuchet MS"/>
              </a:rPr>
              <a:t>детский сад № 104</a:t>
            </a:r>
            <a:br>
              <a:rPr sz="2400"/>
            </a:br>
            <a:r>
              <a:rPr b="0" lang="ru-RU" sz="2400" spc="-1" strike="noStrike">
                <a:solidFill>
                  <a:srgbClr val="ff0000"/>
                </a:solidFill>
                <a:latin typeface="Calibri"/>
                <a:ea typeface="Trebuchet MS"/>
              </a:rPr>
              <a:t>комбинированного вида </a:t>
            </a:r>
            <a:br>
              <a:rPr sz="2800"/>
            </a:b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евского района г. Санкт-Петербург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071880"/>
            <a:ext cx="6400800" cy="256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Презентац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«Узнай изображение на зашумленном фоне</a:t>
            </a: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 2</a:t>
            </a: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98989"/>
                </a:solidFill>
                <a:latin typeface="Calibri"/>
              </a:rPr>
              <a:t>Учитель-дефектолог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98989"/>
                </a:solidFill>
                <a:latin typeface="Calibri"/>
              </a:rPr>
              <a:t>Н.Е. Леонтьев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ая соединительная линия 32"/>
          <p:cNvSpPr/>
          <p:nvPr/>
        </p:nvSpPr>
        <p:spPr>
          <a:xfrm flipV="1">
            <a:off x="857160" y="285840"/>
            <a:ext cx="492912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6" descr="http://vestnikk.ru/uploads/posts/2010-08/fox-61.jpg"/>
          <p:cNvPicPr/>
          <p:nvPr/>
        </p:nvPicPr>
        <p:blipFill>
          <a:blip r:embed="rId1"/>
          <a:stretch/>
        </p:blipFill>
        <p:spPr>
          <a:xfrm>
            <a:off x="3768840" y="2571840"/>
            <a:ext cx="1731960" cy="23097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6" descr="http://bear-team.com/wp-content/uploads/2012/05/Brown-bear-C-Ivan-Seryodkin-copy.jpg"/>
          <p:cNvPicPr/>
          <p:nvPr/>
        </p:nvPicPr>
        <p:blipFill>
          <a:blip r:embed="rId2"/>
          <a:stretch/>
        </p:blipFill>
        <p:spPr>
          <a:xfrm>
            <a:off x="4429080" y="1000080"/>
            <a:ext cx="2278080" cy="16430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http://s29.postimg.org/r33y2i0if/deer.png"/>
          <p:cNvPicPr/>
          <p:nvPr/>
        </p:nvPicPr>
        <p:blipFill>
          <a:blip r:embed="rId3"/>
          <a:stretch/>
        </p:blipFill>
        <p:spPr>
          <a:xfrm>
            <a:off x="2500200" y="1500120"/>
            <a:ext cx="1857600" cy="2233800"/>
          </a:xfrm>
          <a:prstGeom prst="rect">
            <a:avLst/>
          </a:prstGeom>
          <a:ln w="0">
            <a:noFill/>
          </a:ln>
        </p:spPr>
      </p:pic>
      <p:sp>
        <p:nvSpPr>
          <p:cNvPr id="47" name="Прямая соединительная линия 38"/>
          <p:cNvSpPr/>
          <p:nvPr/>
        </p:nvSpPr>
        <p:spPr>
          <a:xfrm flipV="1">
            <a:off x="1009800" y="438120"/>
            <a:ext cx="492912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ая соединительная линия 39"/>
          <p:cNvSpPr/>
          <p:nvPr/>
        </p:nvSpPr>
        <p:spPr>
          <a:xfrm flipV="1">
            <a:off x="1162080" y="590400"/>
            <a:ext cx="492912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ая соединительная линия 40"/>
          <p:cNvSpPr/>
          <p:nvPr/>
        </p:nvSpPr>
        <p:spPr>
          <a:xfrm flipV="1">
            <a:off x="1314360" y="743040"/>
            <a:ext cx="492912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ая соединительная линия 41"/>
          <p:cNvSpPr/>
          <p:nvPr/>
        </p:nvSpPr>
        <p:spPr>
          <a:xfrm flipV="1">
            <a:off x="1467000" y="895320"/>
            <a:ext cx="492912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42"/>
          <p:cNvSpPr/>
          <p:nvPr/>
        </p:nvSpPr>
        <p:spPr>
          <a:xfrm flipV="1">
            <a:off x="1619280" y="1047600"/>
            <a:ext cx="492912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43"/>
          <p:cNvSpPr/>
          <p:nvPr/>
        </p:nvSpPr>
        <p:spPr>
          <a:xfrm flipV="1">
            <a:off x="1771560" y="1200240"/>
            <a:ext cx="492912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44"/>
          <p:cNvSpPr/>
          <p:nvPr/>
        </p:nvSpPr>
        <p:spPr>
          <a:xfrm flipV="1">
            <a:off x="1924200" y="1352520"/>
            <a:ext cx="492912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45"/>
          <p:cNvSpPr/>
          <p:nvPr/>
        </p:nvSpPr>
        <p:spPr>
          <a:xfrm flipV="1">
            <a:off x="2076480" y="1504800"/>
            <a:ext cx="492912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46"/>
          <p:cNvSpPr/>
          <p:nvPr/>
        </p:nvSpPr>
        <p:spPr>
          <a:xfrm flipV="1">
            <a:off x="2228760" y="1657440"/>
            <a:ext cx="492912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47"/>
          <p:cNvSpPr/>
          <p:nvPr/>
        </p:nvSpPr>
        <p:spPr>
          <a:xfrm flipV="1">
            <a:off x="2381400" y="1809720"/>
            <a:ext cx="492912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ая соединительная линия 48"/>
          <p:cNvSpPr/>
          <p:nvPr/>
        </p:nvSpPr>
        <p:spPr>
          <a:xfrm flipV="1">
            <a:off x="2533680" y="1962000"/>
            <a:ext cx="492912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ая соединительная линия 49"/>
          <p:cNvSpPr/>
          <p:nvPr/>
        </p:nvSpPr>
        <p:spPr>
          <a:xfrm flipV="1">
            <a:off x="2685960" y="2114640"/>
            <a:ext cx="492912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ая соединительная линия 50"/>
          <p:cNvSpPr/>
          <p:nvPr/>
        </p:nvSpPr>
        <p:spPr>
          <a:xfrm flipV="1">
            <a:off x="2838600" y="2266920"/>
            <a:ext cx="492912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ая соединительная линия 51"/>
          <p:cNvSpPr/>
          <p:nvPr/>
        </p:nvSpPr>
        <p:spPr>
          <a:xfrm flipV="1">
            <a:off x="2990880" y="2419200"/>
            <a:ext cx="492912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ая соединительная линия 52"/>
          <p:cNvSpPr/>
          <p:nvPr/>
        </p:nvSpPr>
        <p:spPr>
          <a:xfrm flipV="1">
            <a:off x="3143160" y="2571840"/>
            <a:ext cx="492912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ая соединительная линия 53"/>
          <p:cNvSpPr/>
          <p:nvPr/>
        </p:nvSpPr>
        <p:spPr>
          <a:xfrm flipV="1">
            <a:off x="3295800" y="2724120"/>
            <a:ext cx="492912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ая соединительная линия 54"/>
          <p:cNvSpPr/>
          <p:nvPr/>
        </p:nvSpPr>
        <p:spPr>
          <a:xfrm flipV="1">
            <a:off x="3448080" y="2876400"/>
            <a:ext cx="492912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ая соединительная линия 55"/>
          <p:cNvSpPr/>
          <p:nvPr/>
        </p:nvSpPr>
        <p:spPr>
          <a:xfrm flipV="1">
            <a:off x="3600360" y="3029040"/>
            <a:ext cx="492912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ая соединительная линия 56"/>
          <p:cNvSpPr/>
          <p:nvPr/>
        </p:nvSpPr>
        <p:spPr>
          <a:xfrm flipV="1">
            <a:off x="3753000" y="3181320"/>
            <a:ext cx="492912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Прямая соединительная линия 57"/>
          <p:cNvSpPr/>
          <p:nvPr/>
        </p:nvSpPr>
        <p:spPr>
          <a:xfrm flipV="1">
            <a:off x="3905280" y="3333600"/>
            <a:ext cx="492912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6" descr="http://images.kakprosto.ru/articles/201107/article_1608_776d1f402500b0530c2cbd02cf65f7141310492348.jpg"/>
          <p:cNvPicPr/>
          <p:nvPr/>
        </p:nvPicPr>
        <p:blipFill>
          <a:blip r:embed="rId1"/>
          <a:stretch/>
        </p:blipFill>
        <p:spPr>
          <a:xfrm>
            <a:off x="1857240" y="119160"/>
            <a:ext cx="5286600" cy="38718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4" descr="http://ptici.narod.ru/foto_max/snegir.jpg"/>
          <p:cNvPicPr/>
          <p:nvPr/>
        </p:nvPicPr>
        <p:blipFill>
          <a:blip r:embed="rId2"/>
          <a:stretch/>
        </p:blipFill>
        <p:spPr>
          <a:xfrm>
            <a:off x="3000240" y="285840"/>
            <a:ext cx="6637320" cy="44114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4" descr="http://golybi.my1.ru/sizyj_golub_2.jpg"/>
          <p:cNvPicPr/>
          <p:nvPr/>
        </p:nvPicPr>
        <p:blipFill>
          <a:blip r:embed="rId3"/>
          <a:stretch/>
        </p:blipFill>
        <p:spPr>
          <a:xfrm>
            <a:off x="2857680" y="1571760"/>
            <a:ext cx="4665600" cy="32446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" descr="http://s60.radikal.ru/i169/1101/60/351e2d4c40f3.jpg"/>
          <p:cNvPicPr/>
          <p:nvPr/>
        </p:nvPicPr>
        <p:blipFill>
          <a:blip r:embed="rId4"/>
          <a:stretch/>
        </p:blipFill>
        <p:spPr>
          <a:xfrm>
            <a:off x="1000080" y="1143000"/>
            <a:ext cx="5524560" cy="4143240"/>
          </a:xfrm>
          <a:prstGeom prst="rect">
            <a:avLst/>
          </a:prstGeom>
          <a:ln w="0">
            <a:noFill/>
          </a:ln>
        </p:spPr>
      </p:pic>
      <p:sp>
        <p:nvSpPr>
          <p:cNvPr id="71" name="Прямая соединительная линия 6"/>
          <p:cNvSpPr/>
          <p:nvPr/>
        </p:nvSpPr>
        <p:spPr>
          <a:xfrm flipV="1">
            <a:off x="857160" y="285840"/>
            <a:ext cx="492912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ая соединительная линия 7"/>
          <p:cNvSpPr/>
          <p:nvPr/>
        </p:nvSpPr>
        <p:spPr>
          <a:xfrm flipV="1">
            <a:off x="1009800" y="438120"/>
            <a:ext cx="492912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ая соединительная линия 8"/>
          <p:cNvSpPr/>
          <p:nvPr/>
        </p:nvSpPr>
        <p:spPr>
          <a:xfrm flipV="1">
            <a:off x="1162080" y="590400"/>
            <a:ext cx="492912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ая соединительная линия 10"/>
          <p:cNvSpPr/>
          <p:nvPr/>
        </p:nvSpPr>
        <p:spPr>
          <a:xfrm flipV="1">
            <a:off x="1467000" y="895320"/>
            <a:ext cx="492912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Прямая соединительная линия 11"/>
          <p:cNvSpPr/>
          <p:nvPr/>
        </p:nvSpPr>
        <p:spPr>
          <a:xfrm flipV="1">
            <a:off x="1619280" y="1047600"/>
            <a:ext cx="492912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рямая соединительная линия 12"/>
          <p:cNvSpPr/>
          <p:nvPr/>
        </p:nvSpPr>
        <p:spPr>
          <a:xfrm flipV="1">
            <a:off x="1771560" y="1200240"/>
            <a:ext cx="492912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Прямая соединительная линия 13"/>
          <p:cNvSpPr/>
          <p:nvPr/>
        </p:nvSpPr>
        <p:spPr>
          <a:xfrm flipV="1">
            <a:off x="1924200" y="1352520"/>
            <a:ext cx="492912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Прямая соединительная линия 14"/>
          <p:cNvSpPr/>
          <p:nvPr/>
        </p:nvSpPr>
        <p:spPr>
          <a:xfrm flipV="1">
            <a:off x="2076480" y="1504800"/>
            <a:ext cx="492912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рямая соединительная линия 15"/>
          <p:cNvSpPr/>
          <p:nvPr/>
        </p:nvSpPr>
        <p:spPr>
          <a:xfrm flipV="1">
            <a:off x="2228760" y="1657440"/>
            <a:ext cx="492912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Прямая соединительная линия 16"/>
          <p:cNvSpPr/>
          <p:nvPr/>
        </p:nvSpPr>
        <p:spPr>
          <a:xfrm flipV="1">
            <a:off x="2381400" y="1809720"/>
            <a:ext cx="492912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Прямая соединительная линия 17"/>
          <p:cNvSpPr/>
          <p:nvPr/>
        </p:nvSpPr>
        <p:spPr>
          <a:xfrm flipV="1">
            <a:off x="2533680" y="1962000"/>
            <a:ext cx="492912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Прямая соединительная линия 18"/>
          <p:cNvSpPr/>
          <p:nvPr/>
        </p:nvSpPr>
        <p:spPr>
          <a:xfrm flipV="1">
            <a:off x="2685960" y="2114640"/>
            <a:ext cx="492912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Прямая соединительная линия 19"/>
          <p:cNvSpPr/>
          <p:nvPr/>
        </p:nvSpPr>
        <p:spPr>
          <a:xfrm flipV="1">
            <a:off x="2838600" y="2266920"/>
            <a:ext cx="492912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ая соединительная линия 20"/>
          <p:cNvSpPr/>
          <p:nvPr/>
        </p:nvSpPr>
        <p:spPr>
          <a:xfrm flipV="1">
            <a:off x="2990880" y="2419200"/>
            <a:ext cx="492912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Прямая соединительная линия 21"/>
          <p:cNvSpPr/>
          <p:nvPr/>
        </p:nvSpPr>
        <p:spPr>
          <a:xfrm flipV="1">
            <a:off x="3143160" y="2571840"/>
            <a:ext cx="492912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рямая соединительная линия 22"/>
          <p:cNvSpPr/>
          <p:nvPr/>
        </p:nvSpPr>
        <p:spPr>
          <a:xfrm flipV="1">
            <a:off x="3295800" y="2724120"/>
            <a:ext cx="492912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рямая соединительная линия 23"/>
          <p:cNvSpPr/>
          <p:nvPr/>
        </p:nvSpPr>
        <p:spPr>
          <a:xfrm flipV="1">
            <a:off x="3448080" y="2876400"/>
            <a:ext cx="492912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Прямая соединительная линия 24"/>
          <p:cNvSpPr/>
          <p:nvPr/>
        </p:nvSpPr>
        <p:spPr>
          <a:xfrm flipV="1">
            <a:off x="3600360" y="3029040"/>
            <a:ext cx="492912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ая соединительная линия 25"/>
          <p:cNvSpPr/>
          <p:nvPr/>
        </p:nvSpPr>
        <p:spPr>
          <a:xfrm flipV="1">
            <a:off x="3753000" y="3181320"/>
            <a:ext cx="492912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ая соединительная линия 26"/>
          <p:cNvSpPr/>
          <p:nvPr/>
        </p:nvSpPr>
        <p:spPr>
          <a:xfrm flipV="1">
            <a:off x="1314360" y="743040"/>
            <a:ext cx="492912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рямая соединительная линия 27"/>
          <p:cNvSpPr/>
          <p:nvPr/>
        </p:nvSpPr>
        <p:spPr>
          <a:xfrm flipV="1">
            <a:off x="3929040" y="3357720"/>
            <a:ext cx="492912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ая соединительная линия 28"/>
          <p:cNvSpPr/>
          <p:nvPr/>
        </p:nvSpPr>
        <p:spPr>
          <a:xfrm flipV="1">
            <a:off x="4071960" y="3571920"/>
            <a:ext cx="492912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рямая соединительная линия 29"/>
          <p:cNvSpPr/>
          <p:nvPr/>
        </p:nvSpPr>
        <p:spPr>
          <a:xfrm flipV="1">
            <a:off x="4224240" y="3724200"/>
            <a:ext cx="492912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9-16T04:12:40Z</dcterms:created>
  <dc:creator>Алёна Леонтьева</dc:creator>
  <dc:description/>
  <dc:language>en-US</dc:language>
  <cp:lastModifiedBy>Алёна Леонтьева</cp:lastModifiedBy>
  <dcterms:modified xsi:type="dcterms:W3CDTF">2023-05-14T04:58:25Z</dcterms:modified>
  <cp:revision>10</cp:revision>
  <dc:subject/>
  <dc:title>ГБДОУ  детский сад № 104 комбинированного вида  Невского района г. Санкт-Петербурга</dc:title>
</cp:coreProperties>
</file>