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5.png" ContentType="image/png"/>
  <Override PartName="/ppt/media/image19.jpeg" ContentType="image/jpe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32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3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21.png" ContentType="image/png"/>
  <Override PartName="/ppt/media/image22.png" ContentType="image/pn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B6E-B704-4DAF-A0F6-E0F895BB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1C2-8666-41A1-91AC-48258D8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EAF-56E6-473F-BC42-379BAFC8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E45-F07A-4B28-B227-D5C276F4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A55-1F36-40A1-AAED-B70BFC3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F5A-4F82-46F3-9A8E-13FEBE6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A03-F4CD-45B1-952C-E15F2723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904-D37A-429F-9CCC-75E0D8F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959-4264-4F3F-931C-460A6F4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ECC-4FFF-4C9B-A016-E124B179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6B3-8ADA-4626-97EF-F5DA625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DD0-2334-4B00-AE33-DA7F01A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D6EC-358F-4337-B430-4443CA7D3D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958B-AFD2-4A27-B1BB-425503013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78580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рок математики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 тем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«Единицы времени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ас.Минута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57480"/>
            <a:ext cx="568656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умбекова Т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СОШ №1 с.Эльхот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3714840" y="1571760"/>
            <a:ext cx="5327640" cy="424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mir-idey.org/upload/fullsize/16.jpg"/>
          <p:cNvPicPr/>
          <p:nvPr/>
        </p:nvPicPr>
        <p:blipFill>
          <a:blip r:embed="rId3"/>
          <a:stretch/>
        </p:blipFill>
        <p:spPr>
          <a:xfrm>
            <a:off x="1428840" y="100008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Тема урока: Единицы време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43040" y="1600200"/>
            <a:ext cx="70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Познакомиться с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Узнать о …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Научиться решать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&amp;Vcy; &amp;dcy;&amp;rcy;&amp;iecy;&amp;vcy;&amp;ncy;&amp;iecy;&amp;mcy; &amp;Kcy;&amp;icy;&amp;tcy;&amp;acy;&amp;iecy; &amp;scy;&amp;ucy;&amp;shchcy;&amp;iecy;&amp;scy;&amp;tcy;&amp;vcy;&amp;ocy;&amp;vcy;&amp;acy;&amp;lcy;&amp;icy;, &amp;ncy;&amp;acy;&amp;pcy;&amp;rcy;&amp;icy;&amp;mcy;&amp;iecy;&amp;rcy; «&amp;chcy;&amp;acy;&amp;scy;&amp;ycy;», &amp;kcy;&amp;ocy;&amp;tcy;&amp;ocy;&amp;rcy;&amp;ycy;&amp;iecy; &amp;bcy;&amp;ycy;&amp;lcy;&amp;icy; &amp;scy;&amp;dcy;&amp;iecy;&amp;lcy;&amp;acy;&amp;ncy;&amp;ycy; &amp;icy;&amp;zcy; &amp;pcy;&amp;rcy;&amp;ocy;&amp;pcy;&amp;icy;&amp;tcy;&amp;acy;&amp;ncy;&amp;ncy;&amp;ycy;&amp;khcy; &amp;mcy;&amp;acy;&amp;scy;&amp;lcy;&amp;ocy;&amp;mcy; &amp;vcy;&amp;iecy;&amp;rcy;&amp;iecy;&amp;vcy;&amp;ocy;&amp;kcy;, &amp;ncy;&amp;acy; &amp;kcy;&amp;ocy;&amp;tcy;&amp;ocy;&amp;rcy;&amp;ycy;&amp;khcy; &amp;bcy;&amp;ycy;&amp;lcy;&amp;icy; &amp;zcy;&amp;acy;&amp;vcy;&amp;yacy;&amp;zcy;&amp;acy;&amp;ncy;&amp;ycy; &amp;ucy;&amp;zcy;&amp;lcy;&amp;ycy;. &amp;Tcy;&amp;acy;&amp;kcy;&amp;ocy;&amp;jcy; &amp;shcy;&amp;ncy;&amp;ucy;&amp;rcy;&amp;ocy;&amp;kcy; &amp;pcy;&amp;ocy;&amp;dcy;&amp;zhcy;&amp;icy;&amp;gcy;&amp;acy;&amp;lcy;&amp;icy;, &amp;kcy;&amp;acy;&amp;zhcy;&amp;dcy;&amp;ycy;&amp;jcy; &amp;rcy;&amp;acy;&amp;zcy;, &amp;kcy;&amp;ocy;&amp;gcy;&amp;dcy;&amp;acy; &amp;pcy;&amp;lcy;&amp;acy;&amp;mcy;&amp;yacy; &amp;dcy;&amp;ocy;&amp;scy;&amp;tcy;&amp;icy;&amp;gcy;&amp;acy;&amp;lcy;&amp;ocy; &amp;ucy;&amp;zcy;&amp;lcy;&amp;acy;, &amp;pcy;&amp;rcy;&amp;ocy;&amp;khcy;&amp;ocy;&amp;dcy;&amp;icy;&amp;lcy; &amp;ocy;&amp;pcy;&amp;rcy;&amp;iecy;&amp;dcy;&amp;iecy;&amp;lcy;&amp;iecy;&amp;ncy;&amp;ncy;&amp;ycy;&amp;jcy; &amp;ocy;&amp;tcy;&amp;rcy;&amp;iecy;&amp;zcy;&amp;ocy;&amp;kcy; &amp;vcy;&amp;rcy;&amp;iecy;&amp;mcy;&amp;iecy;&amp;ncy;&amp;icy;.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&amp;Scy; &amp;ocy; &amp;lcy; &amp;ncy; &amp;iecy; &amp;chcy; &amp;ncy; &amp;ycy; &amp;iecy; &amp;chcy; &amp;acy; &amp;scy; &amp;ycy;. &amp;Pcy;&amp;iecy;&amp;rcy;&amp;vcy;&amp;ycy;&amp;jcy; &amp;pcy;&amp;rcy;&amp;ocy;&amp;scy;&amp;tcy;&amp;iecy;&amp;jcy;&amp;shcy;&amp;icy;&amp;jcy; &amp;pcy;&amp;rcy;&amp;icy;&amp;bcy;&amp;ocy;&amp;rcy; &amp;dcy;&amp;lcy;&amp;yacy; &amp;icy;&amp;zcy;&amp;mcy;&amp;iecy;&amp;rcy;&amp;iecy;&amp;ncy;&amp;icy;&amp;yacy; &amp;vcy;&amp;rcy;&amp;iecy;&amp;mcy;&amp;iecy;&amp;ncy;&amp;icy; — &amp;scy;&amp;ocy;&amp;lcy;&amp;ncy;&amp;iecy;&amp;chcy;&amp;ncy;&amp;ycy;&amp;iecy; &amp;chcy;&amp;acy;&amp;scy;&amp;ycy; — &amp;bcy;&amp;ycy;&amp;lcy; &amp;icy;&amp;zcy;&amp;ocy;&amp;bcy;&amp;rcy;&amp;iecy;&amp;tcy;&amp;iecy;&amp;ncy; &amp;vcy;&amp;acy;&amp;vcy;&amp;icy;&amp;lcy;&amp;ocy;&amp;ncy;&amp;yacy;&amp;ncy;&amp;acy;&amp;mcy;&amp;icy; &amp;pcy;&amp;rcy;&amp;icy;&amp;mcy;&amp;iecy;&amp;rcy;&amp;ncy;&amp;ocy; 3,5 &amp;tcy;&amp;ycy;&amp;scy;&amp;yacy;&amp;chcy;&amp;icy; &amp;lcy;&amp;iecy;&amp;t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&amp;Vcy; &amp;ocy; &amp;dcy; &amp;yacy; &amp;ncy; &amp;ycy; &amp;iecy; &amp;chcy; &amp;acy; &amp;scy; &amp;ycy;. &amp;Ncy;&amp;acy;&amp;rcy;&amp;yacy;&amp;dcy;&amp;ucy; &amp;scy; &amp;scy;&amp;ocy;&amp;lcy;&amp;ncy;&amp;iecy;&amp;chcy;&amp;ncy;&amp;ycy;&amp;mcy;&amp;icy; &amp;chcy;&amp;acy;&amp;scy;&amp;acy;&amp;mcy;&amp;icy; &amp;ucy;&amp;zhcy;&amp;iecy; &amp;vcy;&amp;ocy; 2-&amp;mcy; &amp;icy; 1-&amp;mcy; &amp;tcy;&amp;ycy;&amp;scy;. &amp;dcy;&amp;ocy; &amp;ncy;. &amp;ecy;. &amp;vcy; &amp;Icy;&amp;ncy;&amp;dcy;&amp;icy;&amp;icy;, &amp;IEcy;&amp;gcy;&amp;icy;&amp;pcy;&amp;tcy;&amp;iecy;, &amp;Kcy;&amp;icy;&amp;tcy;&amp;acy;&amp;iecy; &amp;icy; &amp;Gcy;&amp;rcy;&amp;iecy;&amp;tscy;&amp;icy;&amp;icy; &amp;scy;&amp;tcy;&amp;rcy;&amp;ocy;&amp;icy;&amp;lcy;&amp;icy;&amp;scy;&amp;softcy; &amp;vcy;&amp;ocy;&amp;dcy;&amp;yacy;&amp;ncy;&amp;ycy;&amp;iecy; &amp;chcy;&amp;acy;&amp;scy;&amp;ycy;, &amp;kcy;&amp;ocy;&amp;tcy;&amp;ocy;&amp;rcy;&amp;ycy;&amp;iecy; &amp;pcy;&amp;ocy;&amp;kcy;&amp;acy;&amp;zcy;&amp;ycy;&amp;vcy;&amp;acy;&amp;lcy;&amp;icy; &amp;vcy;&amp;rcy;&amp;iecy;&amp;mcy;&amp;yacy; &amp;icy; &amp;dcy;&amp;ncy;&amp;iocy;&amp;mcy;, &amp;icy; &amp;ncy;&amp;ocy;&amp;chcy;&amp;softcy;&amp;yucy;. &amp;Vcy; &amp;Vcy;&amp;acy;&amp;vcy;&amp;icy;&amp;lcy;&amp;ocy;&amp;ncy;&amp;iecy; &amp;tcy;&amp;acy;&amp;kcy;&amp;icy;&amp;iecy; &amp;chcy;&amp;acy;&amp;scy;&amp;ycy; &amp;bcy;&amp;ycy;&amp;lcy;&amp;icy; &amp;vcy; &amp;khcy;&amp;ocy;&amp;dcy;&amp;ucy; &amp;iecy;&amp;shchcy;&amp;iecy; 2050 &amp;lcy;&amp;iecy;&amp;tcy; &amp;tcy;&amp;ocy;&amp;mcy;&amp;u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&amp;Pcy; &amp;iecy; &amp;scy; &amp;ocy; &amp;chcy; &amp;ncy; &amp;ycy; &amp;iecy; &amp;chcy; &amp;acy; &amp;scy; &amp;ycy;. &amp;Pcy;&amp;iecy;&amp;scy;&amp;ocy;&amp;chcy;&amp;ncy;&amp;ycy;&amp;iecy; &amp;chcy;&amp;acy;&amp;scy;&amp;ycy; - &amp;ocy;&amp;dcy;&amp;icy;&amp;ncy; &amp;icy;&amp;zcy;. &amp;scy;&amp;acy;&amp;mcy;&amp;ycy;&amp;khcy; &amp;dcy;&amp;rcy;&amp;iecy;&amp;vcy;&amp;ncy;&amp;icy;&amp;khcy; &amp;pcy;&amp;rcy;&amp;icy;&amp;bcy;&amp;ocy;&amp;rcy;&amp;ocy;&amp;vcy; &amp;dcy;&amp;lcy;&amp;yacy; &amp;ocy;&amp;pcy;&amp;rcy;&amp;iecy;&amp;dcy;&amp;iecy;&amp;lcy;&amp;iecy;&amp;ncy;&amp;icy;&amp;yacy; &amp;vcy;&amp;rcy;&amp;iecy;&amp;mcy;&amp;iecy;&amp;ncy;&amp;icy;. &amp;Ocy;&amp;ncy;&amp;icy; &amp;scy;&amp;ocy;&amp;scy;&amp;tcy;&amp;ocy;&amp;yacy;&amp;tcy; &amp;icy;&amp;zcy; &amp;dcy;&amp;vcy;&amp;ucy;&amp;khcy; &amp;gcy;&amp;rcy;&amp;ucy;&amp;shcy;&amp;iecy;&amp;vcy;&amp;icy;&amp;dcy;&amp;ncy;&amp;ycy;&amp;khcy; &amp;iecy;&amp;mcy;&amp;kcy;&amp;ocy;&amp;scy;&amp;tcy;&amp;iecy;&amp;jcy;, &amp;scy;&amp;ocy;&amp;iecy;&amp;dcy;&amp;icy;&amp;ncy;&amp;iecy;&amp;ncy;&amp;ncy;&amp;ycy;&amp;khcy; &amp;mcy;&amp;iecy;&amp;zhcy;&amp;dcy;&amp;ucy; &amp;scy;&amp;ocy;&amp;bcy;&amp;ocy;&amp;jcy;&amp;ucy;&amp;zcy;&amp;kcy;&amp;icy;&amp;mcy;&amp;icy; &amp;kcy;&amp;ocy;&amp;ncy;&amp;tscy;&amp;acy;&amp;mcy;&amp;i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&amp;TScy; &amp;vcy; &amp;iecy; &amp;tcy; &amp;ocy; &amp;chcy; &amp;ncy; &amp;ycy; &amp;iecy; &amp;chcy; &amp;acy; &amp;scy; &amp;ycy;.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&amp;chcy;&amp;acy;&amp;scy;&amp;ycy; &amp;ncy;&amp;acy; &amp;Scy;&amp;pcy;&amp;acy;&amp;scy;&amp;scy;&amp;kcy;&amp;ocy;&amp;jcy; &amp;bcy;&amp;acy;&amp;shcy;&amp;ncy;&amp;ie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mobatime.ru/images/stories/dials/zb210w.jpg"/>
          <p:cNvPicPr/>
          <p:nvPr/>
        </p:nvPicPr>
        <p:blipFill>
          <a:blip r:embed="rId1"/>
          <a:stretch/>
        </p:blipFill>
        <p:spPr>
          <a:xfrm>
            <a:off x="1857240" y="285840"/>
            <a:ext cx="5857920" cy="5214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662560" y="564372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час=60 м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5" descr=""/>
          <p:cNvPicPr/>
          <p:nvPr/>
        </p:nvPicPr>
        <p:blipFill>
          <a:blip r:embed="rId2"/>
          <a:stretch/>
        </p:blipFill>
        <p:spPr>
          <a:xfrm>
            <a:off x="2692440" y="3429000"/>
            <a:ext cx="2776320" cy="8002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6" descr=""/>
          <p:cNvPicPr/>
          <p:nvPr/>
        </p:nvPicPr>
        <p:blipFill>
          <a:blip r:embed="rId3"/>
          <a:stretch/>
        </p:blipFill>
        <p:spPr>
          <a:xfrm>
            <a:off x="2500200" y="5000760"/>
            <a:ext cx="6419880" cy="888840"/>
          </a:xfrm>
          <a:prstGeom prst="rect">
            <a:avLst/>
          </a:prstGeom>
          <a:ln w="0">
            <a:noFill/>
          </a:ln>
        </p:spPr>
      </p:pic>
      <p:sp>
        <p:nvSpPr>
          <p:cNvPr id="134" name="Содержимое 2"/>
          <p:cNvSpPr/>
          <p:nvPr/>
        </p:nvSpPr>
        <p:spPr>
          <a:xfrm>
            <a:off x="1785960" y="1785960"/>
            <a:ext cx="690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H:\анимашки\Анимашки часы, анимированные часы, разные анимашки часов  Smayli_ru_files\chasa-28.gif"/>
          <p:cNvPicPr/>
          <p:nvPr/>
        </p:nvPicPr>
        <p:blipFill>
          <a:blip r:embed="rId4"/>
          <a:stretch/>
        </p:blipFill>
        <p:spPr>
          <a:xfrm>
            <a:off x="6929280" y="357120"/>
            <a:ext cx="1733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42680" y="506160"/>
            <a:ext cx="619452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 – ка проверь, дружо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ь на месте, все ль в порядк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хочет получ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лишь оценку «5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елаем всем удач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работу, в добрый час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imes New Roman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-10=2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20 минут 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30-10=20(мин.)-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30+20=5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50 минут заняли обе пар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596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2643120" y="3429000"/>
            <a:ext cx="4513320" cy="7984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" descr=""/>
          <p:cNvPicPr/>
          <p:nvPr/>
        </p:nvPicPr>
        <p:blipFill>
          <a:blip r:embed="rId3"/>
          <a:stretch/>
        </p:blipFill>
        <p:spPr>
          <a:xfrm>
            <a:off x="2500200" y="5000760"/>
            <a:ext cx="4286520" cy="801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H:\анимашки\Анимашки часы, анимированные часы, разные анимашки часов  Smayli_ru_files\chasa-37.gif"/>
          <p:cNvPicPr/>
          <p:nvPr/>
        </p:nvPicPr>
        <p:blipFill>
          <a:blip r:embed="rId4"/>
          <a:stretch/>
        </p:blipFill>
        <p:spPr>
          <a:xfrm>
            <a:off x="7143840" y="4714920"/>
            <a:ext cx="17143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428840" y="1000080"/>
          <a:ext cx="7500960" cy="4857840"/>
        </p:xfrm>
        <a:graphic>
          <a:graphicData uri="http://schemas.openxmlformats.org/drawingml/2006/table">
            <a:tbl>
              <a:tblPr/>
              <a:tblGrid>
                <a:gridCol w="2500200"/>
                <a:gridCol w="2500560"/>
                <a:gridCol w="250020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обросовес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им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блюд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 время покажут часы через 10 мин, если сей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час 2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аса 5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часов 4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 летит из Москвы в Санкт-Петербург 1 час, а обратно 60 мин. На сколько больше времени он затрачивает на обратный пу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время"/>
          <p:cNvPicPr/>
          <p:nvPr/>
        </p:nvPicPr>
        <p:blipFill>
          <a:blip r:embed="rId1"/>
          <a:stretch/>
        </p:blipFill>
        <p:spPr>
          <a:xfrm>
            <a:off x="6858000" y="214308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8"/>
          <p:cNvSpPr/>
          <p:nvPr/>
        </p:nvSpPr>
        <p:spPr>
          <a:xfrm>
            <a:off x="6643800" y="42148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й какое время показывают ч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8560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2357280" y="3571920"/>
            <a:ext cx="4286520" cy="80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&amp;CHcy; &amp;acy; &amp;scy; &amp;ycy; &amp;scy; &amp;kcy; &amp;ucy; &amp;kcy; &amp;ucy; &amp;shcy; &amp;kcy; &amp;ocy; &amp;jcy;. &amp;Acy; &amp;khcy;&amp;ocy;&amp;dcy;&amp;icy;&amp;kcy;&amp;icy; –&amp;icy;&amp;zcy;&amp;bcy;&amp;ucy;&amp;shcy;&amp;kcy;&amp;icy;! &amp;Vcy; &amp;ncy;&amp;icy;&amp;khcy; &amp;zhcy;&amp;icy;&amp;vcy;&amp;ucy;&amp;tcy; &amp;kcy;&amp;ucy;&amp;kcy;&amp;ucy;&amp;shcy;&amp;kcy;&amp;icy;. &amp;Ocy;&amp;kcy;&amp;ocy;&amp;shcy;&amp;kcy;&amp;ocy; &amp;rcy;&amp;acy;&amp;scy;&amp;pcy;&amp;acy;&amp;khcy;&amp;ncy;&amp;iocy;&amp;tcy;&amp;scy;&amp;yacy;, &amp;Kcy;&amp;ucy;&amp;kcy;&amp;ucy;&amp;shcy;&amp;kcy;&amp;acy; &amp;vcy;&amp;scy;&amp;tcy;&amp;rcy;&amp;iecy;&amp;pcy;&amp;iecy;&amp;ncy;&amp;iocy;&amp;tcy;&amp;scy;&amp;yacy;: &amp;Kcy;&amp;ucy; – &amp;kcy;&amp;ucy;! &amp;Kcy;&amp;ucy; – &amp;kcy;&amp;ucy;! – &amp;Kcy;&amp;acy;&amp;kcy; &amp;vcy; &amp;lcy;&amp;iecy;&amp;scy;&amp;ucy; &amp;ncy;&amp;acy; &amp;scy;&amp;ucy;&amp;kcy;&amp;ucy;!"/>
          <p:cNvPicPr/>
          <p:nvPr/>
        </p:nvPicPr>
        <p:blipFill>
          <a:blip r:embed="rId3"/>
          <a:stretch/>
        </p:blipFill>
        <p:spPr>
          <a:xfrm>
            <a:off x="5643720" y="285840"/>
            <a:ext cx="307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56880" y="1285920"/>
            <a:ext cx="690084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7  стр. 33  рабочая тетрад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желанию №16 стр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H:\анимашки\Анимашки часы, анимированные часы, разные анимашки часов  Smayli_ru_files\chasa-38.gif"/>
          <p:cNvPicPr/>
          <p:nvPr/>
        </p:nvPicPr>
        <p:blipFill>
          <a:blip r:embed="rId1"/>
          <a:stretch/>
        </p:blipFill>
        <p:spPr>
          <a:xfrm>
            <a:off x="1500120" y="4357800"/>
            <a:ext cx="1500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0" y="242892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 rot="20929200">
            <a:off x="-58320" y="977760"/>
            <a:ext cx="5214960" cy="2857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ута час бере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582000">
            <a:off x="5126040" y="1573200"/>
            <a:ext cx="3643200" cy="264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елу- время, потехе-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2071800" y="4000680"/>
            <a:ext cx="5214960" cy="2643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дно поднялся - день потерял, в молодости не учился -жизнь потер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:\анимашки\Анимашки часы, анимированные часы, разные анимашки часов  Smayli_ru_files\chasa-25.gif"/>
          <p:cNvPicPr/>
          <p:nvPr/>
        </p:nvPicPr>
        <p:blipFill>
          <a:blip r:embed="rId1"/>
          <a:stretch/>
        </p:blipFill>
        <p:spPr>
          <a:xfrm>
            <a:off x="7500960" y="4572000"/>
            <a:ext cx="1380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6240"/>
            <a:ext cx="77151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Итог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42680" y="1599840"/>
            <a:ext cx="70722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Познакомились с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Узнали о …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Times New Roman"/>
              </a:rPr>
              <a:t>Научились решать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:\анимашки\Анимашки часы, анимированные часы, разные анимашки часов  Smayli_ru_files\chasa-40.gif"/>
          <p:cNvPicPr/>
          <p:nvPr/>
        </p:nvPicPr>
        <p:blipFill>
          <a:blip r:embed="rId1"/>
          <a:stretch/>
        </p:blipFill>
        <p:spPr>
          <a:xfrm>
            <a:off x="7072200" y="642960"/>
            <a:ext cx="1428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7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500360" cy="175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&amp;Acy;&amp;ncy;&amp;icy;&amp;mcy;&amp;acy;&amp;shcy;&amp;kcy;&amp;icy; &amp;CHcy;&amp;acy;&amp;scy;&amp;ycy;"/>
          <p:cNvPicPr/>
          <p:nvPr/>
        </p:nvPicPr>
        <p:blipFill>
          <a:blip r:embed="rId3"/>
          <a:stretch/>
        </p:blipFill>
        <p:spPr>
          <a:xfrm>
            <a:off x="6786720" y="428760"/>
            <a:ext cx="1523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428840" y="3286080"/>
            <a:ext cx="2228760" cy="3390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7"/>
          <p:cNvSpPr/>
          <p:nvPr/>
        </p:nvSpPr>
        <p:spPr>
          <a:xfrm>
            <a:off x="4071960" y="142884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4071960" y="2071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3214800"/>
            <a:ext cx="642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абота в рабочей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4086720" y="2643120"/>
            <a:ext cx="41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Ново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71960" y="5133960"/>
            <a:ext cx="528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Самостоятельная работа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4076280" y="4429080"/>
            <a:ext cx="435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5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Найди правильный отв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1285920"/>
          <a:ext cx="8715240" cy="521496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68400"/>
                <a:gridCol w="968400"/>
                <a:gridCol w="968400"/>
                <a:gridCol w="968400"/>
                <a:gridCol w="968040"/>
                <a:gridCol w="968400"/>
              </a:tblGrid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54" name="TextBox 7"/>
          <p:cNvSpPr/>
          <p:nvPr/>
        </p:nvSpPr>
        <p:spPr>
          <a:xfrm>
            <a:off x="421884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19960" y="52862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14788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0773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19960" y="1285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148560" y="3857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077440" y="39290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814788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2500200" y="3429000"/>
            <a:ext cx="3159360" cy="8002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3"/>
          <a:stretch/>
        </p:blipFill>
        <p:spPr>
          <a:xfrm>
            <a:off x="2357280" y="5000760"/>
            <a:ext cx="6232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Составь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1227240"/>
          <a:ext cx="8715240" cy="491652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68400"/>
                <a:gridCol w="968400"/>
                <a:gridCol w="968400"/>
                <a:gridCol w="968400"/>
                <a:gridCol w="968040"/>
                <a:gridCol w="968400"/>
              </a:tblGrid>
              <a:tr h="13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68" name="TextBox 7"/>
          <p:cNvSpPr/>
          <p:nvPr/>
        </p:nvSpPr>
        <p:spPr>
          <a:xfrm>
            <a:off x="421884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19960" y="52862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814788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40773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219960" y="1214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3148560" y="3857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077440" y="39290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8147880" y="1285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28760" y="128592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4289400" y="264312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8219160" y="52149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147520" y="135720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3361680" y="3929040"/>
            <a:ext cx="5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60720" y="521496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289840" y="3857760"/>
            <a:ext cx="5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219200" y="12859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0.03889 C -0.03733 0.21204 -0.04149 0.38542 -0.01354 0.49144 C 0.01441 0.59746 0.10868 0.64653 0.1349 0.67524 C 0.16111 0.70394 0.1526 0.68357 0.1441 0.6632 E">
                                      <p:cBhvr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C -0.00712 -0.00301 -0.01407 -0.00556 -0.01737 2.59259E-006 C -0.02049 0.00555 -0.00816 -0.00533 -0.0191 0.03379 C -0.02987 0.07315 -0.0533 0.1618 -0.08299 0.23472 C -0.1125 0.30764 -0.17796 0.4324 -0.19671 0.47129 E">
                                      <p:cBhvr>
                                        <p:cTn id="10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C -0.09879 0.0125 -0.1974 0.02523 -0.28872 0.04167 C -0.38004 0.05718 -0.50452 0.08681 -0.54757 0.09607 E">
                                      <p:cBhvr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204 C 0.10643 0.01412 0.20972 0.0162 0.27587 0.03032 C 0.34202 0.04445 0.37934 0.08588 0.4 0.09699 E">
                                      <p:cBhvr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3148 C 0.0533 0.07037 0.10764 0.10949 0.13246 0.15255 C 0.15729 0.1956 0.14514 0.26713 0.14774 0.29005 E">
                                      <p:cBhvr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76 0.09144 C -0.09305 0.15718 -0.15034 0.22315 -0.18871 0.29144 C -0.22708 0.35972 -0.24531 0.43843 -0.26597 0.50139 C -0.28663 0.56435 -0.3052 0.6412 -0.31302 0.66921 E">
                                      <p:cBhvr>
                                        <p:cTn id="11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.0419 C 0.05938 0.08704 0.10365 0.13218 0.11372 0.17524 C 0.12379 0.21829 0.08212 0.27963 0.07587 0.30047 E">
                                      <p:cBhvr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3 0.07037 C 0.09062 0.1 0.15711 0.12987 0.19704 0.17963 C 0.23697 0.2294 0.24809 0.29885 0.26371 0.36945 C 0.27934 0.44005 0.28871 0.55348 0.29097 0.60371 C 0.29322 0.65394 0.27951 0.65926 0.27725 0.67037 E">
                                      <p:cBhvr>
                                        <p:cTn id="1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осстанови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удава 5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ушей зайца 13  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Длина муравья 6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За лето суслик съедает 6 …..зер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орова за один удой дает 4 …. мол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4360680" y="15717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861880" y="214308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861800" y="28576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433200" y="35002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075440" y="4143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85600" y="160020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3400560" cy="8017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2500200" y="3429000"/>
            <a:ext cx="315936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6" descr=""/>
          <p:cNvPicPr/>
          <p:nvPr/>
        </p:nvPicPr>
        <p:blipFill>
          <a:blip r:embed="rId3"/>
          <a:stretch/>
        </p:blipFill>
        <p:spPr>
          <a:xfrm>
            <a:off x="2357280" y="5000760"/>
            <a:ext cx="6232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imes New Roman"/>
              </a:rPr>
              <a:t>Велич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http://www.kakprosto.ru/sites/kakprosto/files/styles/step_full/public/images3/201201/106465/step-fd64cd4b3539fd1209f59945654c65ee.jpg"/>
          <p:cNvPicPr/>
          <p:nvPr/>
        </p:nvPicPr>
        <p:blipFill>
          <a:blip r:embed="rId1"/>
          <a:stretch/>
        </p:blipFill>
        <p:spPr>
          <a:xfrm>
            <a:off x="14288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3-tub-ru.yandex.net/i?id=208675343-32-72&amp;n=21"/>
          <p:cNvPicPr/>
          <p:nvPr/>
        </p:nvPicPr>
        <p:blipFill>
          <a:blip r:embed="rId2"/>
          <a:stretch/>
        </p:blipFill>
        <p:spPr>
          <a:xfrm>
            <a:off x="3929040" y="464328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2-tub-ru.yandex.net/i?id=439040504-44-72&amp;n=21"/>
          <p:cNvPicPr/>
          <p:nvPr/>
        </p:nvPicPr>
        <p:blipFill>
          <a:blip r:embed="rId3"/>
          <a:stretch/>
        </p:blipFill>
        <p:spPr>
          <a:xfrm>
            <a:off x="6500880" y="4643280"/>
            <a:ext cx="2004840" cy="18576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" descr=""/>
          <p:cNvPicPr/>
          <p:nvPr/>
        </p:nvPicPr>
        <p:blipFill>
          <a:blip r:embed="rId4"/>
          <a:stretch/>
        </p:blipFill>
        <p:spPr>
          <a:xfrm>
            <a:off x="1006560" y="2786040"/>
            <a:ext cx="2639880" cy="12081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7" descr=""/>
          <p:cNvPicPr/>
          <p:nvPr/>
        </p:nvPicPr>
        <p:blipFill>
          <a:blip r:embed="rId5"/>
          <a:stretch/>
        </p:blipFill>
        <p:spPr>
          <a:xfrm>
            <a:off x="3865680" y="2065320"/>
            <a:ext cx="2770200" cy="10875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6"/>
          <a:stretch/>
        </p:blipFill>
        <p:spPr>
          <a:xfrm>
            <a:off x="6365880" y="3071880"/>
            <a:ext cx="2320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01:20Z</dcterms:created>
  <dc:creator>Admin</dc:creator>
  <dc:description/>
  <dc:language>en-US</dc:language>
  <cp:lastModifiedBy>hoval</cp:lastModifiedBy>
  <dcterms:modified xsi:type="dcterms:W3CDTF">2023-05-01T10:47:55Z</dcterms:modified>
  <cp:revision>35</cp:revision>
  <dc:subject/>
  <dc:title>Урок математики  по теме «Единицы времени. Час.Минут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775C15343384F27ACBC91B72C71460A</vt:lpwstr>
  </property>
  <property fmtid="{D5CDD505-2E9C-101B-9397-08002B2CF9AE}" pid="3" name="KSOProductBuildVer">
    <vt:lpwstr>1049-11.2.0.11537</vt:lpwstr>
  </property>
</Properties>
</file>