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5.png" ContentType="image/png"/>
  <Override PartName="/ppt/media/image19.jpeg" ContentType="image/jpeg"/>
  <Override PartName="/ppt/media/image27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3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30.gif" ContentType="image/gif"/>
  <Override PartName="/ppt/media/image14.jpeg" ContentType="image/jpeg"/>
  <Override PartName="/ppt/media/image28.gif" ContentType="image/gif"/>
  <Override PartName="/ppt/media/image32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33.gif" ContentType="image/gif"/>
  <Override PartName="/ppt/media/image18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.jpeg" ContentType="image/jpeg"/>
  <Override PartName="/ppt/media/image29.gif" ContentType="image/gif"/>
  <Override PartName="/ppt/media/image15.jpeg" ContentType="image/jpeg"/>
  <Override PartName="/ppt/media/image16.jpeg" ContentType="image/jpeg"/>
  <Override PartName="/ppt/media/image21.png" ContentType="image/png"/>
  <Override PartName="/ppt/media/image22.png" ContentType="image/png"/>
  <Override PartName="/ppt/media/image31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F71-8436-42AE-8E1C-2512CEA6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79E-DC13-4EF3-946E-3C2163A6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BE0-168A-4BAE-BBD4-30A0F900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DE2-1EF7-4725-A89F-64C55223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DAE-3494-4CAE-934B-1C2F3DF2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6D2-B493-4365-B224-8E282647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BA8-90DB-48D9-9918-5E4EC992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BBA-FFA1-4F9F-9E88-7325309A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66B-7927-42F5-8A99-5AA7EEF4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AAA-3F83-4CD1-BD3D-2F77F5FE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E95-B4B4-46CC-BD6B-389AC18F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A70-DD9F-4572-9D44-4B4058CB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5B11-25AA-4858-BCA1-90578F90E27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93DB-2C48-4241-9C0D-E0F21878BF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720" y="1071720"/>
            <a:ext cx="78580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Урок математики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о теме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«Единицы времени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Час.Минута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857480"/>
            <a:ext cx="568656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лумбекова Т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КОУ СОШ №1 с.Эльхот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Содержимое 3" descr="5592baab70e01868945de62fe59a3d91.jpg"/>
          <p:cNvPicPr/>
          <p:nvPr/>
        </p:nvPicPr>
        <p:blipFill>
          <a:blip r:embed="rId1"/>
          <a:stretch/>
        </p:blipFill>
        <p:spPr>
          <a:xfrm>
            <a:off x="1357200" y="3286080"/>
            <a:ext cx="2229120" cy="339084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4" descr=""/>
          <p:cNvPicPr/>
          <p:nvPr/>
        </p:nvPicPr>
        <p:blipFill>
          <a:blip r:embed="rId2"/>
          <a:stretch/>
        </p:blipFill>
        <p:spPr>
          <a:xfrm>
            <a:off x="3714840" y="1571760"/>
            <a:ext cx="5327640" cy="424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mir-idey.org/upload/fullsize/16.jpg"/>
          <p:cNvPicPr/>
          <p:nvPr/>
        </p:nvPicPr>
        <p:blipFill>
          <a:blip r:embed="rId3"/>
          <a:stretch/>
        </p:blipFill>
        <p:spPr>
          <a:xfrm>
            <a:off x="1428840" y="100008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Тема урока: Единицы време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43040" y="1600200"/>
            <a:ext cx="704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Times New Roman"/>
              </a:rPr>
              <a:t>Цель урока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Times New Roman"/>
              </a:rPr>
              <a:t>Познакомиться с…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Times New Roman"/>
              </a:rPr>
              <a:t>Узнать о …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Times New Roman"/>
              </a:rPr>
              <a:t>Научиться решать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2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&amp;Vcy; &amp;dcy;&amp;rcy;&amp;iecy;&amp;vcy;&amp;ncy;&amp;iecy;&amp;mcy; &amp;Kcy;&amp;icy;&amp;tcy;&amp;acy;&amp;iecy; &amp;scy;&amp;ucy;&amp;shchcy;&amp;iecy;&amp;scy;&amp;tcy;&amp;vcy;&amp;ocy;&amp;vcy;&amp;acy;&amp;lcy;&amp;icy;, &amp;ncy;&amp;acy;&amp;pcy;&amp;rcy;&amp;icy;&amp;mcy;&amp;iecy;&amp;rcy; «&amp;chcy;&amp;acy;&amp;scy;&amp;ycy;», &amp;kcy;&amp;ocy;&amp;tcy;&amp;ocy;&amp;rcy;&amp;ycy;&amp;iecy; &amp;bcy;&amp;ycy;&amp;lcy;&amp;icy; &amp;scy;&amp;dcy;&amp;iecy;&amp;lcy;&amp;acy;&amp;ncy;&amp;ycy; &amp;icy;&amp;zcy; &amp;pcy;&amp;rcy;&amp;ocy;&amp;pcy;&amp;icy;&amp;tcy;&amp;acy;&amp;ncy;&amp;ncy;&amp;ycy;&amp;khcy; &amp;mcy;&amp;acy;&amp;scy;&amp;lcy;&amp;ocy;&amp;mcy; &amp;vcy;&amp;iecy;&amp;rcy;&amp;iecy;&amp;vcy;&amp;ocy;&amp;kcy;, &amp;ncy;&amp;acy; &amp;kcy;&amp;ocy;&amp;tcy;&amp;ocy;&amp;rcy;&amp;ycy;&amp;khcy; &amp;bcy;&amp;ycy;&amp;lcy;&amp;icy; &amp;zcy;&amp;acy;&amp;vcy;&amp;yacy;&amp;zcy;&amp;acy;&amp;ncy;&amp;ycy; &amp;ucy;&amp;zcy;&amp;lcy;&amp;ycy;. &amp;Tcy;&amp;acy;&amp;kcy;&amp;ocy;&amp;jcy; &amp;shcy;&amp;ncy;&amp;ucy;&amp;rcy;&amp;ocy;&amp;kcy; &amp;pcy;&amp;ocy;&amp;dcy;&amp;zhcy;&amp;icy;&amp;gcy;&amp;acy;&amp;lcy;&amp;icy;, &amp;kcy;&amp;acy;&amp;zhcy;&amp;dcy;&amp;ycy;&amp;jcy; &amp;rcy;&amp;acy;&amp;zcy;, &amp;kcy;&amp;ocy;&amp;gcy;&amp;dcy;&amp;acy; &amp;pcy;&amp;lcy;&amp;acy;&amp;mcy;&amp;yacy; &amp;dcy;&amp;ocy;&amp;scy;&amp;tcy;&amp;icy;&amp;gcy;&amp;acy;&amp;lcy;&amp;ocy; &amp;ucy;&amp;zcy;&amp;lcy;&amp;acy;, &amp;pcy;&amp;rcy;&amp;ocy;&amp;khcy;&amp;ocy;&amp;dcy;&amp;icy;&amp;lcy; &amp;ocy;&amp;pcy;&amp;rcy;&amp;iecy;&amp;dcy;&amp;iecy;&amp;lcy;&amp;iecy;&amp;ncy;&amp;ncy;&amp;ycy;&amp;jcy; &amp;ocy;&amp;tcy;&amp;rcy;&amp;iecy;&amp;zcy;&amp;ocy;&amp;kcy; &amp;vcy;&amp;rcy;&amp;iecy;&amp;mcy;&amp;iecy;&amp;ncy;&amp;icy;.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1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&amp;Scy; &amp;ocy; &amp;lcy; &amp;ncy; &amp;iecy; &amp;chcy; &amp;ncy; &amp;ycy; &amp;iecy; &amp;chcy; &amp;acy; &amp;scy; &amp;ycy;. &amp;Pcy;&amp;iecy;&amp;rcy;&amp;vcy;&amp;ycy;&amp;jcy; &amp;pcy;&amp;rcy;&amp;ocy;&amp;scy;&amp;tcy;&amp;iecy;&amp;jcy;&amp;shcy;&amp;icy;&amp;jcy; &amp;pcy;&amp;rcy;&amp;icy;&amp;bcy;&amp;ocy;&amp;rcy; &amp;dcy;&amp;lcy;&amp;yacy; &amp;icy;&amp;zcy;&amp;mcy;&amp;iecy;&amp;rcy;&amp;iecy;&amp;ncy;&amp;icy;&amp;yacy; &amp;vcy;&amp;rcy;&amp;iecy;&amp;mcy;&amp;iecy;&amp;ncy;&amp;icy; — &amp;scy;&amp;ocy;&amp;lcy;&amp;ncy;&amp;iecy;&amp;chcy;&amp;ncy;&amp;ycy;&amp;iecy; &amp;chcy;&amp;acy;&amp;scy;&amp;ycy; — &amp;bcy;&amp;ycy;&amp;lcy; &amp;icy;&amp;zcy;&amp;ocy;&amp;bcy;&amp;rcy;&amp;iecy;&amp;tcy;&amp;iecy;&amp;ncy; &amp;vcy;&amp;acy;&amp;vcy;&amp;icy;&amp;lcy;&amp;ocy;&amp;ncy;&amp;yacy;&amp;ncy;&amp;acy;&amp;mcy;&amp;icy; &amp;pcy;&amp;rcy;&amp;icy;&amp;mcy;&amp;iecy;&amp;rcy;&amp;ncy;&amp;ocy; 3,5 &amp;tcy;&amp;ycy;&amp;scy;&amp;yacy;&amp;chcy;&amp;icy; &amp;lcy;&amp;iecy;&amp;tcy; &amp;ncy;&amp;acy;&amp;zcy;&amp;acy;&amp;dcy;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&amp;Vcy; &amp;ocy; &amp;dcy; &amp;yacy; &amp;ncy; &amp;ycy; &amp;iecy; &amp;chcy; &amp;acy; &amp;scy; &amp;ycy;. &amp;Ncy;&amp;acy;&amp;rcy;&amp;yacy;&amp;dcy;&amp;ucy; &amp;scy; &amp;scy;&amp;ocy;&amp;lcy;&amp;ncy;&amp;iecy;&amp;chcy;&amp;ncy;&amp;ycy;&amp;mcy;&amp;icy; &amp;chcy;&amp;acy;&amp;scy;&amp;acy;&amp;mcy;&amp;icy; &amp;ucy;&amp;zhcy;&amp;iecy; &amp;vcy;&amp;ocy; 2-&amp;mcy; &amp;icy; 1-&amp;mcy; &amp;tcy;&amp;ycy;&amp;scy;. &amp;dcy;&amp;ocy; &amp;ncy;. &amp;ecy;. &amp;vcy; &amp;Icy;&amp;ncy;&amp;dcy;&amp;icy;&amp;icy;, &amp;IEcy;&amp;gcy;&amp;icy;&amp;pcy;&amp;tcy;&amp;iecy;, &amp;Kcy;&amp;icy;&amp;tcy;&amp;acy;&amp;iecy; &amp;icy; &amp;Gcy;&amp;rcy;&amp;iecy;&amp;tscy;&amp;icy;&amp;icy; &amp;scy;&amp;tcy;&amp;rcy;&amp;ocy;&amp;icy;&amp;lcy;&amp;icy;&amp;scy;&amp;softcy; &amp;vcy;&amp;ocy;&amp;dcy;&amp;yacy;&amp;ncy;&amp;ycy;&amp;iecy; &amp;chcy;&amp;acy;&amp;scy;&amp;ycy;, &amp;kcy;&amp;ocy;&amp;tcy;&amp;ocy;&amp;rcy;&amp;ycy;&amp;iecy; &amp;pcy;&amp;ocy;&amp;kcy;&amp;acy;&amp;zcy;&amp;ycy;&amp;vcy;&amp;acy;&amp;lcy;&amp;icy; &amp;vcy;&amp;rcy;&amp;iecy;&amp;mcy;&amp;yacy; &amp;icy; &amp;dcy;&amp;ncy;&amp;iocy;&amp;mcy;, &amp;icy; &amp;ncy;&amp;ocy;&amp;chcy;&amp;softcy;&amp;yucy;. &amp;Vcy; &amp;Vcy;&amp;acy;&amp;vcy;&amp;icy;&amp;lcy;&amp;ocy;&amp;ncy;&amp;iecy; &amp;tcy;&amp;acy;&amp;kcy;&amp;icy;&amp;iecy; &amp;chcy;&amp;acy;&amp;scy;&amp;ycy; &amp;bcy;&amp;ycy;&amp;lcy;&amp;icy; &amp;vcy; &amp;khcy;&amp;ocy;&amp;dcy;&amp;ucy; &amp;iecy;&amp;shchcy;&amp;iecy; 2050 &amp;lcy;&amp;iecy;&amp;tcy; &amp;tcy;&amp;ocy;&amp;mcy;&amp;ucy; &amp;ncy;&amp;acy;&amp;zcy;&amp;acy;&amp;dcy;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2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&amp;Pcy; &amp;iecy; &amp;scy; &amp;ocy; &amp;chcy; &amp;ncy; &amp;ycy; &amp;iecy; &amp;chcy; &amp;acy; &amp;scy; &amp;ycy;. &amp;Pcy;&amp;iecy;&amp;scy;&amp;ocy;&amp;chcy;&amp;ncy;&amp;ycy;&amp;iecy; &amp;chcy;&amp;acy;&amp;scy;&amp;ycy; - &amp;ocy;&amp;dcy;&amp;icy;&amp;ncy; &amp;icy;&amp;zcy;. &amp;scy;&amp;acy;&amp;mcy;&amp;ycy;&amp;khcy; &amp;dcy;&amp;rcy;&amp;iecy;&amp;vcy;&amp;ncy;&amp;icy;&amp;khcy; &amp;pcy;&amp;rcy;&amp;icy;&amp;bcy;&amp;ocy;&amp;rcy;&amp;ocy;&amp;vcy; &amp;dcy;&amp;lcy;&amp;yacy; &amp;ocy;&amp;pcy;&amp;rcy;&amp;iecy;&amp;dcy;&amp;iecy;&amp;lcy;&amp;iecy;&amp;ncy;&amp;icy;&amp;yacy; &amp;vcy;&amp;rcy;&amp;iecy;&amp;mcy;&amp;iecy;&amp;ncy;&amp;icy;. &amp;Ocy;&amp;ncy;&amp;icy; &amp;scy;&amp;ocy;&amp;scy;&amp;tcy;&amp;ocy;&amp;yacy;&amp;tcy; &amp;icy;&amp;zcy; &amp;dcy;&amp;vcy;&amp;ucy;&amp;khcy; &amp;gcy;&amp;rcy;&amp;ucy;&amp;shcy;&amp;iecy;&amp;vcy;&amp;icy;&amp;dcy;&amp;ncy;&amp;ycy;&amp;khcy; &amp;iecy;&amp;mcy;&amp;kcy;&amp;ocy;&amp;scy;&amp;tcy;&amp;iecy;&amp;jcy;, &amp;scy;&amp;ocy;&amp;iecy;&amp;dcy;&amp;icy;&amp;ncy;&amp;iecy;&amp;ncy;&amp;ncy;&amp;ycy;&amp;khcy; &amp;mcy;&amp;iecy;&amp;zhcy;&amp;dcy;&amp;ucy; &amp;scy;&amp;ocy;&amp;bcy;&amp;ocy;&amp;jcy;&amp;ucy;&amp;zcy;&amp;kcy;&amp;icy;&amp;mcy;&amp;icy; &amp;kcy;&amp;ocy;&amp;ncy;&amp;tscy;&amp;acy;&amp;mcy;&amp;icy;.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&amp;TScy; &amp;vcy; &amp;iecy; &amp;tcy; &amp;ocy; &amp;chcy; &amp;ncy; &amp;ycy; &amp;iecy; &amp;chcy; &amp;acy; &amp;scy; &amp;ycy;.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&amp;chcy;&amp;acy;&amp;scy;&amp;ycy; &amp;ncy;&amp;acy; &amp;Scy;&amp;pcy;&amp;acy;&amp;scy;&amp;scy;&amp;kcy;&amp;ocy;&amp;jcy; &amp;bcy;&amp;acy;&amp;shcy;&amp;ncy;&amp;iecy;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http://www.mobatime.ru/images/stories/dials/zb210w.jpg"/>
          <p:cNvPicPr/>
          <p:nvPr/>
        </p:nvPicPr>
        <p:blipFill>
          <a:blip r:embed="rId1"/>
          <a:stretch/>
        </p:blipFill>
        <p:spPr>
          <a:xfrm>
            <a:off x="1857240" y="285840"/>
            <a:ext cx="5857920" cy="52149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2662560" y="5643720"/>
            <a:ext cx="42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 час=60 ми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85600" y="1785960"/>
            <a:ext cx="69008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Прямоугольник 3" descr=""/>
          <p:cNvPicPr/>
          <p:nvPr/>
        </p:nvPicPr>
        <p:blipFill>
          <a:blip r:embed="rId1"/>
          <a:stretch/>
        </p:blipFill>
        <p:spPr>
          <a:xfrm>
            <a:off x="2500200" y="2071800"/>
            <a:ext cx="3400560" cy="80172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5" descr=""/>
          <p:cNvPicPr/>
          <p:nvPr/>
        </p:nvPicPr>
        <p:blipFill>
          <a:blip r:embed="rId2"/>
          <a:stretch/>
        </p:blipFill>
        <p:spPr>
          <a:xfrm>
            <a:off x="2692440" y="3429000"/>
            <a:ext cx="2776320" cy="80028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6" descr=""/>
          <p:cNvPicPr/>
          <p:nvPr/>
        </p:nvPicPr>
        <p:blipFill>
          <a:blip r:embed="rId3"/>
          <a:stretch/>
        </p:blipFill>
        <p:spPr>
          <a:xfrm>
            <a:off x="2500200" y="5000760"/>
            <a:ext cx="6419880" cy="888840"/>
          </a:xfrm>
          <a:prstGeom prst="rect">
            <a:avLst/>
          </a:prstGeom>
          <a:ln w="0">
            <a:noFill/>
          </a:ln>
        </p:spPr>
      </p:pic>
      <p:sp>
        <p:nvSpPr>
          <p:cNvPr id="134" name="Содержимое 2"/>
          <p:cNvSpPr/>
          <p:nvPr/>
        </p:nvSpPr>
        <p:spPr>
          <a:xfrm>
            <a:off x="1785960" y="1785960"/>
            <a:ext cx="6900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H:\анимашки\Анимашки часы, анимированные часы, разные анимашки часов  Smayli_ru_files\chasa-28.gif"/>
          <p:cNvPicPr/>
          <p:nvPr/>
        </p:nvPicPr>
        <p:blipFill>
          <a:blip r:embed="rId4"/>
          <a:stretch/>
        </p:blipFill>
        <p:spPr>
          <a:xfrm>
            <a:off x="6929280" y="357120"/>
            <a:ext cx="17337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42680" y="506160"/>
            <a:ext cx="619452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у – ка проверь, дружок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ы готов начать уро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ль на месте, все ль в порядк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ка, книжка и тетрад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ли правильно сидя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ль внимательно глядя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хочет получ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лько лишь оценку «5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желаем всем удачи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работу, в добрый час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Times New Roman"/>
              </a:rPr>
              <a:t>Провер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7176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0-10=20(мин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: 20 минут заняла вторая пар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30-10=20(мин.)-заняла вторая пар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30+20=50(мин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: 50 минут заняли обе парт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85960" y="1600200"/>
            <a:ext cx="55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Прямоугольник 3" descr=""/>
          <p:cNvPicPr/>
          <p:nvPr/>
        </p:nvPicPr>
        <p:blipFill>
          <a:blip r:embed="rId1"/>
          <a:stretch/>
        </p:blipFill>
        <p:spPr>
          <a:xfrm>
            <a:off x="2500200" y="2071800"/>
            <a:ext cx="3400560" cy="80172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5" descr=""/>
          <p:cNvPicPr/>
          <p:nvPr/>
        </p:nvPicPr>
        <p:blipFill>
          <a:blip r:embed="rId2"/>
          <a:stretch/>
        </p:blipFill>
        <p:spPr>
          <a:xfrm>
            <a:off x="2643120" y="3429000"/>
            <a:ext cx="4513320" cy="79848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6" descr=""/>
          <p:cNvPicPr/>
          <p:nvPr/>
        </p:nvPicPr>
        <p:blipFill>
          <a:blip r:embed="rId3"/>
          <a:stretch/>
        </p:blipFill>
        <p:spPr>
          <a:xfrm>
            <a:off x="2500200" y="5000760"/>
            <a:ext cx="4286520" cy="801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" descr="H:\анимашки\Анимашки часы, анимированные часы, разные анимашки часов  Smayli_ru_files\chasa-37.gif"/>
          <p:cNvPicPr/>
          <p:nvPr/>
        </p:nvPicPr>
        <p:blipFill>
          <a:blip r:embed="rId4"/>
          <a:stretch/>
        </p:blipFill>
        <p:spPr>
          <a:xfrm>
            <a:off x="7143840" y="4714920"/>
            <a:ext cx="17143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428840" y="1000080"/>
          <a:ext cx="7500960" cy="4857840"/>
        </p:xfrm>
        <a:graphic>
          <a:graphicData uri="http://schemas.openxmlformats.org/drawingml/2006/table">
            <a:tbl>
              <a:tblPr/>
              <a:tblGrid>
                <a:gridCol w="2500200"/>
                <a:gridCol w="2500560"/>
                <a:gridCol w="2500200"/>
              </a:tblGrid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Добросовест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нима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блюда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381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е время покажут часы через 10 мин, если сей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час 25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часа 55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часов 40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лет летит из Москвы в Санкт-Петербург 1 час, а обратно 60 мин. На сколько больше времени он затрачивает на обратный пу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</a:tbl>
          </a:graphicData>
        </a:graphic>
      </p:graphicFrame>
      <p:pic>
        <p:nvPicPr>
          <p:cNvPr id="145" name="Picture 2" descr="время"/>
          <p:cNvPicPr/>
          <p:nvPr/>
        </p:nvPicPr>
        <p:blipFill>
          <a:blip r:embed="rId1"/>
          <a:stretch/>
        </p:blipFill>
        <p:spPr>
          <a:xfrm>
            <a:off x="6858000" y="2143080"/>
            <a:ext cx="1928880" cy="20001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8"/>
          <p:cNvSpPr/>
          <p:nvPr/>
        </p:nvSpPr>
        <p:spPr>
          <a:xfrm>
            <a:off x="6643800" y="42148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знай какое время показывают ч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785600" y="1600200"/>
            <a:ext cx="50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Прямоугольник 3" descr=""/>
          <p:cNvPicPr/>
          <p:nvPr/>
        </p:nvPicPr>
        <p:blipFill>
          <a:blip r:embed="rId1"/>
          <a:stretch/>
        </p:blipFill>
        <p:spPr>
          <a:xfrm>
            <a:off x="2500200" y="2071800"/>
            <a:ext cx="3400560" cy="80172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2357280" y="3571920"/>
            <a:ext cx="4286520" cy="801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&amp;CHcy; &amp;acy; &amp;scy; &amp;ycy; &amp;scy; &amp;kcy; &amp;ucy; &amp;kcy; &amp;ucy; &amp;shcy; &amp;kcy; &amp;ocy; &amp;jcy;. &amp;Acy; &amp;khcy;&amp;ocy;&amp;dcy;&amp;icy;&amp;kcy;&amp;icy; –&amp;icy;&amp;zcy;&amp;bcy;&amp;ucy;&amp;shcy;&amp;kcy;&amp;icy;! &amp;Vcy; &amp;ncy;&amp;icy;&amp;khcy; &amp;zhcy;&amp;icy;&amp;vcy;&amp;ucy;&amp;tcy; &amp;kcy;&amp;ucy;&amp;kcy;&amp;ucy;&amp;shcy;&amp;kcy;&amp;icy;. &amp;Ocy;&amp;kcy;&amp;ocy;&amp;shcy;&amp;kcy;&amp;ocy; &amp;rcy;&amp;acy;&amp;scy;&amp;pcy;&amp;acy;&amp;khcy;&amp;ncy;&amp;iocy;&amp;tcy;&amp;scy;&amp;yacy;, &amp;Kcy;&amp;ucy;&amp;kcy;&amp;ucy;&amp;shcy;&amp;kcy;&amp;acy; &amp;vcy;&amp;scy;&amp;tcy;&amp;rcy;&amp;iecy;&amp;pcy;&amp;iecy;&amp;ncy;&amp;iocy;&amp;tcy;&amp;scy;&amp;yacy;: &amp;Kcy;&amp;ucy; – &amp;kcy;&amp;ucy;! &amp;Kcy;&amp;ucy; – &amp;kcy;&amp;ucy;! – &amp;Kcy;&amp;acy;&amp;kcy; &amp;vcy; &amp;lcy;&amp;iecy;&amp;scy;&amp;ucy; &amp;ncy;&amp;acy; &amp;scy;&amp;ucy;&amp;kcy;&amp;ucy;!"/>
          <p:cNvPicPr/>
          <p:nvPr/>
        </p:nvPicPr>
        <p:blipFill>
          <a:blip r:embed="rId3"/>
          <a:stretch/>
        </p:blipFill>
        <p:spPr>
          <a:xfrm>
            <a:off x="5643720" y="285840"/>
            <a:ext cx="3071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56880" y="1285920"/>
            <a:ext cx="690084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№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7  стр. 33  рабочая тетрад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 желанию №16 стр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" descr="H:\анимашки\Анимашки часы, анимированные часы, разные анимашки часов  Smayli_ru_files\chasa-38.gif"/>
          <p:cNvPicPr/>
          <p:nvPr/>
        </p:nvPicPr>
        <p:blipFill>
          <a:blip r:embed="rId1"/>
          <a:stretch/>
        </p:blipFill>
        <p:spPr>
          <a:xfrm>
            <a:off x="1500120" y="4357800"/>
            <a:ext cx="1500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600200"/>
            <a:ext cx="8229600" cy="2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0" y="2428920"/>
            <a:ext cx="555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 rot="20929200">
            <a:off x="-58320" y="977760"/>
            <a:ext cx="5214960" cy="28576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нута час береж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 rot="582000">
            <a:off x="5126040" y="1573200"/>
            <a:ext cx="3643200" cy="264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елу- время, потехе-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>
            <a:off x="2071800" y="4000680"/>
            <a:ext cx="5214960" cy="2643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дно поднялся - день потерял, в молодости не учился -жизнь потеря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H:\анимашки\Анимашки часы, анимированные часы, разные анимашки часов  Smayli_ru_files\chasa-25.gif"/>
          <p:cNvPicPr/>
          <p:nvPr/>
        </p:nvPicPr>
        <p:blipFill>
          <a:blip r:embed="rId1"/>
          <a:stretch/>
        </p:blipFill>
        <p:spPr>
          <a:xfrm>
            <a:off x="7500960" y="4572000"/>
            <a:ext cx="1380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606240"/>
            <a:ext cx="771516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Итог уро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642680" y="1599840"/>
            <a:ext cx="70722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Times New Roman"/>
              </a:rPr>
              <a:t>Познакомились с…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Times New Roman"/>
              </a:rPr>
              <a:t>Узнали о …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Times New Roman"/>
              </a:rPr>
              <a:t>Научились решать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H:\анимашки\Анимашки часы, анимированные часы, разные анимашки часов  Smayli_ru_files\chasa-40.gif"/>
          <p:cNvPicPr/>
          <p:nvPr/>
        </p:nvPicPr>
        <p:blipFill>
          <a:blip r:embed="rId1"/>
          <a:stretch/>
        </p:blipFill>
        <p:spPr>
          <a:xfrm>
            <a:off x="7072200" y="642960"/>
            <a:ext cx="1428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Содержимое 3" descr="5592baab70e01868945de62fe59a3d91.jpg"/>
          <p:cNvPicPr/>
          <p:nvPr/>
        </p:nvPicPr>
        <p:blipFill>
          <a:blip r:embed="rId1"/>
          <a:stretch/>
        </p:blipFill>
        <p:spPr>
          <a:xfrm>
            <a:off x="1357200" y="3286080"/>
            <a:ext cx="2229120" cy="339084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7" descr=""/>
          <p:cNvPicPr/>
          <p:nvPr/>
        </p:nvPicPr>
        <p:blipFill>
          <a:blip r:embed="rId2"/>
          <a:stretch/>
        </p:blipFill>
        <p:spPr>
          <a:xfrm>
            <a:off x="4214880" y="3357720"/>
            <a:ext cx="4500360" cy="1753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&amp;Acy;&amp;ncy;&amp;icy;&amp;mcy;&amp;acy;&amp;shcy;&amp;kcy;&amp;icy; &amp;CHcy;&amp;acy;&amp;scy;&amp;ycy;"/>
          <p:cNvPicPr/>
          <p:nvPr/>
        </p:nvPicPr>
        <p:blipFill>
          <a:blip r:embed="rId3"/>
          <a:stretch/>
        </p:blipFill>
        <p:spPr>
          <a:xfrm>
            <a:off x="6786720" y="428760"/>
            <a:ext cx="15238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Содержимое 3" descr="5592baab70e01868945de62fe59a3d91.jpg"/>
          <p:cNvPicPr/>
          <p:nvPr/>
        </p:nvPicPr>
        <p:blipFill>
          <a:blip r:embed="rId1"/>
          <a:stretch/>
        </p:blipFill>
        <p:spPr>
          <a:xfrm>
            <a:off x="1428840" y="3286080"/>
            <a:ext cx="2228760" cy="33908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7"/>
          <p:cNvSpPr/>
          <p:nvPr/>
        </p:nvSpPr>
        <p:spPr>
          <a:xfrm>
            <a:off x="4071960" y="142884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4071960" y="20718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Работа в груп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4000680" y="3214800"/>
            <a:ext cx="642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Работа в рабочей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4086720" y="2643120"/>
            <a:ext cx="419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Новое по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4071960" y="5133960"/>
            <a:ext cx="5286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Самостоятельная работа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3"/>
          <p:cNvSpPr/>
          <p:nvPr/>
        </p:nvSpPr>
        <p:spPr>
          <a:xfrm>
            <a:off x="4076280" y="4429080"/>
            <a:ext cx="435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5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Найди правильный отве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4200" y="1285920"/>
          <a:ext cx="8715240" cy="5214960"/>
        </p:xfrm>
        <a:graphic>
          <a:graphicData uri="http://schemas.openxmlformats.org/drawingml/2006/table">
            <a:tbl>
              <a:tblPr/>
              <a:tblGrid>
                <a:gridCol w="968400"/>
                <a:gridCol w="968400"/>
                <a:gridCol w="968400"/>
                <a:gridCol w="968400"/>
                <a:gridCol w="968400"/>
                <a:gridCol w="968400"/>
                <a:gridCol w="968400"/>
                <a:gridCol w="968040"/>
                <a:gridCol w="968400"/>
              </a:tblGrid>
              <a:tr h="130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0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0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54" name="TextBox 7"/>
          <p:cNvSpPr/>
          <p:nvPr/>
        </p:nvSpPr>
        <p:spPr>
          <a:xfrm>
            <a:off x="4218840" y="12859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19960" y="52862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8147880" y="52149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4077360" y="25718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219960" y="12859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3148560" y="3857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5077440" y="39290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5"/>
          <p:cNvSpPr/>
          <p:nvPr/>
        </p:nvSpPr>
        <p:spPr>
          <a:xfrm>
            <a:off x="8147880" y="12859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785600" y="1600200"/>
            <a:ext cx="690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Прямоугольник 3" descr=""/>
          <p:cNvPicPr/>
          <p:nvPr/>
        </p:nvPicPr>
        <p:blipFill>
          <a:blip r:embed="rId1"/>
          <a:stretch/>
        </p:blipFill>
        <p:spPr>
          <a:xfrm>
            <a:off x="2500200" y="2071800"/>
            <a:ext cx="340056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2"/>
          <a:stretch/>
        </p:blipFill>
        <p:spPr>
          <a:xfrm>
            <a:off x="2500200" y="3429000"/>
            <a:ext cx="3159360" cy="8002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6" descr=""/>
          <p:cNvPicPr/>
          <p:nvPr/>
        </p:nvPicPr>
        <p:blipFill>
          <a:blip r:embed="rId3"/>
          <a:stretch/>
        </p:blipFill>
        <p:spPr>
          <a:xfrm>
            <a:off x="2357280" y="5000760"/>
            <a:ext cx="62326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Составь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4200" y="1227240"/>
          <a:ext cx="8715240" cy="4916520"/>
        </p:xfrm>
        <a:graphic>
          <a:graphicData uri="http://schemas.openxmlformats.org/drawingml/2006/table">
            <a:tbl>
              <a:tblPr/>
              <a:tblGrid>
                <a:gridCol w="968400"/>
                <a:gridCol w="968400"/>
                <a:gridCol w="968400"/>
                <a:gridCol w="968400"/>
                <a:gridCol w="968400"/>
                <a:gridCol w="968400"/>
                <a:gridCol w="968400"/>
                <a:gridCol w="968040"/>
                <a:gridCol w="968400"/>
              </a:tblGrid>
              <a:tr h="13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0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0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68" name="TextBox 7"/>
          <p:cNvSpPr/>
          <p:nvPr/>
        </p:nvSpPr>
        <p:spPr>
          <a:xfrm>
            <a:off x="4218840" y="12859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219960" y="52862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8147880" y="52149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4077360" y="25718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219960" y="1214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3148560" y="3857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5077440" y="39290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5"/>
          <p:cNvSpPr/>
          <p:nvPr/>
        </p:nvSpPr>
        <p:spPr>
          <a:xfrm>
            <a:off x="8147880" y="12859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428760" y="1285920"/>
            <a:ext cx="54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4289400" y="264312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8219160" y="52149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8147520" y="1357200"/>
            <a:ext cx="58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3361680" y="3929040"/>
            <a:ext cx="56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9"/>
          <p:cNvSpPr/>
          <p:nvPr/>
        </p:nvSpPr>
        <p:spPr>
          <a:xfrm>
            <a:off x="360720" y="5214960"/>
            <a:ext cx="58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5289840" y="3857760"/>
            <a:ext cx="58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4219200" y="128592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16 0.03889 C -0.03733 0.21204 -0.04149 0.38542 -0.01354 0.49144 C 0.01441 0.59746 0.10868 0.64653 0.1349 0.67524 C 0.16111 0.70394 0.1526 0.68357 0.1441 0.6632 E">
                                      <p:cBhvr>
                                        <p:cTn id="10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59259E-006 C -0.00712 -0.00301 -0.01407 -0.00556 -0.01737 2.59259E-006 C -0.02049 0.00555 -0.00816 -0.00533 -0.0191 0.03379 C -0.02987 0.07315 -0.0533 0.1618 -0.08299 0.23472 C -0.1125 0.30764 -0.17796 0.4324 -0.19671 0.47129 E">
                                      <p:cBhvr>
                                        <p:cTn id="104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C -0.09879 0.0125 -0.1974 0.02523 -0.28872 0.04167 C -0.38004 0.05718 -0.50452 0.08681 -0.54757 0.09607 E">
                                      <p:cBhvr>
                                        <p:cTn id="10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1204 C 0.10643 0.01412 0.20972 0.0162 0.27587 0.03032 C 0.34202 0.04445 0.37934 0.08588 0.4 0.09699 E">
                                      <p:cBhvr>
                                        <p:cTn id="10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3148 C 0.0533 0.07037 0.10764 0.10949 0.13246 0.15255 C 0.15729 0.1956 0.14514 0.26713 0.14774 0.29005 E">
                                      <p:cBhvr>
                                        <p:cTn id="11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76 0.09144 C -0.09305 0.15718 -0.15034 0.22315 -0.18871 0.29144 C -0.22708 0.35972 -0.24531 0.43843 -0.26597 0.50139 C -0.28663 0.56435 -0.3052 0.6412 -0.31302 0.66921 E">
                                      <p:cBhvr>
                                        <p:cTn id="11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28 0.0419 C 0.05938 0.08704 0.10365 0.13218 0.11372 0.17524 C 0.12379 0.21829 0.08212 0.27963 0.07587 0.30047 E">
                                      <p:cBhvr>
                                        <p:cTn id="11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3 0.07037 C 0.09062 0.1 0.15711 0.12987 0.19704 0.17963 C 0.23697 0.2294 0.24809 0.29885 0.26371 0.36945 C 0.27934 0.44005 0.28871 0.55348 0.29097 0.60371 C 0.29322 0.65394 0.27951 0.65926 0.27725 0.67037 E">
                                      <p:cBhvr>
                                        <p:cTn id="11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Восстанови тек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Длина удава 5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Длина ушей зайца 13  …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Длина муравья 6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За лето суслик съедает 6 …..зерн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Корова за один удой дает 4 …. мол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4360680" y="157176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861880" y="2143080"/>
            <a:ext cx="6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861800" y="2857680"/>
            <a:ext cx="7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433200" y="350028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7075440" y="41432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85600" y="1600200"/>
            <a:ext cx="690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Прямоугольник 3" descr=""/>
          <p:cNvPicPr/>
          <p:nvPr/>
        </p:nvPicPr>
        <p:blipFill>
          <a:blip r:embed="rId1"/>
          <a:stretch/>
        </p:blipFill>
        <p:spPr>
          <a:xfrm>
            <a:off x="2500200" y="2071800"/>
            <a:ext cx="3400560" cy="80172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5" descr=""/>
          <p:cNvPicPr/>
          <p:nvPr/>
        </p:nvPicPr>
        <p:blipFill>
          <a:blip r:embed="rId2"/>
          <a:stretch/>
        </p:blipFill>
        <p:spPr>
          <a:xfrm>
            <a:off x="2500200" y="3429000"/>
            <a:ext cx="3159360" cy="80028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6" descr=""/>
          <p:cNvPicPr/>
          <p:nvPr/>
        </p:nvPicPr>
        <p:blipFill>
          <a:blip r:embed="rId3"/>
          <a:stretch/>
        </p:blipFill>
        <p:spPr>
          <a:xfrm>
            <a:off x="2357280" y="5000760"/>
            <a:ext cx="62326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Times New Roman"/>
              </a:rPr>
              <a:t>Величи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http://www.kakprosto.ru/sites/kakprosto/files/styles/step_full/public/images3/201201/106465/step-fd64cd4b3539fd1209f59945654c65ee.jpg"/>
          <p:cNvPicPr/>
          <p:nvPr/>
        </p:nvPicPr>
        <p:blipFill>
          <a:blip r:embed="rId1"/>
          <a:stretch/>
        </p:blipFill>
        <p:spPr>
          <a:xfrm>
            <a:off x="1428840" y="478620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im3-tub-ru.yandex.net/i?id=208675343-32-72&amp;n=21"/>
          <p:cNvPicPr/>
          <p:nvPr/>
        </p:nvPicPr>
        <p:blipFill>
          <a:blip r:embed="rId2"/>
          <a:stretch/>
        </p:blipFill>
        <p:spPr>
          <a:xfrm>
            <a:off x="3929040" y="4643280"/>
            <a:ext cx="2143080" cy="185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im2-tub-ru.yandex.net/i?id=439040504-44-72&amp;n=21"/>
          <p:cNvPicPr/>
          <p:nvPr/>
        </p:nvPicPr>
        <p:blipFill>
          <a:blip r:embed="rId3"/>
          <a:stretch/>
        </p:blipFill>
        <p:spPr>
          <a:xfrm>
            <a:off x="6500880" y="4643280"/>
            <a:ext cx="2004840" cy="185760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6" descr=""/>
          <p:cNvPicPr/>
          <p:nvPr/>
        </p:nvPicPr>
        <p:blipFill>
          <a:blip r:embed="rId4"/>
          <a:stretch/>
        </p:blipFill>
        <p:spPr>
          <a:xfrm>
            <a:off x="1006560" y="2786040"/>
            <a:ext cx="2639880" cy="120816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7" descr=""/>
          <p:cNvPicPr/>
          <p:nvPr/>
        </p:nvPicPr>
        <p:blipFill>
          <a:blip r:embed="rId5"/>
          <a:stretch/>
        </p:blipFill>
        <p:spPr>
          <a:xfrm>
            <a:off x="3865680" y="2065320"/>
            <a:ext cx="2770200" cy="108756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8" descr=""/>
          <p:cNvPicPr/>
          <p:nvPr/>
        </p:nvPicPr>
        <p:blipFill>
          <a:blip r:embed="rId6"/>
          <a:stretch/>
        </p:blipFill>
        <p:spPr>
          <a:xfrm>
            <a:off x="6365880" y="3071880"/>
            <a:ext cx="2320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1:01:20Z</dcterms:created>
  <dc:creator>Admin</dc:creator>
  <dc:description/>
  <dc:language>en-US</dc:language>
  <cp:lastModifiedBy>hoval</cp:lastModifiedBy>
  <dcterms:modified xsi:type="dcterms:W3CDTF">2023-05-01T10:47:55Z</dcterms:modified>
  <cp:revision>35</cp:revision>
  <dc:subject/>
  <dc:title>Урок математики  по теме «Единицы времени. Час.Минута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775C15343384F27ACBC91B72C71460A</vt:lpwstr>
  </property>
  <property fmtid="{D5CDD505-2E9C-101B-9397-08002B2CF9AE}" pid="3" name="KSOProductBuildVer">
    <vt:lpwstr>1049-11.2.0.11537</vt:lpwstr>
  </property>
</Properties>
</file>