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1.png" ContentType="image/png"/>
  <Override PartName="/ppt/media/image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C75-A383-4A78-8810-DEDD1B40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C40-066B-4E12-BB73-2C7C55B4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3D1D0A-B764-4471-8EE7-43548FDB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DD3E04-8A34-4F0C-9861-E5BA1F2F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3379F9-C708-4265-890D-05082E61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D37387-D325-465E-A351-3DC56F6E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018FF6-32B3-4E72-A4F9-5A1CF806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EE84BF-1C29-4F8B-973A-62C7B061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0FA0B2-5254-4EB4-B5E2-D4142FBE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AD64FA-BC1A-419E-9470-7AF35129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67A45C-0D7D-4B81-B76A-1AE5CFA7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1347-394A-4A8F-8144-1E977E39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7E8-8127-49D3-9456-A4756D5D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B57E1-88CC-4E2B-8E7D-5B5918A8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3BF1F-D82E-4A18-AEE2-D4EDB5F2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B2392-696B-445E-BBBE-0005AE42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1CC20-9130-4BC1-9086-4979DF31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39F5B-E920-4211-AB1F-E5BCC909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B3D17-E028-496B-B113-6C53BE88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B1AAB-2AB0-423A-A3A6-54C394EE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8EF-3639-494C-B969-882E0199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29B8B-9366-4AC4-A117-EEE0EA32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F47BB-B20D-4400-B2BD-97610A59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A9842-487E-4497-ACE4-0324A545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05D3C-B78E-4305-9D69-2A70F5B7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15280-18C7-4CBF-842F-7C688B03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07059-09D9-4B4C-8158-2FCE2468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2E225-CBC8-4200-946A-369081A7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30D10-8C92-49E5-9A3D-AAC9F6EA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D673A-B4D7-42D9-B4B6-0D9E5F88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9357C-5CD1-4C91-B211-071ED57B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5BE-39FE-4632-93AC-1DC9C725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63E9D-94FD-4A7F-95A8-85460639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D4E7C-4DBA-46E9-81CB-A910C51C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4D1FE-CDA9-42AD-9B90-84F9B8B6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3F55E-96DA-4C4E-AC1F-AAA65C74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914B2-0B91-4588-AE20-7DE4E715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BA71B-6B78-4C4D-9CA1-06B9ABB4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C7FE6-356B-4A85-82A5-A2ABA8B7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5F9CB3-3D3A-4B99-B87C-5A0870BD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EAD5E0-42E4-46E6-ADB9-3F21C9BF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A7951C-33C9-4B9B-A4E6-7CA262A8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CDD-9172-4639-B69C-0EB62AB2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8FB0A4-3171-43A7-8D75-5AD72D90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4F22E3-613D-4FCC-A003-9ABB6D8E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29F35C-3060-454A-9F66-51FB6D73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FADB13-9D48-42D4-BB11-D7BA7CE1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F3851C-0DB2-41B1-8C43-C8F89469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DD4292-FAE9-467B-AB84-AF69F16C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B47E4A-E4D3-49F8-AC22-472F09F0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8DD383-F344-400D-AB7A-D00EA55D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D6996D-395B-414F-84A4-5E09EB20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650A4-23E9-4548-8CFA-FC4EE468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888-591E-486B-AE6E-5C483350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B3049-A959-4EE3-B9BD-A53DC44C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92575-19AA-4B2E-97B6-6CF93262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E39AE-44FE-46B1-B177-C1340BDB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8085C-6034-4EBA-BAF0-E96F24D7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56581-E2DA-473D-819B-F04AD2C3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D6BE3-474E-41BE-AFDE-8EACC3D3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B7395-1E58-43A2-B378-A8FAE1D7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B20B6-DD61-4E00-B27F-C976B2FA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9337D-0B0E-45EA-99C4-2F27E1C7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38FF7-498D-4BD7-8389-9271EE03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A43F-1CAB-441B-88E3-DFC5C53A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EF310-744E-4C7C-B614-83756924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D2266-A58A-47BD-BBF4-1AF9378C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C1821-3C57-4A20-A305-9C71E4A8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8F149-405B-49E6-B53B-707166A2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C429A-4FD8-4E60-AFF7-ED993DC8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D2687-268D-4ABD-9464-681A66D3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E2016-B983-43E2-9E05-AB468650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65C92-C290-4947-B98A-1BEDE923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7260D-5219-4CE0-9E38-F4D36D6F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89ABE-2EFD-4F33-8413-C6775900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F5A1-CBC3-44C3-BDFC-2CFB4B98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3E198-9CD5-4700-A582-A885EEC1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30D40-4B22-404D-84D7-4F969A7C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069FB-7054-4DDD-9563-B2F52881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BE1B5-AB92-4CF2-86FF-BEB7B686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877ED-5D45-4878-A0E3-483ACE8F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AE760-4F3A-4AAA-9411-3DF4CCC2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61D0C-3748-40F3-8363-5B60DC7F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D02CA-3446-420F-BB57-A85F2CA2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50B53-4651-4346-9F24-46F06D47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31DA2-EECF-454B-BED0-09863839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22A-FABE-45F6-95D5-E2C42DCF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CFD34-BA6B-49EB-B83F-325D416D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2207D-0CFB-4A46-9739-D60EF284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B1DE9-3C78-49E3-BEAC-BF501423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D7BD1-9619-452E-B202-E64D0038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7502C-70AE-4293-B282-B1873B49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32B89F-C193-46B6-88F2-ABC6DD44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628CB4-8928-48D4-856E-99DEEB50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6F654D-542D-4ED5-8570-3AC4DC5D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691443-03C0-40CE-8D77-F5BBBB1C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C139B4-985F-4FF8-9288-76F4A8CA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DF8-182B-42EA-842A-477E2D74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0996DE-408A-4D67-8204-A5007DB1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24C29E-A40B-46F8-B01B-3576C97B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94F793-6681-4DDD-ABF1-F7ADEF6F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ED4AE7-2206-4919-B60A-A0210759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84BA2B-EC31-4C05-AD53-BCA9E009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348957-C00C-4B62-BE9C-3AEE2C48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4F0327-F0D2-415E-B2B8-B730FE28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B6D459-8967-46C4-B5F7-1B0C61C1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18583F-B3B1-4C8F-806A-ED9F58DA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6D7BF8-66B8-4930-8ABF-9C04CFD3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E4E6-DE77-40C0-80B3-580412CAA34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FB22-9FC2-449D-B89D-493892DA6E8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0855-6C3F-4F5E-8F6C-A3810E62FB3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373C-3D7B-4429-8181-08809871D89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EF17-0048-4DD0-8C6D-075AC9CF73F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0D14-15A9-4C42-985E-13D6D300B3D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30EB-52FB-4F22-88B1-C22C5209106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6B4B-7C79-4B73-80B3-508F4C14A6C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1DD1-FDC6-4417-B2AA-BDA5A7233C2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82422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6840" y="142884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53800" indent="-2538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Срочно вынесите пострадавшего на свежий воздух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253800" indent="-2538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Положите пострадавшего на спину, освободите от тесной одежды, дайте понюхать нашатырный спирт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253800" indent="-2538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Если пострадавший не дышит, срочно приступите к искусственному дыханию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253800" indent="-2538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Как можно быстрее доставьте пострадавшего к врачу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Рисунок 3" descr="a9ccd7cd1c4267a50c67ac0bd7180172_M.jpg"/>
          <p:cNvPicPr/>
          <p:nvPr/>
        </p:nvPicPr>
        <p:blipFill>
          <a:blip r:embed="rId3"/>
          <a:stretch/>
        </p:blipFill>
        <p:spPr>
          <a:xfrm>
            <a:off x="5381640" y="2476440"/>
            <a:ext cx="3333600" cy="28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2"/>
          <a:stretch/>
        </p:blipFill>
        <p:spPr>
          <a:xfrm>
            <a:off x="426960" y="249120"/>
            <a:ext cx="834552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Ядохимикаты изготавливаются и применяются в газообразном, жидком или твердом виде для опыления или опрыскивания полей, садов, огородов, производственных и бытовых помещений. В большинстве случаев ядохимикаты применяются не в чистом виде, а в смеси с наполнителями (тальк, мел, известь) в водных растворах или масляных эмульсиях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2"/>
          <a:stretch/>
        </p:blipFill>
        <p:spPr>
          <a:xfrm>
            <a:off x="450720" y="3024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Раздражение слизистых оболочек носа, гортани, бронхов возможен сухой кашель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Отдышка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Насморк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Загрудинные боли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Раздражение глаз, слезотечение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Конъюнктивит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Тошнота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Рвота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Головокружение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лабость конечностей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Дрожь пальцев рук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2" name="Рисунок 3" descr="knf5a0cc982dffb18157d869c193ea7c4b7_800.jpg"/>
          <p:cNvPicPr/>
          <p:nvPr/>
        </p:nvPicPr>
        <p:blipFill>
          <a:blip r:embed="rId3"/>
          <a:stretch/>
        </p:blipFill>
        <p:spPr>
          <a:xfrm>
            <a:off x="5072040" y="4032360"/>
            <a:ext cx="385776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2"/>
          <a:stretch/>
        </p:blipFill>
        <p:spPr>
          <a:xfrm>
            <a:off x="268200" y="-42840"/>
            <a:ext cx="8778960" cy="14810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4308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mbria"/>
              </a:rPr>
              <a:t>Создать безопасную окружающую среду.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mbria"/>
              </a:rPr>
              <a:t>Произвести промывание желудка.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mbria"/>
              </a:rPr>
              <a:t>После промывания желудка дать выпить стакан воды с добавлением в него двух-трех таблеток активированного угля.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mbria"/>
              </a:rPr>
              <a:t>При кашле и раздражении в горле произвести ингаляции с пищевой содой, пополоскать горло содовым раствором.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mbria"/>
              </a:rPr>
              <a:t>Если ядохимикаты попали в глаза, промыть их 2-процентным раствором пищевой соды.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mbria"/>
              </a:rPr>
              <a:t>На пораженные места кожи наложить компрессы из раствора марганцовокислого калия (розового цвета).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mbria"/>
              </a:rPr>
              <a:t>После оказания первой помощи отправить больного в ближайшее медицинское учреждение.</a:t>
            </a:r>
            <a:br>
              <a:rPr sz="2300"/>
            </a:br>
            <a:r>
              <a:rPr b="1" lang="ru-RU" sz="23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2"/>
          <a:stretch/>
        </p:blipFill>
        <p:spPr>
          <a:xfrm>
            <a:off x="480960" y="-55440"/>
            <a:ext cx="8242200" cy="15732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28400" y="1500120"/>
            <a:ext cx="6043320" cy="49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Часто возникают отравления кислотами (80% раствор уксусной, соляной, карболовой, щавелевой кислот) и едкими щелочами (каустическая сода, нашатырный спирт). Сразу же после попадания кислоты или щелочи в организм появляется сильная боль во рту, глотке, дыхательных путях. Ожог слизистой оболочки вызывает сильный отек, обильное отделение слюны, а резкая боль лишает пострадавшего возможности глотать. Во время вдоха слюна вместе с воздухом может затекать в дыхательные пути, затрудняя дыхание и вызывая удушье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7" name="Picture 2" descr="http://www.big-man.su/img/uksus.jpg"/>
          <p:cNvPicPr/>
          <p:nvPr/>
        </p:nvPicPr>
        <p:blipFill>
          <a:blip r:embed="rId3"/>
          <a:stretch/>
        </p:blipFill>
        <p:spPr>
          <a:xfrm>
            <a:off x="6572160" y="2041560"/>
            <a:ext cx="20718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2"/>
          <a:stretch/>
        </p:blipFill>
        <p:spPr>
          <a:xfrm>
            <a:off x="420840" y="128520"/>
            <a:ext cx="8242200" cy="13096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214200" y="1428480"/>
            <a:ext cx="8715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Немедленно удалить слюну и слизь изо рта пострадавшего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Навернув на чайную ложку кусок марли, платок или салфетку, протереть полость рта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Если возникли признаки удушья - провести искусственное дыхание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Довольно часто у пострадавших бывает рвота, иногда с примесью крови. Промывать самостоятельно желудок в таких случаях категорически запрещается, так как это может усилить рвоту, привести к попаданию кислот и щелочей в дыхательные пути. Пострадавшему можно дать выпить 2-3 стакана воды, лучше со льдом. Нельзя пытаться "нейтрализовать" ядовитые жидкости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и отравлении другими химическими веществами (хлорированный углеводород, анилиновый краситель и т.д.) до прибытия врача надо вызвать у пострадавшего рвоту и промыть, если он в сознании, желудок водой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страдавшего в бессознательном состоянии уложить без подушки на живот, голову повернуть в сторону. При западении языка, а также при судорогах в бессознательном состоянии, когда челюсти крепко сомкнуты и препятствуют нормальному дыханию, осторожно запрокинуть голову и выдвинуть нижнюю челюсть вперед и вверх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28760" y="43286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Отравление 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— интоксикация организма вследствие поступления в организм чужеродного химического вещества в токсической дозе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7" name="Picture 2" descr="C:\Documents and Settings\Админ\Мои документы\img2012073112593470.jpg"/>
          <p:cNvPicPr/>
          <p:nvPr/>
        </p:nvPicPr>
        <p:blipFill>
          <a:blip r:embed="rId2"/>
          <a:stretch/>
        </p:blipFill>
        <p:spPr>
          <a:xfrm>
            <a:off x="1785960" y="47628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5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mbria"/>
              </a:rPr>
              <a:t>Пищевые отравления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mbria"/>
              </a:rPr>
              <a:t>Отравление лекарствами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mbria"/>
              </a:rPr>
              <a:t>Отравление снотворными средствами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mbria"/>
              </a:rPr>
              <a:t>Отравление наркотиками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mbria"/>
              </a:rPr>
              <a:t>Отравление алкоголем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Отравление ядовитыми растениями и грибами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Ботулизм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Отравление бытовыми и моющими средствами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mbria"/>
              </a:rPr>
              <a:t>Отравление угарным и светильным газом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mbria"/>
              </a:rPr>
              <a:t>Отравление ядохимикатами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mbria"/>
              </a:rPr>
              <a:t>Отравление кислотами и щелочами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azerimed.info/uploads/posts/1280903723_otravlenie.jpg"/>
          <p:cNvPicPr/>
          <p:nvPr/>
        </p:nvPicPr>
        <p:blipFill>
          <a:blip r:embed="rId2"/>
          <a:stretch/>
        </p:blipFill>
        <p:spPr>
          <a:xfrm>
            <a:off x="6143760" y="2428920"/>
            <a:ext cx="2643120" cy="2655720"/>
          </a:xfrm>
          <a:prstGeom prst="rect">
            <a:avLst/>
          </a:prstGeom>
          <a:ln w="0">
            <a:noFill/>
          </a:ln>
        </p:spPr>
      </p:pic>
      <p:pic>
        <p:nvPicPr>
          <p:cNvPr id="401" name="Заголовок 1" descr=""/>
          <p:cNvPicPr/>
          <p:nvPr/>
        </p:nvPicPr>
        <p:blipFill>
          <a:blip r:embed="rId3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71280" y="1571760"/>
            <a:ext cx="607248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74320" indent="-2743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ищевое отравление – пищевая токсикоинфекция, возникает при приеме внутрь недоброкачественных (инфицированных) продуктов животного происхождения (мясо, рыба, колбасные изделия, мясные и рыбные консервы, молоко и изделия из него и т.д.). Заболевание вызывают находящиеся в данном продукте микробы и продукты их жизнедеятельности – токсины. Мясо, рыба могут инфицироваться еще при жизни животных, но наиболее часто это происходит в процессе приготовления пищи и неправильного хранения пищевых продуктов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74320" indent="-2743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332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42280" indent="-242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Общее недомогание.</a:t>
            </a:r>
            <a:endParaRPr b="0" lang="en-US" sz="2900" spc="-1" strike="noStrike">
              <a:solidFill>
                <a:srgbClr val="ffffff"/>
              </a:solidFill>
              <a:latin typeface="Cambria"/>
            </a:endParaRPr>
          </a:p>
          <a:p>
            <a:pPr marL="242280" indent="-242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Тошнота.</a:t>
            </a:r>
            <a:endParaRPr b="0" lang="en-US" sz="2900" spc="-1" strike="noStrike">
              <a:solidFill>
                <a:srgbClr val="ffffff"/>
              </a:solidFill>
              <a:latin typeface="Cambria"/>
            </a:endParaRPr>
          </a:p>
          <a:p>
            <a:pPr marL="242280" indent="-242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Многократная рвота.</a:t>
            </a:r>
            <a:endParaRPr b="0" lang="en-US" sz="2900" spc="-1" strike="noStrike">
              <a:solidFill>
                <a:srgbClr val="ffffff"/>
              </a:solidFill>
              <a:latin typeface="Cambria"/>
            </a:endParaRPr>
          </a:p>
          <a:p>
            <a:pPr marL="242280" indent="-242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Схваткообразные боли в животе.</a:t>
            </a:r>
            <a:endParaRPr b="0" lang="en-US" sz="2900" spc="-1" strike="noStrike">
              <a:solidFill>
                <a:srgbClr val="ffffff"/>
              </a:solidFill>
              <a:latin typeface="Cambria"/>
            </a:endParaRPr>
          </a:p>
          <a:p>
            <a:pPr marL="242280" indent="-242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Частый жидкий стул, иногда с примесью слизи и прожилками крови.</a:t>
            </a:r>
            <a:endParaRPr b="0" lang="en-US" sz="2900" spc="-1" strike="noStrike">
              <a:solidFill>
                <a:srgbClr val="ffffff"/>
              </a:solidFill>
              <a:latin typeface="Cambria"/>
            </a:endParaRPr>
          </a:p>
          <a:p>
            <a:pPr marL="242280" indent="-242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Усиление интоксикации, снижение артериального давления.</a:t>
            </a:r>
            <a:endParaRPr b="0" lang="en-US" sz="2900" spc="-1" strike="noStrike">
              <a:solidFill>
                <a:srgbClr val="ffffff"/>
              </a:solidFill>
              <a:latin typeface="Cambria"/>
            </a:endParaRPr>
          </a:p>
          <a:p>
            <a:pPr marL="242280" indent="-242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Учащение и ослабление пульса.</a:t>
            </a:r>
            <a:endParaRPr b="0" lang="en-US" sz="2900" spc="-1" strike="noStrike">
              <a:solidFill>
                <a:srgbClr val="ffffff"/>
              </a:solidFill>
              <a:latin typeface="Cambria"/>
            </a:endParaRPr>
          </a:p>
          <a:p>
            <a:pPr marL="242280" indent="-242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Бледность кожных покровов.</a:t>
            </a:r>
            <a:endParaRPr b="0" lang="en-US" sz="2900" spc="-1" strike="noStrike">
              <a:solidFill>
                <a:srgbClr val="ffffff"/>
              </a:solidFill>
              <a:latin typeface="Cambria"/>
            </a:endParaRPr>
          </a:p>
          <a:p>
            <a:pPr marL="242280" indent="-242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Жажда.</a:t>
            </a:r>
            <a:endParaRPr b="0" lang="en-US" sz="2900" spc="-1" strike="noStrike">
              <a:solidFill>
                <a:srgbClr val="ffffff"/>
              </a:solidFill>
              <a:latin typeface="Cambria"/>
            </a:endParaRPr>
          </a:p>
          <a:p>
            <a:pPr marL="242280" indent="-242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Высокая температура тела (38-40°С).</a:t>
            </a:r>
            <a:endParaRPr b="0" lang="en-US" sz="29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268200" y="30240"/>
            <a:ext cx="8778960" cy="14810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47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Немедленно начните промывание желудка водой при помощи желудочного зонда или вызывания искусственной рвоты (обильное питье теплой воды 1,5-2 л с последующим раздражением корня языка)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омывайте до "чистой воды"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Давайте обильное питье при самостоятельной рвоте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Для скорейшего удаления из кишечника инфицированных продуктов пострадавшему дайте карболен ("желудочный" уголь) и слабительное (25 г солевого слабительного на полстакана воды или 30 мл касторового масла)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сле промывания желудка, дайте пострадавшему горячий чай и кофе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огрейте пострадавшего. Обложите его грелками (к ногам, рукам)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пособствует выздоровлению прием внутрь сульфаниламидов (сульгин, фталазол по 0,5 г 4-6 раз в день) или антибиотиков (левомицетин по 0,5 г 4-6 раз в день, хлортетрациклина гидрохлорид по 300 000 ЕД 4 раза в течение 2-3 дней)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спражнения больного и рвотные массы дезинфицируйте непосредственно в судне (перемешивание с сухой хлорной известью)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ызовите "скорую помощь"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450720" y="18900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ставлять пострадавшего одного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ызывать рвоту, если пострадавший находится без сознания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ызывать рвоту при отравлении кислотами и щелочам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450720" y="-128520"/>
            <a:ext cx="8242560" cy="15732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213840" y="1500120"/>
            <a:ext cx="507204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Отравление угарным газом возможно на производствах, где угарный газ используется для синтеза ряда органических веществ, в гаражах при плохой вентиляции, в непроветриваемых вновь окрашенных помещениях, а также в домашних условиях – при утечке светильного газа и при несвоевременно закрытых печных заслонках в помещениях с  печным отоплением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Picture 2" descr="http://doktorland.ru/pic/otrava/ugar.jpg"/>
          <p:cNvPicPr/>
          <p:nvPr/>
        </p:nvPicPr>
        <p:blipFill>
          <a:blip r:embed="rId3"/>
          <a:stretch/>
        </p:blipFill>
        <p:spPr>
          <a:xfrm>
            <a:off x="5214960" y="2071800"/>
            <a:ext cx="350028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оловная боль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Тяжесть в голове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Тошнота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оловокружение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Шум в ушах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ердцебиение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Мышечная слабость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Рвота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арастает слабость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онливость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Затемнение сознания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дышка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Бледность кожи, иногда наличие ярко-красных пятен на теле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mbria"/>
              </a:rPr>
              <a:t>При долгом вдыхании угарного газа дыхание становится поверхностным, возникают судороги, и наступает смерть от паралича дыхательного центра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4" name="Рисунок 3" descr="b-3022166063.jpg"/>
          <p:cNvPicPr/>
          <p:nvPr/>
        </p:nvPicPr>
        <p:blipFill>
          <a:blip r:embed="rId3"/>
          <a:stretch/>
        </p:blipFill>
        <p:spPr>
          <a:xfrm>
            <a:off x="3714840" y="1690560"/>
            <a:ext cx="4762440" cy="30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9:33:21Z</dcterms:created>
  <dc:creator>Затыкин А.В.</dc:creator>
  <dc:description/>
  <dc:language>en-US</dc:language>
  <cp:lastModifiedBy>User</cp:lastModifiedBy>
  <dcterms:modified xsi:type="dcterms:W3CDTF">2023-05-15T12:39:12Z</dcterms:modified>
  <cp:revision>36</cp:revision>
  <dc:subject/>
  <dc:title>Первая медицинская помощь при отравлениях</dc:title>
</cp:coreProperties>
</file>