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FAB-9509-4579-BC18-536140A1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87D-479E-4D3B-83AE-704B09C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E6F6D-64C3-4407-BD3F-538A411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0B138-AA81-413B-98DC-E37B68B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E9D83-3B73-4134-8994-AC61C3F8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74B03-C514-445D-9015-CE55701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C5BC0-A01F-40C9-ABF2-E81D86A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83DCC-E924-4525-8578-F6D8681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2187D-826D-4306-A906-5BC9E79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75A73-C43F-4CDF-A4B7-21D50531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D7FDB-0704-4467-96FE-D43BDCEB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DD4-AA46-489B-A7FF-028C7946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EDE-3661-4959-8E50-33E92758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EEFCE-A4DB-402B-879F-ADD869B5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16CB-F43B-448D-BEB1-162FC1E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01C1-0FD1-4E5A-B0BD-8BFF20B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35F6-A1D8-4DD3-8119-8FAD9DDD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5E53-C301-4BFA-80E5-9ADAA66A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550AE-FFB3-45DE-B976-8A73D88C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FD992-A012-4A7A-8754-94BC549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9CC-7E93-4AA0-BF28-6E82DE3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69CC-B2D5-43B7-ADE8-5E94F578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B8C1-31D3-4892-9C15-EAB20FF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935FE-79CE-4350-988B-BE66B30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E63C6-F83A-4EC1-8DA8-7955054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E0DFA-5B2A-4EF7-A12F-838424F9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617E-FB43-42EE-A4B0-C0917BEC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387F-895D-489C-88EF-1E057AD8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CD66-D72B-440F-A6C6-09D0B79E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ADA6-B17F-487D-8484-10A03A61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4A5C-0ABD-4CF7-9F95-E44140D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FBB-F0B1-4EC3-AEEC-9B5B090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8D50-1D56-4D7A-A106-8FF9DCA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51C2-64FA-4696-A1E1-5AAFD810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12B5-5A7B-4679-B911-C9226F7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3197-5AA7-4AAE-833E-1E4CE77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3C06-352E-41B5-A0F5-3180A94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22CF-D385-40D7-8831-7DF883C2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4190-3ED3-4BCC-B8EE-6754F641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6F215-9954-4FBB-A414-734E9055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4EED6-01F0-4F29-B7C2-8CF0CD1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DDFFC-621F-40F1-B1EC-DB9F9C2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116-798F-4040-8F49-3CCA85C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36C13-CF76-486D-BD4F-FD98BD1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BCA01-407B-4CF8-B668-9E567703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D8636-705B-4F63-BF87-BF30BA52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3D46B-D8B0-4840-B9D5-213EC29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F02CF-0CA7-4A3B-846B-C1C2385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C4497-7F56-4A70-9B93-6E7EF9D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43BA1-A35B-4E76-BDB9-BD28163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1B8C3-1627-4DD9-AD23-B277527B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449BB-BAAE-4DD0-91EE-203405FD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87CD-3F0B-43D3-8C41-B7FC5169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750-DD46-4B86-9D4E-8C109B93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1CD6-D7DA-495A-A094-29C78B73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FDBF-3A55-4565-B52E-75E368B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3C68A-3E55-41BA-9CBA-560D475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06E2-3DA0-4F62-8151-C0B50FF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D99BC-3F93-4558-9580-3305C4DF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86C5-6F0F-40CA-BA73-20CD341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D09E-8CB1-4A5E-A46D-40F82AE8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4D71-C1B5-4ED8-A004-EA1194F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8F2B-1ECE-46E0-8BA3-F468835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5897-13D4-4647-AFBB-3F35715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7D5-DFAB-4A96-9BF2-E703AB6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4979-0C93-4834-A10F-07620C6B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3F78-0486-4B10-9D1E-FC99730B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8F74-7FB3-4011-89C3-FC0DA3D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4E6D-95CC-43D7-9F72-400D62C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15DA-21C4-48BE-A821-E6A9F668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EAEB-1D0F-4D0E-9EB0-23CD1F58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5FDF-98F6-45AD-B76C-8040C3F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14D6-9D72-43CB-B833-782CE66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63C6-B50F-4147-9B61-B569313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0B9E-F620-47E2-92CB-0AA8D04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A3B-1FD1-4469-A4D3-8544A9C9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570A-91D0-4494-9B19-8E52037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0074-C7C1-4151-95DE-7ECA4549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4328-DD1A-4CF7-81E6-8101692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C0954-DC98-42F4-A761-0F3362B3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7184-C8AA-43B3-A2AF-84D8244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D0EC-2D46-460A-9AEE-97DA9C4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E838-7D01-4CC9-A11A-FBA4B26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DE22-B59C-4425-9105-C0AAE47C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36D3-CD35-43C2-B0A3-2BAB4C1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3D0E-C9ED-442D-BF81-E184C2A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225-F70E-48D7-9F90-2219048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EDD9-1CFD-4532-8BD7-01D3833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118E-A5AF-4BF3-A8A4-41DA8D9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8135-EC27-4613-9887-8052712E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22AB-5C86-400D-A341-759D8831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4C0F-FB99-4DAC-A9E5-D4FA45FD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4CEB9-CDCE-4642-BFEC-A8C9DF70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F20BB-8292-422D-83A8-42FF890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E871A-9EDF-4940-9F89-72A8988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0CAD9-74BC-4C26-933B-D5A0F65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82C45-9DE0-49A0-99EB-7CDF31FD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C77-F870-46BC-AC21-53FE778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1A36A-4AB4-47A4-94DC-7CE1039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9F778-AF8B-4E05-A88C-311A6F1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9CE43-E7DD-4D1C-B3EF-DCB3DBC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596D6-F663-463C-86D6-596252E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1E213-B142-4978-8BDB-C6C1DB0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E947D-FFED-4CDB-8F03-4CF47E5F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BEFD4-0601-4720-AB43-7BD49008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84529-F43D-4DED-BFBE-7CEB0A15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AFB0A-C6B5-4E79-B371-3C30093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60FFC-ADDA-4E58-AB42-BA4A0C0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51D-0EB5-4FE8-A2ED-8B88D4E4F7F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BFB-FF2C-4A0C-9897-EBC89A740D1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B487-A938-4706-9A59-12848C32C1F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817-CE7A-4F60-985E-E7AA8E7386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603-52A0-4368-9501-ED55BE94243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E28-7A63-412B-B018-457A2E6F7A1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37D-6065-4497-A7DE-07B0C3BB565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E50F-A835-46EA-B6EE-F7E5E5950AD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6588-67AA-4FC9-B24C-5974C33B5CA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6840" y="142884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Срочно вынесите пострадавшего на свежий воздух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Положите пострадавшего на спину, освободите от тесной одежды, дайте понюхать нашатырный спирт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Если пострадавший не дышит, срочно приступите к искусственному дыханию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53800" indent="-2538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Как можно быстрее доставьте пострадавшего к врачу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Рисунок 3" descr="a9ccd7cd1c4267a50c67ac0bd7180172_M.jpg"/>
          <p:cNvPicPr/>
          <p:nvPr/>
        </p:nvPicPr>
        <p:blipFill>
          <a:blip r:embed="rId3"/>
          <a:stretch/>
        </p:blipFill>
        <p:spPr>
          <a:xfrm>
            <a:off x="5381640" y="2476440"/>
            <a:ext cx="33336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426960" y="249120"/>
            <a:ext cx="834552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Ядохимикаты изготавливаются и применяются в газообразном, жидком или твердом виде для опыления или опрыскивания полей, садов, огородов, производственных и бытовых помещений. В большинстве случаев ядохимикаты применяются не в чистом виде, а в смеси с наполнителями (тальк, мел, известь) в водных растворах или масляных эмульсиях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здражение слизистых оболочек носа, гортани, бронхов возможен сухой кашел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тдышк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сморк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Загрудинные бол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аздражение глаз, слезотечен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онъюнктиви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Тошнот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Рвот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Головокружен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лабость конечносте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Дрожь пальцев рук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Рисунок 3" descr="knf5a0cc982dffb18157d869c193ea7c4b7_800.jpg"/>
          <p:cNvPicPr/>
          <p:nvPr/>
        </p:nvPicPr>
        <p:blipFill>
          <a:blip r:embed="rId3"/>
          <a:stretch/>
        </p:blipFill>
        <p:spPr>
          <a:xfrm>
            <a:off x="5072040" y="4032360"/>
            <a:ext cx="385776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-42840"/>
            <a:ext cx="8778960" cy="14810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4308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Создать безопасную окружающую среду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оизвести промывание желудка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осле промывания желудка дать выпить стакан воды с добавлением в него двух-трех таблеток активированного угля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ри кашле и раздражении в горле произвести ингаляции с пищевой содой, пополоскать горло содовым раствором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Если ядохимикаты попали в глаза, промыть их 2-процентным раствором пищевой соды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На пораженные места кожи наложить компрессы из раствора марганцовокислого калия (розового цвета).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  <a:p>
            <a:pPr marL="250920" indent="-2509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После оказания первой помощи отправить больного в ближайшее медицинское учреждение.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80960" y="-55440"/>
            <a:ext cx="8242200" cy="15732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28400" y="1500120"/>
            <a:ext cx="604332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Часто возникают отравления кислотами (80% раствор уксусной, соляной, карболовой, щавелевой кислот) и едкими щелочами (каустическая сода, нашатырный спирт). Сразу же после попадания кислоты или щелочи в организм появляется сильная боль во рту, глотке, дыхательных путях. Ожог слизистой оболочки вызывает сильный отек, обильное отделение слюны, а резкая боль лишает пострадавшего возможности глотать. Во время вдоха слюна вместе с воздухом может затекать в дыхательные пути, затрудняя дыхание и вызывая удушье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7" name="Picture 2" descr="http://www.big-man.su/img/uksus.jpg"/>
          <p:cNvPicPr/>
          <p:nvPr/>
        </p:nvPicPr>
        <p:blipFill>
          <a:blip r:embed="rId3"/>
          <a:stretch/>
        </p:blipFill>
        <p:spPr>
          <a:xfrm>
            <a:off x="6572160" y="2041560"/>
            <a:ext cx="20718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420840" y="128520"/>
            <a:ext cx="8242200" cy="1309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14200" y="1428480"/>
            <a:ext cx="8715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емедленно удалить слюну и слизь изо рта пострадавшего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вернув на чайную ложку кусок марли, платок или салфетку, протереть полость рта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Если возникли признаки удушья - провести искусственное дыхание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вольно часто у пострадавших бывает рвота, иногда с примесью крови. Промывать самостоятельно желудок в таких случаях категорически запрещается, так как это может усилить рвоту, привести к попаданию кислот и щелочей в дыхательные пути. Пострадавшему можно дать выпить 2-3 стакана воды, лучше со льдом. Нельзя пытаться "нейтрализовать" ядовитые жидкост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и отравлении другими химическими веществами (хлорированный углеводород, анилиновый краситель и т.д.) до прибытия врача надо вызвать у пострадавшего рвоту и промыть, если он в сознании, желудок водой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адавшего в бессознательном состоянии уложить без подушки на живот, голову повернуть в сторону. При западении языка, а также при судорогах в бессознательном состоянии, когда челюсти крепко сомкнуты и препятствуют нормальному дыханию, осторожно запрокинуть голову и выдвинуть нижнюю челюсть вперед и вверх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28760" y="4328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травление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— интоксикация организма вследствие поступления в организм чужеродного химического вещества в токсической доз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2" descr="C:\Documents and Settings\Админ\Мои документы\img2012073112593470.jpg"/>
          <p:cNvPicPr/>
          <p:nvPr/>
        </p:nvPicPr>
        <p:blipFill>
          <a:blip r:embed="rId2"/>
          <a:stretch/>
        </p:blipFill>
        <p:spPr>
          <a:xfrm>
            <a:off x="1785960" y="4762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5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Пищевые отравления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лекарств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снотворными средств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наркотик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алкоголем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равление ядовитыми растениями и грибам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отулизм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равление бытовыми и моющими средствам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угарным и светильным газом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ядохимикат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mbria"/>
              </a:rPr>
              <a:t>Отравление кислотами и щелочами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azerimed.info/uploads/posts/1280903723_otravleni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643120" cy="265572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71280" y="1571760"/>
            <a:ext cx="60724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ищевое отравление – пищевая токсикоинфекция, возникает при приеме внутрь недоброкачественных (инфицированных) продуктов животного происхождения (мясо, рыба, колбасные изделия, мясные и рыбные консервы, молоко и изделия из него и т.д.). Заболевание вызывают находящиеся в данном продукте микробы и продукты их жизнедеятельности – токсины. Мясо, рыба могут инфицироваться еще при жизни животных, но наиболее часто это происходит в процессе приготовления пищи и неправильного хранения пищевых продуктов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Общее недомогание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Тошнот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Многократная рвот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Схваткообразные боли в животе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Частый жидкий стул, иногда с примесью слизи и прожилками крови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Усиление интоксикации, снижение артериального давления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Учащение и ослабление пульс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Бледность кожных покровов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Жажда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  <a:p>
            <a:pPr marL="242280" indent="-242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mbria"/>
              </a:rPr>
              <a:t>Высокая температура тела (38-40°С).</a:t>
            </a: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30240"/>
            <a:ext cx="8778960" cy="1481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емедленно начните промывание желудка водой при помощи желудочного зонда или вызывания искусственной рвоты (обильное питье теплой воды 1,5-2 л с последующим раздражением корня язык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ывайте до "чистой воды"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авайте обильное питье при самостоятельной рвоте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ля скорейшего удаления из кишечника инфицированных продуктов пострадавшему дайте карболен ("желудочный" уголь) и слабительное (25 г солевого слабительного на полстакана воды или 30 мл касторового масла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ле промывания желудка, дайте пострадавшему горячий чай и кофе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огрейте пострадавшего. Обложите его грелками (к ногам, рукам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пособствует выздоровлению прием внутрь сульфаниламидов (сульгин, фталазол по 0,5 г 4-6 раз в день) или антибиотиков (левомицетин по 0,5 г 4-6 раз в день, хлортетрациклина гидрохлорид по 300 000 ЕД 4 раза в течение 2-3 дней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спражнения больного и рвотные массы дезинфицируйте непосредственно в судне (перемешивание с сухой хлорной известью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зовите "скорую помощь"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тавлять пострадавшего одного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зывать рвоту, если пострадавший находится без созна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зывать рвоту при отравлении кислотами и щелочам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8520"/>
            <a:ext cx="8242560" cy="1573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13840" y="1500120"/>
            <a:ext cx="50720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травление угарным газом возможно на производствах, где угарный газ используется для синтеза ряда органических веществ, в гаражах при плохой вентиляции, в непроветриваемых вновь окрашенных помещениях, а также в домашних условиях – при утечке светильного газа и при несвоевременно закрытых печных заслонках в помещениях с  печным отоплением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2" descr="http://doktorland.ru/pic/otrava/ugar.jpg"/>
          <p:cNvPicPr/>
          <p:nvPr/>
        </p:nvPicPr>
        <p:blipFill>
          <a:blip r:embed="rId3"/>
          <a:stretch/>
        </p:blipFill>
        <p:spPr>
          <a:xfrm>
            <a:off x="5214960" y="207180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ловная бол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яжесть в голов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Тошно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ловокружени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Шум в уша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ердцебиени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Мышечная слаб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вот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растает слаб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онливос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темнение сознания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дышк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ледность кожи, иногда наличие ярко-красных пятен на теле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При долгом вдыхании угарного газа дыхание становится поверхностным, возникают судороги, и наступает смерть от паралича дыхательного центр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Рисунок 3" descr="b-3022166063.jpg"/>
          <p:cNvPicPr/>
          <p:nvPr/>
        </p:nvPicPr>
        <p:blipFill>
          <a:blip r:embed="rId3"/>
          <a:stretch/>
        </p:blipFill>
        <p:spPr>
          <a:xfrm>
            <a:off x="3714840" y="169056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9:33:21Z</dcterms:created>
  <dc:creator>Затыкин А.В.</dc:creator>
  <dc:description/>
  <dc:language>en-US</dc:language>
  <cp:lastModifiedBy>User</cp:lastModifiedBy>
  <dcterms:modified xsi:type="dcterms:W3CDTF">2023-05-15T12:39:12Z</dcterms:modified>
  <cp:revision>36</cp:revision>
  <dc:subject/>
  <dc:title>Первая медицинская помощь при отравлениях</dc:title>
</cp:coreProperties>
</file>