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B3F-A1A2-49E5-A42E-E05B90D7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756-C1A3-4A81-9DF9-8BD69344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A79-ED9C-451E-A1A4-61A41B3F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F1A-DACB-4D2D-9540-609FF6E3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294-2F8B-4711-A390-93CBDD4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B2C-92D1-4BC1-95DD-6C40425A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C31-8AE8-4095-B8A4-A0FE554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4EF-F347-4F5F-B7E1-FB91C62E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667-E7C4-4720-8CE8-26D2E6B5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BEC-1CB4-4345-A93E-37CCD49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B55-CC0E-4141-AE48-B9F96B3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88F-D4BC-4EB2-95D4-1616F6A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C3FD-0AE6-474A-8770-8FE7E156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 «Детский сад № 20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6360" y="1784520"/>
            <a:ext cx="75214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могаем птицам родного кра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группа компенсирующей направленности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: Воронина Наталья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ова Ирин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ль 2022-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"/>
          <p:cNvPicPr/>
          <p:nvPr/>
        </p:nvPicPr>
        <p:blipFill>
          <a:blip r:embed="rId1"/>
          <a:stretch/>
        </p:blipFill>
        <p:spPr>
          <a:xfrm>
            <a:off x="6931080" y="193680"/>
            <a:ext cx="2214360" cy="1117440"/>
          </a:xfrm>
          <a:prstGeom prst="rect">
            <a:avLst/>
          </a:prstGeom>
          <a:ln w="0">
            <a:noFill/>
          </a:ln>
        </p:spPr>
      </p:pic>
      <p:pic>
        <p:nvPicPr>
          <p:cNvPr id="44" name="Jamie Llewellyn — Звуки природы_ тропические леса (www.mixmuz.ru)" descr="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8" descr=""/>
          <p:cNvPicPr/>
          <p:nvPr/>
        </p:nvPicPr>
        <p:blipFill>
          <a:blip r:embed="rId1"/>
          <a:stretch/>
        </p:blipFill>
        <p:spPr>
          <a:xfrm>
            <a:off x="7458120" y="9360"/>
            <a:ext cx="1946160" cy="116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5400000">
            <a:off x="4359600" y="-204120"/>
            <a:ext cx="3008520" cy="386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225360"/>
            <a:ext cx="3336840" cy="310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39840" y="3479760"/>
            <a:ext cx="3489120" cy="315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184640" y="3330720"/>
            <a:ext cx="40734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 родителей к подготовке фотографий «Подкормка птиц зимой»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скусственных гнездовий и грач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хнике оригам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езонного дерева «Грачи прилетел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"/>
          <p:cNvPicPr/>
          <p:nvPr/>
        </p:nvPicPr>
        <p:blipFill>
          <a:blip r:embed="rId1"/>
          <a:stretch/>
        </p:blipFill>
        <p:spPr>
          <a:xfrm>
            <a:off x="7415280" y="8424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5320" y="1419120"/>
            <a:ext cx="3529080" cy="4705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52760" y="1419120"/>
            <a:ext cx="371160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16120" y="923760"/>
            <a:ext cx="703872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всего врем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лас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ая работа по расширению представлений де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тицах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, на утреннем и вечернем кругах,  организовывались тематические бесе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оводимые мероприятия были направлены на поддержку и проявление детской инициативы, способствовали воспитанию доброго и заботливого отношения к птиц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род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сем участникам была предоставлена возможность окунуться в мир птиц, проводить наблюдения, делиться знаниями, впечатлениями, эмоциями.</a:t>
            </a:r>
            <a:br>
              <a:rPr sz="1800"/>
            </a:br>
            <a:br>
              <a:rPr sz="18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"/>
          <p:cNvPicPr/>
          <p:nvPr/>
        </p:nvPicPr>
        <p:blipFill>
          <a:blip r:embed="rId1"/>
          <a:stretch/>
        </p:blipFill>
        <p:spPr>
          <a:xfrm>
            <a:off x="7310520" y="15408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6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пти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1"/>
          <a:stretch/>
        </p:blipFill>
        <p:spPr>
          <a:xfrm>
            <a:off x="6854760" y="27468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48960"/>
            <a:ext cx="6622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ширение представлений детей об особенностях жизни птиц зимой, способах кормления, ухода за ни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7240" y="1420920"/>
            <a:ext cx="7437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ширять представления детей о птицах Ярославской области, особенностях жизни птиц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ять представления о питании зимующ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вивать любознательность, познавательный интерес и активность детей к изучению природы родн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пособствовать проявлению инициативы и самосто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оспитывать заботливое отношение к птицам, деревьям, кустарн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ывать желание помогать пернатым, кормить их, изготавливать корм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8" descr=""/>
          <p:cNvPicPr/>
          <p:nvPr/>
        </p:nvPicPr>
        <p:blipFill>
          <a:blip r:embed="rId1"/>
          <a:stretch/>
        </p:blipFill>
        <p:spPr>
          <a:xfrm>
            <a:off x="7199280" y="25416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1640" y="653760"/>
            <a:ext cx="77724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600" y="1584360"/>
            <a:ext cx="81694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этап: с 1 декабря 2022 г. по 16 декабря 20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рт - привлечение родителей и детей группы к участию в Акции «Покормите птиц зимой!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р кормов для птиц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готовл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орган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тич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сто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птичье меню), содержа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отсеки для сортировки кор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этап: с 20 декабря 2023 г. по 20 февраля 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ган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провед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те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меропри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 этап: с 21 февраля 2023 г. по 20 марта 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ие организованной образовательной  деятельности с детьми, привлечение родителей, педагогов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"/>
          <p:cNvPicPr/>
          <p:nvPr/>
        </p:nvPicPr>
        <p:blipFill>
          <a:blip r:embed="rId1"/>
          <a:stretch/>
        </p:blipFill>
        <p:spPr>
          <a:xfrm>
            <a:off x="7199280" y="274680"/>
            <a:ext cx="19447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800" y="442440"/>
            <a:ext cx="777240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120" y="676440"/>
            <a:ext cx="715356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беседы: «Кто заботится о птицах», « Пользу или вред приносят птицы?», « Как живут пернатые друзья зимой?», «Чем можно кормить птиц зимой?» , «Птицы нашего края». Цель: расширение представлений детей о жизни птиц зимой, воспитание доброго заботливого отношения к пернатым, поддержка инициат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деятельность: Аппликация «Птицы на кормушке». Цель: побуждение детей к изготовлению коллективной аппликации, развитие мелкой моторики. Лепка в технике пластилинография «Снегири». Цель: закрепление представлений о зимующих птицах, закрепление усвоенных приемов леп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"/>
          <p:cNvPicPr/>
          <p:nvPr/>
        </p:nvPicPr>
        <p:blipFill>
          <a:blip r:embed="rId1"/>
          <a:stretch/>
        </p:blipFill>
        <p:spPr>
          <a:xfrm>
            <a:off x="7199280" y="2541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3280" y="2625840"/>
            <a:ext cx="4019400" cy="35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48040" y="2436840"/>
            <a:ext cx="38944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0080" y="388800"/>
            <a:ext cx="6926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ктической деятельности по изготовлению кормушек детьми. Привлечение родителей к изготовлению кормушек совместно с детьми. Развешивание кормушек на участке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6945480" y="147600"/>
            <a:ext cx="194436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60560" y="1168560"/>
            <a:ext cx="2225880" cy="292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6320" y="4235400"/>
            <a:ext cx="2040120" cy="234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11200" y="4398840"/>
            <a:ext cx="2103480" cy="21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93640" y="1311120"/>
            <a:ext cx="2021040" cy="292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389560" y="1533600"/>
            <a:ext cx="333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2920" y="380880"/>
            <a:ext cx="731196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авки кормушек и скворечников для птиц в группе, образовательном учреждении. Изготовление плаката - призыва «Покормите птиц зимой». Проведение беседы по изготовленному плакату. Рассматривание тематических картин и плакатов. Участие в конкурсе скворечников «Птичий дом» в рамках экологической акции « Сделай скворечник - помоги птицам!» от МАУ ДК «Гамм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1"/>
          <a:stretch/>
        </p:blipFill>
        <p:spPr>
          <a:xfrm>
            <a:off x="7199280" y="2541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9720" y="1946160"/>
            <a:ext cx="2799000" cy="338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84640" y="1946160"/>
            <a:ext cx="264960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100920" y="1946160"/>
            <a:ext cx="2765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0" y="831960"/>
            <a:ext cx="4129200" cy="281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73760" y="1420920"/>
            <a:ext cx="3405240" cy="4735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3"/>
          <a:stretch/>
        </p:blipFill>
        <p:spPr>
          <a:xfrm>
            <a:off x="7151760" y="25416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028880" y="3784680"/>
            <a:ext cx="2057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еятельности по регулярной подкормке и наблюдению за птицами, их особенностями поведения на кормушках и около них. Беседы и анализ наблюдений за птицами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8" descr=""/>
          <p:cNvPicPr/>
          <p:nvPr/>
        </p:nvPicPr>
        <p:blipFill>
          <a:blip r:embed="rId1"/>
          <a:stretch/>
        </p:blipFill>
        <p:spPr>
          <a:xfrm>
            <a:off x="7048440" y="154080"/>
            <a:ext cx="194472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4960" y="1417680"/>
            <a:ext cx="3333600" cy="433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5400000">
            <a:off x="4397760" y="1808640"/>
            <a:ext cx="4572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8" descr=""/>
          <p:cNvPicPr/>
          <p:nvPr/>
        </p:nvPicPr>
        <p:blipFill>
          <a:blip r:embed="rId1"/>
          <a:stretch/>
        </p:blipFill>
        <p:spPr>
          <a:xfrm>
            <a:off x="7184880" y="142920"/>
            <a:ext cx="1946520" cy="1163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5400000">
            <a:off x="4504680" y="509400"/>
            <a:ext cx="2914560" cy="2444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0440" y="274680"/>
            <a:ext cx="3835440" cy="2773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41920" y="3394080"/>
            <a:ext cx="3686040" cy="296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5400000">
            <a:off x="752040" y="3049560"/>
            <a:ext cx="3303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ASUS</dc:creator>
  <dc:description/>
  <dc:language>en-US</dc:language>
  <cp:lastModifiedBy/>
  <dcterms:modified xsi:type="dcterms:W3CDTF">2023-04-15T05:44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