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EFAA-60F3-4BF2-AD96-472B49D8D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2B8A-E288-4F7F-830C-DF59F38E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6FAF-14BB-4A72-8296-3EDEFE365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0212-3428-4C9F-B5C6-1B0467EA6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1AAA-413E-485F-B205-02DD967D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B987-0AAA-43D4-A98C-875FCD1A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C54A-78DB-4A82-B1D3-729BDBFA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B6D6-BF4C-40EB-8211-93249315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FC40-B525-4B31-A1F3-236C4F9A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F06D-AC5E-45F1-9E86-6B4D31AA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7CAA-8228-423B-BD78-2A71FD93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FDA7-03E6-4285-8E7B-A368EDBF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1D1F-61A0-4DDC-9A4F-E8A7BB1B6F9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athedral.ru/persons/petr_I" TargetMode="External"/><Relationship Id="rId2" Type="http://schemas.openxmlformats.org/officeDocument/2006/relationships/hyperlink" Target="http://cathedral.ru/persons/petr_I" TargetMode="External"/><Relationship Id="rId3" Type="http://schemas.openxmlformats.org/officeDocument/2006/relationships/hyperlink" Target="http://cathedral.ru/persons/petr_I" TargetMode="External"/><Relationship Id="rId4" Type="http://schemas.openxmlformats.org/officeDocument/2006/relationships/hyperlink" Target="http://www.cathedral.ru/holy/isaacii_dalmatskii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5ffff"/>
                </a:solidFill>
                <a:latin typeface="Sylfaen"/>
              </a:rPr>
              <a:t>Исаакиевский собор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8" descr="Исобор"/>
          <p:cNvPicPr/>
          <p:nvPr/>
        </p:nvPicPr>
        <p:blipFill>
          <a:blip r:embed="rId1"/>
          <a:stretch/>
        </p:blipFill>
        <p:spPr>
          <a:xfrm>
            <a:off x="1116000" y="1341360"/>
            <a:ext cx="6651720" cy="36720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5"/>
          <p:cNvSpPr/>
          <p:nvPr/>
        </p:nvSpPr>
        <p:spPr>
          <a:xfrm>
            <a:off x="1692360" y="5373720"/>
            <a:ext cx="720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Прямоугольник 2"/>
          <p:cNvSpPr/>
          <p:nvPr/>
        </p:nvSpPr>
        <p:spPr>
          <a:xfrm>
            <a:off x="2286000" y="2766960"/>
            <a:ext cx="61293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р: Шалева Олеся Александровна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атель :ГБДОУ детский сад № 69 «Марина»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сногвардейского района Санкт-Петербург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та проведения : 15.05.2023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858996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Sylfaen"/>
              </a:rPr>
              <a:t>Император Александр</a:t>
            </a:r>
            <a:r>
              <a:rPr b="0" lang="en-US" sz="3600" spc="-1" strike="noStrike">
                <a:solidFill>
                  <a:srgbClr val="ffffff"/>
                </a:solidFill>
                <a:latin typeface="Sylfaen"/>
              </a:rPr>
              <a:t>I </a:t>
            </a:r>
            <a:r>
              <a:rPr b="0" lang="ru-RU" sz="3600" spc="-1" strike="noStrike">
                <a:solidFill>
                  <a:srgbClr val="ffffff"/>
                </a:solidFill>
                <a:latin typeface="Sylfaen"/>
              </a:rPr>
              <a:t>дал распоряжение Бетанкуру подготовить предложения по перестройке Исаакиевского собора и подобрать для этого архитектора. Выбор пал на только что приехавшего в Россию из Франции Огюста Монферрана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Sylfaen"/>
              </a:rPr>
              <a:t>Монферран трудился над проектом в течение всего 1817 года, и представил 24 эскизных проекта Исаакиевского собора в различных стиля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ИС5"/>
          <p:cNvPicPr/>
          <p:nvPr/>
        </p:nvPicPr>
        <p:blipFill>
          <a:blip r:embed="rId1"/>
          <a:stretch/>
        </p:blipFill>
        <p:spPr>
          <a:xfrm>
            <a:off x="0" y="0"/>
            <a:ext cx="9144000" cy="67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Sylfaen"/>
              </a:rPr>
              <a:t>Строительство Исаакиевского собора продолжалось с 1818 по 1858 год. По своему размаху оно превосходило подобного рода работы не только в Петербурге, но и во всей России. За 40 лет в нем приняли участие почти 500 000 человек: каменотесов, плотников, камнерезов, лепщиков, кузнецов, скульпторов и живописцев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-360" y="115920"/>
            <a:ext cx="93250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Sylfaen"/>
              </a:rPr>
              <a:t>Фундамент храма сооружался около 5 лет, в работах приняли участие около 125000 челове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Sylfaen"/>
              </a:rPr>
              <a:t>Одновременно с созданием фундамента в каменоломне на берегу Финского залива, в местечке Пютерлакс (неподалеку от Выборга) заготовляли гранитные монолиты для колонн собора. Руководил работами Самсон Суханов, придумавший оригинальный способ выломки гранитных монолит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5" descr="Строит1"/>
          <p:cNvPicPr/>
          <p:nvPr/>
        </p:nvPicPr>
        <p:blipFill>
          <a:blip r:embed="rId1"/>
          <a:stretch/>
        </p:blipFill>
        <p:spPr>
          <a:xfrm>
            <a:off x="468360" y="1989000"/>
            <a:ext cx="82803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896472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Sylfaen"/>
              </a:rPr>
              <a:t>На одном из заводов крупного петербургского промышленника Ч.Берда были построены специальные баржи для перевозки гранитных заготовок. Каждую баржу с заготовкой буксировали два парохода до пристани на Неве, у Сенатской площади, где заготовки выгружали и доставляли на строительную площадку по впервые использованному в России рельсовому пути. Здесь каменотесы придавали колонне окончательную форму, затем ее шлифовали и полировал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4" descr="Ст2"/>
          <p:cNvPicPr/>
          <p:nvPr/>
        </p:nvPicPr>
        <p:blipFill>
          <a:blip r:embed="rId1"/>
          <a:stretch/>
        </p:blipFill>
        <p:spPr>
          <a:xfrm>
            <a:off x="395280" y="1773360"/>
            <a:ext cx="82803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6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Sylfaen"/>
              </a:rPr>
              <a:t>Гранитную колонну массой около 115 т, обшитую войлоком и циновками, обвязали прочными корабельными канатами. При помощи деревянных катков рабочие вкатили колонну в один из пролетов лесов и закрепили концы канатов через систему блоков на кабестанах. По сигналу 128 человек начали вращать кабестаны, и колонна была поднята вертикально за 40 - 45 мин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9" name="Picture 4" descr="Ст4"/>
          <p:cNvPicPr/>
          <p:nvPr/>
        </p:nvPicPr>
        <p:blipFill>
          <a:blip r:embed="rId1"/>
          <a:stretch/>
        </p:blipFill>
        <p:spPr>
          <a:xfrm>
            <a:off x="324000" y="2133720"/>
            <a:ext cx="8353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280360" cy="17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Sylfaen"/>
              </a:rPr>
              <a:t>Следующим этапом строительства стало возведение стен. По своей толщине стены Исаакиевского собора превосходят стены других сооружений города, северная и южная достигают 5 м, западная и восточная - 2,5 м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1" name="Picture 4" descr="Ст5"/>
          <p:cNvPicPr/>
          <p:nvPr/>
        </p:nvPicPr>
        <p:blipFill>
          <a:blip r:embed="rId1"/>
          <a:stretch/>
        </p:blipFill>
        <p:spPr>
          <a:xfrm>
            <a:off x="395280" y="1557360"/>
            <a:ext cx="835344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Ст3"/>
          <p:cNvPicPr/>
          <p:nvPr/>
        </p:nvPicPr>
        <p:blipFill>
          <a:blip r:embed="rId1"/>
          <a:stretch/>
        </p:blipFill>
        <p:spPr>
          <a:xfrm>
            <a:off x="0" y="0"/>
            <a:ext cx="4608360" cy="4319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Ст6"/>
          <p:cNvPicPr/>
          <p:nvPr/>
        </p:nvPicPr>
        <p:blipFill>
          <a:blip r:embed="rId2"/>
          <a:stretch/>
        </p:blipFill>
        <p:spPr>
          <a:xfrm>
            <a:off x="4516560" y="1916280"/>
            <a:ext cx="462744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5092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Sylfaen"/>
              </a:rPr>
              <a:t>В 1836 году возведение стен было завершено, и фасады начали облицовывать мраморными плитами толщиной около 5 с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250920" y="1268280"/>
            <a:ext cx="8208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Sylfaen"/>
              </a:rPr>
              <a:t>После возведения основания купола собора в 1837 году вокруг него установили24 гранитные колонны массой более 60 т каждая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Sylfaen"/>
              </a:rPr>
              <a:t>Поднимали их на высоту 43 м по наклонному настилу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Sylfaen"/>
              </a:rPr>
              <a:t>устроенному внутри здани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Sylfae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250920" y="2565360"/>
            <a:ext cx="8424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Sylfaen"/>
              </a:rPr>
              <a:t>Монферран предложил заменить традиционную кирпичную кладку купола металлическими конструкция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Sylfaen"/>
              </a:rPr>
              <a:t>Это позволило снизить стоимость работ на 2 млн. рублей и возвести купол за 3 года вместо 6 лет. Но самое главное, это давало возможность облегчить верхнюю часть здания и ослабить его неравномерную осадку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250920" y="4149720"/>
            <a:ext cx="835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Sylfaen"/>
              </a:rPr>
              <a:t>Некоторые специалисты считают, что конструкция металлического купола Монферрана была использована в 1860-х годах при возведении купола американского Капитоли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250920" y="4869000"/>
            <a:ext cx="856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Sylfaen"/>
              </a:rPr>
              <a:t>Золоченый купол Исаакиевского собора по своим размерам единственный в своем роде не только в России, но и в мире. Диаметр купола - более 25 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Sylfaen"/>
              </a:rPr>
              <a:t>В 1843 году строительство здания собора завершилось, но уже в 1841 году начались работы по его внутреннему художественно-декоративному оформлению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Иоанн"/>
          <p:cNvPicPr/>
          <p:nvPr/>
        </p:nvPicPr>
        <p:blipFill>
          <a:blip r:embed="rId1"/>
          <a:stretch/>
        </p:blipFill>
        <p:spPr>
          <a:xfrm>
            <a:off x="4788000" y="836640"/>
            <a:ext cx="4163760" cy="5832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Матфей"/>
          <p:cNvPicPr/>
          <p:nvPr/>
        </p:nvPicPr>
        <p:blipFill>
          <a:blip r:embed="rId2"/>
          <a:stretch/>
        </p:blipFill>
        <p:spPr>
          <a:xfrm>
            <a:off x="179280" y="836640"/>
            <a:ext cx="4380120" cy="58323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Матфей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оанн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5ffff"/>
                </a:solidFill>
                <a:latin typeface="Sylfaen"/>
              </a:rPr>
              <a:t>История создания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643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ylfaen"/>
              </a:rPr>
              <a:t>В конце 1706 года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Sylfaen"/>
                <a:hlinkClick r:id="rId1"/>
              </a:rPr>
              <a:t>Петр</a:t>
            </a:r>
            <a:r>
              <a:rPr b="0" lang="ru-RU" sz="28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Sylfaen"/>
                <a:hlinkClick r:id="rId2"/>
              </a:rPr>
              <a:t>Алексеевич</a:t>
            </a:r>
            <a:r>
              <a:rPr b="0" lang="ru-RU" sz="2800" spc="-1" strike="noStrike">
                <a:solidFill>
                  <a:srgbClr val="ffffff"/>
                </a:solidFill>
                <a:latin typeface="Sylfaen"/>
              </a:rPr>
              <a:t>, распорядился подыскать подходящее помещение для церкви. Этим храмом царь пожелал увековечить имя своего ангела-хранителя -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Sylfaen"/>
                <a:hlinkClick r:id="rId3"/>
              </a:rPr>
              <a:t>Петр I </a:t>
            </a:r>
            <a:r>
              <a:rPr b="0" lang="ru-RU" sz="2800" spc="-1" strike="noStrike">
                <a:solidFill>
                  <a:srgbClr val="ffffff"/>
                </a:solidFill>
                <a:latin typeface="Sylfaen"/>
              </a:rPr>
              <a:t>родился 30 мая по старому стилю, в день поминовения св.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Sylfaen"/>
                <a:hlinkClick r:id="rId4"/>
              </a:rPr>
              <a:t>Исаакия Далматского</a:t>
            </a:r>
            <a:r>
              <a:rPr b="0" lang="ru-RU" sz="2800" spc="-1" strike="noStrike">
                <a:solidFill>
                  <a:srgbClr val="ffffff"/>
                </a:solidFill>
                <a:latin typeface="Sylfae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6" descr="Пётр 1"/>
          <p:cNvPicPr/>
          <p:nvPr/>
        </p:nvPicPr>
        <p:blipFill>
          <a:blip r:embed="rId5"/>
          <a:stretch/>
        </p:blipFill>
        <p:spPr>
          <a:xfrm>
            <a:off x="4643280" y="1197000"/>
            <a:ext cx="41911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Лука"/>
          <p:cNvPicPr/>
          <p:nvPr/>
        </p:nvPicPr>
        <p:blipFill>
          <a:blip r:embed="rId1"/>
          <a:stretch/>
        </p:blipFill>
        <p:spPr>
          <a:xfrm>
            <a:off x="179280" y="1125360"/>
            <a:ext cx="4248360" cy="5597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Марк"/>
          <p:cNvPicPr/>
          <p:nvPr/>
        </p:nvPicPr>
        <p:blipFill>
          <a:blip r:embed="rId2"/>
          <a:stretch/>
        </p:blipFill>
        <p:spPr>
          <a:xfrm>
            <a:off x="4859280" y="1125360"/>
            <a:ext cx="4105440" cy="55976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Лука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Мар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клонение волхв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Picture 4" descr="Поклонение волхвов"/>
          <p:cNvPicPr/>
          <p:nvPr/>
        </p:nvPicPr>
        <p:blipFill>
          <a:blip r:embed="rId1"/>
          <a:stretch/>
        </p:blipFill>
        <p:spPr>
          <a:xfrm>
            <a:off x="468360" y="1341360"/>
            <a:ext cx="828036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оскресение Христово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" name="Picture 4" descr="Воскресение Христа"/>
          <p:cNvPicPr/>
          <p:nvPr/>
        </p:nvPicPr>
        <p:blipFill>
          <a:blip r:embed="rId1"/>
          <a:stretch/>
        </p:blipFill>
        <p:spPr>
          <a:xfrm>
            <a:off x="395280" y="1052640"/>
            <a:ext cx="835200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Ж2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Ж1"/>
          <p:cNvPicPr/>
          <p:nvPr/>
        </p:nvPicPr>
        <p:blipFill>
          <a:blip r:embed="rId1"/>
          <a:stretch/>
        </p:blipFill>
        <p:spPr>
          <a:xfrm>
            <a:off x="1187280" y="0"/>
            <a:ext cx="6820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Витраж"/>
          <p:cNvPicPr/>
          <p:nvPr/>
        </p:nvPicPr>
        <p:blipFill>
          <a:blip r:embed="rId1"/>
          <a:stretch/>
        </p:blipFill>
        <p:spPr>
          <a:xfrm>
            <a:off x="2124000" y="0"/>
            <a:ext cx="4621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Мозаика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М2"/>
          <p:cNvPicPr/>
          <p:nvPr/>
        </p:nvPicPr>
        <p:blipFill>
          <a:blip r:embed="rId1"/>
          <a:stretch/>
        </p:blipFill>
        <p:spPr>
          <a:xfrm>
            <a:off x="539640" y="0"/>
            <a:ext cx="29052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М1"/>
          <p:cNvPicPr/>
          <p:nvPr/>
        </p:nvPicPr>
        <p:blipFill>
          <a:blip r:embed="rId2"/>
          <a:stretch/>
        </p:blipFill>
        <p:spPr>
          <a:xfrm>
            <a:off x="4788000" y="0"/>
            <a:ext cx="309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М и Л"/>
          <p:cNvPicPr/>
          <p:nvPr/>
        </p:nvPicPr>
        <p:blipFill>
          <a:blip r:embed="rId1"/>
          <a:stretch/>
        </p:blipFill>
        <p:spPr>
          <a:xfrm>
            <a:off x="250920" y="0"/>
            <a:ext cx="853272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Малахит"/>
          <p:cNvPicPr/>
          <p:nvPr/>
        </p:nvPicPr>
        <p:blipFill>
          <a:blip r:embed="rId1"/>
          <a:stretch/>
        </p:blipFill>
        <p:spPr>
          <a:xfrm>
            <a:off x="0" y="0"/>
            <a:ext cx="467532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Лазурит"/>
          <p:cNvPicPr/>
          <p:nvPr/>
        </p:nvPicPr>
        <p:blipFill>
          <a:blip r:embed="rId2"/>
          <a:stretch/>
        </p:blipFill>
        <p:spPr>
          <a:xfrm>
            <a:off x="5378400" y="0"/>
            <a:ext cx="376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989000"/>
            <a:ext cx="449568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Sylfaen"/>
              </a:rPr>
              <a:t>Преподобный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Sylfaen"/>
              </a:rPr>
              <a:t>Исаакий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Sylfaen"/>
              </a:rPr>
              <a:t>Далматский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Picture 7" descr="Далматский"/>
          <p:cNvPicPr/>
          <p:nvPr/>
        </p:nvPicPr>
        <p:blipFill>
          <a:blip r:embed="rId1"/>
          <a:stretch/>
        </p:blipFill>
        <p:spPr>
          <a:xfrm>
            <a:off x="4892760" y="0"/>
            <a:ext cx="4251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Собор3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Собор1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Собор"/>
          <p:cNvPicPr/>
          <p:nvPr/>
        </p:nvPicPr>
        <p:blipFill>
          <a:blip r:embed="rId1"/>
          <a:stretch/>
        </p:blipFill>
        <p:spPr>
          <a:xfrm>
            <a:off x="611280" y="0"/>
            <a:ext cx="745164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-252720" y="189000"/>
            <a:ext cx="474804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Sylfaen"/>
              </a:rPr>
              <a:t>Первая Исаакиевская церковь была создана под руководством графа Ф.М.Апраксина на деньги, выделенные для строительства Адмиралтейства. Это был переоборудованный под храм чертежный амбар размером 9 х 18 м. Он находился с запада от Адмиралтейства, в 40 - 50 м от Невы. Шатровая крыша храма высотой 4 - 4,5 м была покрыта водонепроницаемым воско-битумным составом черно-коричневого цвета, которым смолили днища кораблей. Шпиль церкви венчал крест, на башне подвесили небольшие колокол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7" descr="ИС 1"/>
          <p:cNvPicPr/>
          <p:nvPr/>
        </p:nvPicPr>
        <p:blipFill>
          <a:blip r:embed="rId1"/>
          <a:stretch/>
        </p:blipFill>
        <p:spPr>
          <a:xfrm>
            <a:off x="4500720" y="268200"/>
            <a:ext cx="464328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58996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Sylfaen"/>
              </a:rPr>
              <a:t>Петр Алексеевич придавал этому храму большое значение. Именно здесь 19 февраля 1712 года состоялось его венчание с Екатериной Алексеевной (императрицей Екатериной I), а с 1723 года по специальному указу императора только в Исаакиевской церкви должны были принимать присягу моряки Балтийского флота и служащие Адмиралтейств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-324000" y="188640"/>
            <a:ext cx="47484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lfaen"/>
              </a:rPr>
              <a:t>Новый проект храма разработал Г.И.Маттарнови. Это было здание, близкое по архитектурному решению к собору свв. Петра и Павла - с такими же высокой колокольней, шпилем, часами-курантами и небольшим куполом в средней части. Для храма выбрали место на 80 - 90 м западнее Адмиралтейства, в 20 - 25 м от берега Невы. Официально закладка второго Исаакиевского храма состоялась в августе 1717 года в присутствии император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6" descr="ИС2"/>
          <p:cNvPicPr/>
          <p:nvPr/>
        </p:nvPicPr>
        <p:blipFill>
          <a:blip r:embed="rId1"/>
          <a:stretch/>
        </p:blipFill>
        <p:spPr>
          <a:xfrm>
            <a:off x="4284720" y="404640"/>
            <a:ext cx="4859280" cy="59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-324360" y="333360"/>
            <a:ext cx="44960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lfaen"/>
              </a:rPr>
              <a:t>Однако место для строительства выбрали неудачно. В то время берега Невы не были укреплены гранитом, и оползание грунта вызвало неравномерную осадку здания, трещины в стенах и сводах собора. К тому же в мае 1735 года от удара молнии церковь загорелась, и пожар довершил начавшееся разрушение. Восстановить храм было невозможно. Вскоре его пришлось разобра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7" descr="ИС3"/>
          <p:cNvPicPr/>
          <p:nvPr/>
        </p:nvPicPr>
        <p:blipFill>
          <a:blip r:embed="rId1"/>
          <a:stretch/>
        </p:blipFill>
        <p:spPr>
          <a:xfrm>
            <a:off x="3905280" y="692280"/>
            <a:ext cx="5238720" cy="56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ylfaen"/>
              </a:rPr>
              <a:t>Построить новый собор, связанный с именем Петра Великого, поручила архитектору Антонио Ринальди восшедшая на российский престол императрица Екатерина II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Sylfaen"/>
              </a:rPr>
              <a:t>Если бы Ринальди построил этот храм, то он мог бы стать лучшим творением архитектора в Санкт-Петербурге. Собор был задуман с пятью изящными, сложными по рисунку куполами и высокой трехъярусной колокольней. В его строительстве принимал также участие архитектор А.Ф.Вис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ylfaen"/>
              </a:rPr>
              <a:t>Мраморная облицовка должна была придать изысканность цветовому решению фасадов. Но возведение храма затянулось почти на тридцать лет. Не завершив начатого, Ринальди после смерти Екатерины II покинул Петербур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0" name="Picture 4" descr="ИС4"/>
          <p:cNvPicPr/>
          <p:nvPr/>
        </p:nvPicPr>
        <p:blipFill>
          <a:blip r:embed="rId1"/>
          <a:stretch/>
        </p:blipFill>
        <p:spPr>
          <a:xfrm>
            <a:off x="468360" y="333360"/>
            <a:ext cx="813600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13:14:33Z</dcterms:created>
  <dc:creator>comp</dc:creator>
  <dc:description/>
  <dc:language>en-US</dc:language>
  <cp:lastModifiedBy>Олеся</cp:lastModifiedBy>
  <dcterms:modified xsi:type="dcterms:W3CDTF">2023-05-15T19:00:50Z</dcterms:modified>
  <cp:revision>4</cp:revision>
  <dc:subject/>
  <dc:title>Исаакиевский собор</dc:title>
</cp:coreProperties>
</file>