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DAC-D779-4BF6-8808-E88CC6B9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D4B-3EC2-4DF2-AE9B-AC2F55A1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159-7D7D-400E-9457-31850B65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DF0-7608-47C7-89C8-A055E652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0D3-9EAA-48CB-9DC3-CD0CB6D9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FA1-6858-4A17-9346-FADBE670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774-EDF9-445D-AC01-6D34CA6C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980-6B7E-47BA-9B7A-29491835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9D9-1D00-4952-8120-9882B315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AF9-FF9F-4ED0-9E38-A816F5E1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BE3-E746-45D6-B8DE-A152078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919-5B46-4B41-BBA4-47B6AB8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5935-F35E-41EE-BA6D-6254D09CCB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thedral.ru/persons/petr_I" TargetMode="External"/><Relationship Id="rId2" Type="http://schemas.openxmlformats.org/officeDocument/2006/relationships/hyperlink" Target="http://cathedral.ru/persons/petr_I" TargetMode="External"/><Relationship Id="rId3" Type="http://schemas.openxmlformats.org/officeDocument/2006/relationships/hyperlink" Target="http://cathedral.ru/persons/petr_I" TargetMode="External"/><Relationship Id="rId4" Type="http://schemas.openxmlformats.org/officeDocument/2006/relationships/hyperlink" Target="http://www.cathedral.ru/holy/isaacii_dalmatskii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Sylfaen"/>
              </a:rPr>
              <a:t>Исаакиевский собор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8" descr="Исобор"/>
          <p:cNvPicPr/>
          <p:nvPr/>
        </p:nvPicPr>
        <p:blipFill>
          <a:blip r:embed="rId1"/>
          <a:stretch/>
        </p:blipFill>
        <p:spPr>
          <a:xfrm>
            <a:off x="1116000" y="1341360"/>
            <a:ext cx="665172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/>
          <p:cNvSpPr/>
          <p:nvPr/>
        </p:nvSpPr>
        <p:spPr>
          <a:xfrm>
            <a:off x="1692360" y="5373720"/>
            <a:ext cx="72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2286000" y="2766960"/>
            <a:ext cx="6129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Шалева Олеся Александровн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:ГБДОУ детский сад № 69 «Марина»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ногвардейского района Санкт-Петербур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 проведения : 15.05.2023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89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Император Александр</a:t>
            </a:r>
            <a:r>
              <a:rPr b="0" lang="en-US" sz="3600" spc="-1" strike="noStrike">
                <a:solidFill>
                  <a:srgbClr val="ffffff"/>
                </a:solidFill>
                <a:latin typeface="Sylfaen"/>
              </a:rPr>
              <a:t>I </a:t>
            </a: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дал распоряжение Бетанкуру подготовить предложения по перестройке Исаакиевского собора и подобрать для этого архитектора. Выбор пал на только что приехавшего в Россию из Франции Огюста Монферран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Монферран трудился над проектом в течение всего 1817 года, и представил 24 эскизных проекта Исаакиевского собора в различных стил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ИС5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Строительство Исаакиевского собора продолжалось с 1818 по 1858 год. По своему размаху оно превосходило подобного рода работы не только в Петербурге, но и во всей России. За 40 лет в нем приняли участие почти 500 000 человек: каменотесов, плотников, камнерезов, лепщиков, кузнецов, скульпторов и живописце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9325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lfaen"/>
              </a:rPr>
              <a:t>Фундамент храма сооружался около 5 лет, в работах приняли участие около 125000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lfaen"/>
              </a:rPr>
              <a:t>Одновременно с созданием фундамента в каменоломне на берегу Финского залива, в местечке Пютерлакс (неподалеку от Выборга) заготовляли гранитные монолиты для колонн собора. Руководил работами Самсон Суханов, придумавший оригинальный способ выломки гранитных моноли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Строит1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lfaen"/>
              </a:rPr>
              <a:t>На одном из заводов крупного петербургского промышленника Ч.Берда были построены специальные баржи для перевозки гранитных заготовок. Каждую баржу с заготовкой буксировали два парохода до пристани на Неве, у Сенатской площади, где заготовки выгружали и доставляли на строительную площадку по впервые использованному в России рельсовому пути. Здесь каменотесы придавали колонне окончательную форму, затем ее шлифовали и полирова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Ст2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Sylfaen"/>
              </a:rPr>
              <a:t>Гранитную колонну массой около 115 т, обшитую войлоком и циновками, обвязали прочными корабельными канатами. При помощи деревянных катков рабочие вкатили колонну в один из пролетов лесов и закрепили концы канатов через систему блоков на кабестанах. По сигналу 128 человек начали вращать кабестаны, и колонна была поднята вертикально за 40 - 45 мин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Ст4"/>
          <p:cNvPicPr/>
          <p:nvPr/>
        </p:nvPicPr>
        <p:blipFill>
          <a:blip r:embed="rId1"/>
          <a:stretch/>
        </p:blipFill>
        <p:spPr>
          <a:xfrm>
            <a:off x="324000" y="2133720"/>
            <a:ext cx="8353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8036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Sylfaen"/>
              </a:rPr>
              <a:t>Следующим этапом строительства стало возведение стен. По своей толщине стены Исаакиевского собора превосходят стены других сооружений города, северная и южная достигают 5 м, западная и восточная - 2,5 м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Ст5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Ст3"/>
          <p:cNvPicPr/>
          <p:nvPr/>
        </p:nvPicPr>
        <p:blipFill>
          <a:blip r:embed="rId1"/>
          <a:stretch/>
        </p:blipFill>
        <p:spPr>
          <a:xfrm>
            <a:off x="0" y="0"/>
            <a:ext cx="4608360" cy="431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Ст6"/>
          <p:cNvPicPr/>
          <p:nvPr/>
        </p:nvPicPr>
        <p:blipFill>
          <a:blip r:embed="rId2"/>
          <a:stretch/>
        </p:blipFill>
        <p:spPr>
          <a:xfrm>
            <a:off x="4516560" y="1916280"/>
            <a:ext cx="4627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В 1836 году возведение стен было завершено, и фасады начали облицовывать мраморными плитами толщиной около 5 с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50920" y="1268280"/>
            <a:ext cx="820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После возведения основания купола собора в 1837 году вокруг него установили24 гранитные колонны массой более 60 т кажда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Поднимали их на высоту 43 м по наклонному настил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устроенному внутри зд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50920" y="256536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Монферран предложил заменить традиционную кирпичную кладку купола металлическими конструкци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Это позволило снизить стоимость работ на 2 млн. рублей и возвести купол за 3 года вместо 6 лет. Но самое главное, это давало возможность облегчить верхнюю часть здания и ослабить его неравномерную осадк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50920" y="4149720"/>
            <a:ext cx="83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Некоторые специалисты считают, что конструкция металлического купола Монферрана была использована в 1860-х годах при возведении купола американского Капитол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4869000"/>
            <a:ext cx="85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Золоченый купол Исаакиевского собора по своим размерам единственный в своем роде не только в России, но и в мире. Диаметр купола - более 25 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В 1843 году строительство здания собора завершилось, но уже в 1841 году начались работы по его внутреннему художественно-декоративному оформлен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Иоанн"/>
          <p:cNvPicPr/>
          <p:nvPr/>
        </p:nvPicPr>
        <p:blipFill>
          <a:blip r:embed="rId1"/>
          <a:stretch/>
        </p:blipFill>
        <p:spPr>
          <a:xfrm>
            <a:off x="4788000" y="836640"/>
            <a:ext cx="4163760" cy="583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Матфей"/>
          <p:cNvPicPr/>
          <p:nvPr/>
        </p:nvPicPr>
        <p:blipFill>
          <a:blip r:embed="rId2"/>
          <a:stretch/>
        </p:blipFill>
        <p:spPr>
          <a:xfrm>
            <a:off x="179280" y="836640"/>
            <a:ext cx="4380120" cy="5832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тфей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оанн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Sylfaen"/>
              </a:rPr>
              <a:t>История созд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В конце 1706 года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Sylfaen"/>
                <a:hlinkClick r:id="rId1"/>
              </a:rPr>
              <a:t>Петр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Sylfaen"/>
                <a:hlinkClick r:id="rId2"/>
              </a:rPr>
              <a:t>Алексеевич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, распорядился подыскать подходящее помещение для церкви. Этим храмом царь пожелал увековечить имя своего ангела-хранителя -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Sylfaen"/>
                <a:hlinkClick r:id="rId3"/>
              </a:rPr>
              <a:t>Петр I 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родился 30 мая по старому стилю, в день поминовения св.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Sylfaen"/>
                <a:hlinkClick r:id="rId4"/>
              </a:rPr>
              <a:t>Исаакия Далматского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Пётр 1"/>
          <p:cNvPicPr/>
          <p:nvPr/>
        </p:nvPicPr>
        <p:blipFill>
          <a:blip r:embed="rId5"/>
          <a:stretch/>
        </p:blipFill>
        <p:spPr>
          <a:xfrm>
            <a:off x="4643280" y="1197000"/>
            <a:ext cx="4191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Лука"/>
          <p:cNvPicPr/>
          <p:nvPr/>
        </p:nvPicPr>
        <p:blipFill>
          <a:blip r:embed="rId1"/>
          <a:stretch/>
        </p:blipFill>
        <p:spPr>
          <a:xfrm>
            <a:off x="179280" y="1125360"/>
            <a:ext cx="4248360" cy="559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Марк"/>
          <p:cNvPicPr/>
          <p:nvPr/>
        </p:nvPicPr>
        <p:blipFill>
          <a:blip r:embed="rId2"/>
          <a:stretch/>
        </p:blipFill>
        <p:spPr>
          <a:xfrm>
            <a:off x="4859280" y="1125360"/>
            <a:ext cx="4105440" cy="559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ук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р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клонение волхв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Поклонение волхвов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скресение Христо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4" descr="Воскресение Христа"/>
          <p:cNvPicPr/>
          <p:nvPr/>
        </p:nvPicPr>
        <p:blipFill>
          <a:blip r:embed="rId1"/>
          <a:stretch/>
        </p:blipFill>
        <p:spPr>
          <a:xfrm>
            <a:off x="395280" y="1052640"/>
            <a:ext cx="8352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Ж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Ж1"/>
          <p:cNvPicPr/>
          <p:nvPr/>
        </p:nvPicPr>
        <p:blipFill>
          <a:blip r:embed="rId1"/>
          <a:stretch/>
        </p:blipFill>
        <p:spPr>
          <a:xfrm>
            <a:off x="1187280" y="0"/>
            <a:ext cx="682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Витраж"/>
          <p:cNvPicPr/>
          <p:nvPr/>
        </p:nvPicPr>
        <p:blipFill>
          <a:blip r:embed="rId1"/>
          <a:stretch/>
        </p:blipFill>
        <p:spPr>
          <a:xfrm>
            <a:off x="2124000" y="0"/>
            <a:ext cx="46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Мозаика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М2"/>
          <p:cNvPicPr/>
          <p:nvPr/>
        </p:nvPicPr>
        <p:blipFill>
          <a:blip r:embed="rId1"/>
          <a:stretch/>
        </p:blipFill>
        <p:spPr>
          <a:xfrm>
            <a:off x="539640" y="0"/>
            <a:ext cx="29052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М1"/>
          <p:cNvPicPr/>
          <p:nvPr/>
        </p:nvPicPr>
        <p:blipFill>
          <a:blip r:embed="rId2"/>
          <a:stretch/>
        </p:blipFill>
        <p:spPr>
          <a:xfrm>
            <a:off x="4788000" y="0"/>
            <a:ext cx="309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М и Л"/>
          <p:cNvPicPr/>
          <p:nvPr/>
        </p:nvPicPr>
        <p:blipFill>
          <a:blip r:embed="rId1"/>
          <a:stretch/>
        </p:blipFill>
        <p:spPr>
          <a:xfrm>
            <a:off x="250920" y="0"/>
            <a:ext cx="853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Малахит"/>
          <p:cNvPicPr/>
          <p:nvPr/>
        </p:nvPicPr>
        <p:blipFill>
          <a:blip r:embed="rId1"/>
          <a:stretch/>
        </p:blipFill>
        <p:spPr>
          <a:xfrm>
            <a:off x="0" y="0"/>
            <a:ext cx="46753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азурит"/>
          <p:cNvPicPr/>
          <p:nvPr/>
        </p:nvPicPr>
        <p:blipFill>
          <a:blip r:embed="rId2"/>
          <a:stretch/>
        </p:blipFill>
        <p:spPr>
          <a:xfrm>
            <a:off x="5378400" y="0"/>
            <a:ext cx="37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44956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Преподобн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Исааки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Далматски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Далматский"/>
          <p:cNvPicPr/>
          <p:nvPr/>
        </p:nvPicPr>
        <p:blipFill>
          <a:blip r:embed="rId1"/>
          <a:stretch/>
        </p:blipFill>
        <p:spPr>
          <a:xfrm>
            <a:off x="4892760" y="0"/>
            <a:ext cx="425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Собор3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Собор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обор"/>
          <p:cNvPicPr/>
          <p:nvPr/>
        </p:nvPicPr>
        <p:blipFill>
          <a:blip r:embed="rId1"/>
          <a:stretch/>
        </p:blipFill>
        <p:spPr>
          <a:xfrm>
            <a:off x="611280" y="0"/>
            <a:ext cx="74516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252720" y="189000"/>
            <a:ext cx="47480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Sylfaen"/>
              </a:rPr>
              <a:t>Первая Исаакиевская церковь была создана под руководством графа Ф.М.Апраксина на деньги, выделенные для строительства Адмиралтейства. Это был переоборудованный под храм чертежный амбар размером 9 х 18 м. Он находился с запада от Адмиралтейства, в 40 - 50 м от Невы. Шатровая крыша храма высотой 4 - 4,5 м была покрыта водонепроницаемым воско-битумным составом черно-коричневого цвета, которым смолили днища кораблей. Шпиль церкви венчал крест, на башне подвесили небольшие колоко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ИС 1"/>
          <p:cNvPicPr/>
          <p:nvPr/>
        </p:nvPicPr>
        <p:blipFill>
          <a:blip r:embed="rId1"/>
          <a:stretch/>
        </p:blipFill>
        <p:spPr>
          <a:xfrm>
            <a:off x="4500720" y="268200"/>
            <a:ext cx="46432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899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Петр Алексеевич придавал этому храму большое значение. Именно здесь 19 февраля 1712 года состоялось его венчание с Екатериной Алексеевной (императрицей Екатериной I), а с 1723 года по специальному указу императора только в Исаакиевской церкви должны были принимать присягу моряки Балтийского флота и служащие Адмиралтей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24000" y="188640"/>
            <a:ext cx="4748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lfaen"/>
              </a:rPr>
              <a:t>Новый проект храма разработал Г.И.Маттарнови. Это было здание, близкое по архитектурному решению к собору свв. Петра и Павла - с такими же высокой колокольней, шпилем, часами-курантами и небольшим куполом в средней части. Для храма выбрали место на 80 - 90 м западнее Адмиралтейства, в 20 - 25 м от берега Невы. Официально закладка второго Исаакиевского храма состоялась в августе 1717 года в присутствии императо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ИС2"/>
          <p:cNvPicPr/>
          <p:nvPr/>
        </p:nvPicPr>
        <p:blipFill>
          <a:blip r:embed="rId1"/>
          <a:stretch/>
        </p:blipFill>
        <p:spPr>
          <a:xfrm>
            <a:off x="4284720" y="404640"/>
            <a:ext cx="485928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24360" y="333360"/>
            <a:ext cx="44960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lfaen"/>
              </a:rPr>
              <a:t>Однако место для строительства выбрали неудачно. В то время берега Невы не были укреплены гранитом, и оползание грунта вызвало неравномерную осадку здания, трещины в стенах и сводах собора. К тому же в мае 1735 года от удара молнии церковь загорелась, и пожар довершил начавшееся разрушение. Восстановить храм было невозможно. Вскоре его пришлось разобр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ИС3"/>
          <p:cNvPicPr/>
          <p:nvPr/>
        </p:nvPicPr>
        <p:blipFill>
          <a:blip r:embed="rId1"/>
          <a:stretch/>
        </p:blipFill>
        <p:spPr>
          <a:xfrm>
            <a:off x="3905280" y="692280"/>
            <a:ext cx="52387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Построить новый собор, связанный с именем Петра Великого, поручила архитектору Антонио Ринальди восшедшая на российский престол императрица Екатерина I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Если бы Ринальди построил этот храм, то он мог бы стать лучшим творением архитектора в Санкт-Петербурге. Собор был задуман с пятью изящными, сложными по рисунку куполами и высокой трехъярусной колокольней. В его строительстве принимал также участие архитектор А.Ф.Ви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Мраморная облицовка должна была придать изысканность цветовому решению фасадов. Но возведение храма затянулось почти на тридцать лет. Не завершив начатого, Ринальди после смерти Екатерины II покинул Петербур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ИС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14:33Z</dcterms:created>
  <dc:creator>comp</dc:creator>
  <dc:description/>
  <dc:language>en-US</dc:language>
  <cp:lastModifiedBy>Олеся</cp:lastModifiedBy>
  <dcterms:modified xsi:type="dcterms:W3CDTF">2023-05-15T19:00:50Z</dcterms:modified>
  <cp:revision>4</cp:revision>
  <dc:subject/>
  <dc:title>Исаакиевский собор</dc:title>
</cp:coreProperties>
</file>