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8790-6DB4-41BA-B4E9-82C3F399F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18AA-6D07-4B39-BCBD-D4AC2A49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0037-F5A9-4201-B592-6C1956216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01F7-A0FC-48FD-B3F5-826BBAFF7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5324-8434-4305-B96F-FA94801D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184D-E60E-4168-88E1-CAC5BB88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F7B5-1548-45FA-8A76-04E94FD7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D9D6-EDFA-48AB-843A-76CC5CBE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1869-1A0B-4668-861B-8A762033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67E8-8F23-42C4-BA92-8F6A2166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2A7E-C441-4839-93ED-F396FE57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43E8-8974-425F-8D96-0ACA79FE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330F-EFD9-4DA6-883A-8D2349BABD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6400" y="2354040"/>
            <a:ext cx="8482320" cy="850680"/>
          </a:xfrm>
          <a:prstGeom prst="rect">
            <a:avLst/>
          </a:prstGeom>
          <a:solidFill>
            <a:srgbClr val="00e200"/>
          </a:solidFill>
          <a:ln w="1260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Проект </a:t>
            </a:r>
            <a:r>
              <a:rPr b="1" i="1" lang="ru-RU" sz="48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«Веселые пальчики»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2360" y="4917600"/>
            <a:ext cx="5222880" cy="568440"/>
          </a:xfrm>
          <a:prstGeom prst="rect">
            <a:avLst/>
          </a:prstGeom>
          <a:solidFill>
            <a:srgbClr val="ffd1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Подготовила воспитатель младшей группы: Голушкина  Е.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69640" y="324000"/>
            <a:ext cx="64342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Пальчиковые игры можно разделить на несколько видов: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68120" y="1825200"/>
            <a:ext cx="43466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 Упражнения для кистей рук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меры таких игр - это игры из «10 самых простых пальчиковых игр, которые развлекут ребенка в пробке или очереди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кие игры достаточно просты и не требуют тонких дифференцированных движений. Поэтому они подходят для самых маленьких, с них можно начать. Кроме этого, гимнастика с этими </a:t>
            </a:r>
            <a:r>
              <a:rPr b="0" lang="ru-RU" sz="1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играми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учит малышей повторять за нами, взрослыми. То есть развивает подражательную способность. Именно эта способность – базис успешного последующего обучения всем навыкам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учит напрягать и расслаблять мышцы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развивает умение сохранять на некоторое время положение пальцев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учит переключаться с одного движения на друго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2888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Упражнения для пальцев условно статическ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и игры - совершенствуют на более высоком уровне полученные ранее навыки. Более сложные, требуют более точных движений. Кстати, именно используя именно эти упражнения (после их усвоения, можно составлять свои самые чудесные и невероятные истории и рассказ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 Упражнения для пальцев динамическ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развивают точную координацию движений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учат сгибать и разгибать пальцы рук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учат противопоставлять большой палец остальны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речи и пополнение словарного запас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06240" y="365040"/>
            <a:ext cx="65898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Картотека пальчиковых игр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0680" y="1825200"/>
            <a:ext cx="42940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00880" indent="-2008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Игрушки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развитие мелкой моторики,  координации движений пальцев рук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 с игрушками играю: (Руки перед собой, сжимаем-разжимаем пальцы обеих рук.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ячик я тебе бросаю,  (Протягиваем руки вперёд – «бросаем мяч».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рамидку собираю,   (Прямые кисти ладонями вниз поочерёдно кладём друг на друга несколько раз.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узовик везде катаю. (Двигаем перед собой слегка раскрытой кистью правой руки – «катаем   машинку».)</a:t>
            </a:r>
            <a:r>
              <a:rPr b="1" lang="ru-RU" sz="1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Игрушки»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0" lang="ru-RU" sz="1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мелкой моторики,  координации движений пальцев рук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й весёлый круглый мяч, (Одной рукой бьём по воображаемому мячу.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Щёки круглые не прячь!      (Смена рук.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 тебя поймаю,                     (Двумя руками, соединив одноимённые пальцы, показываем мяч.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ручках покатаю!               (Покатали воображаемый мяч между ладоней.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29240" y="1825200"/>
            <a:ext cx="4325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Ягод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развитие мелкой моторики,  координации движений пальцев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ветки ягодки снимаю,        </a:t>
            </a:r>
            <a:r>
              <a:rPr b="0" i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Пальцы расслаблены, свисают вниз. Пальцами другой руки погладить кажд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льчик от основания до самого кончика, как будто снимая с  него воображаемую ягодку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в лукошко собираю.          </a:t>
            </a:r>
            <a:r>
              <a:rPr b="0" i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Обе ладошки сложить перед собой чашечкой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удет полное лукошко,        </a:t>
            </a:r>
            <a:r>
              <a:rPr b="0" i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Одну ладошку, сложенную лодочкой, накрыть другой также сложенной ладошкой.)                                                     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 попробую немножко.        </a:t>
            </a:r>
            <a:r>
              <a:rPr b="0" i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Одна сложенная ладошка имитирует лукошко, другой ру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 поем ещё чуть-чуть,          </a:t>
            </a:r>
            <a:r>
              <a:rPr b="0" i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стать воображаемые ягодки и отправить их в рот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ёгким будет к дому путь!  </a:t>
            </a:r>
            <a:r>
              <a:rPr b="0" i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Имитируя ножки, средний и указательный пальчики на обеих руках  убегают как мож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льше.)                                                 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49640" y="365040"/>
            <a:ext cx="67370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Картотека пальчиковых игр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09160" y="1825200"/>
            <a:ext cx="43052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Гриб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мелкой моторики,  координации движений пальцев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расный-красный мухомор-  (Соединяем кончики пальцев – изображаем шляпу гриба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лых крапинок узор.             (Одна рука – «шляпка гриба», указательным пальцем другой руки   показываем картинки).                                                         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ы красивый, но не рвём!      (Погрозили пальчиком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в корзинку не берём!          (Прямая ладонь от себя – отодвигающий жест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Осень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 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мелкой моторики,  координации движений пальцев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шла осень погулять,   («Идём» указательным и средним пальцами одной руки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ала листья собирать.   (Одной рукой «подбираем» листья и «кладём» в другую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28880" y="1825200"/>
            <a:ext cx="42512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Деревь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развитие мелкой моторики,  координации движений пальцев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дравствуй, лес,                  (Поднять обе руки ладонями к себе, широко         расставить пальцы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ремучий ле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лный сказок и чудес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Овощ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развитие мелкой моторики,  координации движений пальцев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 – зелёная капуста,              (Руки перед собой образуют кру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з меня в кастрюле пусто.  (Наклонили голову – «заглядываем в кастрюлю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стья снимете с меня,         (Разводим руки в стороны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останусь только 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13000" y="-189360"/>
            <a:ext cx="667368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Картотека пальчиковых игр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68120" y="1344240"/>
            <a:ext cx="4346640" cy="48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Фрукт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мелкой моторики,  координации движений пальцев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ёлтый-жёлтый наш лимон,  (Одноимённые пальцы соединяются подушечками – показываем лимон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ислым соком брызжет он.    (Пальцы резко разводим в стороны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чай его положим                  (Соединяем большой, указательный и средний пальцы одной руки и опускаем лимон в ча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месте с жёлтой кожей.         (Пальцы в том же положении, делаем   вращательные движения – помешиваем ча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Овощи - фрукт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мелкой моторики,  координации движений пальцев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огороде много гряд,      (Сжимают и разжимают пальцы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ут и репа, и салат,           (Загибают пальцы поочерёдно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ут и свёкла, и горо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картофель разве пло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ш зелёный огород             (Хлопают в ладоши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с прокормит целый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487760" y="1314360"/>
            <a:ext cx="465624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Одежд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мелкой моторики,  координации движений пальцев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 надену сапоги,       (Показываем на ноги, туловище, голову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урточку и шапку. 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на руку каждую     (Одна рука выпрямленными пальцами вверх, другая – проводит по мизинцу и ребру ладони, показывая направления надевания перчаток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тяну перчатку.      (Смена рук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Обув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мелкой моторики,  координации движений пальцев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уваем ножки бегать по дорожке.  (Двумя пальцами «шагают» по столу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торяй за мной слова:      (Сжимают и разжимают пальцы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жка – раз, ножка – два!   (Ставят два пальца на стол и поднимают по одному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магазине покупают           (Сжимают и разжимают пальцы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на ножки надев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па, мама, брат и я –          (Загибают пальцы на руках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юбит обувь вся семья.       («Шагают» пальцами по столу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17440" y="365040"/>
            <a:ext cx="64976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Картотека пальчиковых игр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09160" y="1692000"/>
            <a:ext cx="4305240" cy="44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Посуд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развитие мелкой моторики,  координации движений пальцев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 тарелок, как один,            (Ладони вместе перед собой «тарелка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уп мы ложками едим.         (Вращательные движения рукой с воображаемой ложкой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илкой кушаем котлеты,      (Указательный и средний пальцы выпрямлены, большой палец придерживает безымянный и мизинец "держим вилку"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жик режет нам омлеты.    («Режем» прямой ладонью взад-вперё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Зим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мелкой моторики,  координации движений пальцев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нег ложится на дома,     (Руки разводим в стороны, ладонями вниз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лицы и крыши.               (Руки «домиком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ихо к нам идёт зима,      (Палец к губам. «Идём» указательным и средним пальцами одной руки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ы её не слышим…         (Рука за ухом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28880" y="1428120"/>
            <a:ext cx="4198680" cy="501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Продукты пита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ь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мелкой моторики,  координации движений пальцев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ку в тесто замесили,      (Сжимают и разжимают пальцы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из теста мы слепили       (Прихлопывают ладонями, «лепят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рожки и плюшки,          (Поочерёдно разгибают пальцы, начиная с мизинца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добные ватруш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улочки и калачи –            (Обе ладони разворачивают вверх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ё мы испечем в печ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чень вкусно!                    (Гладят животы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Зимние забав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развитие мелкой моторики,  координации движений пальцев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зимой мы любим делать?      (Поочерёдно соединяют большой палец с остальными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нежки игра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лыжах бега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коньках по льду катать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низ с горы на санках мча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01680" y="365040"/>
            <a:ext cx="6413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Картотека пальчиковых игр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31480" y="1825200"/>
            <a:ext cx="42829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Новогодний праздни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мелкой моторики,  координации движений пальцев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Здравствуй, Дедушка Мороз!   (Ладонь поглаживает подбородок – «бороду» Деда Мороза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в подарок нам принёс?         (Руки вперёд ладонями вверх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Громкие хлопушки,                   (Хлопнуть в ладоши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адости, игрушки.                     (Вертим кистями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Части те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развитие мелкой моторики,  координации движений пальцев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меня есть голова,              (Слушаем стихотворение и указываем на соответствующие части тела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удь, живот, а там – спи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жки – чтобы поскака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учки – чтобы поигр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2888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Домашние животны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развитие мелкой моторики,  координации движений пальцев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т, убрав царапки,     («Моем руки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шка моет лап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рдочку и ушки        (Круговые движения ладонью по лицу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своей макушке.      (Чуть согнутые ладошки движутся за ушами – показываем, как кошка моет ушк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Детёныши домашних животны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развитие мелкой моторики,  координации движений пальцев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бежали вдоль реки     (Двигают указательными и средними пальцами по поверхности стола от себя к краю. Повторяют несколько раз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тята наперего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38480" y="-360"/>
            <a:ext cx="627696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Картотека пальчиковых игр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89000" y="1825200"/>
            <a:ext cx="4325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Дикие животные наших лес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мелкой моторики,  координации движений пальцев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яц и ёжик навстречу друг другу     (Указательные и средние пальцы обеих рук «идут» навстречу друг к другу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ли по дорожке по полю, по л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третились – и испугались они.      (Стукнуть кулачками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ыстро бежали – поди догони!          (Снова пальцы «идут», но теперь в разные стороны.)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Детёныши диких животны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развитие мелкой моторики,  координации движений пальцев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зайчонок, это бельчонок,                (Сгибают пальцы в кулак, начиная с мизинца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лисёнок, это волчоно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это спешит, ковыляет спросонок      (Вращают большим пальцем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урый, мохнаты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мешной медвежон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476600" y="2028960"/>
            <a:ext cx="4446720" cy="41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Домашние и дикие животны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мелкой моторики,  координации движений пальцев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йка – ушки на макушке –     (Руки у висков, указательные и средние пальцы выпрямлены – «ушки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ачет, скачет по опушке.      (Руки щепотью вниз у груди – «скачет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ёл за ним колючий ёжик,    (Переплели пальцы и пошевелили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ёл по травке без дороже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за ёжиком – краса –             (Плавные движения руками перед собой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ыжехвостая ли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06800" y="365040"/>
            <a:ext cx="63086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Картотека пальчиковых игр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День Защитника Отечест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мелкой моторики,  координации движений пальцев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лья Муромец –         (Приосаниться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брый молодец.       (Показать бицепсы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орко в даль глядит   (Рука козырьком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 врагов разит.         («Бросить копьё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Дикие животные жарких стран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развитие мелкой моторики,  координации движений пальцев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обот носит только он –      (Рукой плавно двигаем перед собой – изображаем хобот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опоухий серый слон.          (Приставляем руки к ушам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2888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Мамин праздни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 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мелкой моторики,  координации движений пальцев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мочка хорошая,     (Воздушный поцелуй над ладонью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мочка любимая!    (Поцелуй над другой ладонью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чень я её люблю,     (Сдуваем с ладони поцелуй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целуи ей дарю!      (Сдуваем поцелуй с другой ладони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Домашние птиц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развитие мелкой моторики,  координации движений пальцев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ёрна курочка клюёт,        (Обе ладошки вместе отклоняем от себя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цыплятки тут как тут.   (Щепотки «клюют» по очереди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воду уточка нырнёт,      (Ладошки вместе «ныряют» вперё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цыплятки не нырнут.    (Погрозили пальчиком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06800" y="365040"/>
            <a:ext cx="63086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Картотека пальчиковых игр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31480" y="1825200"/>
            <a:ext cx="42829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Домашние птицы и их детёныш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мелкой моторики,  координации движений пальцев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ть у курицы цыплёнок,      (Большим пальцем поочерёдно касаются остальных, начиная с мизинца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гусыни есть гусёно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индюшки – индюшоно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у утки есть утён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каждой мамы малыши –    (Перебирают пальцы по очереди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 красивы, хоро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Дикие птиц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мелкой моторики,  координации движений пальцев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ятел дерево долбит:           (Одна ладонь прямая – это «дерево», другая – «дятел» - кулачком стучите о неё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ук-тук-т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ый день в лесу стоит     (Смена рук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ук-стук-ст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2888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185040" indent="-18504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Наш до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85040" indent="-18504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развитие мелкой моторики,  координации движений пальцев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85040" indent="-1850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т дом – одноэтажный.              (Разгибают пальцы из кулака, начиная с мизинца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85040" indent="-1850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т дом – он двухэтаж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85040" indent="-1850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вот этот – трёхэтаж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85040" indent="-1850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т дом – он самый важны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85040" indent="-1850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н у нас пятиэтажный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85040" indent="-18504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Мебел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85040" indent="-18504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мелкой моторики,  координации движений пальцев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85040" indent="-1850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кроватке мы поспали,          (Руки под щёку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85040" indent="-1850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щи в шкаф уже убрали.        (Свободно двигаем руками – «убираем вещи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85040" indent="-1850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ы на стуле посидели              (Ладонью одной руки накрываем кулак другой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85040" indent="-1850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за столиком поели.                (Вращательные движения рукой с воображаемой ложкой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85040" indent="-1850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85040" indent="-1850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85040" indent="-1850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54240" y="365040"/>
            <a:ext cx="63612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Картотека пальчиковых игр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5080" y="1825200"/>
            <a:ext cx="41893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00880" indent="-2008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Транспор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мелкой моторики,  координации движений пальцев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шоссе идут машины,       (Крутим воображаемый руль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асфальту едут шины.      (Локти прижаты к туловищу, ладони двигаются параллельно друг другу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дороге не беги,                (Погрозили пальцем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 скажу тебе: «Би-би».        (Рука сжата в кулак, большой палец выпрямлен – «сигналим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Весн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мелкой моторики,  координации движений пальцев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т уж две недели        (Опускаем по очереди руки вниз, пальцы вместе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пают капели.       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нег на солнце тает      (Руки ладонями вниз разведены в стороны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ручьём стекает.         (Обе руки ладонями вниз двигаются в одну сторону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2888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Насекомы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развитие мелкой моторики,  координации движений пальцев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ы пошли гулять на луг,      («Идём» указательными и средними пальцами обеих рук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по лугу ползал жук!           (Одна рука «ползёт» по бедру или по одной руке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Лет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мелкой моторики,  координации движений пальцев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лнцем ласковым согрето,    («Идём» указательным и средним пальцами одной руки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весной приходит ле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удем в озере нырять               («Ныряем» соединёнными вместе ладонями от груди вперё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цветочки собирать.               («Срываем» одной рукой и «собираем» в другую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798480" y="2246040"/>
            <a:ext cx="78310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Вид проекта: </a:t>
            </a:r>
            <a:r>
              <a:rPr b="1" lang="ru-RU" sz="2000" spc="-1" strike="noStrike">
                <a:solidFill>
                  <a:srgbClr val="c55a11"/>
                </a:solidFill>
                <a:latin typeface="Times New Roman"/>
                <a:ea typeface="Times New Roman"/>
              </a:rPr>
              <a:t>краткосрочный, игровой, группов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Участники проекта: </a:t>
            </a:r>
            <a:r>
              <a:rPr b="1" lang="ru-RU" sz="2000" spc="-1" strike="noStrike">
                <a:solidFill>
                  <a:srgbClr val="c55a11"/>
                </a:solidFill>
                <a:latin typeface="Times New Roman"/>
                <a:ea typeface="Times New Roman"/>
              </a:rPr>
              <a:t>дети первой младшей группы </a:t>
            </a:r>
            <a:r>
              <a:rPr b="1" i="1" lang="ru-RU" sz="2000" spc="-1" strike="noStrike">
                <a:solidFill>
                  <a:srgbClr val="c55a11"/>
                </a:solidFill>
                <a:latin typeface="Times New Roman"/>
                <a:ea typeface="Times New Roman"/>
              </a:rPr>
              <a:t>(3-х ле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Сроки проведения: </a:t>
            </a:r>
            <a:r>
              <a:rPr b="1" lang="ru-RU" sz="2000" spc="-1" strike="noStrike">
                <a:solidFill>
                  <a:srgbClr val="c55a11"/>
                </a:solidFill>
                <a:latin typeface="Times New Roman"/>
                <a:ea typeface="Times New Roman"/>
              </a:rPr>
              <a:t>1месяц ( с 01.02.по 26.02.2021г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28400" y="365040"/>
            <a:ext cx="62866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Картотека пальчиковых игр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Rectangle 1"/>
          <p:cNvSpPr/>
          <p:nvPr/>
        </p:nvSpPr>
        <p:spPr>
          <a:xfrm>
            <a:off x="1303200" y="2143080"/>
            <a:ext cx="69375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Цветы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мелкой моторики,  координации движений пальцев рук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машки белые цветки –                (Ладонь вперёд, пальцы раздвинуть – это «ромашка»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пальцы маленькой рук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вот слетаются жуки                    (Перебираем пальцы «руки-ромашки» по одному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читать ромашки лепестк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9800" y="525600"/>
            <a:ext cx="6203880" cy="106200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Отчет о проделанной работе по проекту и оценка результатов работы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28560" y="2228400"/>
            <a:ext cx="7886880" cy="39481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ходе проекта проводились все намеченные ранее мероприятия: ознакомление родителей с пальчиковой гимнастикой, её ролью в развитии ребенка, подготовка картотеки пальчиковых игр используемых для реализации целей и задач проекта, разучивание с детьми пальчиковых игр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ключение пальчиковой гимнастики в конспекты занятий, комплексы утренней гимнастики, в сценарии развлечений, в утренние и вечерние отрезки времен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ти проявляли неподдельный интерес к пальчиковым играм, быстро усваивали и запоминали стишки, использовали их в своей игровой деятель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концу реализации проекта ребята изучили 25 пальчиковых игр и могли свободно в них ориентироваться, воспроизвести самостоятельно, выделяя любимые игр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019160" y="1920960"/>
            <a:ext cx="73677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55a11"/>
                </a:solidFill>
                <a:latin typeface="Times New Roman"/>
                <a:ea typeface="Times New Roman"/>
              </a:rPr>
              <a:t>Таким образом, с уверенностью можно сказать, что цель данного проекта была реализована успешно. В конечном итоге было достигнуто следующе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коммуникативных отношен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координации движен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ышение интереса малышей к пальчиковым игра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величение словарного запаса, дете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крепление психического и физического здоровья дете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творческих способносте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мение соотносить действия с тексто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знакомление с фольклоро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интересованность родителей в развитии мелкой моторики рук дете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316080" y="1797120"/>
            <a:ext cx="8638920" cy="41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55a11"/>
                </a:solidFill>
                <a:latin typeface="Times New Roman"/>
                <a:ea typeface="Times New Roman"/>
              </a:rPr>
              <a:t>                                                                                    </a:t>
            </a:r>
            <a:r>
              <a:rPr b="1" lang="ru-RU" sz="2000" spc="-1" strike="noStrike">
                <a:solidFill>
                  <a:srgbClr val="c55a11"/>
                </a:solidFill>
                <a:latin typeface="Times New Roman"/>
                <a:ea typeface="Times New Roman"/>
              </a:rPr>
              <a:t>Литература:</a:t>
            </a:r>
            <a:br>
              <a:rPr sz="1400"/>
            </a:br>
            <a:r>
              <a:rPr b="1" lang="ru-RU" sz="1600" spc="-1" strike="noStrike">
                <a:solidFill>
                  <a:srgbClr val="c55a11"/>
                </a:solidFill>
                <a:latin typeface="Times New Roman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Бардышева Т.Ю. Умелые пальчики.- М.:ООО ТД Изд-во Мир книги,2008.</a:t>
            </a:r>
            <a:br>
              <a:rPr sz="1600"/>
            </a:br>
            <a:r>
              <a:rPr b="1" lang="ru-RU" sz="1600" spc="-1" strike="noStrike">
                <a:solidFill>
                  <a:srgbClr val="c55a11"/>
                </a:solidFill>
                <a:latin typeface="Times New Roman"/>
                <a:ea typeface="Times New Roman"/>
              </a:rPr>
              <a:t>2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цкая О.В., Е.Ю. Вареница День за днем говорим и растем. М.:ТЦ Сфера,2005.-С.54-59.</a:t>
            </a:r>
            <a:br>
              <a:rPr sz="1600"/>
            </a:br>
            <a:r>
              <a:rPr b="1" lang="ru-RU" sz="1600" spc="-1" strike="noStrike">
                <a:solidFill>
                  <a:srgbClr val="c55a11"/>
                </a:solidFill>
                <a:latin typeface="Times New Roman"/>
                <a:ea typeface="Times New Roman"/>
              </a:rPr>
              <a:t>3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вская О.В. Развивайся, малыш! . -М.: Изд-во ГНОМ и Д,2007.-С.60,65.</a:t>
            </a:r>
            <a:br>
              <a:rPr sz="1600"/>
            </a:br>
            <a:r>
              <a:rPr b="1" lang="ru-RU" sz="1600" spc="-1" strike="noStrike">
                <a:solidFill>
                  <a:srgbClr val="c55a11"/>
                </a:solidFill>
                <a:latin typeface="Times New Roman"/>
                <a:ea typeface="Times New Roman"/>
              </a:rPr>
              <a:t>4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зырева Л.М .Развитие речи . Дети до 5-ти лет. Ярославль Академия развития,2007.-С.41.</a:t>
            </a:r>
            <a:br>
              <a:rPr sz="1600"/>
            </a:br>
            <a:r>
              <a:rPr b="1" lang="ru-RU" sz="1600" spc="-1" strike="noStrike">
                <a:solidFill>
                  <a:srgbClr val="c55a11"/>
                </a:solidFill>
                <a:latin typeface="Times New Roman"/>
                <a:ea typeface="Times New Roman"/>
              </a:rPr>
              <a:t>5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воспитания и обучения в детском саду/ Под ред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А. Васильевой, В.В. Гербовой, Т.С. Комаровой.- М.,2005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55a11"/>
                </a:solidFill>
                <a:latin typeface="Times New Roman"/>
                <a:ea typeface="Times New Roman"/>
              </a:rPr>
              <a:t>6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зина М.С. Пальчиковый игротренинг. -Екатеринбург: У -Фактория, 2006.-173-180с.,189с.,200с.</a:t>
            </a:r>
            <a:br>
              <a:rPr sz="1600"/>
            </a:br>
            <a:r>
              <a:rPr b="1" lang="ru-RU" sz="1600" spc="-1" strike="noStrike">
                <a:solidFill>
                  <a:srgbClr val="c55a11"/>
                </a:solidFill>
                <a:latin typeface="Times New Roman"/>
                <a:ea typeface="Times New Roman"/>
              </a:rPr>
              <a:t>7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нушко Е. Помогите малышу заговорить!.- М. : Теревинф, 2007.- 127с., с.16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55a11"/>
                </a:solidFill>
                <a:latin typeface="Times New Roman"/>
                <a:ea typeface="Times New Roman"/>
              </a:rPr>
              <a:t>8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лова И. Развиваем мелкую моторику и координацию движений рук. М.,«Олма Пресс», 2001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55a11"/>
                </a:solidFill>
                <a:latin typeface="Times New Roman"/>
                <a:ea typeface="Times New Roman"/>
              </a:rPr>
              <a:t>9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олова,  Г. Для девочек и мальчиков гимнастика для пальчиков [Текст] / Г. Соколова // Дошкольное воспитание. – 2005. - №6. – С. 34-36. 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s://dou45chita.ru/images/18-19/gruppy/solnyzko/2019-01-03/2018-12-30_09.JPG"/>
          <p:cNvPicPr/>
          <p:nvPr/>
        </p:nvPicPr>
        <p:blipFill>
          <a:blip r:embed="rId1"/>
          <a:srcRect l="0" t="1438" r="0" b="0"/>
          <a:stretch/>
        </p:blipFill>
        <p:spPr>
          <a:xfrm>
            <a:off x="1071720" y="2217600"/>
            <a:ext cx="4635360" cy="34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95600" y="353880"/>
            <a:ext cx="5951520" cy="132552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Актуальность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мелкой моторики в дошкольном возрасте является одной из важнейших задач. В наше время доказано, что тонкие движения 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льцев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рук положительно влияют на развитие детской речи. 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Рука – это инструмент всех инструментов»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- сказал ещё Аристотель. 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Рука – это своего рода внешний мозг»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- писал Кан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дителей и педагогов всегда волновал вопрос, как обеспечить полноценное развитие ребёнка в дошкольном возрасте? Как подготовить его к школе? Одним из аспектов этой проблемы является развитие мелкой моторики и координации тонких движений ру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м лучше работают 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льцы и вся кисть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тем лучше ребёнок говорит. Обычно ребёнок, имеющий высокий уровень развития мелкой моторики, умеет рассуждать, у него достаточно развиты память, внимание и связная реч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2301840" y="1206720"/>
            <a:ext cx="61689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Цель проекта: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мелкой моторики рук детей в процессе пальчиковых игр, развитие речи де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" descr="https://ds04.infourok.ru/uploads/ex/063f/0011444e-cc66704d/img0.jpg"/>
          <p:cNvPicPr/>
          <p:nvPr/>
        </p:nvPicPr>
        <p:blipFill>
          <a:blip r:embed="rId1"/>
          <a:srcRect l="8340" t="1284" r="6746" b="0"/>
          <a:stretch/>
        </p:blipFill>
        <p:spPr>
          <a:xfrm>
            <a:off x="641520" y="2943360"/>
            <a:ext cx="42764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94240" y="365040"/>
            <a:ext cx="4921200" cy="132552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Задачи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вать мелкую моторику 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льцев рук детей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речевые способности на основе 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льчиковых игр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учитывая возрастные и индивидуальные особенности ребён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овысить интерес малышей к 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льчиковым играм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превратив их в занимательную игр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добиваться активного осознанного использования 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льчиковых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игр в непосредственно организованной деятельности и в повседневной жизн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дать представление родителям о влиянии 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льчиковых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игр на развитие мелкой моторики ру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1355760" y="1360800"/>
            <a:ext cx="719928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Ожидаемые результат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проявление интереса детей к пальчиковой гимнастике, увеличение словарного запаса, возрастание речевой активности детей в различных видах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рмирование самостоятельности в использовании детьми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льчиковых игр в непосредственно-организованной, совместной и самостоятельной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заинтересованность родителей в развитии мелкой моторики рук детей, в использовании пальчиковых игр в домашних услови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79280" y="200160"/>
            <a:ext cx="5635800" cy="92376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ЭТАПЫ ПРОЕКТ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68280" y="1314000"/>
            <a:ext cx="8491680" cy="48625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Подготовительный этап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темы, целей и задач, содержания проекта, прогнозирование результа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методической литературы по данной т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наглядного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а с детьми 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играем с нашими пальчикам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картотеки пальчиковых иг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письменных консультаций для родителей 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начение пальчиковых игр для развития ребенка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к проводить с ребенком речевые пальчиковые игры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Основной этап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учивание с детьми пальчиковых иг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ение пальчиковой гимнастики в конспекты занятий, комплексы утренней гимнастики, в сценарии развлечений, в утренние и вечерние отрезки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Заключительный этап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результата работы направленной на развитие мелкой моторики рук и речи детей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адшего возраст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дведение итогов реализации про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чего нужна пальчиковая гимнаст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38320" y="365040"/>
            <a:ext cx="64771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Давайте обобщим, сколько всего полезного мы делаем, играя в пальчиковые игры. Пальчиковая гимнастика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вивает речь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пражняя и ритмично двигая пальчиками, малыш активизирует речевые центры головного мозг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вает умение малыша подражать нам, взрослым, учит вслушиваться в нашу речь и ее понимать, повышает речевую активность крохи, да и просто создает благоприятную эмоциональную атмосфер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Учит ребенка концентрировать внимание и правильно его распределять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очень и очень важное умение! И нам, воспитателям, нужно помогать малышу его формировать. Кстати, произвольно управлять своим вниманием ребенок сможет научиться только к возрасту 6-7 лет. И от этого умения во многом будут зависеть его школьные успех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29240" y="1755360"/>
            <a:ext cx="437832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0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Когда малыш начнет говорить и сможет стихами сопровождать упражнение из пальчиковой гимнастики – это будет делать его речь более четкой, ритмичной, яркой. Таким образом, он сможет усилить контроль за своими движениям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</a:t>
            </a:r>
            <a:r>
              <a:rPr b="0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 пальчиковых играх нужно запоминать многое: и положение пальцев, и последовательность движений, да и просто стихи. Вот вам и отличное веселое упражнение для развития памяти малыша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.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А можно ли с помощью пальчиковых игр развивать фантазию и воображение? Конечно! Ведь руками можно </a:t>
            </a:r>
            <a:r>
              <a:rPr b="0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рассказывать»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целые истории! Сначала пример покажет воспитатель, а уж потом и ребенок может сочинить свои </a:t>
            </a:r>
            <a:r>
              <a:rPr b="0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</a:t>
            </a: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льчиковые истории»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.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Ну, и наконец, после всех этих упражнений кисти и пальцы рук станут сильными, подвижными, гибкими. А это так поможет в дальнейшем в освоении навыка письма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1492200" y="1112400"/>
            <a:ext cx="73580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олько и как часто нужно заниматься 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льчиковой гимнастикой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юбые упражнения эффективны только, если вы делаете их регулярно. Вот и 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льчиковые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игры принесут эффект при ежедневных занятиях) минут по 5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стати, как вы думаете – нужно ли постоянно менять игры, чтобы сохранить к ним интерес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ли достаточно играть в полюбившиеся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орее всего, вы заметили, что малыши любят 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торять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одно и то же движение, процедуру или действи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– механизм научения. Чтобы навык закрепился, ребенок будет 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торять его снова и снова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И чем сложнее навык, тем дольше будет 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торение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Это чуть позже, в более старшем возрасте, будет требоваться постоянно вносить разнообразие в игр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чем же я снова и снова возвращаюсь к теме 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льчиковых игр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зачем такое их количество? Может, тогда достаточно нескольких, полюбившихся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9T20:52:53Z</dcterms:created>
  <dc:creator>Инна</dc:creator>
  <dc:description/>
  <dc:language>en-US</dc:language>
  <cp:lastModifiedBy>Садик</cp:lastModifiedBy>
  <dcterms:modified xsi:type="dcterms:W3CDTF">2009-05-08T20:12:02Z</dcterms:modified>
  <cp:revision>23</cp:revision>
  <dc:subject/>
  <dc:title>Название презентации</dc:title>
</cp:coreProperties>
</file>