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A1A-1168-4CAF-B874-8F95FF12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448-133D-4B32-A3DC-0D011422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A80-BCB5-4A01-B566-9ACC47E3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8732-A820-4AAF-B9CA-6E5997F5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593-74F2-4613-8C78-D7D8086B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E4C-B1F0-495A-A87E-64B61EEA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65D-2D7C-4D5D-8D9B-D7A9AD43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551-58B0-4B0C-8DF7-5DC2DEBD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760-DBAF-4E47-AE65-A8437394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5EA-97FB-41E6-8A57-9025BEFB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0BE-3C66-4CC0-8F49-5C24F18E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AE3-A2F1-4033-A0A0-A287BDD8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64FB-7367-4AE0-AF85-64BFABB521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6400" y="2354040"/>
            <a:ext cx="8482320" cy="850680"/>
          </a:xfrm>
          <a:prstGeom prst="rect">
            <a:avLst/>
          </a:prstGeom>
          <a:solidFill>
            <a:srgbClr val="00e200"/>
          </a:solidFill>
          <a:ln w="1260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роект </a:t>
            </a:r>
            <a:r>
              <a:rPr b="1" i="1" lang="ru-RU" sz="4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«Веселые пальчики»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2360" y="4917600"/>
            <a:ext cx="5222880" cy="568440"/>
          </a:xfrm>
          <a:prstGeom prst="rect">
            <a:avLst/>
          </a:prstGeom>
          <a:solidFill>
            <a:srgbClr val="ffd1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Подготовила воспитатель младшей группы: Голушкина  Е.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69640" y="324000"/>
            <a:ext cx="6434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Пальчиковые игры можно разделить на несколько видов: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120" y="1825200"/>
            <a:ext cx="43466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Упражнения для кистей ру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ы таких игр - это игры из «10 самых простых пальчиковых игр, которые развлекут ребенка в пробке или очереди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ие игры достаточно просты и не требуют тонких дифференцированных движений. Поэтому они подходят для самых маленьких, с них можно начать. Кроме этого, гимнастика с этими </a:t>
            </a:r>
            <a:r>
              <a:rPr b="0" lang="ru-RU" sz="1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играми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чит малышей повторять за нами, взрослыми. То есть развивает подражательную способность. Именно эта способность – базис успешного последующего обучения всем навыка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чит напрягать и расслаблять мышц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развивает умение сохранять на некоторое время положение пальце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чит переключаться с одного движения на друг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Упражнения для пальцев условно статическ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и игры - совершенствуют на более высоком уровне полученные ранее навыки. Более сложные, требуют более точных движений. Кстати, именно используя именно эти упражнения (после их усвоения, можно составлять свои самые чудесные и невероятные истории и рассказ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Упражнения для пальцев динамическ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вают точную координацию движени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чат сгибать и разгибать пальцы рук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чат противопоставлять большой палец остальны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речи и пополнение словарного запас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06240" y="365040"/>
            <a:ext cx="6589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0680" y="1825200"/>
            <a:ext cx="42940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Игрушк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с игрушками играю: (Руки перед собой, сжимаем-разжимаем пальцы обеих рук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ячик я тебе бросаю,  (Протягиваем руки вперёд – «бросаем мяч»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рамидку собираю,   (Прямые кисти ладонями вниз поочерёдно кладём друг на друга несколько раз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узовик везде катаю. (Двигаем перед собой слегка раскрытой кистью правой руки – «катаем   машинку».)</a:t>
            </a:r>
            <a:r>
              <a:rPr b="1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Игрушки»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й весёлый круглый мяч, (Одной рукой бьём по воображаемому мячу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Щёки круглые не прячь!      (Смена рук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тебя поймаю,                     (Двумя руками, соединив одноимённые пальцы, показываем мяч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учках покатаю!               (Покатали воображаемый мяч между ладоней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29240" y="1825200"/>
            <a:ext cx="4325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Ягод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ветки ягодки снимаю,        </a:t>
            </a: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альцы расслаблены, свисают вниз. Пальцами другой руки погладить кажд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 от основания до самого кончика, как будто снимая с  него воображаемую ягодк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в лукошко собираю.          </a:t>
            </a: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Обе ладошки сложить перед собой чашечкой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ет полное лукошко,        </a:t>
            </a: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Одну ладошку, сложенную лодочкой, накрыть другой также сложенной ладошкой.)                       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попробую немножко.        </a:t>
            </a: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Одна сложенная ладошка имитирует лукошко, другой ру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поем ещё чуть-чуть,          </a:t>
            </a: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ать воображаемые ягодки и отправить их в рот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ёгким будет к дому путь!  </a:t>
            </a: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Имитируя ножки, средний и указательный пальчики на обеих руках  убегают как мо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льше.)                   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49640" y="365040"/>
            <a:ext cx="67370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09160" y="1825200"/>
            <a:ext cx="4305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Гриб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асный-красный мухомор-  (Соединяем кончики пальцев – изображаем шляпу гриб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лых крапинок узор.             (Одна рука – «шляпка гриба», указательным пальцем другой руки   показываем картинки).                           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 красивый, но не рвём!      (Погрозили пальчико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в корзинку не берём!          (Прямая ладонь от себя – отодвигающий жест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Осен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шла осень погулять,   («Идём» указательным и средним пальцами одной рук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ла листья собирать.   (Одной рукой «подбираем» листья и «кладём» в другую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28880" y="1825200"/>
            <a:ext cx="4251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еревь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равствуй, лес,                  (Поднять обе руки ладонями к себе, широко         расставить пальц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емучий ле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ный сказок и чудес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Овощ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– зелёная капуста,              (Руки перед собой образуют кру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меня в кастрюле пусто.  (Наклонили голову – «заглядываем в кастрюлю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стья снимете с меня,         (Разводим руки в сторон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останусь только 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13000" y="-189360"/>
            <a:ext cx="667368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120" y="1344240"/>
            <a:ext cx="434664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Фрукт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ёлтый-жёлтый наш лимон,  (Одноимённые пальцы соединяются подушечками – показываем лимо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ислым соком брызжет он.    (Пальцы резко разводим в сторон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чай его положим                  (Соединяем большой, указательный и средний пальцы одной руки и опускаем лимон в ча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месте с жёлтой кожей.         (Пальцы в том же положении, делаем   вращательные движения – помешиваем ча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Овощи - фрукт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городе много гряд,      (Сжимают и разжимают пальц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т и репа, и салат,           (Загибают пальцы поочерёдно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т и свёкла, и горо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картофель разве пло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ш зелёный огород             (Хлопают в ладош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 прокормит целый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487760" y="1314360"/>
            <a:ext cx="465624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Одеж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надену сапоги,       (Показываем на ноги, туловище, голов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урточку и шапку.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а руку каждую     (Одна рука выпрямленными пальцами вверх, другая – проводит по мизинцу и ребру ладони, показывая направления надевания перчаток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тяну перчатку.      (Смена рук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Обув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ваем ножки бегать по дорожке.  (Двумя пальцами «шагают» по стол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яй за мной слова:      (Сжимают и разжимают пальц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жка – раз, ножка – два!   (Ставят два пальца на стол и поднимают по одном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агазине покупают           (Сжимают и разжимают пальц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а ножки наде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па, мама, брат и я –          (Загибают пальцы на руках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ит обувь вся семья.       («Шагают» пальцами по стол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17440" y="365040"/>
            <a:ext cx="6497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09160" y="1692000"/>
            <a:ext cx="430524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Посу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тарелок, как один,            (Ладони вместе перед собой «тарелка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п мы ложками едим.         (Вращательные движения рукой с воображаемой ложкой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лкой кушаем котлеты,      (Указательный и средний пальцы выпрямлены, большой палец придерживает безымянный и мизинец "держим вилку"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жик режет нам омлеты.    («Режем» прямой ладонью взад-вперё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Зи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ег ложится на дома,     (Руки разводим в стороны, ладонями вниз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лицы и крыши.               (Руки «домиком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хо к нам идёт зима,      (Палец к губам. «Идём» указательным и средним пальцами одной рук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её не слышим…         (Рука за ухо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28880" y="1428120"/>
            <a:ext cx="4198680" cy="501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Продукты пит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ку в тесто замесили,      (Сжимают и разжимают пальц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из теста мы слепили       (Прихлопывают ладонями, «лепят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рожки и плюшки,          (Поочерёдно разгибают пальцы, начиная с мизинц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добные ватруш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лочки и калачи –            (Обе ладони разворачивают вверх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ё мы испечем в пе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чень вкусно!                    (Гладят живот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Зимние забав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зимой мы любим делать?      (Поочерёдно соединяют большой палец с остальным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нежки игра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лыжах бег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коньках по льду катать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из с горы на санках мч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01680" y="365040"/>
            <a:ext cx="6413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1480" y="1825200"/>
            <a:ext cx="4282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Новогодний праздн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Здравствуй, Дедушка Мороз!   (Ладонь поглаживает подбородок – «бороду» Деда Мороз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в подарок нам принёс?         (Руки вперёд ладонями вверх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ромкие хлопушки,                   (Хлопнуть в ладош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дости, игрушки.                     (Вертим кистям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Части те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меня есть голова,              (Слушаем стихотворение и указываем на соответствующие части тел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удь, живот, а там – сп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жки – чтобы поскак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чки – чтобы поигр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омашние животны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т, убрав царапки,     («Моем руки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шка моет ла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дочку и ушки        (Круговые движения ладонью по лиц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своей макушке.      (Чуть согнутые ладошки движутся за ушами – показываем, как кошка моет уш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етёныши домашних животны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ежали вдоль реки     (Двигают указательными и средними пальцами по поверхности стола от себя к краю. Повторяют несколько раз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тята наперего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38480" y="-360"/>
            <a:ext cx="627696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89000" y="1825200"/>
            <a:ext cx="4325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икие животные наших лес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яц и ёжик навстречу друг другу     (Указательные и средние пальцы обеих рук «идут» навстречу друг к друг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ли по дорожке по полю, по л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ретились – и испугались они.      (Стукнуть кулачкам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стро бежали – поди догони!          (Снова пальцы «идут», но теперь в разные стороны.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етёныши диких животны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зайчонок, это бельчонок,                (Сгибают пальцы в кулак, начиная с мизинц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лисёнок, это волчон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это спешит, ковыляет спросонок      (Вращают большим пальце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рый, мохнат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ешной медвежо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476600" y="2028960"/>
            <a:ext cx="444672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омашние и дикие животны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йка – ушки на макушке –     (Руки у висков, указательные и средние пальцы выпрямлены – «ушки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ачет, скачет по опушке.      (Руки щепотью вниз у груди – «скачет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ёл за ним колючий ёжик,    (Переплели пальцы и пошевелил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ёл по травке без дороже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за ёжиком – краса –             (Плавные движения руками перед собой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ыжехвостая ли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06800" y="365040"/>
            <a:ext cx="6308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ень Защитника Отеч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ья Муромец –         (Приосаниться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брый молодец.       (Показать бицепс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орко в даль глядит   (Рука козырько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 врагов разит.         («Бросить копьё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икие животные жарких стра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бот носит только он –      (Рукой плавно двигаем перед собой – изображаем хобот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поухий серый слон.          (Приставляем руки к уша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Мамин праздн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мочка хорошая,     (Воздушный поцелуй над ладонью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мочка любимая!    (Поцелуй над другой ладонью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чень я её люблю,     (Сдуваем с ладони поцелуй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целуи ей дарю!      (Сдуваем поцелуй с другой ладон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омашние пти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ёрна курочка клюёт,        (Обе ладошки вместе отклоняем от себя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цыплятки тут как тут.   (Щепотки «клюют» по очеред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воду уточка нырнёт,      (Ладошки вместе «ныряют» вперё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цыплятки не нырнут.    (Погрозили пальчико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06800" y="365040"/>
            <a:ext cx="6308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1480" y="1825200"/>
            <a:ext cx="4282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омашние птицы и их детёны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у курицы цыплёнок,      (Большим пальцем поочерёдно касаются остальных, начиная с мизинц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гусыни есть гусён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индюшки – индюшон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у утки есть утё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каждой мамы малыши –    (Перебирают пальцы по очеред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красивы, хоро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Дикие пти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ятел дерево долбит:           (Одна ладонь прямая – это «дерево», другая – «дятел» - кулачком стучите о неё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к-тук-т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ый день в лесу стоит     (Смена рук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ук-стук-ст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Наш д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т дом – одноэтажный.              (Разгибают пальцы из кулака, начиная с мизинц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т дом – он двухэтаж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этот – трёхэтаж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т дом – он самый важны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у нас пятиэтажный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Мебе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кроватке мы поспали,          (Руки под щёк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щи в шкаф уже убрали.        (Свободно двигаем руками – «убираем вещи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на стуле посидели              (Ладонью одной руки накрываем кулак другой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за столиком поели.                (Вращательные движения рукой с воображаемой ложкой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54240" y="365040"/>
            <a:ext cx="6361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5080" y="1825200"/>
            <a:ext cx="41893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Транспор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шоссе идут машины,       (Крутим воображаемый руль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асфальту едут шины.      (Локти прижаты к туловищу, ладони двигаются параллельно друг друг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дороге не беги,                (Погрозили пальце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скажу тебе: «Би-би».        (Рука сжата в кулак, большой палец выпрямлен – «сигналим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Вес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т уж две недели        (Опускаем по очереди руки вниз, пальцы вмест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пают капели.      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ег на солнце тает      (Руки ладонями вниз разведены в сторон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ручьём стекает.         (Обе руки ладонями вниз двигаются в одну сторон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Насекомы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пошли гулять на луг,      («Идём» указательными и средними пальцами обеих рук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по лугу ползал жук!           (Одна рука «ползёт» по бедру или по одной рук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Лет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нцем ласковым согрето,    («Идём» указательным и средним пальцами одной рук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есной приходит ле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ем в озере нырять               («Ныряем» соединёнными вместе ладонями от груди вперё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цветочки собирать.               («Срываем» одной рукой и «собираем» в другую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798480" y="2246040"/>
            <a:ext cx="7831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Вид проекта: </a:t>
            </a:r>
            <a:r>
              <a:rPr b="1" lang="ru-RU" sz="20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краткосрочный, игровой, группов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Участники проекта: </a:t>
            </a:r>
            <a:r>
              <a:rPr b="1" lang="ru-RU" sz="20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дети первой младшей группы </a:t>
            </a:r>
            <a:r>
              <a:rPr b="1" i="1" lang="ru-RU" sz="20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(3-х ле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Сроки проведения: </a:t>
            </a:r>
            <a:r>
              <a:rPr b="1" lang="ru-RU" sz="20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1месяц ( с 01.02.по 26.02.2021г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28400" y="365040"/>
            <a:ext cx="6286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ртотека пальчиковых иг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1303200" y="2143080"/>
            <a:ext cx="6937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льчиковая гимнастика «Цвет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,  координации движений пальцев ру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машки белые цветки –                (Ладонь вперёд, пальцы раздвинуть – это «ромашка»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пальцы маленькой ру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вот слетаются жуки                    (Перебираем пальцы «руки-ромашки» по одному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читать ромашки лепест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9800" y="525600"/>
            <a:ext cx="6203880" cy="106200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Отчет о проделанной работе по проекту и оценка результатов работ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2228400"/>
            <a:ext cx="7886880" cy="39481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ходе проекта проводились все намеченные ранее мероприятия: ознакомление родителей с пальчиковой гимнастикой, её ролью в развитии ребенка, подготовка картотеки пальчиковых игр используемых для реализации целей и задач проекта, разучивание с детьми пальчиковых игр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ение пальчиковой гимнастики в конспекты занятий, комплексы утренней гимнастики, в сценарии развлечений, в утренние и вечерние отрезки време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проявляли неподдельный интерес к пальчиковым играм, быстро усваивали и запоминали стишки, использовали их в своей игровой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концу реализации проекта ребята изучили 25 пальчиковых игр и могли свободно в них ориентироваться, воспроизвести самостоятельно, выделяя любимые иг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019160" y="1920960"/>
            <a:ext cx="73677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Таким образом, с уверенностью можно сказать, что цель данного проекта была реализована успешно. В конечном итоге было достигнуто следующе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коммуникативных отнош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координации движ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шение интереса малышей к пальчиковым игр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еличение словарного запаса, де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репление психического и физического здоровья де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творческих способнос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соотносить действия с текст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комление с фольклор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интересованность родителей в развитии мелкой моторики рук де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316080" y="1797120"/>
            <a:ext cx="863892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                                                                                    </a:t>
            </a:r>
            <a:r>
              <a:rPr b="1" lang="ru-RU" sz="20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Литература:</a:t>
            </a:r>
            <a:br>
              <a:rPr sz="1400"/>
            </a:b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Бардышева Т.Ю. Умелые пальчики.- М.:ООО ТД Изд-во Мир книги,2008.</a:t>
            </a:r>
            <a:br>
              <a:rPr sz="1600"/>
            </a:b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цкая О.В., Е.Ю. Вареница День за днем говорим и растем. М.:ТЦ Сфера,2005.-С.54-59.</a:t>
            </a:r>
            <a:br>
              <a:rPr sz="1600"/>
            </a:b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вская О.В. Развивайся, малыш! . -М.: Изд-во ГНОМ и Д,2007.-С.60,65.</a:t>
            </a:r>
            <a:br>
              <a:rPr sz="1600"/>
            </a:b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зырева Л.М .Развитие речи . Дети до 5-ти лет. Ярославль Академия развития,2007.-С.41.</a:t>
            </a:r>
            <a:br>
              <a:rPr sz="1600"/>
            </a:b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5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воспитания и обучения в детском саду/ Под ред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А. Васильевой, В.В. Гербовой, Т.С. Комаровой.- М.,200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6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зина М.С. Пальчиковый игротренинг. -Екатеринбург: У -Фактория, 2006.-173-180с.,189с.,200с.</a:t>
            </a:r>
            <a:br>
              <a:rPr sz="1600"/>
            </a:b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7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нушко Е. Помогите малышу заговорить!.- М. : Теревинф, 2007.- 127с., с.16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8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ова И. Развиваем мелкую моторику и координацию движений рук. М.,«Олма Пресс», 200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9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олова,  Г. Для девочек и мальчиков гимнастика для пальчиков [Текст] / Г. Соколова // Дошкольное воспитание. – 2005. - №6. – С. 34-36. 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s://dou45chita.ru/images/18-19/gruppy/solnyzko/2019-01-03/2018-12-30_09.JPG"/>
          <p:cNvPicPr/>
          <p:nvPr/>
        </p:nvPicPr>
        <p:blipFill>
          <a:blip r:embed="rId1"/>
          <a:srcRect l="0" t="1438" r="0" b="0"/>
          <a:stretch/>
        </p:blipFill>
        <p:spPr>
          <a:xfrm>
            <a:off x="1071720" y="2217600"/>
            <a:ext cx="463536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95600" y="353880"/>
            <a:ext cx="595152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Актуальнос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 в дошкольном возрасте является одной из важнейших задач. В наше время доказано, что тонкие движения 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цев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рук положительно влияют на развитие детской речи. 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ука – это инструмент всех инструментов»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- сказал ещё Аристотель. 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ука – это своего рода внешний мозг»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- писал Ка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телей и педагогов всегда волновал вопрос, как обеспечить полноценное развитие ребёнка в дошкольном возрасте? Как подготовить его к школе? Одним из аспектов этой проблемы является развитие мелкой моторики и координации тонких движений ру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 лучше работают 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цы и вся кисть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тем лучше ребёнок говорит. Обычно ребёнок, имеющий высокий уровень развития мелкой моторики, умеет рассуждать, у него достаточно развиты память, внимание и связная реч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301840" y="1206720"/>
            <a:ext cx="61689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Цель проекта: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мелкой моторики рук детей в процессе пальчиковых игр, развитие речи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https://ds04.infourok.ru/uploads/ex/063f/0011444e-cc66704d/img0.jpg"/>
          <p:cNvPicPr/>
          <p:nvPr/>
        </p:nvPicPr>
        <p:blipFill>
          <a:blip r:embed="rId1"/>
          <a:srcRect l="8340" t="1284" r="6746" b="0"/>
          <a:stretch/>
        </p:blipFill>
        <p:spPr>
          <a:xfrm>
            <a:off x="641520" y="2943360"/>
            <a:ext cx="4276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94240" y="365040"/>
            <a:ext cx="492120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мелкую моторику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цев рук дете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речевые способности на основе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ых игр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учитывая возрастные и индивидуальные особенности ребё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высить интерес малышей к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ым играм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превратив их в занимательную иг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добиваться активного осознанного использования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ых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игр в непосредственно организованной деятельности и в повседневной жиз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дать представление родителям о влиянии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ых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игр на развитие мелкой моторики ру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355760" y="1360800"/>
            <a:ext cx="71992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Ожидаемые результа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роявление интереса детей к пальчиковой гимнастике, увеличение словарного запаса, возрастание речевой активности детей в различных видах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рмирование самостоятельности в использовании детьми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ых игр в непосредственно-организованной, совместной и самостоя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заинтересованность родителей в развитии мелкой моторики рук детей, в использовании пальчиковых игр в домашних услов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79280" y="200160"/>
            <a:ext cx="5635800" cy="9237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ЭТАПЫ ПРОЕК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68280" y="1314000"/>
            <a:ext cx="8491680" cy="48625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Подготовительный эта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емы, целей и задач, содержания проекта, прогнозирование результа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методической литературы по данной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наглядн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с детьми 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играем с нашими пальчикам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артотеки пальчиковых иг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письменных консультаций для родителей 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начение пальчиковых игр для развития ребенка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проводить с ребенком речевые пальчиковые игры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Основной эта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чивание с детьми пальчиковых иг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 пальчиковой гимнастики в конспекты занятий, комплексы утренней гимнастики, в сценарии развлечений, в утренние и вечерние отрезки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Заключительный эта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результата работы направленной на развитие мелкой моторики рук и речи детей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шего возрас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дведение итогов реализации 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го нужна пальчиковая гимнаст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38320" y="365040"/>
            <a:ext cx="64771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Давайте обобщим, сколько всего полезного мы делаем, играя в пальчиковые игры. Пальчиковая гимнастика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вивает реч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жняя и ритмично двигая пальчиками, малыш активизирует речевые центры головного мозг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ет умение малыша подражать нам, взрослым, учит вслушиваться в нашу речь и ее понимать, повышает речевую активность крохи, да и просто создает благоприятную эмоциональную атмосфер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Учит ребенка концентрировать внимание и правильно его распределя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очень и очень важное умение! И нам, воспитателям, нужно помогать малышу его формировать. Кстати, произвольно управлять своим вниманием ребенок сможет научиться только к возрасту 6-7 лет. И от этого умения во многом будут зависеть его школьные успех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29240" y="1755360"/>
            <a:ext cx="437832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огда малыш начнет говорить и сможет стихами сопровождать упражнение из пальчиковой гимнастики – это будет делать его речь более четкой, ритмичной, яркой. Таким образом, он сможет усилить контроль за своими движения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 пальчиковых играх нужно запоминать многое: и положение пальцев, и последовательность движений, да и просто стихи. Вот вам и отличное веселое упражнение для развития памяти малыша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А можно ли с помощью пальчиковых игр развивать фантазию и воображение? Конечно! Ведь руками можно </a:t>
            </a: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ссказывать»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целые истории! Сначала пример покажет воспитатель, а уж потом и ребенок может сочинить свои </a:t>
            </a: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ые истории»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у, и наконец, после всех этих упражнений кисти и пальцы рук станут сильными, подвижными, гибкими. А это так поможет в дальнейшем в освоении навыка письма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492200" y="1112400"/>
            <a:ext cx="73580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лько и как часто нужно заниматься 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ой гимнастикой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ые упражнения эффективны только, если вы делаете их регулярно. Вот и 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ые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игры принесут эффект при ежедневных занятиях) минут по 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стати, как вы думаете – нужно ли постоянно менять игры, чтобы сохранить к ним интерес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 достаточно играть в полюбившиес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ее всего, вы заметили, что малыши любят 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ять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одно и то же движение, процедуру или действ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– механизм научения. Чтобы навык закрепился, ребенок будет 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ять его снова и снова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И чем сложнее навык, тем дольше будет 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ение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Это чуть позже, в более старшем возрасте, будет требоваться постоянно вносить разнообразие в иг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чем же я снова и снова возвращаюсь к теме 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ых игр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зачем такое их количество? Может, тогда достаточно нескольких, полюбившихс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Садик</cp:lastModifiedBy>
  <dcterms:modified xsi:type="dcterms:W3CDTF">2009-05-08T20:12:02Z</dcterms:modified>
  <cp:revision>23</cp:revision>
  <dc:subject/>
  <dc:title>Название презентации</dc:title>
</cp:coreProperties>
</file>