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9E5-9B30-4197-8B9B-71B24937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EF2-50DE-46A8-9603-2769661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E91-961C-4671-AE25-8EECAE59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C27-2EA0-4142-9F65-C437B872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17B9-A7F1-44D7-9EB8-2802020E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4C86-3301-427F-8E94-69B69CC1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7320-89C2-4D51-8B99-5B5302FB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B157-948E-4BEA-BB56-0EE90DF3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1B55-CB9C-4D5A-9492-DFE438E9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A914-7C4E-4F1D-95AC-90E04DEF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14AD-48C0-4C17-8151-9A51704E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5AE-2E31-42A4-BE4A-362E43B6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B912-F047-40B7-A7E2-08B5C31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EBAB-B33B-421F-B101-6921BD09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0B35-1D15-43FA-94E7-98543309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DA38-EB4F-458D-95E3-73112A1B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1EB8-3B30-4AC1-8E04-D74AF7B3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E05-00A8-405E-87FE-026A2107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814-CE07-4813-9AB8-5341CACE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3FC-FA4F-43E1-BBA0-0072876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1AC-4BE8-4805-BD1B-FEDE395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533-0609-4FD3-8E1F-DF445B02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D86-6EC9-43A4-8A36-EC3A2C30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327-7532-4EFA-988C-1F02B2D2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574-8375-4872-82BB-E3235B7EB7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3F5-B52F-40FE-AA7D-1424901FDC1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Профилактика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психоэмоционального напряжения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у детей дошкольного возраста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3581280" y="4876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воспитатель МБДОУ «Детский сад Комбинированного вида №29» Манюхина Л.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0b854"/>
                </a:solidFill>
                <a:latin typeface="Monotype Corsiva"/>
              </a:rPr>
              <a:t>Оптимизация двигательной активност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культурные занят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культминутки, динамические пауз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ивные праздни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ул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льные развлеч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саморегуляция: обучение приемам аутогенной трениров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нятия в сенсорной комнат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7315200" y="6629400"/>
            <a:ext cx="509760" cy="228600"/>
          </a:xfrm>
          <a:custGeom>
            <a:avLst/>
            <a:gdLst>
              <a:gd name="textAreaLeft" fmla="*/ 14760 w 509760"/>
              <a:gd name="textAreaRight" fmla="*/ 495000 w 509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8125" h="21600">
                <a:moveTo>
                  <a:pt x="0" y="0"/>
                </a:moveTo>
                <a:lnTo>
                  <a:pt x="48125" y="0"/>
                </a:lnTo>
                <a:lnTo>
                  <a:pt x="48125" y="21600"/>
                </a:lnTo>
                <a:lnTo>
                  <a:pt x="0" y="21600"/>
                </a:lnTo>
                <a:close/>
              </a:path>
              <a:path fill="lightenLess" w="48125" h="21600">
                <a:moveTo>
                  <a:pt x="0" y="0"/>
                </a:moveTo>
                <a:lnTo>
                  <a:pt x="48125" y="0"/>
                </a:lnTo>
                <a:lnTo>
                  <a:pt x="46725" y="1400"/>
                </a:lnTo>
                <a:lnTo>
                  <a:pt x="1400" y="1400"/>
                </a:lnTo>
                <a:close/>
              </a:path>
              <a:path fill="darken" w="48125" h="21600">
                <a:moveTo>
                  <a:pt x="48125" y="0"/>
                </a:moveTo>
                <a:lnTo>
                  <a:pt x="48125" y="21600"/>
                </a:lnTo>
                <a:lnTo>
                  <a:pt x="46725" y="20200"/>
                </a:lnTo>
                <a:lnTo>
                  <a:pt x="46725" y="1400"/>
                </a:lnTo>
                <a:close/>
              </a:path>
              <a:path fill="darkenLess" w="48125" h="21600">
                <a:moveTo>
                  <a:pt x="4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25" y="20200"/>
                </a:lnTo>
                <a:close/>
              </a:path>
              <a:path fill="lighten" w="4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25" h="21600">
                <a:moveTo>
                  <a:pt x="17056" y="10800"/>
                </a:moveTo>
                <a:lnTo>
                  <a:pt x="31069" y="3794"/>
                </a:lnTo>
                <a:lnTo>
                  <a:pt x="3106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Monotype Corsiva"/>
              </a:rPr>
              <a:t>Принципы организации</a:t>
            </a:r>
            <a:br>
              <a:rPr sz="4400"/>
            </a:br>
            <a:r>
              <a:rPr b="0" lang="ru-RU" sz="4400" spc="-1" strike="noStrike">
                <a:solidFill>
                  <a:srgbClr val="f7d47d"/>
                </a:solidFill>
                <a:latin typeface="Monotype Corsiva"/>
              </a:rPr>
              <a:t>режима дня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недельник и пятница не должны быть физически и интеллектуально перегруженны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ый день должен быть максимально от предыдущего по месту, времени, форме организации занят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жиме дня должно быть предусмотрено время для индивидуальных контактов воспитателя с детьми на основе неформального общ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 занятиями высокой интеллектуальной и физической нагрузки должно быть не менее 48 разгрузочных час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ро и вечер одного дня в неделю должны посвящаться играм воспитателя с деть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жиме дня выделяется время для проведения лечебно-профилактических мероприятий, релаксационных пауз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деляется время для самостоятельной деятельности дет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AutoShape 4">
            <a:hlinkClick r:id="" action="ppaction://hlinkshowjump?jump=nextslide"/>
          </p:cNvPr>
          <p:cNvSpPr/>
          <p:nvPr/>
        </p:nvSpPr>
        <p:spPr>
          <a:xfrm>
            <a:off x="7315200" y="6629400"/>
            <a:ext cx="509760" cy="228600"/>
          </a:xfrm>
          <a:custGeom>
            <a:avLst/>
            <a:gdLst>
              <a:gd name="textAreaLeft" fmla="*/ 14760 w 509760"/>
              <a:gd name="textAreaRight" fmla="*/ 495000 w 509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8125" h="21600">
                <a:moveTo>
                  <a:pt x="0" y="0"/>
                </a:moveTo>
                <a:lnTo>
                  <a:pt x="48125" y="0"/>
                </a:lnTo>
                <a:lnTo>
                  <a:pt x="48125" y="21600"/>
                </a:lnTo>
                <a:lnTo>
                  <a:pt x="0" y="21600"/>
                </a:lnTo>
                <a:close/>
              </a:path>
              <a:path fill="lightenLess" w="48125" h="21600">
                <a:moveTo>
                  <a:pt x="0" y="0"/>
                </a:moveTo>
                <a:lnTo>
                  <a:pt x="48125" y="0"/>
                </a:lnTo>
                <a:lnTo>
                  <a:pt x="46725" y="1400"/>
                </a:lnTo>
                <a:lnTo>
                  <a:pt x="1400" y="1400"/>
                </a:lnTo>
                <a:close/>
              </a:path>
              <a:path fill="darken" w="48125" h="21600">
                <a:moveTo>
                  <a:pt x="48125" y="0"/>
                </a:moveTo>
                <a:lnTo>
                  <a:pt x="48125" y="21600"/>
                </a:lnTo>
                <a:lnTo>
                  <a:pt x="46725" y="20200"/>
                </a:lnTo>
                <a:lnTo>
                  <a:pt x="46725" y="1400"/>
                </a:lnTo>
                <a:close/>
              </a:path>
              <a:path fill="darkenLess" w="48125" h="21600">
                <a:moveTo>
                  <a:pt x="4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25" y="20200"/>
                </a:lnTo>
                <a:close/>
              </a:path>
              <a:path fill="lighten" w="4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25" h="21600">
                <a:moveTo>
                  <a:pt x="17056" y="3794"/>
                </a:moveTo>
                <a:lnTo>
                  <a:pt x="31069" y="10800"/>
                </a:lnTo>
                <a:lnTo>
                  <a:pt x="17056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9152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Здоровый человек - это прежде всего человек счастливый, живущий в гармонии с самим собою, не ощущающий внутреннего разлада, защищающийся, но первым ни на кого не нападающий…» 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А.Маслоу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Одна из основный задач</a:t>
            </a: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дошкольного учреждения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2361960"/>
            <a:ext cx="7386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и укрепление здоровья, совершенствование функций организма ребенка и его полноценное физическое развит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d47d"/>
                </a:solidFill>
                <a:latin typeface="Monotype Corsiva"/>
              </a:rPr>
              <a:t>Стрессовое воздействие на детей </a:t>
            </a:r>
            <a:br>
              <a:rPr sz="4400"/>
            </a:br>
            <a:r>
              <a:rPr b="1" lang="ru-RU" sz="4400" spc="-1" strike="noStrike">
                <a:solidFill>
                  <a:srgbClr val="f7d47d"/>
                </a:solidFill>
                <a:latin typeface="Monotype Corsiva"/>
              </a:rPr>
              <a:t>в ДОУ оказывает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65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рациональный режим жизнедея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фицит свободы движения или избыточная двигательная активнос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рациональное питание и плохая его организац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правильная организация сна и отдых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итарность стиля общения с детьми взрослых при отсутствии к ним внимания и забо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основанное ограничение свободы дет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ллектуальные и физические перегруз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благоприятные в геомагнитном плане дни и плохие погодные услов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благоприятный психологический климат в семье и коллектив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Компоненты здорового </a:t>
            </a: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образа жизн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7650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н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каливан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тимизация двигательной активно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блюдение режима дн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6"/>
          <p:cNvSpPr/>
          <p:nvPr/>
        </p:nvSpPr>
        <p:spPr>
          <a:xfrm>
            <a:off x="0" y="37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Нормативные показатели сна детей дошкольного возраст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AutoShape 19">
            <a:hlinkClick r:id="" action="ppaction://hlinkshowjump?jump=nextslide"/>
          </p:cNvPr>
          <p:cNvSpPr/>
          <p:nvPr/>
        </p:nvSpPr>
        <p:spPr>
          <a:xfrm>
            <a:off x="73915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23623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 лет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 лет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7 лет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14 часо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часо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часо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1 час на засыпание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засыпание  полагается  30 минут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Основные условия </a:t>
            </a: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полноценного сна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альная комната в любое время года перед сном должна быть проветре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ваться детям лучше в другом помещен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ать лучше в одних трусика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ояние между кроватками по санитарным нормам не менее полумет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должен быть выработан рефлекс на быстрое засыпание –фоновая музыка, пение колыбельных песен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ет обращать внимание на характер сна детей, их поз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ледует держать детей в постели после пробужд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AutoShape 4">
            <a:hlinkClick r:id="" action="ppaction://hlinkshowjump?jump=nextslide"/>
          </p:cNvPr>
          <p:cNvSpPr/>
          <p:nvPr/>
        </p:nvSpPr>
        <p:spPr>
          <a:xfrm>
            <a:off x="7315200" y="6629400"/>
            <a:ext cx="509760" cy="228600"/>
          </a:xfrm>
          <a:custGeom>
            <a:avLst/>
            <a:gdLst>
              <a:gd name="textAreaLeft" fmla="*/ 14760 w 509760"/>
              <a:gd name="textAreaRight" fmla="*/ 495000 w 509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8125" h="21600">
                <a:moveTo>
                  <a:pt x="0" y="0"/>
                </a:moveTo>
                <a:lnTo>
                  <a:pt x="48125" y="0"/>
                </a:lnTo>
                <a:lnTo>
                  <a:pt x="48125" y="21600"/>
                </a:lnTo>
                <a:lnTo>
                  <a:pt x="0" y="21600"/>
                </a:lnTo>
                <a:close/>
              </a:path>
              <a:path fill="lightenLess" w="48125" h="21600">
                <a:moveTo>
                  <a:pt x="0" y="0"/>
                </a:moveTo>
                <a:lnTo>
                  <a:pt x="48125" y="0"/>
                </a:lnTo>
                <a:lnTo>
                  <a:pt x="46725" y="1400"/>
                </a:lnTo>
                <a:lnTo>
                  <a:pt x="1400" y="1400"/>
                </a:lnTo>
                <a:close/>
              </a:path>
              <a:path fill="darken" w="48125" h="21600">
                <a:moveTo>
                  <a:pt x="48125" y="0"/>
                </a:moveTo>
                <a:lnTo>
                  <a:pt x="48125" y="21600"/>
                </a:lnTo>
                <a:lnTo>
                  <a:pt x="46725" y="20200"/>
                </a:lnTo>
                <a:lnTo>
                  <a:pt x="46725" y="1400"/>
                </a:lnTo>
                <a:close/>
              </a:path>
              <a:path fill="darkenLess" w="48125" h="21600">
                <a:moveTo>
                  <a:pt x="4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25" y="20200"/>
                </a:lnTo>
                <a:close/>
              </a:path>
              <a:path fill="lighten" w="4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25" h="21600">
                <a:moveTo>
                  <a:pt x="17056" y="3794"/>
                </a:moveTo>
                <a:lnTo>
                  <a:pt x="31069" y="10800"/>
                </a:lnTo>
                <a:lnTo>
                  <a:pt x="17056" y="178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Monotype Corsiva"/>
              </a:rPr>
              <a:t>Прием пищи – </a:t>
            </a:r>
            <a:br>
              <a:rPr sz="4400"/>
            </a:br>
            <a:r>
              <a:rPr b="0" lang="ru-RU" sz="4400" spc="-1" strike="noStrike">
                <a:solidFill>
                  <a:srgbClr val="f7d47d"/>
                </a:solidFill>
                <a:latin typeface="Monotype Corsiva"/>
              </a:rPr>
              <a:t>большая релаксационная пауз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технологии семейного сто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фоновой музы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72388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Monotype Corsiva"/>
              </a:rPr>
              <a:t>Закаливание в детском саду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  Анох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шно контрастный мет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ширное умыва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ждение  по  дорожкам и д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72388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x</dc:creator>
  <dc:description/>
  <dc:language>en-US</dc:language>
  <cp:lastModifiedBy>usr02</cp:lastModifiedBy>
  <dcterms:modified xsi:type="dcterms:W3CDTF">2023-05-15T11:28:41Z</dcterms:modified>
  <cp:revision>14</cp:revision>
  <dc:subject/>
  <dc:title>«Профилактика психоэмоционального напряжения у детей дошкольного возраст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