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7DB-9A48-45D1-9E1B-9D4E2171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591-BC64-439F-9D88-208FD16D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852-BC59-4953-B8F0-89CB634C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ABE-82C3-4D3B-A383-2629983C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A832-C9CB-4890-B108-29031CA1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840D-9D46-4011-8DE1-1464540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CAED-0A57-4C05-9C5D-BE7A0119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DFA7-F56F-4307-9FAA-54FFCBB3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D8B8-CD36-4334-92DD-B4910936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3DC0-2FAC-4513-8F5C-C697EDC7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54E4-1989-4D7F-90C8-C6FD773A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AFB-C047-4406-89A9-85C8B60D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D80C-944E-4F31-BD04-CD36011B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4CB8-A32E-4DE7-9550-FFC5D6BB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68F2-5E0A-4AC5-9D7D-F9A63896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A814-2C9B-46C5-8A89-4E8EF953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C34B-797E-41D6-A3BF-28748971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612-FF5B-4F58-AFB0-C2C71838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AE3-2FAE-4E28-BE2E-989A198D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F65-0875-48CB-80D1-06DE8C61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DF2-8CD4-4FFF-84C9-1D3104CD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0A3-4465-45EF-9662-B16B9AA8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FC1-0C20-41FF-875B-9D5BB93B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A47-58A4-472A-BBE9-15CA4CB9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31E8-8493-41CC-B227-166FBA3EBB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B95B-617E-47C0-804C-BB3A5B753C1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Профилактика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психоэмоционального напряжения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у детей дошкольного возраста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3581280" y="4876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воспитатель МБДОУ «Детский сад Комбинированного вида №29» Манюхина Л.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0b854"/>
                </a:solidFill>
                <a:latin typeface="Monotype Corsiva"/>
              </a:rPr>
              <a:t>Оптимизация двигательной активност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культурные занят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культминутки, динамические пауз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ивные праздни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ул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льные развлеч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саморегуляция: обучение приемам аутогенной трениров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нятия в сенсорной комнат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7315200" y="6629400"/>
            <a:ext cx="509760" cy="228600"/>
          </a:xfrm>
          <a:custGeom>
            <a:avLst/>
            <a:gdLst>
              <a:gd name="textAreaLeft" fmla="*/ 14760 w 509760"/>
              <a:gd name="textAreaRight" fmla="*/ 495000 w 509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8125" h="21600">
                <a:moveTo>
                  <a:pt x="0" y="0"/>
                </a:moveTo>
                <a:lnTo>
                  <a:pt x="48125" y="0"/>
                </a:lnTo>
                <a:lnTo>
                  <a:pt x="48125" y="21600"/>
                </a:lnTo>
                <a:lnTo>
                  <a:pt x="0" y="21600"/>
                </a:lnTo>
                <a:close/>
              </a:path>
              <a:path fill="lightenLess" w="48125" h="21600">
                <a:moveTo>
                  <a:pt x="0" y="0"/>
                </a:moveTo>
                <a:lnTo>
                  <a:pt x="48125" y="0"/>
                </a:lnTo>
                <a:lnTo>
                  <a:pt x="46725" y="1400"/>
                </a:lnTo>
                <a:lnTo>
                  <a:pt x="1400" y="1400"/>
                </a:lnTo>
                <a:close/>
              </a:path>
              <a:path fill="darken" w="48125" h="21600">
                <a:moveTo>
                  <a:pt x="48125" y="0"/>
                </a:moveTo>
                <a:lnTo>
                  <a:pt x="48125" y="21600"/>
                </a:lnTo>
                <a:lnTo>
                  <a:pt x="46725" y="20200"/>
                </a:lnTo>
                <a:lnTo>
                  <a:pt x="46725" y="1400"/>
                </a:lnTo>
                <a:close/>
              </a:path>
              <a:path fill="darkenLess" w="48125" h="21600">
                <a:moveTo>
                  <a:pt x="4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25" y="20200"/>
                </a:lnTo>
                <a:close/>
              </a:path>
              <a:path fill="lighten" w="4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25" h="21600">
                <a:moveTo>
                  <a:pt x="17056" y="10800"/>
                </a:moveTo>
                <a:lnTo>
                  <a:pt x="31069" y="3794"/>
                </a:lnTo>
                <a:lnTo>
                  <a:pt x="3106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696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d47d"/>
                </a:solidFill>
                <a:latin typeface="Monotype Corsiva"/>
              </a:rPr>
              <a:t>Принципы организации</a:t>
            </a:r>
            <a:br>
              <a:rPr sz="4400"/>
            </a:br>
            <a:r>
              <a:rPr b="0" lang="ru-RU" sz="4400" spc="-1" strike="noStrike">
                <a:solidFill>
                  <a:srgbClr val="f7d47d"/>
                </a:solidFill>
                <a:latin typeface="Monotype Corsiva"/>
              </a:rPr>
              <a:t>режима дня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недельник и пятница не должны быть физически и интеллектуально перегруженны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ый день должен быть максимально от предыдущего по месту, времени, форме организации занят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жиме дня должно быть предусмотрено время для индивидуальных контактов воспитателя с детьми на основе неформального общ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 занятиями высокой интеллектуальной и физической нагрузки должно быть не менее 48 разгрузочных час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ро и вечер одного дня в неделю должны посвящаться играм воспитателя с деть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жиме дня выделяется время для проведения лечебно-профилактических мероприятий, релаксационных пауз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деляется время для самостоятельной деятельности дет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AutoShape 4">
            <a:hlinkClick r:id="" action="ppaction://hlinkshowjump?jump=nextslide"/>
          </p:cNvPr>
          <p:cNvSpPr/>
          <p:nvPr/>
        </p:nvSpPr>
        <p:spPr>
          <a:xfrm>
            <a:off x="7315200" y="6629400"/>
            <a:ext cx="509760" cy="228600"/>
          </a:xfrm>
          <a:custGeom>
            <a:avLst/>
            <a:gdLst>
              <a:gd name="textAreaLeft" fmla="*/ 14760 w 509760"/>
              <a:gd name="textAreaRight" fmla="*/ 495000 w 509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8125" h="21600">
                <a:moveTo>
                  <a:pt x="0" y="0"/>
                </a:moveTo>
                <a:lnTo>
                  <a:pt x="48125" y="0"/>
                </a:lnTo>
                <a:lnTo>
                  <a:pt x="48125" y="21600"/>
                </a:lnTo>
                <a:lnTo>
                  <a:pt x="0" y="21600"/>
                </a:lnTo>
                <a:close/>
              </a:path>
              <a:path fill="lightenLess" w="48125" h="21600">
                <a:moveTo>
                  <a:pt x="0" y="0"/>
                </a:moveTo>
                <a:lnTo>
                  <a:pt x="48125" y="0"/>
                </a:lnTo>
                <a:lnTo>
                  <a:pt x="46725" y="1400"/>
                </a:lnTo>
                <a:lnTo>
                  <a:pt x="1400" y="1400"/>
                </a:lnTo>
                <a:close/>
              </a:path>
              <a:path fill="darken" w="48125" h="21600">
                <a:moveTo>
                  <a:pt x="48125" y="0"/>
                </a:moveTo>
                <a:lnTo>
                  <a:pt x="48125" y="21600"/>
                </a:lnTo>
                <a:lnTo>
                  <a:pt x="46725" y="20200"/>
                </a:lnTo>
                <a:lnTo>
                  <a:pt x="46725" y="1400"/>
                </a:lnTo>
                <a:close/>
              </a:path>
              <a:path fill="darkenLess" w="48125" h="21600">
                <a:moveTo>
                  <a:pt x="4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25" y="20200"/>
                </a:lnTo>
                <a:close/>
              </a:path>
              <a:path fill="lighten" w="4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25" h="21600">
                <a:moveTo>
                  <a:pt x="17056" y="3794"/>
                </a:moveTo>
                <a:lnTo>
                  <a:pt x="31069" y="10800"/>
                </a:lnTo>
                <a:lnTo>
                  <a:pt x="17056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9152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Здоровый человек - это прежде всего человек счастливый, живущий в гармонии с самим собою, не ощущающий внутреннего разлада, защищающийся, но первым ни на кого не нападающий…» 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А.Маслоу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6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Одна из основный задач</a:t>
            </a:r>
            <a:br>
              <a:rPr sz="4800"/>
            </a:b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дошкольного учреждения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2361960"/>
            <a:ext cx="7386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а и укрепление здоровья, совершенствование функций организма ребенка и его полноценное физическое развит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d47d"/>
                </a:solidFill>
                <a:latin typeface="Monotype Corsiva"/>
              </a:rPr>
              <a:t>Стрессовое воздействие на детей </a:t>
            </a:r>
            <a:br>
              <a:rPr sz="4400"/>
            </a:br>
            <a:r>
              <a:rPr b="1" lang="ru-RU" sz="4400" spc="-1" strike="noStrike">
                <a:solidFill>
                  <a:srgbClr val="f7d47d"/>
                </a:solidFill>
                <a:latin typeface="Monotype Corsiva"/>
              </a:rPr>
              <a:t>в ДОУ оказывает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65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рациональный режим жизнедеятель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фицит свободы движения или избыточная двигательная активнос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рациональное питание и плохая его организац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правильная организация сна и отдых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итарность стиля общения с детьми взрослых при отсутствии к ним внимания и забо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основанное ограничение свободы дет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ллектуальные и физические перегруз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благоприятные в геомагнитном плане дни и плохие погодные услов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благоприятный психологический климат в семье и коллектив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Компоненты здорового </a:t>
            </a:r>
            <a:br>
              <a:rPr sz="4800"/>
            </a:b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образа жизн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7650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н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каливани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тимизация двигательной активнос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блюдение режима дн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6"/>
          <p:cNvSpPr/>
          <p:nvPr/>
        </p:nvSpPr>
        <p:spPr>
          <a:xfrm>
            <a:off x="0" y="37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Нормативные показатели сна детей дошкольного возраст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AutoShape 19">
            <a:hlinkClick r:id="" action="ppaction://hlinkshowjump?jump=nextslide"/>
          </p:cNvPr>
          <p:cNvSpPr/>
          <p:nvPr/>
        </p:nvSpPr>
        <p:spPr>
          <a:xfrm>
            <a:off x="73915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236232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 лет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 лет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-7 лет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14 часов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 часов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часов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1 час на засыпание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засыпание  полагается  30 минут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9608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Основные условия </a:t>
            </a:r>
            <a:br>
              <a:rPr sz="4800"/>
            </a:br>
            <a:r>
              <a:rPr b="1" lang="ru-RU" sz="4800" spc="-1" strike="noStrike">
                <a:solidFill>
                  <a:srgbClr val="f7d47d"/>
                </a:solidFill>
                <a:latin typeface="Monotype Corsiva"/>
              </a:rPr>
              <a:t>полноценного сна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альная комната в любое время года перед сном должна быть проветре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ваться детям лучше в другом помещени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ать лучше в одних трусика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тояние между кроватками по санитарным нормам не менее полумет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детей должен быть выработан рефлекс на быстрое засыпание –фоновая музыка, пение колыбельных песен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ет обращать внимание на характер сна детей, их поз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ледует держать детей в постели после пробужд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AutoShape 4">
            <a:hlinkClick r:id="" action="ppaction://hlinkshowjump?jump=nextslide"/>
          </p:cNvPr>
          <p:cNvSpPr/>
          <p:nvPr/>
        </p:nvSpPr>
        <p:spPr>
          <a:xfrm>
            <a:off x="7315200" y="6629400"/>
            <a:ext cx="509760" cy="228600"/>
          </a:xfrm>
          <a:custGeom>
            <a:avLst/>
            <a:gdLst>
              <a:gd name="textAreaLeft" fmla="*/ 14760 w 509760"/>
              <a:gd name="textAreaRight" fmla="*/ 495000 w 509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8125" h="21600">
                <a:moveTo>
                  <a:pt x="0" y="0"/>
                </a:moveTo>
                <a:lnTo>
                  <a:pt x="48125" y="0"/>
                </a:lnTo>
                <a:lnTo>
                  <a:pt x="48125" y="21600"/>
                </a:lnTo>
                <a:lnTo>
                  <a:pt x="0" y="21600"/>
                </a:lnTo>
                <a:close/>
              </a:path>
              <a:path fill="lightenLess" w="48125" h="21600">
                <a:moveTo>
                  <a:pt x="0" y="0"/>
                </a:moveTo>
                <a:lnTo>
                  <a:pt x="48125" y="0"/>
                </a:lnTo>
                <a:lnTo>
                  <a:pt x="46725" y="1400"/>
                </a:lnTo>
                <a:lnTo>
                  <a:pt x="1400" y="1400"/>
                </a:lnTo>
                <a:close/>
              </a:path>
              <a:path fill="darken" w="48125" h="21600">
                <a:moveTo>
                  <a:pt x="48125" y="0"/>
                </a:moveTo>
                <a:lnTo>
                  <a:pt x="48125" y="21600"/>
                </a:lnTo>
                <a:lnTo>
                  <a:pt x="46725" y="20200"/>
                </a:lnTo>
                <a:lnTo>
                  <a:pt x="46725" y="1400"/>
                </a:lnTo>
                <a:close/>
              </a:path>
              <a:path fill="darkenLess" w="48125" h="21600">
                <a:moveTo>
                  <a:pt x="4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25" y="20200"/>
                </a:lnTo>
                <a:close/>
              </a:path>
              <a:path fill="lighten" w="4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25" h="21600">
                <a:moveTo>
                  <a:pt x="17056" y="3794"/>
                </a:moveTo>
                <a:lnTo>
                  <a:pt x="31069" y="10800"/>
                </a:lnTo>
                <a:lnTo>
                  <a:pt x="17056" y="178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d47d"/>
                </a:solidFill>
                <a:latin typeface="Monotype Corsiva"/>
              </a:rPr>
              <a:t>Прием пищи – </a:t>
            </a:r>
            <a:br>
              <a:rPr sz="4400"/>
            </a:br>
            <a:r>
              <a:rPr b="0" lang="ru-RU" sz="4400" spc="-1" strike="noStrike">
                <a:solidFill>
                  <a:srgbClr val="f7d47d"/>
                </a:solidFill>
                <a:latin typeface="Monotype Corsiva"/>
              </a:rPr>
              <a:t>большая релаксационная пауз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21337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технологии семейного сто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фоновой музы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72388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Monotype Corsiva"/>
              </a:rPr>
              <a:t>Закаливание в детском саду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  Анох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шно контрастный мет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ширное умыва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ждение  по  дорожкам и д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72388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x</dc:creator>
  <dc:description/>
  <dc:language>en-US</dc:language>
  <cp:lastModifiedBy>usr02</cp:lastModifiedBy>
  <dcterms:modified xsi:type="dcterms:W3CDTF">2023-05-15T11:28:41Z</dcterms:modified>
  <cp:revision>14</cp:revision>
  <dc:subject/>
  <dc:title>«Профилактика психоэмоционального напряжения у детей дошкольного возраст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