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6F2-F39B-4AE8-8BE9-69D47545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C4C-5234-45C1-8315-04BD71C3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1159-451C-4F0C-9E87-0C3D8E6D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F1F-B0EF-4C38-8B9F-790E7630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CECB9-7F69-41BB-AC18-C4A6A9CE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5247A-7CEC-411E-B486-2D56A2F3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BC2D7-958C-4A68-B15B-B565C70F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CFEDE-B270-41E2-8418-7B436B79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A9A5D-EB7B-4915-B978-81680765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5AD6B-3D61-4EC3-A6EB-1EB4F6D3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E47B2-695D-442A-92F1-10FC3154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B79-7B53-443E-94D5-D3D6262F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F0373-69E1-4F79-9B4F-5FF82DFC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AA46E-4819-4C6C-A7A0-EA9BAF58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6DC09-AE23-44C5-AC57-5F8FEC82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9A713-F96E-4FBF-B78F-170897EC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826D7-82F0-42A4-8786-239C01A3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EEB4D-A7C1-431A-8FB3-BFB94E6D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F945D-0158-418E-9969-EB10283D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61FEB-43D8-4941-9224-A5341F96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6F445-B78E-4810-A424-11B4F4CD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CB384-6392-4E32-9682-07CF6A9B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2BF-0DBD-4160-8AAB-0DDE9155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C2CF6-7E27-4796-8293-E67F73E1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93C2E-62CB-46E1-8F40-F0C84AC3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3101D-D730-45E4-9549-7E27E8BC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F9EFE-8EB4-4252-BB37-DE35698F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62624-B7E3-479E-BC55-9928ACAF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C299F-0016-460B-A2EF-B54C810D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3F5FA-1A19-4C0B-98AB-D12504CD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024560-69DB-40B6-97DA-DFB67550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48E510-E315-47BD-AC3B-0217C046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AE50AE-B0C6-41CB-A1F2-4255ECD3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9CA-688D-45B2-8406-A057A005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1A7A14-8ABF-48E3-BC22-C1870CEA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9127C7-4823-4C42-84BB-2F79B3E0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78409E-ECE9-4DEC-A907-65DD6FDA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E641C-8788-46E6-8FED-6710F770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C555D-B862-4204-8546-5286BF15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B12C55-AD3F-489D-AE50-D4574B01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BFFBC1-D06A-4E74-89B3-A2CD975F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D559B-17C8-481F-91F4-0CB49D42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B6FF9D-8A48-4B04-A9E6-4772FD0B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D1C6D-913A-407E-9046-FAFAC9ED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6FB-1E33-4D23-BC13-6BC342D8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923B2-CB1E-4E95-80AA-631BCF50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45878F-774B-400F-8101-FDB3D256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5F340-4439-49E8-9750-569C7B00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91704-5E35-428B-AD55-2CC2331B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78DDB2-9159-456B-A65C-31206847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79E0C-46EB-458E-A491-7A2016C8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90512-A660-46CA-860D-974C667E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2A09C-81E0-414B-BA02-1EB61B00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0ACA82-8346-4146-9830-08516C55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0B982-836C-4F07-93F0-6CB90464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4F7-2708-4335-AB00-9A816F52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6A8C4-BEBC-4AEF-96BE-4B1A7386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718-0E51-4479-B1BB-4E1A7AFB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B8B-3554-4191-BA4A-14E855C8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2F7-AAD2-47BE-9DDE-7CE2FB49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400" cy="6849720"/>
            <a:chOff x="0" y="0"/>
            <a:chExt cx="9140400" cy="684972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520" cy="3309480"/>
              <a:chOff x="2743200" y="3540240"/>
              <a:chExt cx="6392520" cy="330948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488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320" cy="15379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240" cy="33094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072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6920" cy="24397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400" cy="28191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2"/>
          <p:cNvGrpSpPr/>
          <p:nvPr/>
        </p:nvGrpSpPr>
        <p:grpSpPr>
          <a:xfrm>
            <a:off x="0" y="0"/>
            <a:ext cx="9140400" cy="6849720"/>
            <a:chOff x="0" y="0"/>
            <a:chExt cx="9140400" cy="6849720"/>
          </a:xfrm>
        </p:grpSpPr>
        <p:grpSp>
          <p:nvGrpSpPr>
            <p:cNvPr id="10" name="Group 3"/>
            <p:cNvGrpSpPr/>
            <p:nvPr/>
          </p:nvGrpSpPr>
          <p:grpSpPr>
            <a:xfrm>
              <a:off x="2743200" y="3540240"/>
              <a:ext cx="6392520" cy="3309480"/>
              <a:chOff x="2743200" y="3540240"/>
              <a:chExt cx="6392520" cy="3309480"/>
            </a:xfrm>
          </p:grpSpPr>
          <p:sp>
            <p:nvSpPr>
              <p:cNvPr id="11" name="Freeform 4"/>
              <p:cNvSpPr/>
              <p:nvPr/>
            </p:nvSpPr>
            <p:spPr>
              <a:xfrm>
                <a:off x="2743200" y="4197240"/>
                <a:ext cx="457488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5"/>
              <p:cNvSpPr/>
              <p:nvPr/>
            </p:nvSpPr>
            <p:spPr>
              <a:xfrm>
                <a:off x="6620040" y="4240080"/>
                <a:ext cx="199836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6"/>
              <p:cNvSpPr/>
              <p:nvPr/>
            </p:nvSpPr>
            <p:spPr>
              <a:xfrm>
                <a:off x="4603680" y="5311800"/>
                <a:ext cx="4522320" cy="15379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7"/>
              <p:cNvSpPr/>
              <p:nvPr/>
            </p:nvSpPr>
            <p:spPr>
              <a:xfrm>
                <a:off x="4362480" y="3540240"/>
                <a:ext cx="4773240" cy="33094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8"/>
              <p:cNvSpPr/>
              <p:nvPr/>
            </p:nvSpPr>
            <p:spPr>
              <a:xfrm>
                <a:off x="7145280" y="3678120"/>
                <a:ext cx="198072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" name="Freeform 9"/>
            <p:cNvSpPr/>
            <p:nvPr/>
          </p:nvSpPr>
          <p:spPr>
            <a:xfrm>
              <a:off x="5273640" y="2128680"/>
              <a:ext cx="2896920" cy="24397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"/>
            <p:cNvSpPr/>
            <p:nvPr/>
          </p:nvSpPr>
          <p:spPr>
            <a:xfrm>
              <a:off x="0" y="0"/>
              <a:ext cx="9140400" cy="28191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040" cy="1920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a69564"/>
                </a:solidFill>
                <a:latin typeface="Garamond"/>
                <a:ea typeface="Arial"/>
              </a:rPr>
              <a:t>Образец заголовка</a:t>
            </a:r>
            <a:endParaRPr b="0" lang="ru-RU" sz="6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ftr" idx="2"/>
          </p:nvPr>
        </p:nvSpPr>
        <p:spPr>
          <a:xfrm>
            <a:off x="3124080" y="625140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sldNum" idx="3"/>
          </p:nvPr>
        </p:nvSpPr>
        <p:spPr>
          <a:xfrm>
            <a:off x="6553080" y="625464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70FF2B2-3107-403E-8198-FAA413AB52DE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0" y="0"/>
            <a:ext cx="9140400" cy="6849720"/>
            <a:chOff x="0" y="0"/>
            <a:chExt cx="9140400" cy="6849720"/>
          </a:xfrm>
        </p:grpSpPr>
        <p:grpSp>
          <p:nvGrpSpPr>
            <p:cNvPr id="60" name="Group 5"/>
            <p:cNvGrpSpPr/>
            <p:nvPr/>
          </p:nvGrpSpPr>
          <p:grpSpPr>
            <a:xfrm>
              <a:off x="2743200" y="3540240"/>
              <a:ext cx="6392520" cy="3309480"/>
              <a:chOff x="2743200" y="3540240"/>
              <a:chExt cx="6392520" cy="3309480"/>
            </a:xfrm>
          </p:grpSpPr>
          <p:sp>
            <p:nvSpPr>
              <p:cNvPr id="61" name="Freeform 6"/>
              <p:cNvSpPr/>
              <p:nvPr/>
            </p:nvSpPr>
            <p:spPr>
              <a:xfrm>
                <a:off x="2743200" y="4197240"/>
                <a:ext cx="457488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7"/>
              <p:cNvSpPr/>
              <p:nvPr/>
            </p:nvSpPr>
            <p:spPr>
              <a:xfrm>
                <a:off x="6620040" y="4240080"/>
                <a:ext cx="199836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8"/>
              <p:cNvSpPr/>
              <p:nvPr/>
            </p:nvSpPr>
            <p:spPr>
              <a:xfrm>
                <a:off x="4603680" y="5311800"/>
                <a:ext cx="4522320" cy="15379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9"/>
              <p:cNvSpPr/>
              <p:nvPr/>
            </p:nvSpPr>
            <p:spPr>
              <a:xfrm>
                <a:off x="4362480" y="3540240"/>
                <a:ext cx="4773240" cy="33094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0"/>
              <p:cNvSpPr/>
              <p:nvPr/>
            </p:nvSpPr>
            <p:spPr>
              <a:xfrm>
                <a:off x="7145280" y="3678120"/>
                <a:ext cx="198072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Freeform 11"/>
            <p:cNvSpPr/>
            <p:nvPr/>
          </p:nvSpPr>
          <p:spPr>
            <a:xfrm>
              <a:off x="5273640" y="2128680"/>
              <a:ext cx="2896920" cy="24397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0" y="0"/>
              <a:ext cx="9140400" cy="28191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69564"/>
              </a:buClr>
              <a:buSzPct val="7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7200" y="625140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0661CEA-02A8-4E16-8F07-02CED72694A6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"/>
          <p:cNvGrpSpPr/>
          <p:nvPr/>
        </p:nvGrpSpPr>
        <p:grpSpPr>
          <a:xfrm>
            <a:off x="0" y="0"/>
            <a:ext cx="9140400" cy="6849720"/>
            <a:chOff x="0" y="0"/>
            <a:chExt cx="9140400" cy="6849720"/>
          </a:xfrm>
        </p:grpSpPr>
        <p:grpSp>
          <p:nvGrpSpPr>
            <p:cNvPr id="110" name="Group 5"/>
            <p:cNvGrpSpPr/>
            <p:nvPr/>
          </p:nvGrpSpPr>
          <p:grpSpPr>
            <a:xfrm>
              <a:off x="2743200" y="3540240"/>
              <a:ext cx="6392520" cy="3309480"/>
              <a:chOff x="2743200" y="3540240"/>
              <a:chExt cx="6392520" cy="3309480"/>
            </a:xfrm>
          </p:grpSpPr>
          <p:sp>
            <p:nvSpPr>
              <p:cNvPr id="111" name="Freeform 6"/>
              <p:cNvSpPr/>
              <p:nvPr/>
            </p:nvSpPr>
            <p:spPr>
              <a:xfrm>
                <a:off x="2743200" y="4197240"/>
                <a:ext cx="457488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7"/>
              <p:cNvSpPr/>
              <p:nvPr/>
            </p:nvSpPr>
            <p:spPr>
              <a:xfrm>
                <a:off x="6620040" y="4240080"/>
                <a:ext cx="199836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8"/>
              <p:cNvSpPr/>
              <p:nvPr/>
            </p:nvSpPr>
            <p:spPr>
              <a:xfrm>
                <a:off x="4603680" y="5311800"/>
                <a:ext cx="4522320" cy="15379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>
                <a:off x="4362480" y="3540240"/>
                <a:ext cx="4773240" cy="33094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7145280" y="3678120"/>
                <a:ext cx="198072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Freeform 11"/>
            <p:cNvSpPr/>
            <p:nvPr/>
          </p:nvSpPr>
          <p:spPr>
            <a:xfrm>
              <a:off x="5273640" y="2128680"/>
              <a:ext cx="2896920" cy="24397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"/>
            <p:cNvSpPr/>
            <p:nvPr/>
          </p:nvSpPr>
          <p:spPr>
            <a:xfrm>
              <a:off x="0" y="0"/>
              <a:ext cx="9140400" cy="28191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69564"/>
              </a:buClr>
              <a:buSzPct val="7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69564"/>
              </a:buClr>
              <a:buSzPct val="7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dt" idx="7"/>
          </p:nvPr>
        </p:nvSpPr>
        <p:spPr>
          <a:xfrm>
            <a:off x="457200" y="625140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9E12D21-699D-47AF-A1DD-102F74326C1F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4"/>
          <p:cNvGrpSpPr/>
          <p:nvPr/>
        </p:nvGrpSpPr>
        <p:grpSpPr>
          <a:xfrm>
            <a:off x="0" y="0"/>
            <a:ext cx="9140400" cy="6849720"/>
            <a:chOff x="0" y="0"/>
            <a:chExt cx="9140400" cy="6849720"/>
          </a:xfrm>
        </p:grpSpPr>
        <p:grpSp>
          <p:nvGrpSpPr>
            <p:cNvPr id="161" name="Group 5"/>
            <p:cNvGrpSpPr/>
            <p:nvPr/>
          </p:nvGrpSpPr>
          <p:grpSpPr>
            <a:xfrm>
              <a:off x="2743200" y="3540240"/>
              <a:ext cx="6392520" cy="3309480"/>
              <a:chOff x="2743200" y="3540240"/>
              <a:chExt cx="6392520" cy="3309480"/>
            </a:xfrm>
          </p:grpSpPr>
          <p:sp>
            <p:nvSpPr>
              <p:cNvPr id="162" name="Freeform 6"/>
              <p:cNvSpPr/>
              <p:nvPr/>
            </p:nvSpPr>
            <p:spPr>
              <a:xfrm>
                <a:off x="2743200" y="4197240"/>
                <a:ext cx="457488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7"/>
              <p:cNvSpPr/>
              <p:nvPr/>
            </p:nvSpPr>
            <p:spPr>
              <a:xfrm>
                <a:off x="6620040" y="4240080"/>
                <a:ext cx="199836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8"/>
              <p:cNvSpPr/>
              <p:nvPr/>
            </p:nvSpPr>
            <p:spPr>
              <a:xfrm>
                <a:off x="4603680" y="5311800"/>
                <a:ext cx="4522320" cy="15379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9"/>
              <p:cNvSpPr/>
              <p:nvPr/>
            </p:nvSpPr>
            <p:spPr>
              <a:xfrm>
                <a:off x="4362480" y="3540240"/>
                <a:ext cx="4773240" cy="33094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"/>
              <p:cNvSpPr/>
              <p:nvPr/>
            </p:nvSpPr>
            <p:spPr>
              <a:xfrm>
                <a:off x="7145280" y="3678120"/>
                <a:ext cx="198072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11"/>
            <p:cNvSpPr/>
            <p:nvPr/>
          </p:nvSpPr>
          <p:spPr>
            <a:xfrm>
              <a:off x="5273640" y="2128680"/>
              <a:ext cx="2896920" cy="24397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0" y="0"/>
              <a:ext cx="9140400" cy="28191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69564"/>
              </a:buClr>
              <a:buSzPct val="7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69564"/>
              </a:buClr>
              <a:buSzPct val="7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457200" y="3938760"/>
            <a:ext cx="403812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69564"/>
              </a:buClr>
              <a:buSzPct val="7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69564"/>
              </a:buClr>
              <a:buSzPct val="7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bfbfa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dt" idx="10"/>
          </p:nvPr>
        </p:nvSpPr>
        <p:spPr>
          <a:xfrm>
            <a:off x="457200" y="625140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76229D5-F47D-4AD1-A9BB-014E45C54A40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8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4"/>
          <p:cNvGrpSpPr/>
          <p:nvPr/>
        </p:nvGrpSpPr>
        <p:grpSpPr>
          <a:xfrm>
            <a:off x="0" y="0"/>
            <a:ext cx="9140400" cy="6849720"/>
            <a:chOff x="0" y="0"/>
            <a:chExt cx="9140400" cy="6849720"/>
          </a:xfrm>
        </p:grpSpPr>
        <p:grpSp>
          <p:nvGrpSpPr>
            <p:cNvPr id="214" name="Group 5"/>
            <p:cNvGrpSpPr/>
            <p:nvPr/>
          </p:nvGrpSpPr>
          <p:grpSpPr>
            <a:xfrm>
              <a:off x="2743200" y="3540240"/>
              <a:ext cx="6392520" cy="3309480"/>
              <a:chOff x="2743200" y="3540240"/>
              <a:chExt cx="6392520" cy="3309480"/>
            </a:xfrm>
          </p:grpSpPr>
          <p:sp>
            <p:nvSpPr>
              <p:cNvPr id="215" name="Freeform 6"/>
              <p:cNvSpPr/>
              <p:nvPr/>
            </p:nvSpPr>
            <p:spPr>
              <a:xfrm>
                <a:off x="2743200" y="4197240"/>
                <a:ext cx="457488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7"/>
              <p:cNvSpPr/>
              <p:nvPr/>
            </p:nvSpPr>
            <p:spPr>
              <a:xfrm>
                <a:off x="6620040" y="4240080"/>
                <a:ext cx="199836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8"/>
              <p:cNvSpPr/>
              <p:nvPr/>
            </p:nvSpPr>
            <p:spPr>
              <a:xfrm>
                <a:off x="4603680" y="5311800"/>
                <a:ext cx="4522320" cy="15379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9"/>
              <p:cNvSpPr/>
              <p:nvPr/>
            </p:nvSpPr>
            <p:spPr>
              <a:xfrm>
                <a:off x="4362480" y="3540240"/>
                <a:ext cx="4773240" cy="33094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0"/>
              <p:cNvSpPr/>
              <p:nvPr/>
            </p:nvSpPr>
            <p:spPr>
              <a:xfrm>
                <a:off x="7145280" y="3678120"/>
                <a:ext cx="198072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Freeform 11"/>
            <p:cNvSpPr/>
            <p:nvPr/>
          </p:nvSpPr>
          <p:spPr>
            <a:xfrm>
              <a:off x="5273640" y="2128680"/>
              <a:ext cx="2896920" cy="24397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2"/>
            <p:cNvSpPr/>
            <p:nvPr/>
          </p:nvSpPr>
          <p:spPr>
            <a:xfrm>
              <a:off x="0" y="0"/>
              <a:ext cx="9140400" cy="28191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dt" idx="13"/>
          </p:nvPr>
        </p:nvSpPr>
        <p:spPr>
          <a:xfrm>
            <a:off x="457200" y="625140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7BCE361-0A8E-412A-83D4-B44B7F7E2454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Click to edit the title text format</a:t>
            </a: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ru-RU" sz="2400" spc="-1" strike="noStrike">
              <a:solidFill>
                <a:srgbClr val="4b2500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4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hyperlink" Target="http://www.e1.ru/fun/photo/view_pic.php/p/4cfbf4bf2f6b03bbdee2347488c89bd4/view.pic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040" cy="1920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a69564"/>
                </a:solidFill>
                <a:latin typeface="Garamond"/>
                <a:ea typeface="Arial"/>
              </a:rPr>
              <a:t>Биография</a:t>
            </a:r>
            <a:br>
              <a:rPr sz="6000"/>
            </a:br>
            <a:r>
              <a:rPr b="1" lang="ru-RU" sz="6000" spc="-1" strike="noStrike">
                <a:solidFill>
                  <a:srgbClr val="a69564"/>
                </a:solidFill>
                <a:latin typeface="Garamond"/>
                <a:ea typeface="Arial"/>
              </a:rPr>
              <a:t>А.С. Пушкин</a:t>
            </a:r>
            <a:endParaRPr b="0" lang="ru-RU" sz="6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Походяева С.Б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учитель начальных класс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  <a:ea typeface="Arial"/>
              </a:rPr>
              <a:t>МБОУ ШР «СОШ № 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295" name="Picture 2" descr="_DSC0049"/>
          <p:cNvPicPr/>
          <p:nvPr/>
        </p:nvPicPr>
        <p:blipFill>
          <a:blip r:embed="rId1"/>
          <a:stretch/>
        </p:blipFill>
        <p:spPr>
          <a:xfrm>
            <a:off x="353880" y="285840"/>
            <a:ext cx="8527680" cy="62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341280" y="357120"/>
            <a:ext cx="84308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301" name="Picture 2" descr="_DSC0056"/>
          <p:cNvPicPr/>
          <p:nvPr/>
        </p:nvPicPr>
        <p:blipFill>
          <a:blip r:embed="rId1"/>
          <a:stretch/>
        </p:blipFill>
        <p:spPr>
          <a:xfrm>
            <a:off x="147600" y="357120"/>
            <a:ext cx="8638920" cy="57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304" name="Picture 2" descr="_DSC0055"/>
          <p:cNvPicPr/>
          <p:nvPr/>
        </p:nvPicPr>
        <p:blipFill>
          <a:blip r:embed="rId1"/>
          <a:stretch/>
        </p:blipFill>
        <p:spPr>
          <a:xfrm>
            <a:off x="500040" y="571680"/>
            <a:ext cx="8232480" cy="54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pic>
        <p:nvPicPr>
          <p:cNvPr id="306" name="Picture 2" descr="_DSC0057"/>
          <p:cNvPicPr/>
          <p:nvPr/>
        </p:nvPicPr>
        <p:blipFill>
          <a:blip r:embed="rId1"/>
          <a:stretch/>
        </p:blipFill>
        <p:spPr>
          <a:xfrm>
            <a:off x="500040" y="428760"/>
            <a:ext cx="8007120" cy="6143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309" name="Picture 2" descr="_DSC0058"/>
          <p:cNvPicPr/>
          <p:nvPr/>
        </p:nvPicPr>
        <p:blipFill>
          <a:blip r:embed="rId1"/>
          <a:stretch/>
        </p:blipFill>
        <p:spPr>
          <a:xfrm>
            <a:off x="500040" y="357120"/>
            <a:ext cx="821484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312" name="Picture 2" descr="_DSC0062"/>
          <p:cNvPicPr/>
          <p:nvPr/>
        </p:nvPicPr>
        <p:blipFill>
          <a:blip r:embed="rId1"/>
          <a:stretch/>
        </p:blipFill>
        <p:spPr>
          <a:xfrm>
            <a:off x="357120" y="500040"/>
            <a:ext cx="8332560" cy="55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315" name="Picture 2" descr="_DSC0068"/>
          <p:cNvPicPr/>
          <p:nvPr/>
        </p:nvPicPr>
        <p:blipFill>
          <a:blip r:embed="rId1"/>
          <a:stretch/>
        </p:blipFill>
        <p:spPr>
          <a:xfrm>
            <a:off x="428760" y="357120"/>
            <a:ext cx="84308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318" name="Picture 2" descr="_DSC0070"/>
          <p:cNvPicPr/>
          <p:nvPr/>
        </p:nvPicPr>
        <p:blipFill>
          <a:blip r:embed="rId1"/>
          <a:stretch/>
        </p:blipFill>
        <p:spPr>
          <a:xfrm>
            <a:off x="571680" y="571680"/>
            <a:ext cx="80150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a69564"/>
              </a:solidFill>
              <a:latin typeface="Garamond"/>
              <a:ea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321" name="Picture 2" descr="_DSC0073"/>
          <p:cNvPicPr/>
          <p:nvPr/>
        </p:nvPicPr>
        <p:blipFill>
          <a:blip r:embed="rId1"/>
          <a:stretch/>
        </p:blipFill>
        <p:spPr>
          <a:xfrm>
            <a:off x="214200" y="428760"/>
            <a:ext cx="8704080" cy="58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29492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4b2500"/>
                </a:solidFill>
                <a:latin typeface="Times New Roman"/>
                <a:ea typeface="Arial"/>
              </a:rPr>
              <a:t>Александр Сергеевич Пушкин (1799-1837)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66" name="Picture 4" descr="{CC9649AB-942B-4A96-9BFC-7BC79E69C3E2}"/>
          <p:cNvPicPr/>
          <p:nvPr/>
        </p:nvPicPr>
        <p:blipFill>
          <a:blip r:embed="rId1"/>
          <a:stretch/>
        </p:blipFill>
        <p:spPr>
          <a:xfrm>
            <a:off x="2771640" y="1700280"/>
            <a:ext cx="3385800" cy="4249440"/>
          </a:xfrm>
          <a:prstGeom prst="rect">
            <a:avLst/>
          </a:prstGeom>
          <a:ln w="57150">
            <a:solidFill>
              <a:srgbClr val="ffffff"/>
            </a:solidFill>
            <a:miter/>
          </a:ln>
        </p:spPr>
      </p:pic>
      <p:pic>
        <p:nvPicPr>
          <p:cNvPr id="267" name="Picture 7" descr="2"/>
          <p:cNvPicPr/>
          <p:nvPr/>
        </p:nvPicPr>
        <p:blipFill>
          <a:blip r:embed="rId2"/>
          <a:stretch/>
        </p:blipFill>
        <p:spPr>
          <a:xfrm>
            <a:off x="1908000" y="6237360"/>
            <a:ext cx="523836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Garamond"/>
                <a:ea typeface="Arial"/>
              </a:rPr>
              <a:t>  </a:t>
            </a:r>
            <a:r>
              <a:rPr b="1" i="1" lang="ru-RU" sz="4800" spc="-1" strike="noStrike">
                <a:solidFill>
                  <a:srgbClr val="663300"/>
                </a:solidFill>
                <a:latin typeface="Times New Roman"/>
                <a:ea typeface="Arial"/>
              </a:rPr>
              <a:t>Подскажи словечко!</a:t>
            </a:r>
            <a:endParaRPr b="0" lang="ru-RU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576072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buClr>
                <a:srgbClr val="a50021"/>
              </a:buClr>
              <a:buSzPct val="70000"/>
              <a:buFont typeface="Wingdings" charset="2"/>
              <a:buChar char=""/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Жил старик со своею старухой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У самого синего моря;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Жили они в ветхой землянке...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овно тридцать лет и три года.</a:t>
            </a:r>
            <a:br>
              <a:rPr sz="2000"/>
            </a:b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«Сказка о рыбаке и рыбке».)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Свет мой зеркальце скажи,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     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Да всю правду доложи….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      </a:t>
            </a:r>
            <a:r>
              <a:rPr b="1" i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Я ль на свете всех милее // </a:t>
            </a:r>
            <a:br>
              <a:rPr sz="2000"/>
            </a:br>
            <a:r>
              <a:rPr b="1" i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Всех румяней и белее?</a:t>
            </a:r>
            <a:br>
              <a:rPr sz="2000"/>
            </a:br>
            <a:r>
              <a:rPr b="1" i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      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     </a:t>
            </a:r>
            <a:r>
              <a:rPr b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(«Сказка о мёртвой царевне...»).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Жил-был поп,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Толоконный лоб,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Пошёл поп по базару...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      </a:t>
            </a:r>
            <a:r>
              <a:rPr b="1" i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Посмотреть кой-какого товару. </a:t>
            </a:r>
            <a:br>
              <a:rPr sz="800"/>
            </a:b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800" spc="-1" strike="noStrike">
                <a:solidFill>
                  <a:srgbClr val="4b2500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(«Сказка о попе и о работнике его Балде».)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24" name="Picture 4" descr="2"/>
          <p:cNvPicPr/>
          <p:nvPr/>
        </p:nvPicPr>
        <p:blipFill>
          <a:blip r:embed="rId1"/>
          <a:stretch/>
        </p:blipFill>
        <p:spPr>
          <a:xfrm>
            <a:off x="2050920" y="6453360"/>
            <a:ext cx="5238360" cy="259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Пушкин"/>
          <p:cNvPicPr/>
          <p:nvPr/>
        </p:nvPicPr>
        <p:blipFill>
          <a:blip r:embed="rId2"/>
          <a:stretch/>
        </p:blipFill>
        <p:spPr>
          <a:xfrm>
            <a:off x="893880" y="404640"/>
            <a:ext cx="725040" cy="936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Сказка о рыбаке и рыбке2"/>
          <p:cNvPicPr/>
          <p:nvPr/>
        </p:nvPicPr>
        <p:blipFill>
          <a:blip r:embed="rId3"/>
          <a:stretch/>
        </p:blipFill>
        <p:spPr>
          <a:xfrm>
            <a:off x="4788000" y="2276640"/>
            <a:ext cx="4032000" cy="301572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Garamond"/>
                <a:ea typeface="Arial"/>
              </a:rPr>
              <a:t>  </a:t>
            </a:r>
            <a:r>
              <a:rPr b="1" i="1" lang="ru-RU" sz="4800" spc="-1" strike="noStrike">
                <a:solidFill>
                  <a:srgbClr val="663300"/>
                </a:solidFill>
                <a:latin typeface="Times New Roman"/>
                <a:ea typeface="Arial"/>
              </a:rPr>
              <a:t>Подскажи словечко!</a:t>
            </a:r>
            <a:endParaRPr b="0" lang="ru-RU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762080" cy="463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br>
              <a:rPr sz="1800"/>
            </a:b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Arial"/>
              </a:rPr>
              <a:t>Родила царица в ночь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Arial"/>
              </a:rPr>
              <a:t>Не то сына, не то дочь...</a:t>
            </a: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4b2500"/>
                </a:solidFill>
                <a:latin typeface="Times New Roman"/>
                <a:ea typeface="Arial"/>
              </a:rPr>
              <a:t>      </a:t>
            </a:r>
            <a:r>
              <a:rPr b="1" i="1" lang="ru-RU" sz="1800" spc="-1" strike="noStrike">
                <a:solidFill>
                  <a:srgbClr val="4b2500"/>
                </a:solidFill>
                <a:latin typeface="Times New Roman"/>
                <a:ea typeface="Arial"/>
              </a:rPr>
              <a:t>Не мышонка, не лягушку, // </a:t>
            </a:r>
            <a:br>
              <a:rPr sz="1800"/>
            </a:br>
            <a:r>
              <a:rPr b="1" i="1" lang="ru-RU" sz="1800" spc="-1" strike="noStrike">
                <a:solidFill>
                  <a:srgbClr val="4b2500"/>
                </a:solidFill>
                <a:latin typeface="Times New Roman"/>
                <a:ea typeface="Arial"/>
              </a:rPr>
              <a:t>А неведому зверюшку. </a:t>
            </a:r>
            <a:br>
              <a:rPr sz="1800"/>
            </a:b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4b2500"/>
                </a:solidFill>
                <a:latin typeface="Times New Roman"/>
                <a:ea typeface="Arial"/>
              </a:rPr>
              <a:t>(«Сказка о царе Салтане».)</a:t>
            </a: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Arial"/>
              </a:rPr>
              <a:t>И соседи присмирели,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Arial"/>
              </a:rPr>
              <a:t>Воевать уже не смели;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Arial"/>
              </a:rPr>
              <a:t>Таковой им царь Дадон...</a:t>
            </a: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4b2500"/>
                </a:solidFill>
                <a:latin typeface="Times New Roman"/>
                <a:ea typeface="Arial"/>
              </a:rPr>
              <a:t>      </a:t>
            </a:r>
            <a:r>
              <a:rPr b="1" i="1" lang="ru-RU" sz="1800" spc="-1" strike="noStrike">
                <a:solidFill>
                  <a:srgbClr val="4b2500"/>
                </a:solidFill>
                <a:latin typeface="Times New Roman"/>
                <a:ea typeface="Arial"/>
              </a:rPr>
              <a:t>Дал отпор со всех сторон. </a:t>
            </a:r>
            <a:br>
              <a:rPr sz="1800"/>
            </a:b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4b2500"/>
                </a:solidFill>
                <a:latin typeface="Times New Roman"/>
                <a:ea typeface="Arial"/>
              </a:rPr>
              <a:t>(«Сказка о золотом петушке».)</a:t>
            </a: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29" name="Picture 4" descr="2"/>
          <p:cNvPicPr/>
          <p:nvPr/>
        </p:nvPicPr>
        <p:blipFill>
          <a:blip r:embed="rId1"/>
          <a:stretch/>
        </p:blipFill>
        <p:spPr>
          <a:xfrm>
            <a:off x="2124000" y="6308640"/>
            <a:ext cx="5238360" cy="2854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539640" y="1628640"/>
            <a:ext cx="467964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endParaRPr b="1" i="1" lang="ru-RU" sz="2400" spc="-1" strike="noStrike">
              <a:solidFill>
                <a:srgbClr val="4b2500"/>
              </a:solidFill>
              <a:latin typeface="Times New Roman"/>
            </a:endParaRPr>
          </a:p>
        </p:txBody>
      </p:sp>
      <p:pic>
        <p:nvPicPr>
          <p:cNvPr id="331" name="Picture 6" descr="Пушкин"/>
          <p:cNvPicPr/>
          <p:nvPr/>
        </p:nvPicPr>
        <p:blipFill>
          <a:blip r:embed="rId2"/>
          <a:stretch/>
        </p:blipFill>
        <p:spPr>
          <a:xfrm>
            <a:off x="893880" y="404640"/>
            <a:ext cx="725040" cy="936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Блокнот Палех Посказкам Пушкина"/>
          <p:cNvPicPr/>
          <p:nvPr/>
        </p:nvPicPr>
        <p:blipFill>
          <a:blip r:embed="rId3"/>
          <a:stretch/>
        </p:blipFill>
        <p:spPr>
          <a:xfrm>
            <a:off x="4500720" y="1700280"/>
            <a:ext cx="4109760" cy="417636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345080" cy="77760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Times New Roman"/>
                <a:ea typeface="Arial"/>
              </a:rPr>
              <a:t>Вопросы царя Дадона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7067160" cy="460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В дорогой собольей душегрейке,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Парчовая на маковке кичка,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Жемчуга огрузили шею,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На руках золотые перстни,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На ногах красивые сапожки. 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(Старуха из “Сказки о рыбаке и рыбке”) 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Соку спелого полно,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Так свежо и так душисто,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Так румяно, золотисто,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Будто медом налилось!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Видны семечки насквозь...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О каком фрукте идет речь и из какой сказки?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Times New Roman"/>
                <a:ea typeface="Arial"/>
              </a:rPr>
              <a:t>(Яблоко. “Сказка о мертвой царевне и о семи богатырях”)</a:t>
            </a:r>
            <a:endParaRPr b="0" lang="ru-RU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35" name="Picture 4" descr="{82EB22D0-9B30-4F4B-B8A7-F35E7D6ADB53}"/>
          <p:cNvPicPr/>
          <p:nvPr/>
        </p:nvPicPr>
        <p:blipFill>
          <a:blip r:embed="rId1"/>
          <a:srcRect l="16698" t="12534" r="7195" b="28805"/>
          <a:stretch/>
        </p:blipFill>
        <p:spPr>
          <a:xfrm>
            <a:off x="6156360" y="1413000"/>
            <a:ext cx="2520720" cy="189036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  <p:pic>
        <p:nvPicPr>
          <p:cNvPr id="336" name="Picture 5" descr="28"/>
          <p:cNvPicPr/>
          <p:nvPr/>
        </p:nvPicPr>
        <p:blipFill>
          <a:blip r:embed="rId2"/>
          <a:stretch/>
        </p:blipFill>
        <p:spPr>
          <a:xfrm>
            <a:off x="6372360" y="3716280"/>
            <a:ext cx="2376000" cy="18666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2"/>
          <p:cNvPicPr/>
          <p:nvPr/>
        </p:nvPicPr>
        <p:blipFill>
          <a:blip r:embed="rId3"/>
          <a:stretch/>
        </p:blipFill>
        <p:spPr>
          <a:xfrm>
            <a:off x="1979640" y="6237360"/>
            <a:ext cx="5238360" cy="285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Светлана Макрушина Золотой петушок"/>
          <p:cNvPicPr/>
          <p:nvPr/>
        </p:nvPicPr>
        <p:blipFill>
          <a:blip r:embed="rId4"/>
          <a:stretch/>
        </p:blipFill>
        <p:spPr>
          <a:xfrm>
            <a:off x="971640" y="333360"/>
            <a:ext cx="556920" cy="64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Garamond"/>
                <a:ea typeface="Arial"/>
              </a:rPr>
              <a:t>По знакомому портрету догадайся, кто же это?..</a:t>
            </a:r>
            <a:endParaRPr b="0" lang="ru-RU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40" name="Picture 3" descr="2"/>
          <p:cNvPicPr/>
          <p:nvPr/>
        </p:nvPicPr>
        <p:blipFill>
          <a:blip r:embed="rId1"/>
          <a:stretch/>
        </p:blipFill>
        <p:spPr>
          <a:xfrm>
            <a:off x="2124000" y="6308640"/>
            <a:ext cx="5238360" cy="2854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2"/>
          <p:cNvSpPr/>
          <p:nvPr/>
        </p:nvSpPr>
        <p:spPr>
          <a:xfrm>
            <a:off x="611280" y="1692360"/>
            <a:ext cx="4752720" cy="40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Тихомолком расцветая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ежду тем росла, росла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днялась — и расцвела.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Белолица, черноброва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раву кроткого та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Times New Roman"/>
              </a:rPr>
              <a:t>(Царевна. </a:t>
            </a:r>
            <a:br>
              <a:rPr sz="2400"/>
            </a:br>
            <a:r>
              <a:rPr b="1" i="1" lang="ru-RU" sz="2400" spc="-1" strike="noStrike">
                <a:solidFill>
                  <a:srgbClr val="4b2500"/>
                </a:solidFill>
                <a:latin typeface="Times New Roman"/>
              </a:rPr>
              <a:t>«Сказка о мёртвой царевне...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есяц под косой блестит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А во лбу звезда горит.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А сама-то величава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ыступает, будто п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Times New Roman"/>
              </a:rPr>
              <a:t>(Царевна-Лебедь. </a:t>
            </a:r>
            <a:br>
              <a:rPr sz="2400"/>
            </a:br>
            <a:r>
              <a:rPr b="1" i="1" lang="ru-RU" sz="2400" spc="-1" strike="noStrike">
                <a:solidFill>
                  <a:srgbClr val="4b2500"/>
                </a:solidFill>
                <a:latin typeface="Times New Roman"/>
              </a:rPr>
              <a:t>«Сказка о царе Салтане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3" descr="Сказка о царе Салтане"/>
          <p:cNvPicPr/>
          <p:nvPr/>
        </p:nvPicPr>
        <p:blipFill>
          <a:blip r:embed="rId2"/>
          <a:stretch/>
        </p:blipFill>
        <p:spPr>
          <a:xfrm>
            <a:off x="6877080" y="3716280"/>
            <a:ext cx="1684080" cy="224604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  <p:pic>
        <p:nvPicPr>
          <p:cNvPr id="343" name="Picture 15" descr="Сказка о мёртвой царевне"/>
          <p:cNvPicPr/>
          <p:nvPr/>
        </p:nvPicPr>
        <p:blipFill>
          <a:blip r:embed="rId3"/>
          <a:stretch/>
        </p:blipFill>
        <p:spPr>
          <a:xfrm>
            <a:off x="5292720" y="1700280"/>
            <a:ext cx="1831680" cy="183168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35520" cy="114264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Times New Roman"/>
                <a:ea typeface="Arial"/>
              </a:rPr>
              <a:t>По знакомому портрету догадайся, кто же это?..</a:t>
            </a:r>
            <a:endParaRPr b="0" lang="ru-RU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45" name="Picture 3" descr="2"/>
          <p:cNvPicPr/>
          <p:nvPr/>
        </p:nvPicPr>
        <p:blipFill>
          <a:blip r:embed="rId1"/>
          <a:stretch/>
        </p:blipFill>
        <p:spPr>
          <a:xfrm>
            <a:off x="2124000" y="6308640"/>
            <a:ext cx="5238360" cy="2854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539640" y="1628640"/>
            <a:ext cx="4679640" cy="43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дорогой собольей душегрейке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арчовая на маковке кичка.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Жемчуги огрузили шею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а руках золотые перстни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а ногах красные сап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Times New Roman"/>
              </a:rPr>
              <a:t>(Старуха — столбовая дворянка. «Сказка о рыбаке и рыбке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ысока, стройна, бела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И умом, и всем взяла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о зато горда, ломлива,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военравна и ревн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Times New Roman"/>
              </a:rPr>
              <a:t>(Царица-мачеха. </a:t>
            </a:r>
            <a:br>
              <a:rPr sz="2400"/>
            </a:br>
            <a:r>
              <a:rPr b="1" i="1" lang="ru-RU" sz="2400" spc="-1" strike="noStrike">
                <a:solidFill>
                  <a:srgbClr val="4b2500"/>
                </a:solidFill>
                <a:latin typeface="Times New Roman"/>
              </a:rPr>
              <a:t>«Сказка о мёртвой царевне...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Сказка о мёртвой царевне4"/>
          <p:cNvPicPr/>
          <p:nvPr/>
        </p:nvPicPr>
        <p:blipFill>
          <a:blip r:embed="rId2"/>
          <a:stretch/>
        </p:blipFill>
        <p:spPr>
          <a:xfrm>
            <a:off x="6877080" y="3573360"/>
            <a:ext cx="1991880" cy="257940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  <p:pic>
        <p:nvPicPr>
          <p:cNvPr id="348" name="Picture 6" descr="{82EB22D0-9B30-4F4B-B8A7-F35E7D6ADB53}"/>
          <p:cNvPicPr/>
          <p:nvPr/>
        </p:nvPicPr>
        <p:blipFill>
          <a:blip r:embed="rId3"/>
          <a:stretch/>
        </p:blipFill>
        <p:spPr>
          <a:xfrm>
            <a:off x="5292720" y="1711440"/>
            <a:ext cx="2269800" cy="220788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929360" cy="122364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4b2500"/>
                </a:solidFill>
                <a:latin typeface="Times New Roman"/>
                <a:ea typeface="Arial"/>
              </a:rPr>
              <a:t>«Что за прелесть эти сказки! Каждая есть поэма!»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50" name="Picture 3" descr="9"/>
          <p:cNvPicPr/>
          <p:nvPr/>
        </p:nvPicPr>
        <p:blipFill>
          <a:blip r:embed="rId1"/>
          <a:stretch/>
        </p:blipFill>
        <p:spPr>
          <a:xfrm>
            <a:off x="324000" y="1484280"/>
            <a:ext cx="3168360" cy="2426760"/>
          </a:xfrm>
          <a:prstGeom prst="rect">
            <a:avLst/>
          </a:prstGeom>
          <a:ln w="9525">
            <a:noFill/>
          </a:ln>
        </p:spPr>
      </p:pic>
      <p:pic>
        <p:nvPicPr>
          <p:cNvPr id="351" name="Picture 4" descr="119"/>
          <p:cNvPicPr/>
          <p:nvPr/>
        </p:nvPicPr>
        <p:blipFill>
          <a:blip r:embed="rId2"/>
          <a:srcRect l="0" t="0" r="52" b="5733"/>
          <a:stretch/>
        </p:blipFill>
        <p:spPr>
          <a:xfrm>
            <a:off x="5580000" y="1484280"/>
            <a:ext cx="3168360" cy="237600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  <p:pic>
        <p:nvPicPr>
          <p:cNvPr id="352" name="Picture 5" descr="139"/>
          <p:cNvPicPr/>
          <p:nvPr/>
        </p:nvPicPr>
        <p:blipFill>
          <a:blip r:embed="rId3"/>
          <a:stretch/>
        </p:blipFill>
        <p:spPr>
          <a:xfrm>
            <a:off x="324000" y="4149720"/>
            <a:ext cx="3168360" cy="2420640"/>
          </a:xfrm>
          <a:prstGeom prst="rect">
            <a:avLst/>
          </a:prstGeom>
          <a:ln w="9525">
            <a:noFill/>
          </a:ln>
        </p:spPr>
      </p:pic>
      <p:pic>
        <p:nvPicPr>
          <p:cNvPr id="353" name="Picture 6" descr="13"/>
          <p:cNvPicPr/>
          <p:nvPr/>
        </p:nvPicPr>
        <p:blipFill>
          <a:blip r:embed="rId4"/>
          <a:stretch/>
        </p:blipFill>
        <p:spPr>
          <a:xfrm>
            <a:off x="5651640" y="4149720"/>
            <a:ext cx="3168360" cy="2385720"/>
          </a:xfrm>
          <a:prstGeom prst="rect">
            <a:avLst/>
          </a:prstGeom>
          <a:ln w="9525">
            <a:noFill/>
          </a:ln>
        </p:spPr>
      </p:pic>
      <p:pic>
        <p:nvPicPr>
          <p:cNvPr id="354" name="Picture 7" descr="38"/>
          <p:cNvPicPr/>
          <p:nvPr/>
        </p:nvPicPr>
        <p:blipFill>
          <a:blip r:embed="rId5"/>
          <a:stretch/>
        </p:blipFill>
        <p:spPr>
          <a:xfrm>
            <a:off x="3059280" y="2852640"/>
            <a:ext cx="3168360" cy="24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129080" cy="85068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Times New Roman"/>
                <a:ea typeface="Arial"/>
              </a:rPr>
              <a:t>ЛУКОМОРЬЕ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56" name="Picture 4" descr="Безымянный"/>
          <p:cNvPicPr/>
          <p:nvPr/>
        </p:nvPicPr>
        <p:blipFill>
          <a:blip r:embed="rId1"/>
          <a:stretch/>
        </p:blipFill>
        <p:spPr>
          <a:xfrm>
            <a:off x="2556000" y="6308640"/>
            <a:ext cx="4032000" cy="310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{4DAF8CF8-A2C5-438A-AB07-3B7F6555E063}"/>
          <p:cNvPicPr/>
          <p:nvPr/>
        </p:nvPicPr>
        <p:blipFill>
          <a:blip r:embed="rId2"/>
          <a:stretch/>
        </p:blipFill>
        <p:spPr>
          <a:xfrm>
            <a:off x="1476360" y="1268280"/>
            <a:ext cx="619236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C:\Documents and Settings\User\Рабочий стол\lukomor[1].jpg"/>
          <p:cNvPicPr/>
          <p:nvPr/>
        </p:nvPicPr>
        <p:blipFill>
          <a:blip r:embed="rId1"/>
          <a:stretch/>
        </p:blipFill>
        <p:spPr>
          <a:xfrm>
            <a:off x="533520" y="304920"/>
            <a:ext cx="4723920" cy="5790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2"/>
          <p:cNvSpPr/>
          <p:nvPr/>
        </p:nvSpPr>
        <p:spPr>
          <a:xfrm>
            <a:off x="5703120" y="1676520"/>
            <a:ext cx="26791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entury"/>
              </a:rPr>
              <a:t>У лукоморья д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Century"/>
              </a:rPr>
              <a:t>зеле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5486400" y="685800"/>
            <a:ext cx="3462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entury"/>
              </a:rPr>
              <a:t>Какими словами начин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entury"/>
              </a:rPr>
              <a:t>сказка (вступление к поэме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5253120" y="3124080"/>
            <a:ext cx="3806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entury"/>
              </a:rPr>
              <a:t>Какую бы иллюстрацию в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entury"/>
              </a:rPr>
              <a:t>ребята, нарисов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C:\Documents and Settings\User\Рабочий стол\01lab3qpd1225447956[1].jpg"/>
          <p:cNvPicPr/>
          <p:nvPr/>
        </p:nvPicPr>
        <p:blipFill>
          <a:blip r:embed="rId1"/>
          <a:stretch/>
        </p:blipFill>
        <p:spPr>
          <a:xfrm>
            <a:off x="609480" y="228600"/>
            <a:ext cx="7619760" cy="57146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2"/>
          <p:cNvSpPr/>
          <p:nvPr/>
        </p:nvSpPr>
        <p:spPr>
          <a:xfrm>
            <a:off x="1607040" y="6172200"/>
            <a:ext cx="575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Century"/>
              </a:rPr>
              <a:t>Как вы думаете, каким будет следующий кад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:\Documents and Settings\User\Рабочий стол\1240204578_07c[1].jpg"/>
          <p:cNvPicPr/>
          <p:nvPr/>
        </p:nvPicPr>
        <p:blipFill>
          <a:blip r:embed="rId1"/>
          <a:stretch/>
        </p:blipFill>
        <p:spPr>
          <a:xfrm>
            <a:off x="3733920" y="380880"/>
            <a:ext cx="4876560" cy="601956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-137880" y="1676520"/>
            <a:ext cx="4120560" cy="24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entury"/>
                <a:ea typeface="Arial"/>
              </a:rPr>
              <a:t>Там чуде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entury"/>
                <a:ea typeface="Arial"/>
              </a:rPr>
              <a:t>там леший бр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entury"/>
                <a:ea typeface="Arial"/>
              </a:rPr>
              <a:t>Русалка на ветвях си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107280" y="762120"/>
            <a:ext cx="34333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"/>
              </a:rPr>
              <a:t>Какие строчки подойд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Century"/>
              </a:rPr>
              <a:t>к данному кадр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3"/>
          <p:cNvSpPr/>
          <p:nvPr/>
        </p:nvSpPr>
        <p:spPr>
          <a:xfrm>
            <a:off x="468360" y="5950080"/>
            <a:ext cx="2879280" cy="8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4b25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b2500"/>
                </a:solidFill>
                <a:latin typeface="Times New Roman"/>
              </a:rPr>
              <a:t>Пушкин-ребен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4788000" y="620640"/>
            <a:ext cx="39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ru-RU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3814920" y="981000"/>
            <a:ext cx="5328720" cy="505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  <a:ea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4b2500"/>
                </a:solidFill>
                <a:latin typeface="Times New Roman"/>
                <a:ea typeface="Arial"/>
              </a:rPr>
              <a:t>Пушкин родился 26 мая 1799 го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4b2500"/>
                </a:solidFill>
                <a:latin typeface="Times New Roman"/>
                <a:ea typeface="Arial"/>
              </a:rPr>
              <a:t>Детские годы Пушкина протекли в Москв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{4B1C5B67-A98F-472E-BA07-2DB512D477D0}"/>
          <p:cNvPicPr/>
          <p:nvPr/>
        </p:nvPicPr>
        <p:blipFill>
          <a:blip r:embed="rId1"/>
          <a:stretch/>
        </p:blipFill>
        <p:spPr>
          <a:xfrm>
            <a:off x="250920" y="1197000"/>
            <a:ext cx="3476160" cy="4536720"/>
          </a:xfrm>
          <a:prstGeom prst="rect">
            <a:avLst/>
          </a:prstGeom>
          <a:ln w="28575">
            <a:solidFill>
              <a:srgbClr val="ffffff"/>
            </a:solidFill>
            <a:miter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080" cy="71892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Times New Roman"/>
                <a:ea typeface="Arial"/>
              </a:rPr>
              <a:t>Детские годы</a:t>
            </a:r>
            <a:endParaRPr b="0" lang="ru-RU" sz="4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Documents and Settings\User\Рабочий стол\1212276286_i-196[1].jpg"/>
          <p:cNvPicPr/>
          <p:nvPr/>
        </p:nvPicPr>
        <p:blipFill>
          <a:blip r:embed="rId1"/>
          <a:stretch/>
        </p:blipFill>
        <p:spPr>
          <a:xfrm>
            <a:off x="304920" y="228600"/>
            <a:ext cx="3114360" cy="4762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C:\Documents and Settings\User\Рабочий стол\411526[1].jpg"/>
          <p:cNvPicPr/>
          <p:nvPr/>
        </p:nvPicPr>
        <p:blipFill>
          <a:blip r:embed="rId2"/>
          <a:stretch/>
        </p:blipFill>
        <p:spPr>
          <a:xfrm>
            <a:off x="2743200" y="4572000"/>
            <a:ext cx="2742840" cy="2057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Картинка 5 из 469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57200"/>
            <a:ext cx="3047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C:\Documents and Settings\User\Рабочий стол\лукоморье\05labelan1231806414[1].jpg"/>
          <p:cNvPicPr/>
          <p:nvPr/>
        </p:nvPicPr>
        <p:blipFill>
          <a:blip r:embed="rId1"/>
          <a:stretch/>
        </p:blipFill>
        <p:spPr>
          <a:xfrm rot="180000">
            <a:off x="609480" y="1295280"/>
            <a:ext cx="609552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4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Documents and Settings\User\Рабочий стол\06labelan1231806415[1].jpg"/>
          <p:cNvPicPr/>
          <p:nvPr/>
        </p:nvPicPr>
        <p:blipFill>
          <a:blip r:embed="rId1"/>
          <a:stretch/>
        </p:blipFill>
        <p:spPr>
          <a:xfrm>
            <a:off x="457200" y="838080"/>
            <a:ext cx="7009920" cy="50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C:\Documents and Settings\User\Рабочий стол\лукоморье\02labpcrk1221205771[1].jpg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6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C:\Documents and Settings\User\Рабочий стол\1759215[1].jpg"/>
          <p:cNvPicPr/>
          <p:nvPr/>
        </p:nvPicPr>
        <p:blipFill>
          <a:blip r:embed="rId1"/>
          <a:stretch/>
        </p:blipFill>
        <p:spPr>
          <a:xfrm>
            <a:off x="380880" y="380880"/>
            <a:ext cx="838152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Село Захарово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4b2500"/>
                </a:solidFill>
                <a:latin typeface="Garamond"/>
                <a:ea typeface="Arial"/>
              </a:rPr>
              <a:t>Летом Пушкина увозили в Захарово подмосковную деревню бабушки. 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57120" y="1785960"/>
            <a:ext cx="4138200" cy="3928680"/>
          </a:xfrm>
          <a:prstGeom prst="rect">
            <a:avLst/>
          </a:prstGeom>
          <a:ln w="9525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Родители   поэта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876240" y="1714680"/>
            <a:ext cx="3403080" cy="4428720"/>
          </a:xfrm>
          <a:prstGeom prst="rect">
            <a:avLst/>
          </a:prstGeom>
          <a:ln w="9525">
            <a:solidFill>
              <a:srgbClr val="663300"/>
            </a:solidFill>
            <a:miter/>
          </a:ln>
        </p:spPr>
      </p:pic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4857840" y="1643040"/>
            <a:ext cx="3285720" cy="4538160"/>
          </a:xfrm>
          <a:prstGeom prst="rect">
            <a:avLst/>
          </a:prstGeom>
          <a:ln w="0">
            <a:solidFill>
              <a:srgbClr val="66330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Мария Алексеевна Ганнибал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4b2500"/>
                </a:solidFill>
                <a:latin typeface="Garamond"/>
                <a:ea typeface="Arial"/>
              </a:rPr>
              <a:t>Бабушка  </a:t>
            </a:r>
            <a:endParaRPr b="0" lang="ru-RU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4b2500"/>
                </a:solidFill>
                <a:latin typeface="Garamond"/>
                <a:ea typeface="Arial"/>
              </a:rPr>
              <a:t>А.С. Пушкина</a:t>
            </a:r>
            <a:endParaRPr b="0" lang="ru-RU" sz="4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857160" y="1643040"/>
            <a:ext cx="3079440" cy="4500360"/>
          </a:xfrm>
          <a:prstGeom prst="rect">
            <a:avLst/>
          </a:prstGeom>
          <a:ln w="9525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Арина Родионовна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4b2500"/>
                </a:solidFill>
                <a:latin typeface="Garamond"/>
                <a:ea typeface="Arial"/>
              </a:rPr>
              <a:t>Няня</a:t>
            </a:r>
            <a:endParaRPr b="0" lang="ru-RU" sz="4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4b2500"/>
                </a:solidFill>
                <a:latin typeface="Garamond"/>
                <a:ea typeface="Arial"/>
              </a:rPr>
              <a:t>А.С. Пушкина</a:t>
            </a:r>
            <a:endParaRPr b="0" lang="ru-RU" sz="4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3476160" cy="4635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464"/>
          <p:cNvPicPr/>
          <p:nvPr/>
        </p:nvPicPr>
        <p:blipFill>
          <a:blip r:embed="rId1"/>
          <a:stretch/>
        </p:blipFill>
        <p:spPr>
          <a:xfrm>
            <a:off x="4859280" y="765000"/>
            <a:ext cx="3828600" cy="3960360"/>
          </a:xfrm>
          <a:prstGeom prst="rect">
            <a:avLst/>
          </a:prstGeom>
          <a:ln w="57150">
            <a:solidFill>
              <a:srgbClr val="ffffff"/>
            </a:solidFill>
            <a:miter/>
          </a:ln>
        </p:spPr>
      </p:pic>
      <p:sp>
        <p:nvSpPr>
          <p:cNvPr id="287" name="Text Box 3"/>
          <p:cNvSpPr/>
          <p:nvPr/>
        </p:nvSpPr>
        <p:spPr>
          <a:xfrm>
            <a:off x="5076720" y="4797360"/>
            <a:ext cx="3382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4b25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b2500"/>
                </a:solidFill>
                <a:latin typeface="Times New Roman"/>
              </a:rPr>
              <a:t>Пушкин-мальчик. 181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179280" y="365040"/>
            <a:ext cx="4465440" cy="36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4b2500"/>
                </a:solidFill>
                <a:latin typeface="Times New Roman"/>
              </a:rPr>
              <a:t>Многие часы Пушкин проводил в библиотеках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Безымянный"/>
          <p:cNvPicPr/>
          <p:nvPr/>
        </p:nvPicPr>
        <p:blipFill>
          <a:blip r:embed="rId2"/>
          <a:stretch/>
        </p:blipFill>
        <p:spPr>
          <a:xfrm>
            <a:off x="5796000" y="5589720"/>
            <a:ext cx="194292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Царское село</a:t>
            </a:r>
            <a:br>
              <a:rPr sz="4400"/>
            </a:br>
            <a:r>
              <a:rPr b="1" lang="ru-RU" sz="4400" spc="-1" strike="noStrike">
                <a:solidFill>
                  <a:srgbClr val="a69564"/>
                </a:solidFill>
                <a:latin typeface="Garamond"/>
                <a:ea typeface="Arial"/>
              </a:rPr>
              <a:t>ЛИЦЕЙ</a:t>
            </a:r>
            <a:endParaRPr b="0" lang="ru-RU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b2500"/>
              </a:solidFill>
              <a:latin typeface="Garamond"/>
              <a:ea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7294320" cy="46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чение">
  <a:themeElements>
    <a:clrScheme name="Течение 8">
      <a:dk1>
        <a:srgbClr val="4b2500"/>
      </a:dk1>
      <a:lt1>
        <a:srgbClr val="f9f0d3"/>
      </a:lt1>
      <a:dk2>
        <a:srgbClr val="a69564"/>
      </a:dk2>
      <a:lt2>
        <a:srgbClr val="efdeaf"/>
      </a:lt2>
      <a:accent1>
        <a:srgbClr val="ffffe3"/>
      </a:accent1>
      <a:accent2>
        <a:srgbClr val="bfbfa7"/>
      </a:accent2>
      <a:accent3>
        <a:srgbClr val="fbf6e6"/>
      </a:accent3>
      <a:accent4>
        <a:srgbClr val="3f1e00"/>
      </a:accent4>
      <a:accent5>
        <a:srgbClr val="ffffef"/>
      </a:accent5>
      <a:accent6>
        <a:srgbClr val="adad97"/>
      </a:accent6>
      <a:hlink>
        <a:srgbClr val="7b6d47"/>
      </a:hlink>
      <a:folHlink>
        <a:srgbClr val="a99d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чение">
  <a:themeElements>
    <a:clrScheme name="Течение 8">
      <a:dk1>
        <a:srgbClr val="4b2500"/>
      </a:dk1>
      <a:lt1>
        <a:srgbClr val="f9f0d3"/>
      </a:lt1>
      <a:dk2>
        <a:srgbClr val="a69564"/>
      </a:dk2>
      <a:lt2>
        <a:srgbClr val="efdeaf"/>
      </a:lt2>
      <a:accent1>
        <a:srgbClr val="ffffe3"/>
      </a:accent1>
      <a:accent2>
        <a:srgbClr val="bfbfa7"/>
      </a:accent2>
      <a:accent3>
        <a:srgbClr val="fbf6e6"/>
      </a:accent3>
      <a:accent4>
        <a:srgbClr val="3f1e00"/>
      </a:accent4>
      <a:accent5>
        <a:srgbClr val="ffffef"/>
      </a:accent5>
      <a:accent6>
        <a:srgbClr val="adad97"/>
      </a:accent6>
      <a:hlink>
        <a:srgbClr val="7b6d47"/>
      </a:hlink>
      <a:folHlink>
        <a:srgbClr val="a99d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чение">
  <a:themeElements>
    <a:clrScheme name="Течение 8">
      <a:dk1>
        <a:srgbClr val="4b2500"/>
      </a:dk1>
      <a:lt1>
        <a:srgbClr val="f9f0d3"/>
      </a:lt1>
      <a:dk2>
        <a:srgbClr val="a69564"/>
      </a:dk2>
      <a:lt2>
        <a:srgbClr val="efdeaf"/>
      </a:lt2>
      <a:accent1>
        <a:srgbClr val="ffffe3"/>
      </a:accent1>
      <a:accent2>
        <a:srgbClr val="bfbfa7"/>
      </a:accent2>
      <a:accent3>
        <a:srgbClr val="fbf6e6"/>
      </a:accent3>
      <a:accent4>
        <a:srgbClr val="3f1e00"/>
      </a:accent4>
      <a:accent5>
        <a:srgbClr val="ffffef"/>
      </a:accent5>
      <a:accent6>
        <a:srgbClr val="adad97"/>
      </a:accent6>
      <a:hlink>
        <a:srgbClr val="7b6d47"/>
      </a:hlink>
      <a:folHlink>
        <a:srgbClr val="a99d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чение">
  <a:themeElements>
    <a:clrScheme name="Течение 8">
      <a:dk1>
        <a:srgbClr val="4b2500"/>
      </a:dk1>
      <a:lt1>
        <a:srgbClr val="f9f0d3"/>
      </a:lt1>
      <a:dk2>
        <a:srgbClr val="a69564"/>
      </a:dk2>
      <a:lt2>
        <a:srgbClr val="efdeaf"/>
      </a:lt2>
      <a:accent1>
        <a:srgbClr val="ffffe3"/>
      </a:accent1>
      <a:accent2>
        <a:srgbClr val="bfbfa7"/>
      </a:accent2>
      <a:accent3>
        <a:srgbClr val="fbf6e6"/>
      </a:accent3>
      <a:accent4>
        <a:srgbClr val="3f1e00"/>
      </a:accent4>
      <a:accent5>
        <a:srgbClr val="ffffef"/>
      </a:accent5>
      <a:accent6>
        <a:srgbClr val="adad97"/>
      </a:accent6>
      <a:hlink>
        <a:srgbClr val="7b6d47"/>
      </a:hlink>
      <a:folHlink>
        <a:srgbClr val="a99d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чение">
  <a:themeElements>
    <a:clrScheme name="Течение 8">
      <a:dk1>
        <a:srgbClr val="4b2500"/>
      </a:dk1>
      <a:lt1>
        <a:srgbClr val="f9f0d3"/>
      </a:lt1>
      <a:dk2>
        <a:srgbClr val="a69564"/>
      </a:dk2>
      <a:lt2>
        <a:srgbClr val="efdeaf"/>
      </a:lt2>
      <a:accent1>
        <a:srgbClr val="ffffe3"/>
      </a:accent1>
      <a:accent2>
        <a:srgbClr val="bfbfa7"/>
      </a:accent2>
      <a:accent3>
        <a:srgbClr val="fbf6e6"/>
      </a:accent3>
      <a:accent4>
        <a:srgbClr val="3f1e00"/>
      </a:accent4>
      <a:accent5>
        <a:srgbClr val="ffffef"/>
      </a:accent5>
      <a:accent6>
        <a:srgbClr val="adad97"/>
      </a:accent6>
      <a:hlink>
        <a:srgbClr val="7b6d47"/>
      </a:hlink>
      <a:folHlink>
        <a:srgbClr val="a99d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  <Paragraphs>71</Paragraphs>
  <Company>38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3:08:00Z</dcterms:created>
  <dc:creator>Шонины</dc:creator>
  <dc:description/>
  <dc:language>en-US</dc:language>
  <cp:lastModifiedBy>PSB</cp:lastModifiedBy>
  <dcterms:modified xsi:type="dcterms:W3CDTF">2023-05-16T14:22:21Z</dcterms:modified>
  <cp:revision>41</cp:revision>
  <dc:subject/>
  <dc:title>Александр Сергеевич Пушкин (1799-1837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4</vt:r8>
  </property>
</Properties>
</file>