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5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3B62-2557-4D91-A1A6-B05EB838F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B5BF-39EE-4388-A911-E0F3103E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1FBA-A41A-4FEA-8F9D-B896D28D5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96BD-04BE-4F4D-8716-F85B7D23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E2696-836B-4B9B-9851-E251254F1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F1CFE-DE07-4F42-B6FF-1F46C4AE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17D14-E995-432F-A83C-D96CA38F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7294F-12FB-4FD2-81B0-0594CEA2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68883-B116-40B2-A812-49584E47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0E5090-FC30-4FF8-9B6B-4D88F7B3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1058A-480E-41EF-BE04-EFDE8885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D056-B58F-4E61-AD87-A95A1995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7D11B-256D-46DD-8037-8B0E7362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89EEB-5C9B-44BC-8F0E-F6FCCA47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39A8E-7C29-4F0F-8FA2-75927C21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45941-F7A7-4471-8094-2E63F9A4B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822D5-8DD1-4FAD-902A-611C98A7F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0042AF-6262-4EA6-8FA1-A742D9DA6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D98032-C714-48F1-81CD-E0D3E710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4EB1F9-D753-4C25-8580-F2A83260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F3BED1-9559-470D-A78A-33642E5F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919165-10CB-4A67-8D23-DF21B220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8181-5739-475E-884E-48FCC968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1B7AA7-3BC5-4DC2-B5DA-060C1030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DA7FCA-63C4-4B0C-B5CE-08692E89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E68536-8244-4951-90C1-45A8DA9E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A2B03E-DE1B-4EBA-AA00-F0FDA88F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57E21C-03CE-4B96-A5A2-C5E548A6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33ABEA-02E9-4DC6-B96C-6420161F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0F94EA-C09D-4DEC-9C9D-DA96A0DB7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57FBA2-D6EE-439F-B072-A52C64EF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A6D1A5-77AE-4A42-BE91-F895879C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4F928A-F292-41CF-B0B7-2C5ED5E8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EC4C-A337-40A2-A4E9-47372E2B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356C82-5DC8-488E-92A8-A74781BA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C74911-FC98-4176-A40F-E9DCBF3F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D42D7E-505D-4B6C-8EE8-404801D7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E44ACB-DED9-4966-9456-2F0881AC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DCA279-9A6D-4F94-84E1-0523A0C1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A402B3-00E9-44B8-AA9A-B25F64BA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E5A571-5CE2-4D1A-A105-36797C95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37C853-451A-4602-BD04-82FB0A15F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896529-0450-4D55-8772-02FF1D3DF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4B6397-5FF0-4328-8590-E42611EBC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87AF-F9C1-4689-ABB2-AE8EC263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7B8E6C-90BE-4C78-B014-B1B466E1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7654F1-04F7-44EB-9516-486B106A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2DF523-E40C-44D3-9815-C82F327A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C6352B-0906-4031-8C58-23F4960A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890729-E772-4642-AA1B-A2F74825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65B28D-D7D8-4D30-AE2F-E733BF92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BFBA79-8013-4E28-8BCF-E4D69A67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31617A-58C3-4052-B69E-31B96FC5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EA6979-606B-4DFD-BFF6-0C3D4A25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9B03E8-EC39-41E2-ADBD-915D10F75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B162-7EB7-4BE1-9629-2B023B3E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20F582-74C6-45F8-9B0F-40BCB14B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E87F-A022-43BB-A200-144CCE5E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8219-F800-421F-A11E-EDEEB01A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FD66-CAA5-43F8-9A17-159EF4A2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40400" cy="6849720"/>
            <a:chOff x="0" y="0"/>
            <a:chExt cx="9140400" cy="6849720"/>
          </a:xfrm>
        </p:grpSpPr>
        <p:grpSp>
          <p:nvGrpSpPr>
            <p:cNvPr id="1" name="Group 5"/>
            <p:cNvGrpSpPr/>
            <p:nvPr/>
          </p:nvGrpSpPr>
          <p:grpSpPr>
            <a:xfrm>
              <a:off x="2743200" y="3540240"/>
              <a:ext cx="6392520" cy="3309480"/>
              <a:chOff x="2743200" y="3540240"/>
              <a:chExt cx="6392520" cy="3309480"/>
            </a:xfrm>
          </p:grpSpPr>
          <p:sp>
            <p:nvSpPr>
              <p:cNvPr id="2" name="Freeform 6"/>
              <p:cNvSpPr/>
              <p:nvPr/>
            </p:nvSpPr>
            <p:spPr>
              <a:xfrm>
                <a:off x="2743200" y="4197240"/>
                <a:ext cx="4574880" cy="265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7"/>
              <p:cNvSpPr/>
              <p:nvPr/>
            </p:nvSpPr>
            <p:spPr>
              <a:xfrm>
                <a:off x="6620040" y="4240080"/>
                <a:ext cx="1998360" cy="128700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8"/>
              <p:cNvSpPr/>
              <p:nvPr/>
            </p:nvSpPr>
            <p:spPr>
              <a:xfrm>
                <a:off x="4603680" y="5311800"/>
                <a:ext cx="4522320" cy="15379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9"/>
              <p:cNvSpPr/>
              <p:nvPr/>
            </p:nvSpPr>
            <p:spPr>
              <a:xfrm>
                <a:off x="4362480" y="3540240"/>
                <a:ext cx="4773240" cy="330948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10"/>
              <p:cNvSpPr/>
              <p:nvPr/>
            </p:nvSpPr>
            <p:spPr>
              <a:xfrm>
                <a:off x="7145280" y="3678120"/>
                <a:ext cx="1980720" cy="85536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" name="Freeform 11"/>
            <p:cNvSpPr/>
            <p:nvPr/>
          </p:nvSpPr>
          <p:spPr>
            <a:xfrm>
              <a:off x="5273640" y="2128680"/>
              <a:ext cx="2896920" cy="243972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2"/>
            <p:cNvSpPr/>
            <p:nvPr/>
          </p:nvSpPr>
          <p:spPr>
            <a:xfrm>
              <a:off x="0" y="0"/>
              <a:ext cx="9140400" cy="281916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Group 2"/>
          <p:cNvGrpSpPr/>
          <p:nvPr/>
        </p:nvGrpSpPr>
        <p:grpSpPr>
          <a:xfrm>
            <a:off x="0" y="0"/>
            <a:ext cx="9140400" cy="6849720"/>
            <a:chOff x="0" y="0"/>
            <a:chExt cx="9140400" cy="6849720"/>
          </a:xfrm>
        </p:grpSpPr>
        <p:grpSp>
          <p:nvGrpSpPr>
            <p:cNvPr id="10" name="Group 3"/>
            <p:cNvGrpSpPr/>
            <p:nvPr/>
          </p:nvGrpSpPr>
          <p:grpSpPr>
            <a:xfrm>
              <a:off x="2743200" y="3540240"/>
              <a:ext cx="6392520" cy="3309480"/>
              <a:chOff x="2743200" y="3540240"/>
              <a:chExt cx="6392520" cy="3309480"/>
            </a:xfrm>
          </p:grpSpPr>
          <p:sp>
            <p:nvSpPr>
              <p:cNvPr id="11" name="Freeform 4"/>
              <p:cNvSpPr/>
              <p:nvPr/>
            </p:nvSpPr>
            <p:spPr>
              <a:xfrm>
                <a:off x="2743200" y="4197240"/>
                <a:ext cx="4574880" cy="265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5"/>
              <p:cNvSpPr/>
              <p:nvPr/>
            </p:nvSpPr>
            <p:spPr>
              <a:xfrm>
                <a:off x="6620040" y="4240080"/>
                <a:ext cx="1998360" cy="128700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6"/>
              <p:cNvSpPr/>
              <p:nvPr/>
            </p:nvSpPr>
            <p:spPr>
              <a:xfrm>
                <a:off x="4603680" y="5311800"/>
                <a:ext cx="4522320" cy="15379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7"/>
              <p:cNvSpPr/>
              <p:nvPr/>
            </p:nvSpPr>
            <p:spPr>
              <a:xfrm>
                <a:off x="4362480" y="3540240"/>
                <a:ext cx="4773240" cy="330948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8"/>
              <p:cNvSpPr/>
              <p:nvPr/>
            </p:nvSpPr>
            <p:spPr>
              <a:xfrm>
                <a:off x="7145280" y="3678120"/>
                <a:ext cx="1980720" cy="85536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" name="Freeform 9"/>
            <p:cNvSpPr/>
            <p:nvPr/>
          </p:nvSpPr>
          <p:spPr>
            <a:xfrm>
              <a:off x="5273640" y="2128680"/>
              <a:ext cx="2896920" cy="243972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0"/>
            <p:cNvSpPr/>
            <p:nvPr/>
          </p:nvSpPr>
          <p:spPr>
            <a:xfrm>
              <a:off x="0" y="0"/>
              <a:ext cx="9140400" cy="281916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040" cy="1920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6000" spc="-1" strike="noStrike">
                <a:solidFill>
                  <a:srgbClr val="a69564"/>
                </a:solidFill>
                <a:latin typeface="Garamond"/>
                <a:ea typeface="Arial"/>
              </a:rPr>
              <a:t>Образец заголовка</a:t>
            </a:r>
            <a:endParaRPr b="0" lang="ru-RU" sz="6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ftr" idx="2"/>
          </p:nvPr>
        </p:nvSpPr>
        <p:spPr>
          <a:xfrm>
            <a:off x="3124080" y="625140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 type="sldNum" idx="3"/>
          </p:nvPr>
        </p:nvSpPr>
        <p:spPr>
          <a:xfrm>
            <a:off x="6553080" y="625464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5BB83EC-5DF3-418C-A8B5-947C57AC664E}" type="slidenum">
              <a:rPr b="0" lang="ru-RU" sz="12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ru-RU" sz="2400" spc="-1" strike="noStrike">
              <a:solidFill>
                <a:srgbClr val="4b2500"/>
              </a:solidFill>
              <a:latin typeface="Garamond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4"/>
          <p:cNvGrpSpPr/>
          <p:nvPr/>
        </p:nvGrpSpPr>
        <p:grpSpPr>
          <a:xfrm>
            <a:off x="0" y="0"/>
            <a:ext cx="9140400" cy="6849720"/>
            <a:chOff x="0" y="0"/>
            <a:chExt cx="9140400" cy="6849720"/>
          </a:xfrm>
        </p:grpSpPr>
        <p:grpSp>
          <p:nvGrpSpPr>
            <p:cNvPr id="60" name="Group 5"/>
            <p:cNvGrpSpPr/>
            <p:nvPr/>
          </p:nvGrpSpPr>
          <p:grpSpPr>
            <a:xfrm>
              <a:off x="2743200" y="3540240"/>
              <a:ext cx="6392520" cy="3309480"/>
              <a:chOff x="2743200" y="3540240"/>
              <a:chExt cx="6392520" cy="3309480"/>
            </a:xfrm>
          </p:grpSpPr>
          <p:sp>
            <p:nvSpPr>
              <p:cNvPr id="61" name="Freeform 6"/>
              <p:cNvSpPr/>
              <p:nvPr/>
            </p:nvSpPr>
            <p:spPr>
              <a:xfrm>
                <a:off x="2743200" y="4197240"/>
                <a:ext cx="4574880" cy="265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7"/>
              <p:cNvSpPr/>
              <p:nvPr/>
            </p:nvSpPr>
            <p:spPr>
              <a:xfrm>
                <a:off x="6620040" y="4240080"/>
                <a:ext cx="1998360" cy="128700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8"/>
              <p:cNvSpPr/>
              <p:nvPr/>
            </p:nvSpPr>
            <p:spPr>
              <a:xfrm>
                <a:off x="4603680" y="5311800"/>
                <a:ext cx="4522320" cy="15379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9"/>
              <p:cNvSpPr/>
              <p:nvPr/>
            </p:nvSpPr>
            <p:spPr>
              <a:xfrm>
                <a:off x="4362480" y="3540240"/>
                <a:ext cx="4773240" cy="330948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0"/>
              <p:cNvSpPr/>
              <p:nvPr/>
            </p:nvSpPr>
            <p:spPr>
              <a:xfrm>
                <a:off x="7145280" y="3678120"/>
                <a:ext cx="1980720" cy="85536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Freeform 11"/>
            <p:cNvSpPr/>
            <p:nvPr/>
          </p:nvSpPr>
          <p:spPr>
            <a:xfrm>
              <a:off x="5273640" y="2128680"/>
              <a:ext cx="2896920" cy="243972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0" y="0"/>
              <a:ext cx="9140400" cy="281916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  <a:ea typeface="Arial"/>
              </a:rPr>
              <a:t>Образец заголовка</a:t>
            </a:r>
            <a:endParaRPr b="0" lang="ru-RU" sz="4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7b6d47"/>
              </a:buClr>
              <a:buSzPct val="70000"/>
              <a:buFont typeface="Wingdings" charset="2"/>
              <a:buChar char=""/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  <a:ea typeface="Arial"/>
              </a:rPr>
              <a:t>Образец текста</a:t>
            </a: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bfbfa7"/>
              </a:buClr>
              <a:buSzPct val="7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  <a:ea typeface="Arial"/>
              </a:rPr>
              <a:t>Второй уровень</a:t>
            </a:r>
            <a:endParaRPr b="0" lang="ru-RU" sz="28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a69564"/>
              </a:buClr>
              <a:buSzPct val="70000"/>
              <a:buFont typeface="Wingdings" charset="2"/>
              <a:buChar char=""/>
            </a:pPr>
            <a:r>
              <a:rPr b="0" lang="ru-RU" sz="2400" spc="-1" strike="noStrike">
                <a:solidFill>
                  <a:srgbClr val="4b2500"/>
                </a:solidFill>
                <a:latin typeface="Garamond"/>
                <a:ea typeface="Arial"/>
              </a:rPr>
              <a:t>Третий уровень</a:t>
            </a:r>
            <a:endParaRPr b="0" lang="ru-RU" sz="24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bfbfa7"/>
              </a:buClr>
              <a:buSzPct val="7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7b6d47"/>
              </a:buClr>
              <a:buSzPct val="7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57200" y="625140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DFC8799B-B446-401C-B25F-A630517503A4}" type="slidenum">
              <a:rPr b="0" lang="ru-RU" sz="12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4"/>
          <p:cNvGrpSpPr/>
          <p:nvPr/>
        </p:nvGrpSpPr>
        <p:grpSpPr>
          <a:xfrm>
            <a:off x="0" y="0"/>
            <a:ext cx="9140400" cy="6849720"/>
            <a:chOff x="0" y="0"/>
            <a:chExt cx="9140400" cy="6849720"/>
          </a:xfrm>
        </p:grpSpPr>
        <p:grpSp>
          <p:nvGrpSpPr>
            <p:cNvPr id="110" name="Group 5"/>
            <p:cNvGrpSpPr/>
            <p:nvPr/>
          </p:nvGrpSpPr>
          <p:grpSpPr>
            <a:xfrm>
              <a:off x="2743200" y="3540240"/>
              <a:ext cx="6392520" cy="3309480"/>
              <a:chOff x="2743200" y="3540240"/>
              <a:chExt cx="6392520" cy="3309480"/>
            </a:xfrm>
          </p:grpSpPr>
          <p:sp>
            <p:nvSpPr>
              <p:cNvPr id="111" name="Freeform 6"/>
              <p:cNvSpPr/>
              <p:nvPr/>
            </p:nvSpPr>
            <p:spPr>
              <a:xfrm>
                <a:off x="2743200" y="4197240"/>
                <a:ext cx="4574880" cy="265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7"/>
              <p:cNvSpPr/>
              <p:nvPr/>
            </p:nvSpPr>
            <p:spPr>
              <a:xfrm>
                <a:off x="6620040" y="4240080"/>
                <a:ext cx="1998360" cy="128700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8"/>
              <p:cNvSpPr/>
              <p:nvPr/>
            </p:nvSpPr>
            <p:spPr>
              <a:xfrm>
                <a:off x="4603680" y="5311800"/>
                <a:ext cx="4522320" cy="15379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9"/>
              <p:cNvSpPr/>
              <p:nvPr/>
            </p:nvSpPr>
            <p:spPr>
              <a:xfrm>
                <a:off x="4362480" y="3540240"/>
                <a:ext cx="4773240" cy="330948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0"/>
              <p:cNvSpPr/>
              <p:nvPr/>
            </p:nvSpPr>
            <p:spPr>
              <a:xfrm>
                <a:off x="7145280" y="3678120"/>
                <a:ext cx="1980720" cy="85536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Freeform 11"/>
            <p:cNvSpPr/>
            <p:nvPr/>
          </p:nvSpPr>
          <p:spPr>
            <a:xfrm>
              <a:off x="5273640" y="2128680"/>
              <a:ext cx="2896920" cy="243972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2"/>
            <p:cNvSpPr/>
            <p:nvPr/>
          </p:nvSpPr>
          <p:spPr>
            <a:xfrm>
              <a:off x="0" y="0"/>
              <a:ext cx="9140400" cy="281916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  <a:ea typeface="Arial"/>
              </a:rPr>
              <a:t>Образец заголовка</a:t>
            </a:r>
            <a:endParaRPr b="0" lang="ru-RU" sz="4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7b6d47"/>
              </a:buClr>
              <a:buSzPct val="70000"/>
              <a:buFont typeface="Wingdings" charset="2"/>
              <a:buChar char=""/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  <a:ea typeface="Arial"/>
              </a:rPr>
              <a:t>Образец текста</a:t>
            </a: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bfbfa7"/>
              </a:buClr>
              <a:buSzPct val="7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  <a:ea typeface="Arial"/>
              </a:rPr>
              <a:t>Второй уровень</a:t>
            </a:r>
            <a:endParaRPr b="0" lang="ru-RU" sz="28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a69564"/>
              </a:buClr>
              <a:buSzPct val="70000"/>
              <a:buFont typeface="Wingdings" charset="2"/>
              <a:buChar char=""/>
            </a:pPr>
            <a:r>
              <a:rPr b="0" lang="ru-RU" sz="2400" spc="-1" strike="noStrike">
                <a:solidFill>
                  <a:srgbClr val="4b2500"/>
                </a:solidFill>
                <a:latin typeface="Garamond"/>
                <a:ea typeface="Arial"/>
              </a:rPr>
              <a:t>Третий уровень</a:t>
            </a:r>
            <a:endParaRPr b="0" lang="ru-RU" sz="24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bfbfa7"/>
              </a:buClr>
              <a:buSzPct val="7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7b6d47"/>
              </a:buClr>
              <a:buSzPct val="7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7b6d47"/>
              </a:buClr>
              <a:buSzPct val="70000"/>
              <a:buFont typeface="Wingdings" charset="2"/>
              <a:buChar char=""/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  <a:ea typeface="Arial"/>
              </a:rPr>
              <a:t>Образец текста</a:t>
            </a: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bfbfa7"/>
              </a:buClr>
              <a:buSzPct val="7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  <a:ea typeface="Arial"/>
              </a:rPr>
              <a:t>Второй уровень</a:t>
            </a:r>
            <a:endParaRPr b="0" lang="ru-RU" sz="28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a69564"/>
              </a:buClr>
              <a:buSzPct val="70000"/>
              <a:buFont typeface="Wingdings" charset="2"/>
              <a:buChar char=""/>
            </a:pPr>
            <a:r>
              <a:rPr b="0" lang="ru-RU" sz="2400" spc="-1" strike="noStrike">
                <a:solidFill>
                  <a:srgbClr val="4b2500"/>
                </a:solidFill>
                <a:latin typeface="Garamond"/>
                <a:ea typeface="Arial"/>
              </a:rPr>
              <a:t>Третий уровень</a:t>
            </a:r>
            <a:endParaRPr b="0" lang="ru-RU" sz="24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bfbfa7"/>
              </a:buClr>
              <a:buSzPct val="7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7b6d47"/>
              </a:buClr>
              <a:buSzPct val="7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dt" idx="7"/>
          </p:nvPr>
        </p:nvSpPr>
        <p:spPr>
          <a:xfrm>
            <a:off x="457200" y="625140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BACA2058-4AF2-44EC-9C4E-F05E2A0B97FF}" type="slidenum">
              <a:rPr b="0" lang="ru-RU" sz="12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4"/>
          <p:cNvGrpSpPr/>
          <p:nvPr/>
        </p:nvGrpSpPr>
        <p:grpSpPr>
          <a:xfrm>
            <a:off x="0" y="0"/>
            <a:ext cx="9140400" cy="6849720"/>
            <a:chOff x="0" y="0"/>
            <a:chExt cx="9140400" cy="6849720"/>
          </a:xfrm>
        </p:grpSpPr>
        <p:grpSp>
          <p:nvGrpSpPr>
            <p:cNvPr id="161" name="Group 5"/>
            <p:cNvGrpSpPr/>
            <p:nvPr/>
          </p:nvGrpSpPr>
          <p:grpSpPr>
            <a:xfrm>
              <a:off x="2743200" y="3540240"/>
              <a:ext cx="6392520" cy="3309480"/>
              <a:chOff x="2743200" y="3540240"/>
              <a:chExt cx="6392520" cy="3309480"/>
            </a:xfrm>
          </p:grpSpPr>
          <p:sp>
            <p:nvSpPr>
              <p:cNvPr id="162" name="Freeform 6"/>
              <p:cNvSpPr/>
              <p:nvPr/>
            </p:nvSpPr>
            <p:spPr>
              <a:xfrm>
                <a:off x="2743200" y="4197240"/>
                <a:ext cx="4574880" cy="265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7"/>
              <p:cNvSpPr/>
              <p:nvPr/>
            </p:nvSpPr>
            <p:spPr>
              <a:xfrm>
                <a:off x="6620040" y="4240080"/>
                <a:ext cx="1998360" cy="128700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8"/>
              <p:cNvSpPr/>
              <p:nvPr/>
            </p:nvSpPr>
            <p:spPr>
              <a:xfrm>
                <a:off x="4603680" y="5311800"/>
                <a:ext cx="4522320" cy="15379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9"/>
              <p:cNvSpPr/>
              <p:nvPr/>
            </p:nvSpPr>
            <p:spPr>
              <a:xfrm>
                <a:off x="4362480" y="3540240"/>
                <a:ext cx="4773240" cy="330948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0"/>
              <p:cNvSpPr/>
              <p:nvPr/>
            </p:nvSpPr>
            <p:spPr>
              <a:xfrm>
                <a:off x="7145280" y="3678120"/>
                <a:ext cx="1980720" cy="85536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11"/>
            <p:cNvSpPr/>
            <p:nvPr/>
          </p:nvSpPr>
          <p:spPr>
            <a:xfrm>
              <a:off x="5273640" y="2128680"/>
              <a:ext cx="2896920" cy="243972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2"/>
            <p:cNvSpPr/>
            <p:nvPr/>
          </p:nvSpPr>
          <p:spPr>
            <a:xfrm>
              <a:off x="0" y="0"/>
              <a:ext cx="9140400" cy="281916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  <a:ea typeface="Arial"/>
              </a:rPr>
              <a:t>Образец заголовка</a:t>
            </a:r>
            <a:endParaRPr b="0" lang="ru-RU" sz="4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218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7b6d47"/>
              </a:buClr>
              <a:buSzPct val="70000"/>
              <a:buFont typeface="Wingdings" charset="2"/>
              <a:buChar char=""/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  <a:ea typeface="Arial"/>
              </a:rPr>
              <a:t>Образец текста</a:t>
            </a: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bfbfa7"/>
              </a:buClr>
              <a:buSzPct val="7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  <a:ea typeface="Arial"/>
              </a:rPr>
              <a:t>Второй уровень</a:t>
            </a:r>
            <a:endParaRPr b="0" lang="ru-RU" sz="28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a69564"/>
              </a:buClr>
              <a:buSzPct val="70000"/>
              <a:buFont typeface="Wingdings" charset="2"/>
              <a:buChar char=""/>
            </a:pPr>
            <a:r>
              <a:rPr b="0" lang="ru-RU" sz="2400" spc="-1" strike="noStrike">
                <a:solidFill>
                  <a:srgbClr val="4b2500"/>
                </a:solidFill>
                <a:latin typeface="Garamond"/>
                <a:ea typeface="Arial"/>
              </a:rPr>
              <a:t>Третий уровень</a:t>
            </a:r>
            <a:endParaRPr b="0" lang="ru-RU" sz="24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bfbfa7"/>
              </a:buClr>
              <a:buSzPct val="7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7b6d47"/>
              </a:buClr>
              <a:buSzPct val="7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218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7b6d47"/>
              </a:buClr>
              <a:buSzPct val="70000"/>
              <a:buFont typeface="Wingdings" charset="2"/>
              <a:buChar char=""/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  <a:ea typeface="Arial"/>
              </a:rPr>
              <a:t>Образец текста</a:t>
            </a: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bfbfa7"/>
              </a:buClr>
              <a:buSzPct val="7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  <a:ea typeface="Arial"/>
              </a:rPr>
              <a:t>Второй уровень</a:t>
            </a:r>
            <a:endParaRPr b="0" lang="ru-RU" sz="28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a69564"/>
              </a:buClr>
              <a:buSzPct val="70000"/>
              <a:buFont typeface="Wingdings" charset="2"/>
              <a:buChar char=""/>
            </a:pPr>
            <a:r>
              <a:rPr b="0" lang="ru-RU" sz="2400" spc="-1" strike="noStrike">
                <a:solidFill>
                  <a:srgbClr val="4b2500"/>
                </a:solidFill>
                <a:latin typeface="Garamond"/>
                <a:ea typeface="Arial"/>
              </a:rPr>
              <a:t>Третий уровень</a:t>
            </a:r>
            <a:endParaRPr b="0" lang="ru-RU" sz="24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bfbfa7"/>
              </a:buClr>
              <a:buSzPct val="7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7b6d47"/>
              </a:buClr>
              <a:buSzPct val="7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457200" y="3938760"/>
            <a:ext cx="4038120" cy="2187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7b6d47"/>
              </a:buClr>
              <a:buSzPct val="70000"/>
              <a:buFont typeface="Wingdings" charset="2"/>
              <a:buChar char=""/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  <a:ea typeface="Arial"/>
              </a:rPr>
              <a:t>Образец текста</a:t>
            </a: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bfbfa7"/>
              </a:buClr>
              <a:buSzPct val="7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  <a:ea typeface="Arial"/>
              </a:rPr>
              <a:t>Второй уровень</a:t>
            </a:r>
            <a:endParaRPr b="0" lang="ru-RU" sz="28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a69564"/>
              </a:buClr>
              <a:buSzPct val="70000"/>
              <a:buFont typeface="Wingdings" charset="2"/>
              <a:buChar char=""/>
            </a:pPr>
            <a:r>
              <a:rPr b="0" lang="ru-RU" sz="2400" spc="-1" strike="noStrike">
                <a:solidFill>
                  <a:srgbClr val="4b2500"/>
                </a:solidFill>
                <a:latin typeface="Garamond"/>
                <a:ea typeface="Arial"/>
              </a:rPr>
              <a:t>Третий уровень</a:t>
            </a:r>
            <a:endParaRPr b="0" lang="ru-RU" sz="24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bfbfa7"/>
              </a:buClr>
              <a:buSzPct val="7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7b6d47"/>
              </a:buClr>
              <a:buSzPct val="7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648320" y="3938760"/>
            <a:ext cx="4038120" cy="2187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7b6d47"/>
              </a:buClr>
              <a:buSzPct val="70000"/>
              <a:buFont typeface="Wingdings" charset="2"/>
              <a:buChar char=""/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  <a:ea typeface="Arial"/>
              </a:rPr>
              <a:t>Образец текста</a:t>
            </a: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bfbfa7"/>
              </a:buClr>
              <a:buSzPct val="7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  <a:ea typeface="Arial"/>
              </a:rPr>
              <a:t>Второй уровень</a:t>
            </a:r>
            <a:endParaRPr b="0" lang="ru-RU" sz="28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a69564"/>
              </a:buClr>
              <a:buSzPct val="70000"/>
              <a:buFont typeface="Wingdings" charset="2"/>
              <a:buChar char=""/>
            </a:pPr>
            <a:r>
              <a:rPr b="0" lang="ru-RU" sz="2400" spc="-1" strike="noStrike">
                <a:solidFill>
                  <a:srgbClr val="4b2500"/>
                </a:solidFill>
                <a:latin typeface="Garamond"/>
                <a:ea typeface="Arial"/>
              </a:rPr>
              <a:t>Третий уровень</a:t>
            </a:r>
            <a:endParaRPr b="0" lang="ru-RU" sz="24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bfbfa7"/>
              </a:buClr>
              <a:buSzPct val="7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7b6d47"/>
              </a:buClr>
              <a:buSzPct val="7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dt" idx="10"/>
          </p:nvPr>
        </p:nvSpPr>
        <p:spPr>
          <a:xfrm>
            <a:off x="457200" y="625140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 type="sldNum" idx="11"/>
          </p:nvPr>
        </p:nvSpPr>
        <p:spPr>
          <a:xfrm>
            <a:off x="6553080" y="624852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D01C56F7-E1F0-4B35-B1C0-78A823596B77}" type="slidenum">
              <a:rPr b="0" lang="ru-RU" sz="12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8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4"/>
          <p:cNvGrpSpPr/>
          <p:nvPr/>
        </p:nvGrpSpPr>
        <p:grpSpPr>
          <a:xfrm>
            <a:off x="0" y="0"/>
            <a:ext cx="9140400" cy="6849720"/>
            <a:chOff x="0" y="0"/>
            <a:chExt cx="9140400" cy="6849720"/>
          </a:xfrm>
        </p:grpSpPr>
        <p:grpSp>
          <p:nvGrpSpPr>
            <p:cNvPr id="214" name="Group 5"/>
            <p:cNvGrpSpPr/>
            <p:nvPr/>
          </p:nvGrpSpPr>
          <p:grpSpPr>
            <a:xfrm>
              <a:off x="2743200" y="3540240"/>
              <a:ext cx="6392520" cy="3309480"/>
              <a:chOff x="2743200" y="3540240"/>
              <a:chExt cx="6392520" cy="3309480"/>
            </a:xfrm>
          </p:grpSpPr>
          <p:sp>
            <p:nvSpPr>
              <p:cNvPr id="215" name="Freeform 6"/>
              <p:cNvSpPr/>
              <p:nvPr/>
            </p:nvSpPr>
            <p:spPr>
              <a:xfrm>
                <a:off x="2743200" y="4197240"/>
                <a:ext cx="4574880" cy="265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7"/>
              <p:cNvSpPr/>
              <p:nvPr/>
            </p:nvSpPr>
            <p:spPr>
              <a:xfrm>
                <a:off x="6620040" y="4240080"/>
                <a:ext cx="1998360" cy="128700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8"/>
              <p:cNvSpPr/>
              <p:nvPr/>
            </p:nvSpPr>
            <p:spPr>
              <a:xfrm>
                <a:off x="4603680" y="5311800"/>
                <a:ext cx="4522320" cy="15379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9"/>
              <p:cNvSpPr/>
              <p:nvPr/>
            </p:nvSpPr>
            <p:spPr>
              <a:xfrm>
                <a:off x="4362480" y="3540240"/>
                <a:ext cx="4773240" cy="330948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0"/>
              <p:cNvSpPr/>
              <p:nvPr/>
            </p:nvSpPr>
            <p:spPr>
              <a:xfrm>
                <a:off x="7145280" y="3678120"/>
                <a:ext cx="1980720" cy="85536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Freeform 11"/>
            <p:cNvSpPr/>
            <p:nvPr/>
          </p:nvSpPr>
          <p:spPr>
            <a:xfrm>
              <a:off x="5273640" y="2128680"/>
              <a:ext cx="2896920" cy="243972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2"/>
            <p:cNvSpPr/>
            <p:nvPr/>
          </p:nvSpPr>
          <p:spPr>
            <a:xfrm>
              <a:off x="0" y="0"/>
              <a:ext cx="9140400" cy="281916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dt" idx="13"/>
          </p:nvPr>
        </p:nvSpPr>
        <p:spPr>
          <a:xfrm>
            <a:off x="457200" y="625140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ldNum" idx="14"/>
          </p:nvPr>
        </p:nvSpPr>
        <p:spPr>
          <a:xfrm>
            <a:off x="6553080" y="624852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541F69D-0E45-4CC2-897F-F20A710D107F}" type="slidenum">
              <a:rPr b="0" lang="ru-RU" sz="12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4b2500"/>
                </a:solidFill>
                <a:latin typeface="Garamond"/>
              </a:rPr>
              <a:t>Click to edit the title text format</a:t>
            </a: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ru-RU" sz="2400" spc="-1" strike="noStrike">
              <a:solidFill>
                <a:srgbClr val="4b2500"/>
              </a:solidFill>
              <a:latin typeface="Garamond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4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hyperlink" Target="http://www.e1.ru/fun/photo/view_pic.php/p/4cfbf4bf2f6b03bbdee2347488c89bd4/view.pic" TargetMode="External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040" cy="1920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6000" spc="-1" strike="noStrike">
                <a:solidFill>
                  <a:srgbClr val="a69564"/>
                </a:solidFill>
                <a:latin typeface="Garamond"/>
                <a:ea typeface="Arial"/>
              </a:rPr>
              <a:t>Биография</a:t>
            </a:r>
            <a:br>
              <a:rPr sz="6000"/>
            </a:br>
            <a:r>
              <a:rPr b="1" lang="ru-RU" sz="6000" spc="-1" strike="noStrike">
                <a:solidFill>
                  <a:srgbClr val="a69564"/>
                </a:solidFill>
                <a:latin typeface="Garamond"/>
                <a:ea typeface="Arial"/>
              </a:rPr>
              <a:t>А.С. Пушкин</a:t>
            </a:r>
            <a:endParaRPr b="0" lang="ru-RU" sz="6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  <a:ea typeface="Arial"/>
              </a:rPr>
              <a:t>Походяева С.Б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  <a:ea typeface="Arial"/>
              </a:rPr>
              <a:t>учитель начальных класс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  <a:ea typeface="Arial"/>
              </a:rPr>
              <a:t>МБОУ ШР «СОШ № 4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ru-RU" sz="4400" spc="-1" strike="noStrike">
              <a:solidFill>
                <a:srgbClr val="a69564"/>
              </a:solidFill>
              <a:latin typeface="Garamond"/>
              <a:ea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  <a:ea typeface="Arial"/>
            </a:endParaRPr>
          </a:p>
        </p:txBody>
      </p:sp>
      <p:pic>
        <p:nvPicPr>
          <p:cNvPr id="295" name="Picture 2" descr="_DSC0049"/>
          <p:cNvPicPr/>
          <p:nvPr/>
        </p:nvPicPr>
        <p:blipFill>
          <a:blip r:embed="rId1"/>
          <a:stretch/>
        </p:blipFill>
        <p:spPr>
          <a:xfrm>
            <a:off x="353880" y="285840"/>
            <a:ext cx="8527680" cy="62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ru-RU" sz="4400" spc="-1" strike="noStrike">
              <a:solidFill>
                <a:srgbClr val="a69564"/>
              </a:solidFill>
              <a:latin typeface="Garamond"/>
              <a:ea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  <a:ea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341280" y="357120"/>
            <a:ext cx="843084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ru-RU" sz="4400" spc="-1" strike="noStrike">
              <a:solidFill>
                <a:srgbClr val="a69564"/>
              </a:solidFill>
              <a:latin typeface="Garamond"/>
              <a:ea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  <a:ea typeface="Arial"/>
            </a:endParaRPr>
          </a:p>
        </p:txBody>
      </p:sp>
      <p:pic>
        <p:nvPicPr>
          <p:cNvPr id="301" name="Picture 2" descr="_DSC0056"/>
          <p:cNvPicPr/>
          <p:nvPr/>
        </p:nvPicPr>
        <p:blipFill>
          <a:blip r:embed="rId1"/>
          <a:stretch/>
        </p:blipFill>
        <p:spPr>
          <a:xfrm>
            <a:off x="147600" y="357120"/>
            <a:ext cx="8638920" cy="57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ru-RU" sz="4400" spc="-1" strike="noStrike">
              <a:solidFill>
                <a:srgbClr val="a69564"/>
              </a:solidFill>
              <a:latin typeface="Garamond"/>
              <a:ea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  <a:ea typeface="Arial"/>
            </a:endParaRPr>
          </a:p>
        </p:txBody>
      </p:sp>
      <p:pic>
        <p:nvPicPr>
          <p:cNvPr id="304" name="Picture 2" descr="_DSC0055"/>
          <p:cNvPicPr/>
          <p:nvPr/>
        </p:nvPicPr>
        <p:blipFill>
          <a:blip r:embed="rId1"/>
          <a:stretch/>
        </p:blipFill>
        <p:spPr>
          <a:xfrm>
            <a:off x="500040" y="571680"/>
            <a:ext cx="8232480" cy="54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ru-RU" sz="4400" spc="-1" strike="noStrike">
              <a:solidFill>
                <a:srgbClr val="a69564"/>
              </a:solidFill>
              <a:latin typeface="Garamond"/>
              <a:ea typeface="Arial"/>
            </a:endParaRPr>
          </a:p>
        </p:txBody>
      </p:sp>
      <p:pic>
        <p:nvPicPr>
          <p:cNvPr id="306" name="Picture 2" descr="_DSC0057"/>
          <p:cNvPicPr/>
          <p:nvPr/>
        </p:nvPicPr>
        <p:blipFill>
          <a:blip r:embed="rId1"/>
          <a:stretch/>
        </p:blipFill>
        <p:spPr>
          <a:xfrm>
            <a:off x="500040" y="428760"/>
            <a:ext cx="8007120" cy="6143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ru-RU" sz="4400" spc="-1" strike="noStrike">
              <a:solidFill>
                <a:srgbClr val="a69564"/>
              </a:solidFill>
              <a:latin typeface="Garamond"/>
              <a:ea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  <a:ea typeface="Arial"/>
            </a:endParaRPr>
          </a:p>
        </p:txBody>
      </p:sp>
      <p:pic>
        <p:nvPicPr>
          <p:cNvPr id="309" name="Picture 2" descr="_DSC0058"/>
          <p:cNvPicPr/>
          <p:nvPr/>
        </p:nvPicPr>
        <p:blipFill>
          <a:blip r:embed="rId1"/>
          <a:stretch/>
        </p:blipFill>
        <p:spPr>
          <a:xfrm>
            <a:off x="500040" y="357120"/>
            <a:ext cx="8214840" cy="55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ru-RU" sz="4400" spc="-1" strike="noStrike">
              <a:solidFill>
                <a:srgbClr val="a69564"/>
              </a:solidFill>
              <a:latin typeface="Garamond"/>
              <a:ea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  <a:ea typeface="Arial"/>
            </a:endParaRPr>
          </a:p>
        </p:txBody>
      </p:sp>
      <p:pic>
        <p:nvPicPr>
          <p:cNvPr id="312" name="Picture 2" descr="_DSC0062"/>
          <p:cNvPicPr/>
          <p:nvPr/>
        </p:nvPicPr>
        <p:blipFill>
          <a:blip r:embed="rId1"/>
          <a:stretch/>
        </p:blipFill>
        <p:spPr>
          <a:xfrm>
            <a:off x="357120" y="500040"/>
            <a:ext cx="8332560" cy="55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ru-RU" sz="4400" spc="-1" strike="noStrike">
              <a:solidFill>
                <a:srgbClr val="a69564"/>
              </a:solidFill>
              <a:latin typeface="Garamond"/>
              <a:ea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  <a:ea typeface="Arial"/>
            </a:endParaRPr>
          </a:p>
        </p:txBody>
      </p:sp>
      <p:pic>
        <p:nvPicPr>
          <p:cNvPr id="315" name="Picture 2" descr="_DSC0068"/>
          <p:cNvPicPr/>
          <p:nvPr/>
        </p:nvPicPr>
        <p:blipFill>
          <a:blip r:embed="rId1"/>
          <a:stretch/>
        </p:blipFill>
        <p:spPr>
          <a:xfrm>
            <a:off x="428760" y="357120"/>
            <a:ext cx="843084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ru-RU" sz="4400" spc="-1" strike="noStrike">
              <a:solidFill>
                <a:srgbClr val="a69564"/>
              </a:solidFill>
              <a:latin typeface="Garamond"/>
              <a:ea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  <a:ea typeface="Arial"/>
            </a:endParaRPr>
          </a:p>
        </p:txBody>
      </p:sp>
      <p:pic>
        <p:nvPicPr>
          <p:cNvPr id="318" name="Picture 2" descr="_DSC0070"/>
          <p:cNvPicPr/>
          <p:nvPr/>
        </p:nvPicPr>
        <p:blipFill>
          <a:blip r:embed="rId1"/>
          <a:stretch/>
        </p:blipFill>
        <p:spPr>
          <a:xfrm>
            <a:off x="571680" y="571680"/>
            <a:ext cx="801504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ru-RU" sz="4400" spc="-1" strike="noStrike">
              <a:solidFill>
                <a:srgbClr val="a69564"/>
              </a:solidFill>
              <a:latin typeface="Garamond"/>
              <a:ea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  <a:ea typeface="Arial"/>
            </a:endParaRPr>
          </a:p>
        </p:txBody>
      </p:sp>
      <p:pic>
        <p:nvPicPr>
          <p:cNvPr id="321" name="Picture 2" descr="_DSC0073"/>
          <p:cNvPicPr/>
          <p:nvPr/>
        </p:nvPicPr>
        <p:blipFill>
          <a:blip r:embed="rId1"/>
          <a:stretch/>
        </p:blipFill>
        <p:spPr>
          <a:xfrm>
            <a:off x="214200" y="428760"/>
            <a:ext cx="8704080" cy="58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1294920"/>
          </a:xfrm>
          <a:prstGeom prst="rect">
            <a:avLst/>
          </a:prstGeom>
          <a:solidFill>
            <a:schemeClr val="accent1"/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4b2500"/>
                </a:solidFill>
                <a:latin typeface="Times New Roman"/>
                <a:ea typeface="Arial"/>
              </a:rPr>
              <a:t>Александр Сергеевич Пушкин (1799-1837)</a:t>
            </a:r>
            <a:endParaRPr b="0" lang="ru-RU" sz="4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66" name="Picture 4" descr="{CC9649AB-942B-4A96-9BFC-7BC79E69C3E2}"/>
          <p:cNvPicPr/>
          <p:nvPr/>
        </p:nvPicPr>
        <p:blipFill>
          <a:blip r:embed="rId1"/>
          <a:stretch/>
        </p:blipFill>
        <p:spPr>
          <a:xfrm>
            <a:off x="2771640" y="1700280"/>
            <a:ext cx="3385800" cy="4249440"/>
          </a:xfrm>
          <a:prstGeom prst="rect">
            <a:avLst/>
          </a:prstGeom>
          <a:ln w="57150">
            <a:solidFill>
              <a:srgbClr val="ffffff"/>
            </a:solidFill>
            <a:miter/>
          </a:ln>
        </p:spPr>
      </p:pic>
      <p:pic>
        <p:nvPicPr>
          <p:cNvPr id="267" name="Picture 7" descr="2"/>
          <p:cNvPicPr/>
          <p:nvPr/>
        </p:nvPicPr>
        <p:blipFill>
          <a:blip r:embed="rId2"/>
          <a:stretch/>
        </p:blipFill>
        <p:spPr>
          <a:xfrm>
            <a:off x="1908000" y="6237360"/>
            <a:ext cx="523836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accent1"/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Garamond"/>
                <a:ea typeface="Arial"/>
              </a:rPr>
              <a:t>  </a:t>
            </a:r>
            <a:r>
              <a:rPr b="1" i="1" lang="ru-RU" sz="4800" spc="-1" strike="noStrike">
                <a:solidFill>
                  <a:srgbClr val="663300"/>
                </a:solidFill>
                <a:latin typeface="Times New Roman"/>
                <a:ea typeface="Arial"/>
              </a:rPr>
              <a:t>Подскажи словечко!</a:t>
            </a:r>
            <a:endParaRPr b="0" lang="ru-RU" sz="4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5760720" cy="4708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buClr>
                <a:srgbClr val="a50021"/>
              </a:buClr>
              <a:buSzPct val="70000"/>
              <a:buFont typeface="Wingdings" charset="2"/>
              <a:buChar char=""/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Жил старик со своею старухой</a:t>
            </a: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У самого синего моря;</a:t>
            </a: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Жили они в ветхой землянке...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  <a:ea typeface="Arial"/>
              </a:rPr>
              <a:t>     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овно тридцать лет и три года.</a:t>
            </a:r>
            <a:br>
              <a:rPr sz="2000"/>
            </a:b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«Сказка о рыбаке и рыбке».)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Свет мой зеркальце скажи,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      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Да всю правду доложи….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4b2500"/>
                </a:solidFill>
                <a:latin typeface="Times New Roman"/>
                <a:ea typeface="Arial"/>
              </a:rPr>
              <a:t>      </a:t>
            </a:r>
            <a:r>
              <a:rPr b="1" i="1" lang="ru-RU" sz="2000" spc="-1" strike="noStrike">
                <a:solidFill>
                  <a:srgbClr val="4b2500"/>
                </a:solidFill>
                <a:latin typeface="Times New Roman"/>
                <a:ea typeface="Arial"/>
              </a:rPr>
              <a:t>Я ль на свете всех милее // </a:t>
            </a:r>
            <a:br>
              <a:rPr sz="2000"/>
            </a:br>
            <a:r>
              <a:rPr b="1" i="1" lang="ru-RU" sz="2000" spc="-1" strike="noStrike">
                <a:solidFill>
                  <a:srgbClr val="4b2500"/>
                </a:solidFill>
                <a:latin typeface="Times New Roman"/>
                <a:ea typeface="Arial"/>
              </a:rPr>
              <a:t>Всех румяней и белее?</a:t>
            </a:r>
            <a:br>
              <a:rPr sz="2000"/>
            </a:br>
            <a:r>
              <a:rPr b="1" i="1" lang="ru-RU" sz="2000" spc="-1" strike="noStrike">
                <a:solidFill>
                  <a:srgbClr val="4b2500"/>
                </a:solidFill>
                <a:latin typeface="Times New Roman"/>
                <a:ea typeface="Arial"/>
              </a:rPr>
              <a:t>      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4b2500"/>
                </a:solidFill>
                <a:latin typeface="Times New Roman"/>
                <a:ea typeface="Arial"/>
              </a:rPr>
              <a:t>     </a:t>
            </a:r>
            <a:r>
              <a:rPr b="1" lang="ru-RU" sz="2000" spc="-1" strike="noStrike">
                <a:solidFill>
                  <a:srgbClr val="4b2500"/>
                </a:solidFill>
                <a:latin typeface="Times New Roman"/>
                <a:ea typeface="Arial"/>
              </a:rPr>
              <a:t>(«Сказка о мёртвой царевне...»).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Жил-был поп,</a:t>
            </a: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Толоконный лоб,</a:t>
            </a: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Пошёл поп по базару...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Times New Roman"/>
                <a:ea typeface="Arial"/>
              </a:rPr>
              <a:t>      </a:t>
            </a:r>
            <a:r>
              <a:rPr b="1" i="1" lang="ru-RU" sz="2000" spc="-1" strike="noStrike">
                <a:solidFill>
                  <a:srgbClr val="4b2500"/>
                </a:solidFill>
                <a:latin typeface="Times New Roman"/>
                <a:ea typeface="Arial"/>
              </a:rPr>
              <a:t>Посмотреть кой-какого товару. </a:t>
            </a:r>
            <a:br>
              <a:rPr sz="800"/>
            </a:b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800" spc="-1" strike="noStrike">
                <a:solidFill>
                  <a:srgbClr val="4b2500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4b2500"/>
                </a:solidFill>
                <a:latin typeface="Times New Roman"/>
                <a:ea typeface="Arial"/>
              </a:rPr>
              <a:t>(«Сказка о попе и о работнике его Балде».)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24" name="Picture 4" descr="2"/>
          <p:cNvPicPr/>
          <p:nvPr/>
        </p:nvPicPr>
        <p:blipFill>
          <a:blip r:embed="rId1"/>
          <a:stretch/>
        </p:blipFill>
        <p:spPr>
          <a:xfrm>
            <a:off x="2050920" y="6453360"/>
            <a:ext cx="5238360" cy="259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Пушкин"/>
          <p:cNvPicPr/>
          <p:nvPr/>
        </p:nvPicPr>
        <p:blipFill>
          <a:blip r:embed="rId2"/>
          <a:stretch/>
        </p:blipFill>
        <p:spPr>
          <a:xfrm>
            <a:off x="893880" y="404640"/>
            <a:ext cx="725040" cy="9363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Сказка о рыбаке и рыбке2"/>
          <p:cNvPicPr/>
          <p:nvPr/>
        </p:nvPicPr>
        <p:blipFill>
          <a:blip r:embed="rId3"/>
          <a:stretch/>
        </p:blipFill>
        <p:spPr>
          <a:xfrm>
            <a:off x="4788000" y="2276640"/>
            <a:ext cx="4032000" cy="3015720"/>
          </a:xfrm>
          <a:prstGeom prst="rect">
            <a:avLst/>
          </a:prstGeom>
          <a:ln w="381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accent1"/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Garamond"/>
                <a:ea typeface="Arial"/>
              </a:rPr>
              <a:t>  </a:t>
            </a:r>
            <a:r>
              <a:rPr b="1" i="1" lang="ru-RU" sz="4800" spc="-1" strike="noStrike">
                <a:solidFill>
                  <a:srgbClr val="663300"/>
                </a:solidFill>
                <a:latin typeface="Times New Roman"/>
                <a:ea typeface="Arial"/>
              </a:rPr>
              <a:t>Подскажи словечко!</a:t>
            </a:r>
            <a:endParaRPr b="0" lang="ru-RU" sz="4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762080" cy="4636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br>
              <a:rPr sz="1800"/>
            </a:b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Times New Roman"/>
                <a:ea typeface="Arial"/>
              </a:rPr>
              <a:t>Родила царица в ночь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Times New Roman"/>
                <a:ea typeface="Arial"/>
              </a:rPr>
              <a:t>Не то сына, не то дочь...</a:t>
            </a: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4b2500"/>
                </a:solidFill>
                <a:latin typeface="Times New Roman"/>
                <a:ea typeface="Arial"/>
              </a:rPr>
              <a:t>      </a:t>
            </a:r>
            <a:r>
              <a:rPr b="1" i="1" lang="ru-RU" sz="1800" spc="-1" strike="noStrike">
                <a:solidFill>
                  <a:srgbClr val="4b2500"/>
                </a:solidFill>
                <a:latin typeface="Times New Roman"/>
                <a:ea typeface="Arial"/>
              </a:rPr>
              <a:t>Не мышонка, не лягушку, // </a:t>
            </a:r>
            <a:br>
              <a:rPr sz="1800"/>
            </a:br>
            <a:r>
              <a:rPr b="1" i="1" lang="ru-RU" sz="1800" spc="-1" strike="noStrike">
                <a:solidFill>
                  <a:srgbClr val="4b2500"/>
                </a:solidFill>
                <a:latin typeface="Times New Roman"/>
                <a:ea typeface="Arial"/>
              </a:rPr>
              <a:t>А неведому зверюшку. </a:t>
            </a:r>
            <a:br>
              <a:rPr sz="1800"/>
            </a:b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4b2500"/>
                </a:solidFill>
                <a:latin typeface="Times New Roman"/>
                <a:ea typeface="Arial"/>
              </a:rPr>
              <a:t>(«Сказка о царе Салтане».)</a:t>
            </a: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Times New Roman"/>
                <a:ea typeface="Arial"/>
              </a:rPr>
              <a:t>И соседи присмирели,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Times New Roman"/>
                <a:ea typeface="Arial"/>
              </a:rPr>
              <a:t>Воевать уже не смели;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Times New Roman"/>
                <a:ea typeface="Arial"/>
              </a:rPr>
              <a:t>Таковой им царь Дадон...</a:t>
            </a: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4b2500"/>
                </a:solidFill>
                <a:latin typeface="Times New Roman"/>
                <a:ea typeface="Arial"/>
              </a:rPr>
              <a:t>      </a:t>
            </a:r>
            <a:r>
              <a:rPr b="1" i="1" lang="ru-RU" sz="1800" spc="-1" strike="noStrike">
                <a:solidFill>
                  <a:srgbClr val="4b2500"/>
                </a:solidFill>
                <a:latin typeface="Times New Roman"/>
                <a:ea typeface="Arial"/>
              </a:rPr>
              <a:t>Дал отпор со всех сторон. </a:t>
            </a:r>
            <a:br>
              <a:rPr sz="1800"/>
            </a:b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4b2500"/>
                </a:solidFill>
                <a:latin typeface="Times New Roman"/>
                <a:ea typeface="Arial"/>
              </a:rPr>
              <a:t>(«Сказка о золотом петушке».)</a:t>
            </a: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29" name="Picture 4" descr="2"/>
          <p:cNvPicPr/>
          <p:nvPr/>
        </p:nvPicPr>
        <p:blipFill>
          <a:blip r:embed="rId1"/>
          <a:stretch/>
        </p:blipFill>
        <p:spPr>
          <a:xfrm>
            <a:off x="2124000" y="6308640"/>
            <a:ext cx="5238360" cy="28548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5"/>
          <p:cNvSpPr/>
          <p:nvPr/>
        </p:nvSpPr>
        <p:spPr>
          <a:xfrm>
            <a:off x="539640" y="1628640"/>
            <a:ext cx="4679640" cy="3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  <a:spcBef>
                <a:spcPts val="479"/>
              </a:spcBef>
              <a:tabLst>
                <a:tab algn="l" pos="0"/>
              </a:tabLst>
            </a:pPr>
            <a:endParaRPr b="1" i="1" lang="ru-RU" sz="2400" spc="-1" strike="noStrike">
              <a:solidFill>
                <a:srgbClr val="4b2500"/>
              </a:solidFill>
              <a:latin typeface="Times New Roman"/>
            </a:endParaRPr>
          </a:p>
        </p:txBody>
      </p:sp>
      <p:pic>
        <p:nvPicPr>
          <p:cNvPr id="331" name="Picture 6" descr="Пушкин"/>
          <p:cNvPicPr/>
          <p:nvPr/>
        </p:nvPicPr>
        <p:blipFill>
          <a:blip r:embed="rId2"/>
          <a:stretch/>
        </p:blipFill>
        <p:spPr>
          <a:xfrm>
            <a:off x="893880" y="404640"/>
            <a:ext cx="725040" cy="936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Блокнот Палех Посказкам Пушкина"/>
          <p:cNvPicPr/>
          <p:nvPr/>
        </p:nvPicPr>
        <p:blipFill>
          <a:blip r:embed="rId3"/>
          <a:stretch/>
        </p:blipFill>
        <p:spPr>
          <a:xfrm>
            <a:off x="4500720" y="1700280"/>
            <a:ext cx="4109760" cy="4176360"/>
          </a:xfrm>
          <a:prstGeom prst="rect">
            <a:avLst/>
          </a:prstGeom>
          <a:ln w="381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274680"/>
            <a:ext cx="7345080" cy="777600"/>
          </a:xfrm>
          <a:prstGeom prst="rect">
            <a:avLst/>
          </a:prstGeom>
          <a:solidFill>
            <a:schemeClr val="accent1"/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Times New Roman"/>
                <a:ea typeface="Arial"/>
              </a:rPr>
              <a:t>Вопросы царя Дадона</a:t>
            </a:r>
            <a:endParaRPr b="0" lang="ru-RU" sz="4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7067160" cy="4608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b6d47"/>
              </a:buClr>
              <a:buSzPct val="70000"/>
              <a:buFont typeface="Wingdings" charset="2"/>
              <a:buChar char=""/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В дорогой собольей душегрейке, </a:t>
            </a: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Парчовая на маковке кичка, </a:t>
            </a: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Жемчуга огрузили шею, </a:t>
            </a: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На руках золотые перстни, </a:t>
            </a: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На ногах красивые сапожки. 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Times New Roman"/>
                <a:ea typeface="Arial"/>
              </a:rPr>
              <a:t>(Старуха из “Сказки о рыбаке и рыбке”) 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Соку спелого полно, </a:t>
            </a: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Так свежо и так душисто, </a:t>
            </a: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Так румяно, золотисто, </a:t>
            </a: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Будто медом налилось! </a:t>
            </a: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Видны семечки насквозь...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О каком фрукте идет речь и из какой сказки?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Times New Roman"/>
                <a:ea typeface="Arial"/>
              </a:rPr>
              <a:t>(Яблоко. “Сказка о мертвой царевне и о семи богатырях”)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35" name="Picture 4" descr="{82EB22D0-9B30-4F4B-B8A7-F35E7D6ADB53}"/>
          <p:cNvPicPr/>
          <p:nvPr/>
        </p:nvPicPr>
        <p:blipFill>
          <a:blip r:embed="rId1"/>
          <a:srcRect l="16698" t="12534" r="7195" b="28805"/>
          <a:stretch/>
        </p:blipFill>
        <p:spPr>
          <a:xfrm>
            <a:off x="6156360" y="1413000"/>
            <a:ext cx="2520720" cy="1890360"/>
          </a:xfrm>
          <a:prstGeom prst="rect">
            <a:avLst/>
          </a:prstGeom>
          <a:ln w="38100">
            <a:solidFill>
              <a:srgbClr val="ffffff"/>
            </a:solidFill>
            <a:miter/>
          </a:ln>
        </p:spPr>
      </p:pic>
      <p:pic>
        <p:nvPicPr>
          <p:cNvPr id="336" name="Picture 5" descr="28"/>
          <p:cNvPicPr/>
          <p:nvPr/>
        </p:nvPicPr>
        <p:blipFill>
          <a:blip r:embed="rId2"/>
          <a:stretch/>
        </p:blipFill>
        <p:spPr>
          <a:xfrm>
            <a:off x="6372360" y="3716280"/>
            <a:ext cx="2376000" cy="18666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2"/>
          <p:cNvPicPr/>
          <p:nvPr/>
        </p:nvPicPr>
        <p:blipFill>
          <a:blip r:embed="rId3"/>
          <a:stretch/>
        </p:blipFill>
        <p:spPr>
          <a:xfrm>
            <a:off x="1979640" y="6237360"/>
            <a:ext cx="5238360" cy="2854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8" descr="Светлана Макрушина Золотой петушок"/>
          <p:cNvPicPr/>
          <p:nvPr/>
        </p:nvPicPr>
        <p:blipFill>
          <a:blip r:embed="rId4"/>
          <a:stretch/>
        </p:blipFill>
        <p:spPr>
          <a:xfrm>
            <a:off x="971640" y="333360"/>
            <a:ext cx="556920" cy="64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accent1"/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Garamond"/>
                <a:ea typeface="Arial"/>
              </a:rPr>
              <a:t>По знакомому портрету догадайся, кто же это?..</a:t>
            </a:r>
            <a:endParaRPr b="0" lang="ru-RU" sz="4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40" name="Picture 3" descr="2"/>
          <p:cNvPicPr/>
          <p:nvPr/>
        </p:nvPicPr>
        <p:blipFill>
          <a:blip r:embed="rId1"/>
          <a:stretch/>
        </p:blipFill>
        <p:spPr>
          <a:xfrm>
            <a:off x="2124000" y="6308640"/>
            <a:ext cx="5238360" cy="2854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12"/>
          <p:cNvSpPr/>
          <p:nvPr/>
        </p:nvSpPr>
        <p:spPr>
          <a:xfrm>
            <a:off x="611280" y="1692360"/>
            <a:ext cx="4752720" cy="40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Тихомолком расцветая,</a:t>
            </a:r>
            <a:br>
              <a:rPr sz="2400"/>
            </a:b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Между тем росла, росла,</a:t>
            </a:r>
            <a:br>
              <a:rPr sz="2400"/>
            </a:b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Поднялась — и расцвела.</a:t>
            </a:r>
            <a:br>
              <a:rPr sz="2400"/>
            </a:b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Белолица, черноброва,</a:t>
            </a:r>
            <a:br>
              <a:rPr sz="2400"/>
            </a:b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Нраву кроткого та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4b2500"/>
                </a:solidFill>
                <a:latin typeface="Times New Roman"/>
              </a:rPr>
              <a:t>(Царевна. </a:t>
            </a:r>
            <a:br>
              <a:rPr sz="2400"/>
            </a:br>
            <a:r>
              <a:rPr b="1" i="1" lang="ru-RU" sz="2400" spc="-1" strike="noStrike">
                <a:solidFill>
                  <a:srgbClr val="4b2500"/>
                </a:solidFill>
                <a:latin typeface="Times New Roman"/>
              </a:rPr>
              <a:t>«Сказка о мёртвой царевне...»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Месяц под косой блестит,</a:t>
            </a:r>
            <a:br>
              <a:rPr sz="2400"/>
            </a:b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А во лбу звезда горит.</a:t>
            </a:r>
            <a:br>
              <a:rPr sz="2400"/>
            </a:b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А сама-то величава,</a:t>
            </a:r>
            <a:br>
              <a:rPr sz="2400"/>
            </a:b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ыступает, будто па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4b2500"/>
                </a:solidFill>
                <a:latin typeface="Times New Roman"/>
              </a:rPr>
              <a:t>(Царевна-Лебедь. </a:t>
            </a:r>
            <a:br>
              <a:rPr sz="2400"/>
            </a:br>
            <a:r>
              <a:rPr b="1" i="1" lang="ru-RU" sz="2400" spc="-1" strike="noStrike">
                <a:solidFill>
                  <a:srgbClr val="4b2500"/>
                </a:solidFill>
                <a:latin typeface="Times New Roman"/>
              </a:rPr>
              <a:t>«Сказка о царе Салтане»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13" descr="Сказка о царе Салтане"/>
          <p:cNvPicPr/>
          <p:nvPr/>
        </p:nvPicPr>
        <p:blipFill>
          <a:blip r:embed="rId2"/>
          <a:stretch/>
        </p:blipFill>
        <p:spPr>
          <a:xfrm>
            <a:off x="6877080" y="3716280"/>
            <a:ext cx="1684080" cy="2246040"/>
          </a:xfrm>
          <a:prstGeom prst="rect">
            <a:avLst/>
          </a:prstGeom>
          <a:ln w="38100">
            <a:solidFill>
              <a:srgbClr val="ffffff"/>
            </a:solidFill>
            <a:miter/>
          </a:ln>
        </p:spPr>
      </p:pic>
      <p:pic>
        <p:nvPicPr>
          <p:cNvPr id="343" name="Picture 15" descr="Сказка о мёртвой царевне"/>
          <p:cNvPicPr/>
          <p:nvPr/>
        </p:nvPicPr>
        <p:blipFill>
          <a:blip r:embed="rId3"/>
          <a:stretch/>
        </p:blipFill>
        <p:spPr>
          <a:xfrm>
            <a:off x="5292720" y="1700280"/>
            <a:ext cx="1831680" cy="1831680"/>
          </a:xfrm>
          <a:prstGeom prst="rect">
            <a:avLst/>
          </a:prstGeom>
          <a:ln w="381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35520" cy="1142640"/>
          </a:xfrm>
          <a:prstGeom prst="rect">
            <a:avLst/>
          </a:prstGeom>
          <a:solidFill>
            <a:schemeClr val="accent1"/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Times New Roman"/>
                <a:ea typeface="Arial"/>
              </a:rPr>
              <a:t>По знакомому портрету догадайся, кто же это?..</a:t>
            </a:r>
            <a:endParaRPr b="0" lang="ru-RU" sz="4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45" name="Picture 3" descr="2"/>
          <p:cNvPicPr/>
          <p:nvPr/>
        </p:nvPicPr>
        <p:blipFill>
          <a:blip r:embed="rId1"/>
          <a:stretch/>
        </p:blipFill>
        <p:spPr>
          <a:xfrm>
            <a:off x="2124000" y="6308640"/>
            <a:ext cx="5238360" cy="28548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4"/>
          <p:cNvSpPr/>
          <p:nvPr/>
        </p:nvSpPr>
        <p:spPr>
          <a:xfrm>
            <a:off x="539640" y="1628640"/>
            <a:ext cx="4679640" cy="43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дорогой собольей душегрейке,</a:t>
            </a:r>
            <a:br>
              <a:rPr sz="2400"/>
            </a:b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Парчовая на маковке кичка.</a:t>
            </a:r>
            <a:br>
              <a:rPr sz="2400"/>
            </a:b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Жемчуги огрузили шею,</a:t>
            </a:r>
            <a:br>
              <a:rPr sz="2400"/>
            </a:b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На руках золотые перстни,</a:t>
            </a:r>
            <a:br>
              <a:rPr sz="2400"/>
            </a:b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На ногах красные сап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4b2500"/>
                </a:solidFill>
                <a:latin typeface="Times New Roman"/>
              </a:rPr>
              <a:t>(Старуха — столбовая дворянка. «Сказка о рыбаке и рыбке»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ысока, стройна, бела,</a:t>
            </a:r>
            <a:br>
              <a:rPr sz="2400"/>
            </a:b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И умом, и всем взяла,</a:t>
            </a:r>
            <a:br>
              <a:rPr sz="2400"/>
            </a:b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Но зато горда, ломлива,</a:t>
            </a:r>
            <a:br>
              <a:rPr sz="2400"/>
            </a:b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Своенравна и ревн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4b2500"/>
                </a:solidFill>
                <a:latin typeface="Times New Roman"/>
              </a:rPr>
              <a:t>(Царица-мачеха. </a:t>
            </a:r>
            <a:br>
              <a:rPr sz="2400"/>
            </a:br>
            <a:r>
              <a:rPr b="1" i="1" lang="ru-RU" sz="2400" spc="-1" strike="noStrike">
                <a:solidFill>
                  <a:srgbClr val="4b2500"/>
                </a:solidFill>
                <a:latin typeface="Times New Roman"/>
              </a:rPr>
              <a:t>«Сказка о мёртвой царевне...»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5" descr="Сказка о мёртвой царевне4"/>
          <p:cNvPicPr/>
          <p:nvPr/>
        </p:nvPicPr>
        <p:blipFill>
          <a:blip r:embed="rId2"/>
          <a:stretch/>
        </p:blipFill>
        <p:spPr>
          <a:xfrm>
            <a:off x="6877080" y="3573360"/>
            <a:ext cx="1991880" cy="2579400"/>
          </a:xfrm>
          <a:prstGeom prst="rect">
            <a:avLst/>
          </a:prstGeom>
          <a:ln w="38100">
            <a:solidFill>
              <a:srgbClr val="ffffff"/>
            </a:solidFill>
            <a:miter/>
          </a:ln>
        </p:spPr>
      </p:pic>
      <p:pic>
        <p:nvPicPr>
          <p:cNvPr id="348" name="Picture 6" descr="{82EB22D0-9B30-4F4B-B8A7-F35E7D6ADB53}"/>
          <p:cNvPicPr/>
          <p:nvPr/>
        </p:nvPicPr>
        <p:blipFill>
          <a:blip r:embed="rId3"/>
          <a:stretch/>
        </p:blipFill>
        <p:spPr>
          <a:xfrm>
            <a:off x="5292720" y="1711440"/>
            <a:ext cx="2269800" cy="2207880"/>
          </a:xfrm>
          <a:prstGeom prst="rect">
            <a:avLst/>
          </a:prstGeom>
          <a:ln w="381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929360" cy="1223640"/>
          </a:xfrm>
          <a:prstGeom prst="rect">
            <a:avLst/>
          </a:prstGeom>
          <a:solidFill>
            <a:schemeClr val="accent1"/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4b2500"/>
                </a:solidFill>
                <a:latin typeface="Times New Roman"/>
                <a:ea typeface="Arial"/>
              </a:rPr>
              <a:t>«Что за прелесть эти сказки! Каждая есть поэма!»</a:t>
            </a:r>
            <a:endParaRPr b="0" lang="ru-RU" sz="4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50" name="Picture 3" descr="9"/>
          <p:cNvPicPr/>
          <p:nvPr/>
        </p:nvPicPr>
        <p:blipFill>
          <a:blip r:embed="rId1"/>
          <a:stretch/>
        </p:blipFill>
        <p:spPr>
          <a:xfrm>
            <a:off x="324000" y="1484280"/>
            <a:ext cx="3168360" cy="2426760"/>
          </a:xfrm>
          <a:prstGeom prst="rect">
            <a:avLst/>
          </a:prstGeom>
          <a:ln w="9525">
            <a:noFill/>
          </a:ln>
        </p:spPr>
      </p:pic>
      <p:pic>
        <p:nvPicPr>
          <p:cNvPr id="351" name="Picture 4" descr="119"/>
          <p:cNvPicPr/>
          <p:nvPr/>
        </p:nvPicPr>
        <p:blipFill>
          <a:blip r:embed="rId2"/>
          <a:srcRect l="0" t="0" r="52" b="5733"/>
          <a:stretch/>
        </p:blipFill>
        <p:spPr>
          <a:xfrm>
            <a:off x="5580000" y="1484280"/>
            <a:ext cx="3168360" cy="2376000"/>
          </a:xfrm>
          <a:prstGeom prst="rect">
            <a:avLst/>
          </a:prstGeom>
          <a:ln w="38100">
            <a:solidFill>
              <a:srgbClr val="ffffff"/>
            </a:solidFill>
            <a:miter/>
          </a:ln>
        </p:spPr>
      </p:pic>
      <p:pic>
        <p:nvPicPr>
          <p:cNvPr id="352" name="Picture 5" descr="139"/>
          <p:cNvPicPr/>
          <p:nvPr/>
        </p:nvPicPr>
        <p:blipFill>
          <a:blip r:embed="rId3"/>
          <a:stretch/>
        </p:blipFill>
        <p:spPr>
          <a:xfrm>
            <a:off x="324000" y="4149720"/>
            <a:ext cx="3168360" cy="2420640"/>
          </a:xfrm>
          <a:prstGeom prst="rect">
            <a:avLst/>
          </a:prstGeom>
          <a:ln w="9525">
            <a:noFill/>
          </a:ln>
        </p:spPr>
      </p:pic>
      <p:pic>
        <p:nvPicPr>
          <p:cNvPr id="353" name="Picture 6" descr="13"/>
          <p:cNvPicPr/>
          <p:nvPr/>
        </p:nvPicPr>
        <p:blipFill>
          <a:blip r:embed="rId4"/>
          <a:stretch/>
        </p:blipFill>
        <p:spPr>
          <a:xfrm>
            <a:off x="5651640" y="4149720"/>
            <a:ext cx="3168360" cy="2385720"/>
          </a:xfrm>
          <a:prstGeom prst="rect">
            <a:avLst/>
          </a:prstGeom>
          <a:ln w="9525">
            <a:noFill/>
          </a:ln>
        </p:spPr>
      </p:pic>
      <p:pic>
        <p:nvPicPr>
          <p:cNvPr id="354" name="Picture 7" descr="38"/>
          <p:cNvPicPr/>
          <p:nvPr/>
        </p:nvPicPr>
        <p:blipFill>
          <a:blip r:embed="rId5"/>
          <a:stretch/>
        </p:blipFill>
        <p:spPr>
          <a:xfrm>
            <a:off x="3059280" y="2852640"/>
            <a:ext cx="3168360" cy="24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129080" cy="850680"/>
          </a:xfrm>
          <a:prstGeom prst="rect">
            <a:avLst/>
          </a:prstGeom>
          <a:solidFill>
            <a:schemeClr val="accent1"/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Times New Roman"/>
                <a:ea typeface="Arial"/>
              </a:rPr>
              <a:t>ЛУКОМОРЬЕ</a:t>
            </a:r>
            <a:endParaRPr b="0" lang="ru-RU" sz="4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56" name="Picture 4" descr="Безымянный"/>
          <p:cNvPicPr/>
          <p:nvPr/>
        </p:nvPicPr>
        <p:blipFill>
          <a:blip r:embed="rId1"/>
          <a:stretch/>
        </p:blipFill>
        <p:spPr>
          <a:xfrm>
            <a:off x="2556000" y="6308640"/>
            <a:ext cx="4032000" cy="3106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{4DAF8CF8-A2C5-438A-AB07-3B7F6555E063}"/>
          <p:cNvPicPr/>
          <p:nvPr/>
        </p:nvPicPr>
        <p:blipFill>
          <a:blip r:embed="rId2"/>
          <a:stretch/>
        </p:blipFill>
        <p:spPr>
          <a:xfrm>
            <a:off x="1476360" y="1268280"/>
            <a:ext cx="6192360" cy="49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C:\Documents and Settings\User\Рабочий стол\lukomor[1].jpg"/>
          <p:cNvPicPr/>
          <p:nvPr/>
        </p:nvPicPr>
        <p:blipFill>
          <a:blip r:embed="rId1"/>
          <a:stretch/>
        </p:blipFill>
        <p:spPr>
          <a:xfrm>
            <a:off x="533520" y="304920"/>
            <a:ext cx="4723920" cy="5790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2"/>
          <p:cNvSpPr/>
          <p:nvPr/>
        </p:nvSpPr>
        <p:spPr>
          <a:xfrm>
            <a:off x="5703120" y="1676520"/>
            <a:ext cx="26791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Century"/>
              </a:rPr>
              <a:t>У лукоморья д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Century"/>
              </a:rPr>
              <a:t> </a:t>
            </a:r>
            <a:r>
              <a:rPr b="1" i="1" lang="ru-RU" sz="2400" spc="-1" strike="noStrike">
                <a:solidFill>
                  <a:srgbClr val="663300"/>
                </a:solidFill>
                <a:latin typeface="Century"/>
              </a:rPr>
              <a:t>зеле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3"/>
          <p:cNvSpPr/>
          <p:nvPr/>
        </p:nvSpPr>
        <p:spPr>
          <a:xfrm>
            <a:off x="5486400" y="685800"/>
            <a:ext cx="34621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Century"/>
              </a:rPr>
              <a:t>Какими словами начина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Century"/>
              </a:rPr>
              <a:t>сказка (вступление к поэме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4"/>
          <p:cNvSpPr/>
          <p:nvPr/>
        </p:nvSpPr>
        <p:spPr>
          <a:xfrm>
            <a:off x="5253120" y="3124080"/>
            <a:ext cx="38066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Century"/>
              </a:rPr>
              <a:t>Какую бы иллюстрацию в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Century"/>
              </a:rPr>
              <a:t>ребята, нарисова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C:\Documents and Settings\User\Рабочий стол\01lab3qpd1225447956[1].jpg"/>
          <p:cNvPicPr/>
          <p:nvPr/>
        </p:nvPicPr>
        <p:blipFill>
          <a:blip r:embed="rId1"/>
          <a:stretch/>
        </p:blipFill>
        <p:spPr>
          <a:xfrm>
            <a:off x="609480" y="228600"/>
            <a:ext cx="7619760" cy="5714640"/>
          </a:xfrm>
          <a:prstGeom prst="rect">
            <a:avLst/>
          </a:prstGeom>
          <a:ln w="0">
            <a:noFill/>
          </a:ln>
        </p:spPr>
      </p:pic>
      <p:sp>
        <p:nvSpPr>
          <p:cNvPr id="363" name="TextBox 2"/>
          <p:cNvSpPr/>
          <p:nvPr/>
        </p:nvSpPr>
        <p:spPr>
          <a:xfrm>
            <a:off x="1607040" y="6172200"/>
            <a:ext cx="5751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Century"/>
              </a:rPr>
              <a:t>Как вы думаете, каким будет следующий кадр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C:\Documents and Settings\User\Рабочий стол\1240204578_07c[1].jpg"/>
          <p:cNvPicPr/>
          <p:nvPr/>
        </p:nvPicPr>
        <p:blipFill>
          <a:blip r:embed="rId1"/>
          <a:stretch/>
        </p:blipFill>
        <p:spPr>
          <a:xfrm>
            <a:off x="3733920" y="380880"/>
            <a:ext cx="4876560" cy="6019560"/>
          </a:xfrm>
          <a:prstGeom prst="rect">
            <a:avLst/>
          </a:prstGeom>
          <a:ln w="0">
            <a:noFill/>
          </a:ln>
        </p:spPr>
      </p:pic>
      <p:sp>
        <p:nvSpPr>
          <p:cNvPr id="365" name="TextBox 2"/>
          <p:cNvSpPr/>
          <p:nvPr/>
        </p:nvSpPr>
        <p:spPr>
          <a:xfrm>
            <a:off x="-137880" y="1676520"/>
            <a:ext cx="4120560" cy="24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Century"/>
                <a:ea typeface="Arial"/>
              </a:rPr>
              <a:t>Там чудес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Century"/>
                <a:ea typeface="Arial"/>
              </a:rPr>
              <a:t>там леший брод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Century"/>
                <a:ea typeface="Arial"/>
              </a:rPr>
              <a:t>Русалка на ветвях си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3"/>
          <p:cNvSpPr/>
          <p:nvPr/>
        </p:nvSpPr>
        <p:spPr>
          <a:xfrm>
            <a:off x="107280" y="762120"/>
            <a:ext cx="34333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entury"/>
              </a:rPr>
              <a:t>Какие строчки подойд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entury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Century"/>
              </a:rPr>
              <a:t>к данному кадр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1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4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3"/>
          <p:cNvSpPr/>
          <p:nvPr/>
        </p:nvSpPr>
        <p:spPr>
          <a:xfrm>
            <a:off x="468360" y="5950080"/>
            <a:ext cx="2879280" cy="8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4b25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4b2500"/>
                </a:solidFill>
                <a:latin typeface="Times New Roman"/>
              </a:rPr>
              <a:t>Пушкин-ребен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4788000" y="620640"/>
            <a:ext cx="396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3814920" y="981000"/>
            <a:ext cx="5328720" cy="5055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Garamond"/>
                <a:ea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4800" spc="-1" strike="noStrike">
                <a:solidFill>
                  <a:srgbClr val="4b2500"/>
                </a:solidFill>
                <a:latin typeface="Times New Roman"/>
                <a:ea typeface="Arial"/>
              </a:rPr>
              <a:t>Пушкин родился 26 мая 1799 год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4800" spc="-1" strike="noStrike">
                <a:solidFill>
                  <a:srgbClr val="4b2500"/>
                </a:solidFill>
                <a:latin typeface="Times New Roman"/>
                <a:ea typeface="Arial"/>
              </a:rPr>
              <a:t>Детские годы Пушкина протекли в Москве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6" descr="{4B1C5B67-A98F-472E-BA07-2DB512D477D0}"/>
          <p:cNvPicPr/>
          <p:nvPr/>
        </p:nvPicPr>
        <p:blipFill>
          <a:blip r:embed="rId1"/>
          <a:stretch/>
        </p:blipFill>
        <p:spPr>
          <a:xfrm>
            <a:off x="250920" y="1197000"/>
            <a:ext cx="3476160" cy="4536720"/>
          </a:xfrm>
          <a:prstGeom prst="rect">
            <a:avLst/>
          </a:prstGeom>
          <a:ln w="28575">
            <a:solidFill>
              <a:srgbClr val="ffffff"/>
            </a:solidFill>
            <a:miter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080" cy="718920"/>
          </a:xfrm>
          <a:prstGeom prst="rect">
            <a:avLst/>
          </a:prstGeom>
          <a:solidFill>
            <a:schemeClr val="accent1"/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4b2500"/>
                </a:solidFill>
                <a:latin typeface="Times New Roman"/>
                <a:ea typeface="Arial"/>
              </a:rPr>
              <a:t>Детские годы</a:t>
            </a:r>
            <a:endParaRPr b="0" lang="ru-RU" sz="4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C:\Documents and Settings\User\Рабочий стол\1212276286_i-196[1].jpg"/>
          <p:cNvPicPr/>
          <p:nvPr/>
        </p:nvPicPr>
        <p:blipFill>
          <a:blip r:embed="rId1"/>
          <a:stretch/>
        </p:blipFill>
        <p:spPr>
          <a:xfrm>
            <a:off x="304920" y="228600"/>
            <a:ext cx="3114360" cy="47620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C:\Documents and Settings\User\Рабочий стол\411526[1].jpg"/>
          <p:cNvPicPr/>
          <p:nvPr/>
        </p:nvPicPr>
        <p:blipFill>
          <a:blip r:embed="rId2"/>
          <a:stretch/>
        </p:blipFill>
        <p:spPr>
          <a:xfrm>
            <a:off x="2743200" y="4572000"/>
            <a:ext cx="2742840" cy="20570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Картинка 5 из 469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457200"/>
            <a:ext cx="30477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1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C:\Documents and Settings\User\Рабочий стол\лукоморье\05labelan1231806414[1].jpg"/>
          <p:cNvPicPr/>
          <p:nvPr/>
        </p:nvPicPr>
        <p:blipFill>
          <a:blip r:embed="rId1"/>
          <a:stretch/>
        </p:blipFill>
        <p:spPr>
          <a:xfrm rot="180000">
            <a:off x="609480" y="1295280"/>
            <a:ext cx="6095520" cy="45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4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C:\Documents and Settings\User\Рабочий стол\06labelan1231806415[1].jpg"/>
          <p:cNvPicPr/>
          <p:nvPr/>
        </p:nvPicPr>
        <p:blipFill>
          <a:blip r:embed="rId1"/>
          <a:stretch/>
        </p:blipFill>
        <p:spPr>
          <a:xfrm>
            <a:off x="457200" y="838080"/>
            <a:ext cx="7009920" cy="50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C:\Documents and Settings\User\Рабочий стол\лукоморье\02labpcrk1221205771[1].jpg"/>
          <p:cNvPicPr/>
          <p:nvPr/>
        </p:nvPicPr>
        <p:blipFill>
          <a:blip r:embed="rId1"/>
          <a:stretch/>
        </p:blipFill>
        <p:spPr>
          <a:xfrm>
            <a:off x="762120" y="890640"/>
            <a:ext cx="7619760" cy="56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C:\Documents and Settings\User\Рабочий стол\1759215[1].jpg"/>
          <p:cNvPicPr/>
          <p:nvPr/>
        </p:nvPicPr>
        <p:blipFill>
          <a:blip r:embed="rId1"/>
          <a:stretch/>
        </p:blipFill>
        <p:spPr>
          <a:xfrm>
            <a:off x="380880" y="380880"/>
            <a:ext cx="8381520" cy="54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  <a:ea typeface="Arial"/>
              </a:rPr>
              <a:t>Село Захарово</a:t>
            </a:r>
            <a:endParaRPr b="0" lang="ru-RU" sz="4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4b2500"/>
                </a:solidFill>
                <a:latin typeface="Garamond"/>
                <a:ea typeface="Arial"/>
              </a:rPr>
              <a:t>Летом Пушкина увозили в Захарово подмосковную деревню бабушки. </a:t>
            </a:r>
            <a:endParaRPr b="0" lang="ru-RU" sz="4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357120" y="1785960"/>
            <a:ext cx="4138200" cy="3928680"/>
          </a:xfrm>
          <a:prstGeom prst="rect">
            <a:avLst/>
          </a:prstGeom>
          <a:ln w="9525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  <a:ea typeface="Arial"/>
              </a:rPr>
              <a:t>Родители   поэта</a:t>
            </a:r>
            <a:endParaRPr b="0" lang="ru-RU" sz="4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  <a:ea typeface="Arial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876240" y="1714680"/>
            <a:ext cx="3403080" cy="4428720"/>
          </a:xfrm>
          <a:prstGeom prst="rect">
            <a:avLst/>
          </a:prstGeom>
          <a:ln w="9525">
            <a:solidFill>
              <a:srgbClr val="663300"/>
            </a:solidFill>
            <a:miter/>
          </a:ln>
        </p:spPr>
      </p:pic>
      <p:pic>
        <p:nvPicPr>
          <p:cNvPr id="279" name="Picture 3" descr=""/>
          <p:cNvPicPr/>
          <p:nvPr/>
        </p:nvPicPr>
        <p:blipFill>
          <a:blip r:embed="rId2"/>
          <a:stretch/>
        </p:blipFill>
        <p:spPr>
          <a:xfrm>
            <a:off x="4857840" y="1643040"/>
            <a:ext cx="3285720" cy="4538160"/>
          </a:xfrm>
          <a:prstGeom prst="rect">
            <a:avLst/>
          </a:prstGeom>
          <a:ln w="0">
            <a:solidFill>
              <a:srgbClr val="663300"/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  <a:ea typeface="Arial"/>
              </a:rPr>
              <a:t>Мария Алексеевна Ганнибал</a:t>
            </a:r>
            <a:endParaRPr b="0" lang="ru-RU" sz="4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ru-RU" sz="4800" spc="-1" strike="noStrike">
                <a:solidFill>
                  <a:srgbClr val="4b2500"/>
                </a:solidFill>
                <a:latin typeface="Garamond"/>
                <a:ea typeface="Arial"/>
              </a:rPr>
              <a:t>Бабушка  </a:t>
            </a:r>
            <a:endParaRPr b="0" lang="ru-RU" sz="4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ru-RU" sz="4800" spc="-1" strike="noStrike">
                <a:solidFill>
                  <a:srgbClr val="4b2500"/>
                </a:solidFill>
                <a:latin typeface="Garamond"/>
                <a:ea typeface="Arial"/>
              </a:rPr>
              <a:t>А.С. Пушкина</a:t>
            </a:r>
            <a:endParaRPr b="0" lang="ru-RU" sz="4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857160" y="1643040"/>
            <a:ext cx="3079440" cy="4500360"/>
          </a:xfrm>
          <a:prstGeom prst="rect">
            <a:avLst/>
          </a:prstGeom>
          <a:ln w="9525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  <a:ea typeface="Arial"/>
              </a:rPr>
              <a:t>Арина Родионовна</a:t>
            </a:r>
            <a:endParaRPr b="0" lang="ru-RU" sz="4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ru-RU" sz="4800" spc="-1" strike="noStrike">
                <a:solidFill>
                  <a:srgbClr val="4b2500"/>
                </a:solidFill>
                <a:latin typeface="Garamond"/>
                <a:ea typeface="Arial"/>
              </a:rPr>
              <a:t>Няня</a:t>
            </a:r>
            <a:endParaRPr b="0" lang="ru-RU" sz="4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ru-RU" sz="4800" spc="-1" strike="noStrike">
                <a:solidFill>
                  <a:srgbClr val="4b2500"/>
                </a:solidFill>
                <a:latin typeface="Garamond"/>
                <a:ea typeface="Arial"/>
              </a:rPr>
              <a:t>А.С. Пушкина</a:t>
            </a:r>
            <a:endParaRPr b="0" lang="ru-RU" sz="4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642960" y="1643040"/>
            <a:ext cx="3476160" cy="4635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464"/>
          <p:cNvPicPr/>
          <p:nvPr/>
        </p:nvPicPr>
        <p:blipFill>
          <a:blip r:embed="rId1"/>
          <a:stretch/>
        </p:blipFill>
        <p:spPr>
          <a:xfrm>
            <a:off x="4859280" y="765000"/>
            <a:ext cx="3828600" cy="3960360"/>
          </a:xfrm>
          <a:prstGeom prst="rect">
            <a:avLst/>
          </a:prstGeom>
          <a:ln w="57150">
            <a:solidFill>
              <a:srgbClr val="ffffff"/>
            </a:solidFill>
            <a:miter/>
          </a:ln>
        </p:spPr>
      </p:pic>
      <p:sp>
        <p:nvSpPr>
          <p:cNvPr id="287" name="Text Box 3"/>
          <p:cNvSpPr/>
          <p:nvPr/>
        </p:nvSpPr>
        <p:spPr>
          <a:xfrm>
            <a:off x="5076720" y="4797360"/>
            <a:ext cx="3382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4b25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4b2500"/>
                </a:solidFill>
                <a:latin typeface="Times New Roman"/>
              </a:rPr>
              <a:t>Пушкин-мальчик. 1810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179280" y="365040"/>
            <a:ext cx="4465440" cy="36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5400" spc="-1" strike="noStrike">
                <a:solidFill>
                  <a:srgbClr val="4b2500"/>
                </a:solidFill>
                <a:latin typeface="Times New Roman"/>
              </a:rPr>
              <a:t>Многие часы Пушкин проводил в библиотеках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Безымянный"/>
          <p:cNvPicPr/>
          <p:nvPr/>
        </p:nvPicPr>
        <p:blipFill>
          <a:blip r:embed="rId2"/>
          <a:stretch/>
        </p:blipFill>
        <p:spPr>
          <a:xfrm>
            <a:off x="5796000" y="5589720"/>
            <a:ext cx="194292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  <a:ea typeface="Arial"/>
              </a:rPr>
              <a:t>Царское село</a:t>
            </a:r>
            <a:br>
              <a:rPr sz="4400"/>
            </a:br>
            <a:r>
              <a:rPr b="1" lang="ru-RU" sz="4400" spc="-1" strike="noStrike">
                <a:solidFill>
                  <a:srgbClr val="a69564"/>
                </a:solidFill>
                <a:latin typeface="Garamond"/>
                <a:ea typeface="Arial"/>
              </a:rPr>
              <a:t>ЛИЦЕЙ</a:t>
            </a:r>
            <a:endParaRPr b="0" lang="ru-RU" sz="4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  <a:ea typeface="Arial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1000080" y="1571760"/>
            <a:ext cx="7294320" cy="46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чение">
  <a:themeElements>
    <a:clrScheme name="Течение 8">
      <a:dk1>
        <a:srgbClr val="4b2500"/>
      </a:dk1>
      <a:lt1>
        <a:srgbClr val="f9f0d3"/>
      </a:lt1>
      <a:dk2>
        <a:srgbClr val="a69564"/>
      </a:dk2>
      <a:lt2>
        <a:srgbClr val="efdeaf"/>
      </a:lt2>
      <a:accent1>
        <a:srgbClr val="ffffe3"/>
      </a:accent1>
      <a:accent2>
        <a:srgbClr val="bfbfa7"/>
      </a:accent2>
      <a:accent3>
        <a:srgbClr val="fbf6e6"/>
      </a:accent3>
      <a:accent4>
        <a:srgbClr val="3f1e00"/>
      </a:accent4>
      <a:accent5>
        <a:srgbClr val="ffffef"/>
      </a:accent5>
      <a:accent6>
        <a:srgbClr val="adad97"/>
      </a:accent6>
      <a:hlink>
        <a:srgbClr val="7b6d47"/>
      </a:hlink>
      <a:folHlink>
        <a:srgbClr val="a99d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чение">
  <a:themeElements>
    <a:clrScheme name="Течение 8">
      <a:dk1>
        <a:srgbClr val="4b2500"/>
      </a:dk1>
      <a:lt1>
        <a:srgbClr val="f9f0d3"/>
      </a:lt1>
      <a:dk2>
        <a:srgbClr val="a69564"/>
      </a:dk2>
      <a:lt2>
        <a:srgbClr val="efdeaf"/>
      </a:lt2>
      <a:accent1>
        <a:srgbClr val="ffffe3"/>
      </a:accent1>
      <a:accent2>
        <a:srgbClr val="bfbfa7"/>
      </a:accent2>
      <a:accent3>
        <a:srgbClr val="fbf6e6"/>
      </a:accent3>
      <a:accent4>
        <a:srgbClr val="3f1e00"/>
      </a:accent4>
      <a:accent5>
        <a:srgbClr val="ffffef"/>
      </a:accent5>
      <a:accent6>
        <a:srgbClr val="adad97"/>
      </a:accent6>
      <a:hlink>
        <a:srgbClr val="7b6d47"/>
      </a:hlink>
      <a:folHlink>
        <a:srgbClr val="a99d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чение">
  <a:themeElements>
    <a:clrScheme name="Течение 8">
      <a:dk1>
        <a:srgbClr val="4b2500"/>
      </a:dk1>
      <a:lt1>
        <a:srgbClr val="f9f0d3"/>
      </a:lt1>
      <a:dk2>
        <a:srgbClr val="a69564"/>
      </a:dk2>
      <a:lt2>
        <a:srgbClr val="efdeaf"/>
      </a:lt2>
      <a:accent1>
        <a:srgbClr val="ffffe3"/>
      </a:accent1>
      <a:accent2>
        <a:srgbClr val="bfbfa7"/>
      </a:accent2>
      <a:accent3>
        <a:srgbClr val="fbf6e6"/>
      </a:accent3>
      <a:accent4>
        <a:srgbClr val="3f1e00"/>
      </a:accent4>
      <a:accent5>
        <a:srgbClr val="ffffef"/>
      </a:accent5>
      <a:accent6>
        <a:srgbClr val="adad97"/>
      </a:accent6>
      <a:hlink>
        <a:srgbClr val="7b6d47"/>
      </a:hlink>
      <a:folHlink>
        <a:srgbClr val="a99d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чение">
  <a:themeElements>
    <a:clrScheme name="Течение 8">
      <a:dk1>
        <a:srgbClr val="4b2500"/>
      </a:dk1>
      <a:lt1>
        <a:srgbClr val="f9f0d3"/>
      </a:lt1>
      <a:dk2>
        <a:srgbClr val="a69564"/>
      </a:dk2>
      <a:lt2>
        <a:srgbClr val="efdeaf"/>
      </a:lt2>
      <a:accent1>
        <a:srgbClr val="ffffe3"/>
      </a:accent1>
      <a:accent2>
        <a:srgbClr val="bfbfa7"/>
      </a:accent2>
      <a:accent3>
        <a:srgbClr val="fbf6e6"/>
      </a:accent3>
      <a:accent4>
        <a:srgbClr val="3f1e00"/>
      </a:accent4>
      <a:accent5>
        <a:srgbClr val="ffffef"/>
      </a:accent5>
      <a:accent6>
        <a:srgbClr val="adad97"/>
      </a:accent6>
      <a:hlink>
        <a:srgbClr val="7b6d47"/>
      </a:hlink>
      <a:folHlink>
        <a:srgbClr val="a99d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ечение">
  <a:themeElements>
    <a:clrScheme name="Течение 8">
      <a:dk1>
        <a:srgbClr val="4b2500"/>
      </a:dk1>
      <a:lt1>
        <a:srgbClr val="f9f0d3"/>
      </a:lt1>
      <a:dk2>
        <a:srgbClr val="a69564"/>
      </a:dk2>
      <a:lt2>
        <a:srgbClr val="efdeaf"/>
      </a:lt2>
      <a:accent1>
        <a:srgbClr val="ffffe3"/>
      </a:accent1>
      <a:accent2>
        <a:srgbClr val="bfbfa7"/>
      </a:accent2>
      <a:accent3>
        <a:srgbClr val="fbf6e6"/>
      </a:accent3>
      <a:accent4>
        <a:srgbClr val="3f1e00"/>
      </a:accent4>
      <a:accent5>
        <a:srgbClr val="ffffef"/>
      </a:accent5>
      <a:accent6>
        <a:srgbClr val="adad97"/>
      </a:accent6>
      <a:hlink>
        <a:srgbClr val="7b6d47"/>
      </a:hlink>
      <a:folHlink>
        <a:srgbClr val="a99d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  <Paragraphs>71</Paragraphs>
  <Company>38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3:08:00Z</dcterms:created>
  <dc:creator>Шонины</dc:creator>
  <dc:description/>
  <dc:language>en-US</dc:language>
  <cp:lastModifiedBy>PSB</cp:lastModifiedBy>
  <dcterms:modified xsi:type="dcterms:W3CDTF">2023-05-16T14:22:21Z</dcterms:modified>
  <cp:revision>41</cp:revision>
  <dc:subject/>
  <dc:title>Александр Сергеевич Пушкин (1799-1837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34</vt:r8>
  </property>
</Properties>
</file>