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EE6-F943-4BAB-BC81-0C653F28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997-919C-4629-A03F-094CD6B3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E13-3708-42DE-8A21-772CB523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6AD-0270-4E60-A830-A86631B6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BD85-D496-4BA2-953C-34E16AA2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8E12-738F-440C-9B44-F1FF91E4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F233-7AA1-4580-93B2-E89FB4D9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B23E-435F-45C6-9BFF-6B89014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2CE7-C3D3-4B3E-B1B2-4680239F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4253-1EAF-4225-BAA3-46C6C057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8F89-8C1A-4CC8-B1DD-382136CB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854-C436-466F-AFC0-B21A3B53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C656-6AB2-4B00-8CBD-AA98DAB5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65DF-B1C2-4EF9-ADBE-3AE9468A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C3C0-2A1C-4D82-A42E-25C101C0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72F9-C188-451F-82CC-D0E5DEC5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A3E0-A614-43A5-9132-C0EE2495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E752-252D-4599-AFEC-076E01C9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6B28-E162-464B-84C6-5D20FA17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25C2B-9B5D-4642-8689-20F48A31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AE77-211D-435B-BE1C-656CCA16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D821C-5EE4-4E6F-93B5-7F8E5FF0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079-2157-4C5D-B483-BBA9FD3B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EAAF-DA14-4BCB-964C-FF3EAD8F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C9A11-EBDB-4724-B124-33F8702C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704E-69B9-43E6-AB26-500A774F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F3E2-E494-4D24-B45F-1471111A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0F279-A5BF-4530-95AD-3077177B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E070-AFE6-4A63-AC09-9C79B5B2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6E6E-ED9E-41A7-9853-54815669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FD07-0B4A-4273-87B3-D6298294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3873C-263C-4328-BDFB-031CFAF3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537C6-F792-4A85-8A4D-F7A29195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C5D-B05D-439D-96B5-52AFB728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1FFE2-9404-4C09-A7AC-1D355F76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D81AB-F820-4E38-BD90-A7201888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553B7-0B10-4E03-ABC9-FFFA2BDD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A7869-8D5A-4ECD-A1A9-007E8623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F4663-59A2-4A78-A144-1486C2C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E47D-C64F-4D84-9924-17655125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87054-3C64-4F7F-9F36-EE2809B4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97B9-2821-4ABC-A28A-15A2F545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53E0-5CAC-41A8-AD6C-E864C469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5BE-29E5-47BA-AE69-C318D58C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5E6-B9CD-481E-90AE-CDCB6E4C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301-A4E6-49BD-BB6D-D8E04DE9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C7D-F59E-44BA-8BDD-D46911C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48D-457D-4771-998D-217468E8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c2d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54928BA-94D9-4960-9E9B-40FAF4B3562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c2d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BF44D3C-2D7F-4617-B9B1-7BB9BDAA8A4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c2d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CA13055-D871-4F4C-98B7-D20C8322CA3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c2d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CF3BED8-B1B1-4307-B1EE-F2ECFF6E232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Е.И. Чарушин «Кабан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211640" y="3886200"/>
            <a:ext cx="356040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  <a:ea typeface="Arial"/>
              </a:rPr>
              <a:t>Походяева С.Б., учитель начальных классов, МБОУ ШР «СОШ № 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04040" cy="66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952360" cy="1956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"/>
          <p:cNvPicPr/>
          <p:nvPr/>
        </p:nvPicPr>
        <p:blipFill>
          <a:blip r:embed="rId2"/>
          <a:stretch/>
        </p:blipFill>
        <p:spPr>
          <a:xfrm>
            <a:off x="179280" y="176040"/>
            <a:ext cx="2952360" cy="1968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"/>
          <p:cNvPicPr/>
          <p:nvPr/>
        </p:nvPicPr>
        <p:blipFill>
          <a:blip r:embed="rId3"/>
          <a:stretch/>
        </p:blipFill>
        <p:spPr>
          <a:xfrm>
            <a:off x="5848200" y="260280"/>
            <a:ext cx="3122280" cy="2015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2808000" cy="187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"/>
          <p:cNvPicPr/>
          <p:nvPr/>
        </p:nvPicPr>
        <p:blipFill>
          <a:blip r:embed="rId5"/>
          <a:stretch/>
        </p:blipFill>
        <p:spPr>
          <a:xfrm>
            <a:off x="5857920" y="4227480"/>
            <a:ext cx="3020760" cy="2009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"/>
          <p:cNvPicPr/>
          <p:nvPr/>
        </p:nvPicPr>
        <p:blipFill>
          <a:blip r:embed="rId6"/>
          <a:stretch/>
        </p:blipFill>
        <p:spPr>
          <a:xfrm>
            <a:off x="3492360" y="1576440"/>
            <a:ext cx="223164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Таблица 1"/>
          <p:cNvGraphicFramePr/>
          <p:nvPr/>
        </p:nvGraphicFramePr>
        <p:xfrm>
          <a:off x="179280" y="189000"/>
          <a:ext cx="8784720" cy="6630480"/>
        </p:xfrm>
        <a:graphic>
          <a:graphicData uri="http://schemas.openxmlformats.org/drawingml/2006/table">
            <a:tbl>
              <a:tblPr/>
              <a:tblGrid>
                <a:gridCol w="1223640"/>
                <a:gridCol w="1584000"/>
                <a:gridCol w="2808000"/>
                <a:gridCol w="3168360"/>
              </a:tblGrid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Arial"/>
                        </a:rPr>
                        <a:t>Пример из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36528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лодное кушанье из сгустившегося мясного или рыбного навара с кусочками мяса, рыбы, холодец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начала мягкие, тёплые, живые, не рога, а кровяной какой – то….Потом твердеет и становится настоящим рогом, а кожа отпада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56356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о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чок, торчащая пряд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йчас у Серёжки на рогах кожа висит..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Таблица 1"/>
          <p:cNvGraphicFramePr/>
          <p:nvPr/>
        </p:nvGraphicFramePr>
        <p:xfrm>
          <a:off x="179280" y="260280"/>
          <a:ext cx="8784720" cy="5746320"/>
        </p:xfrm>
        <a:graphic>
          <a:graphicData uri="http://schemas.openxmlformats.org/drawingml/2006/table">
            <a:tbl>
              <a:tblPr/>
              <a:tblGrid>
                <a:gridCol w="1103040"/>
                <a:gridCol w="1560240"/>
                <a:gridCol w="3025440"/>
                <a:gridCol w="3095280"/>
              </a:tblGrid>
              <a:tr h="28796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минист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 управления исполнительской вла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телефону в пожарную часть позвоню,…..скаж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86668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город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бор, огороженная час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полез я на Серёжкину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Таблица 1"/>
          <p:cNvGraphicFramePr/>
          <p:nvPr/>
        </p:nvGraphicFramePr>
        <p:xfrm>
          <a:off x="179280" y="260280"/>
          <a:ext cx="8784720" cy="6265440"/>
        </p:xfrm>
        <a:graphic>
          <a:graphicData uri="http://schemas.openxmlformats.org/drawingml/2006/table">
            <a:tbl>
              <a:tblPr/>
              <a:tblGrid>
                <a:gridCol w="1368360"/>
                <a:gridCol w="5256000"/>
                <a:gridCol w="1008000"/>
                <a:gridCol w="1152360"/>
              </a:tblGrid>
              <a:tr h="1319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твер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е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319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га олени меняют каждый месяц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19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исатель рисовал оленя мара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30796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описании рогов оленя, писатель использует элемент сравнени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га – студен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Таблица 1"/>
          <p:cNvGraphicFramePr/>
          <p:nvPr/>
        </p:nvGraphicFramePr>
        <p:xfrm>
          <a:off x="179280" y="260280"/>
          <a:ext cx="8784720" cy="6632280"/>
        </p:xfrm>
        <a:graphic>
          <a:graphicData uri="http://schemas.openxmlformats.org/drawingml/2006/table">
            <a:tbl>
              <a:tblPr/>
              <a:tblGrid>
                <a:gridCol w="1368360"/>
                <a:gridCol w="5256000"/>
                <a:gridCol w="1008000"/>
                <a:gridCol w="1152360"/>
              </a:tblGrid>
              <a:tr h="18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рассказе упоминаются животные в следующем порядк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лень, ягуар, Гималайский медведь, слон, кабаны, журавли – красав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24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кабан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пя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еня не смотря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умеют голову поднима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рну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ежа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хрюкиваю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востиком вертя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57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тика писателя по ходу произведения менялась так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влечённый де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уган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услив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дчив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блюдатель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Arial"/>
              </a:rPr>
              <a:t>Критерии 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Все плюсы – 5 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1-3 минуса – 4  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4- 5 минусов – 3 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более 5 минусов – 2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Arial"/>
              </a:rPr>
              <a:t>Главная мысль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  <a:ea typeface="Arial"/>
              </a:rPr>
              <a:t>Что хотел сказать автор?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209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Arial"/>
              </a:rPr>
              <a:t>Буклет «Мудрые мысли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В незнакомой_____________ надо быть ______________ и предпринять все меры___________________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Arial"/>
              </a:rPr>
              <a:t>Буклет «Мудрые мысли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В незнакомой 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Arial"/>
              </a:rPr>
              <a:t>ситуации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надо быть 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Arial"/>
              </a:rPr>
              <a:t>осторожным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 и предпринять все меры 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Arial"/>
              </a:rPr>
              <a:t>безопасности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Arial"/>
              </a:rPr>
              <a:t>Если прочтешь что-либо, то из прочитанного усвой себе главную мысль. Так поступаю и я: из того, что я прочел, я непременно что-нибудь отмечу.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Содержимое 3"/>
          <p:cNvGraphicFramePr/>
          <p:nvPr/>
        </p:nvGraphicFramePr>
        <p:xfrm>
          <a:off x="0" y="0"/>
          <a:ext cx="9143640" cy="6856200"/>
        </p:xfrm>
        <a:graphic>
          <a:graphicData uri="http://schemas.openxmlformats.org/drawingml/2006/table">
            <a:tbl>
              <a:tblPr/>
              <a:tblGrid>
                <a:gridCol w="3047760"/>
                <a:gridCol w="3047760"/>
                <a:gridCol w="3047760"/>
              </a:tblGrid>
              <a:tr h="21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ru-RU" sz="32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 начало 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 коне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61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понимаю содержание текс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61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умею находить информацию в текс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могу определить главную мыс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  <a:ea typeface="Arial"/>
              </a:rPr>
              <a:t>С.И. Ожегов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  <a:ea typeface="Arial"/>
              </a:rPr>
              <a:t>Угроза чего – нибудь очень плохого, какого – нибудь несчастья.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Arial"/>
              </a:rPr>
              <a:t>Угроза чего – нибудь очень плохого, какого – нибудь несчастья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(Опасность)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Прямая соединительная линия 5"/>
          <p:cNvCxnSpPr/>
          <p:nvPr/>
        </p:nvCxnSpPr>
        <p:spPr>
          <a:xfrm>
            <a:off x="610920" y="2492280"/>
            <a:ext cx="2016720" cy="360"/>
          </a:xfrm>
          <a:prstGeom prst="straightConnector1">
            <a:avLst/>
          </a:prstGeom>
          <a:ln w="76200">
            <a:solidFill>
              <a:srgbClr val="000000"/>
            </a:solidFill>
            <a:miter/>
          </a:ln>
        </p:spPr>
      </p:cxnSp>
      <p:cxnSp>
        <p:nvCxnSpPr>
          <p:cNvPr id="174" name="Прямая соединительная линия 7"/>
          <p:cNvCxnSpPr/>
          <p:nvPr/>
        </p:nvCxnSpPr>
        <p:spPr>
          <a:xfrm>
            <a:off x="3132000" y="4292280"/>
            <a:ext cx="3240360" cy="360"/>
          </a:xfrm>
          <a:prstGeom prst="straightConnector1">
            <a:avLst/>
          </a:prstGeom>
          <a:ln w="762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3995640" y="2924280"/>
            <a:ext cx="4824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«Каба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Arial"/>
              </a:rPr>
              <a:t>Евгений Иванович Чарушин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rcRect l="0" t="0" r="0" b="4844"/>
          <a:stretch/>
        </p:blipFill>
        <p:spPr>
          <a:xfrm>
            <a:off x="539640" y="1700280"/>
            <a:ext cx="3698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  <a:ea typeface="Arial"/>
              </a:rPr>
              <a:t>Тема урока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Опасности, которые могут встречаться в жизни на примере произведения  «Кабан»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Содержимое 3"/>
          <p:cNvGraphicFramePr/>
          <p:nvPr/>
        </p:nvGraphicFramePr>
        <p:xfrm>
          <a:off x="0" y="0"/>
          <a:ext cx="9143640" cy="6856200"/>
        </p:xfrm>
        <a:graphic>
          <a:graphicData uri="http://schemas.openxmlformats.org/drawingml/2006/table">
            <a:tbl>
              <a:tblPr/>
              <a:tblGrid>
                <a:gridCol w="3047760"/>
                <a:gridCol w="3047760"/>
                <a:gridCol w="3047760"/>
              </a:tblGrid>
              <a:tr h="21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ru-RU" sz="32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 начало 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 коне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61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понимаю содержание текс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61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умею находить информацию в текс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 могу определить главную мыс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  <a:ea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Овал 1"/>
          <p:cNvSpPr/>
          <p:nvPr/>
        </p:nvSpPr>
        <p:spPr>
          <a:xfrm>
            <a:off x="3708360" y="2637000"/>
            <a:ext cx="1510920" cy="1439640"/>
          </a:xfrm>
          <a:prstGeom prst="ellipse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4" name="Овал 3"/>
          <p:cNvSpPr/>
          <p:nvPr/>
        </p:nvSpPr>
        <p:spPr>
          <a:xfrm rot="8917200">
            <a:off x="5062680" y="1780920"/>
            <a:ext cx="2673000" cy="15285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5" name="Овал 4"/>
          <p:cNvSpPr/>
          <p:nvPr/>
        </p:nvSpPr>
        <p:spPr>
          <a:xfrm rot="13036800">
            <a:off x="4645080" y="4088160"/>
            <a:ext cx="2695320" cy="149652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6" name="Овал 5"/>
          <p:cNvSpPr/>
          <p:nvPr/>
        </p:nvSpPr>
        <p:spPr>
          <a:xfrm rot="6585000">
            <a:off x="2316960" y="4531680"/>
            <a:ext cx="2703240" cy="157428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7" name="Овал 6"/>
          <p:cNvSpPr/>
          <p:nvPr/>
        </p:nvSpPr>
        <p:spPr>
          <a:xfrm rot="10800000">
            <a:off x="1043280" y="2493000"/>
            <a:ext cx="2665080" cy="148860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8" name="Овал 7"/>
          <p:cNvSpPr/>
          <p:nvPr/>
        </p:nvSpPr>
        <p:spPr>
          <a:xfrm rot="16200000">
            <a:off x="3178800" y="645840"/>
            <a:ext cx="2425320" cy="15123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3780000" y="907920"/>
            <a:ext cx="11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5508720" y="2349360"/>
            <a:ext cx="1584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м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5076720" y="4508640"/>
            <a:ext cx="1798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2916360" y="5084640"/>
            <a:ext cx="136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4"/>
          <p:cNvSpPr/>
          <p:nvPr/>
        </p:nvSpPr>
        <p:spPr>
          <a:xfrm>
            <a:off x="1403280" y="2997360"/>
            <a:ext cx="18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23:43:44Z</dcterms:created>
  <dc:creator>Школа</dc:creator>
  <dc:description/>
  <dc:language>en-US</dc:language>
  <cp:lastModifiedBy>PSB</cp:lastModifiedBy>
  <dcterms:modified xsi:type="dcterms:W3CDTF">2023-05-16T14:11:32Z</dcterms:modified>
  <cp:revision>29</cp:revision>
  <dc:subject/>
  <dc:title>С.И. Ожег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0</vt:r8>
  </property>
</Properties>
</file>