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18F-651A-42E4-828F-CE25613C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E50-495A-4987-962D-346900D3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AB7-5B9F-47DE-B91E-AC259C3D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AD5-26DC-4C3E-A175-F95BC922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11A0-19D1-4C42-92CA-A19F5AD4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E0AF-059C-4DFB-813D-A14B8A9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CD8-3460-475F-B722-1454195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C8FD-71B1-4271-8F18-6D8712CE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B5F4-008D-45FE-AF72-95E01893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4AD0-3936-4AEB-9E86-2B7DAA0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C3A-00AA-40A2-A043-30CA8B2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EA5-7A3F-4CA3-B3F8-25E678E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DFA-0E16-4121-8FB8-D726CA4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873-1A0B-418C-9918-6E3140D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F91F-DF49-4AA9-8147-29157F6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EFA-D12C-49BA-A6C1-B8C68EB5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05F-0DCB-48A8-9C74-0133AE3F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3C47-1BD7-4648-BD7C-0D5AF428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5819-D5A9-4F26-8044-BC22664B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F226-B6CE-4F94-8F0E-F1ADE5E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0BF6-9CBD-4AEB-B9C4-171FCF16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FE15-C4B9-49B3-8D2C-B32E60B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C6C-A0A5-4C51-94B3-F4734A7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5D95-BF4A-4C83-A6EE-1D14D24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5318-6EDF-47E3-AC30-4260972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371B-ECCF-47FB-B1E4-94B36D2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CAF8-648C-4E90-9AFB-6A04CC1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1FFA-0053-4661-9BD7-FC8F9BFB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0F3C-34F8-424F-8A8A-F864E78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5DC3-EC23-4B40-B244-0B98C571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E843-A711-4C6D-ACEE-DD4CF68A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E20B-73D3-4455-A31A-ED6B8B6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15C6-EB8D-443E-8418-363CA08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5D5-2296-4068-9506-D94195E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FBC7-C2CD-43C4-A732-63BFD74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EE22-ED11-4461-A89D-17EBFEF2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8E2A-5875-411E-A4B6-6CE72018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C589F-1399-412A-BAE3-8A7FB55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4FF3-4F31-4E5B-B44E-1D48B8F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63A4-7D2B-4E21-A902-C04C676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3FB2-DB26-4FD1-AC8F-A5696A4A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F4C3-1E72-457B-AA7E-4C2199D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3D95-2176-4F90-B94B-9F17366C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918-9880-40A2-B711-1AAF8A7C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749-ECD4-454F-87A9-D5ACC24E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30A-36F3-4705-8515-B1E5900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5A9-4DC4-4E5F-BF9C-A39B0CB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189-7F1E-4DB9-BB80-627A00C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F2823E7-465A-4C90-BE04-C8B13A83D79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FDDCB3D-3AA7-4DC6-9F47-784E48D371E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D47EE7E-F576-443D-AC91-83705844700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8107F4A-D7CB-4E8D-994F-C379CA572E8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Е.И. Чарушин «Кабан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211640" y="3886200"/>
            <a:ext cx="356040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  <a:ea typeface="Arial"/>
              </a:rPr>
              <a:t>Походяева С.Б., учитель начальных классов, МБОУ ШР «СОШ № 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04040" cy="66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952360" cy="195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2952360" cy="1968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3"/>
          <a:stretch/>
        </p:blipFill>
        <p:spPr>
          <a:xfrm>
            <a:off x="5848200" y="260280"/>
            <a:ext cx="3122280" cy="201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2808000" cy="187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5"/>
          <a:stretch/>
        </p:blipFill>
        <p:spPr>
          <a:xfrm>
            <a:off x="5857920" y="4227480"/>
            <a:ext cx="3020760" cy="200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6"/>
          <a:stretch/>
        </p:blipFill>
        <p:spPr>
          <a:xfrm>
            <a:off x="3492360" y="1576440"/>
            <a:ext cx="223164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Таблица 1"/>
          <p:cNvGraphicFramePr/>
          <p:nvPr/>
        </p:nvGraphicFramePr>
        <p:xfrm>
          <a:off x="179280" y="189000"/>
          <a:ext cx="8784720" cy="6630480"/>
        </p:xfrm>
        <a:graphic>
          <a:graphicData uri="http://schemas.openxmlformats.org/drawingml/2006/table">
            <a:tbl>
              <a:tblPr/>
              <a:tblGrid>
                <a:gridCol w="1223640"/>
                <a:gridCol w="1584000"/>
                <a:gridCol w="2808000"/>
                <a:gridCol w="3168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Пример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3652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ное кушанье из сгустившегося мясного или рыбного навара с кусочками мяса, рыбы, холодец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ачала мягкие, тёплые, живые, не рога, а кровяной какой – то….Потом твердеет и становится настоящим рогом, а кожа отпад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5635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о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чок, торчащая пряд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йчас у Серёжки на рогах кожа висит..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Таблица 1"/>
          <p:cNvGraphicFramePr/>
          <p:nvPr/>
        </p:nvGraphicFramePr>
        <p:xfrm>
          <a:off x="179280" y="260280"/>
          <a:ext cx="8784720" cy="5746320"/>
        </p:xfrm>
        <a:graphic>
          <a:graphicData uri="http://schemas.openxmlformats.org/drawingml/2006/table">
            <a:tbl>
              <a:tblPr/>
              <a:tblGrid>
                <a:gridCol w="1103040"/>
                <a:gridCol w="1560240"/>
                <a:gridCol w="3025440"/>
                <a:gridCol w="3095280"/>
              </a:tblGrid>
              <a:tr h="28796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минист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 управления исполнительской вла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телефону в пожарную часть позвоню,…..скаж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666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оро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ор, огороженная ча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полез я на Серёжкину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Таблица 1"/>
          <p:cNvGraphicFramePr/>
          <p:nvPr/>
        </p:nvGraphicFramePr>
        <p:xfrm>
          <a:off x="179280" y="260280"/>
          <a:ext cx="8784720" cy="6265440"/>
        </p:xfrm>
        <a:graphic>
          <a:graphicData uri="http://schemas.openxmlformats.org/drawingml/2006/table">
            <a:tbl>
              <a:tblPr/>
              <a:tblGrid>
                <a:gridCol w="1368360"/>
                <a:gridCol w="5256000"/>
                <a:gridCol w="1008000"/>
                <a:gridCol w="1152360"/>
              </a:tblGrid>
              <a:tr h="1319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19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 олени меняют каждый месяц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9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сатель рисовал оленя мара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079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описании рогов оленя, писатель использует элемент сравнени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 – студен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Таблица 1"/>
          <p:cNvGraphicFramePr/>
          <p:nvPr/>
        </p:nvGraphicFramePr>
        <p:xfrm>
          <a:off x="179280" y="260280"/>
          <a:ext cx="8784720" cy="6632280"/>
        </p:xfrm>
        <a:graphic>
          <a:graphicData uri="http://schemas.openxmlformats.org/drawingml/2006/table">
            <a:tbl>
              <a:tblPr/>
              <a:tblGrid>
                <a:gridCol w="1368360"/>
                <a:gridCol w="5256000"/>
                <a:gridCol w="1008000"/>
                <a:gridCol w="1152360"/>
              </a:tblGrid>
              <a:tr h="18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рассказе упоминаются животные в следующем порядк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нь, ягуар, Гималайский медведь, слон, кабаны, журавли – красав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2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кабан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пя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ня не смотря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умеют голову подним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рну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ж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хрюкива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востиком вертя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57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писателя по ходу произведения менялась та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лечённый д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уган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сли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чи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атель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Критерии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Все плюсы – 5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1-3 минуса – 4 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4- 5 минусов – 3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более 5 минусов – 2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Главная мысль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  <a:ea typeface="Arial"/>
              </a:rPr>
              <a:t>Что хотел сказать автор?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20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Буклет «Мудрые мысли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В незнакомой_____________ надо быть ______________ и предпринять все меры___________________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Буклет «Мудрые мысли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В незнакомой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ситуации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надо быть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осторожным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 и предпринять все меры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безопасности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Если прочтешь что-либо, то из прочитанного усвой себе главную мысль. Так поступаю и я: из того, что я прочел, я непременно что-нибудь отмечу.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Содержимое 3"/>
          <p:cNvGraphicFramePr/>
          <p:nvPr/>
        </p:nvGraphicFramePr>
        <p:xfrm>
          <a:off x="0" y="0"/>
          <a:ext cx="9143640" cy="685620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21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32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С.И. Ожегов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Угроза чего – нибудь очень плохого, какого – нибудь несчастья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Угроза чего – нибудь очень плохого, какого – нибудь несчастья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(Опасность)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Прямая соединительная линия 5"/>
          <p:cNvCxnSpPr/>
          <p:nvPr/>
        </p:nvCxnSpPr>
        <p:spPr>
          <a:xfrm>
            <a:off x="610920" y="2492280"/>
            <a:ext cx="2016720" cy="360"/>
          </a:xfrm>
          <a:prstGeom prst="straightConnector1">
            <a:avLst/>
          </a:prstGeom>
          <a:ln w="76200">
            <a:solidFill>
              <a:srgbClr val="000000"/>
            </a:solidFill>
            <a:miter/>
          </a:ln>
        </p:spPr>
      </p:cxnSp>
      <p:cxnSp>
        <p:nvCxnSpPr>
          <p:cNvPr id="174" name="Прямая соединительная линия 7"/>
          <p:cNvCxnSpPr/>
          <p:nvPr/>
        </p:nvCxnSpPr>
        <p:spPr>
          <a:xfrm>
            <a:off x="3132000" y="4292280"/>
            <a:ext cx="3240360" cy="360"/>
          </a:xfrm>
          <a:prstGeom prst="straightConnector1">
            <a:avLst/>
          </a:prstGeom>
          <a:ln w="762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3995640" y="2924280"/>
            <a:ext cx="482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«Каба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Евгений Иванович Чарушин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rcRect l="0" t="0" r="0" b="4844"/>
          <a:stretch/>
        </p:blipFill>
        <p:spPr>
          <a:xfrm>
            <a:off x="539640" y="1700280"/>
            <a:ext cx="369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  <a:ea typeface="Arial"/>
              </a:rPr>
              <a:t>Тема урока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Опасности, которые могут встречаться в жизни на примере произведения  «Кабан»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Содержимое 3"/>
          <p:cNvGraphicFramePr/>
          <p:nvPr/>
        </p:nvGraphicFramePr>
        <p:xfrm>
          <a:off x="0" y="0"/>
          <a:ext cx="9143640" cy="685620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21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32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1"/>
          <p:cNvSpPr/>
          <p:nvPr/>
        </p:nvSpPr>
        <p:spPr>
          <a:xfrm>
            <a:off x="3708360" y="2637000"/>
            <a:ext cx="1510920" cy="14396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4" name="Овал 3"/>
          <p:cNvSpPr/>
          <p:nvPr/>
        </p:nvSpPr>
        <p:spPr>
          <a:xfrm rot="8917200">
            <a:off x="5062680" y="1780920"/>
            <a:ext cx="2673000" cy="15285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5" name="Овал 4"/>
          <p:cNvSpPr/>
          <p:nvPr/>
        </p:nvSpPr>
        <p:spPr>
          <a:xfrm rot="13036800">
            <a:off x="4645080" y="4088160"/>
            <a:ext cx="2695320" cy="149652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6" name="Овал 5"/>
          <p:cNvSpPr/>
          <p:nvPr/>
        </p:nvSpPr>
        <p:spPr>
          <a:xfrm rot="6585000">
            <a:off x="2316960" y="4531680"/>
            <a:ext cx="2703240" cy="157428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7" name="Овал 6"/>
          <p:cNvSpPr/>
          <p:nvPr/>
        </p:nvSpPr>
        <p:spPr>
          <a:xfrm rot="10800000">
            <a:off x="1043280" y="2493000"/>
            <a:ext cx="2665080" cy="148860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8" name="Овал 7"/>
          <p:cNvSpPr/>
          <p:nvPr/>
        </p:nvSpPr>
        <p:spPr>
          <a:xfrm rot="16200000">
            <a:off x="3178800" y="645840"/>
            <a:ext cx="2425320" cy="15123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3780000" y="907920"/>
            <a:ext cx="11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5508720" y="2349360"/>
            <a:ext cx="158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5076720" y="4508640"/>
            <a:ext cx="179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2916360" y="5084640"/>
            <a:ext cx="13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1403280" y="299736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23:43:44Z</dcterms:created>
  <dc:creator>Школа</dc:creator>
  <dc:description/>
  <dc:language>en-US</dc:language>
  <cp:lastModifiedBy>PSB</cp:lastModifiedBy>
  <dcterms:modified xsi:type="dcterms:W3CDTF">2023-05-16T14:11:32Z</dcterms:modified>
  <cp:revision>29</cp:revision>
  <dc:subject/>
  <dc:title>С.И. Оже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0</vt:r8>
  </property>
</Properties>
</file>