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7CA-8B93-4B61-B926-913346B2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81E-9778-4B51-B1BE-B77C832B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908-CC80-4D10-9E28-DBB1282D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6FA-9502-4AB8-96DB-16A6D977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50B-8D48-4DCE-8F2E-C6E3F8D8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8A7-8113-4619-A6B3-6653C31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3E6-068D-4262-96B3-93CCAD72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4E0-79C5-4D05-880F-1FF3A748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862-6A0B-48EC-AB06-CDFC04D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4EC-8089-4DA7-B195-62D045A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FE1-1D55-4FC6-B4D8-AE199AFE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4EC-CF58-41DF-8043-273BB14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644D-3F45-4A52-92EE-5BF50EA56F9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2421000"/>
            <a:ext cx="503064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ема урока: 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сновные направления эволюционного процесса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0"/>
          <p:cNvSpPr/>
          <p:nvPr/>
        </p:nvSpPr>
        <p:spPr>
          <a:xfrm>
            <a:off x="2627280" y="1700280"/>
            <a:ext cx="4537080" cy="1728720"/>
          </a:xfrm>
          <a:prstGeom prst="roundRect">
            <a:avLst>
              <a:gd name="adj" fmla="val 50000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1187280" y="4437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иолог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гр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5076720" y="4437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иолог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огр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3"/>
          <p:cNvSpPr/>
          <p:nvPr/>
        </p:nvSpPr>
        <p:spPr>
          <a:xfrm flipH="1">
            <a:off x="3058920" y="3429000"/>
            <a:ext cx="8650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5867280" y="3429000"/>
            <a:ext cx="10098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7" descr="шшшшшш"/>
          <p:cNvPicPr/>
          <p:nvPr/>
        </p:nvPicPr>
        <p:blipFill>
          <a:blip r:embed="rId1"/>
          <a:stretch/>
        </p:blipFill>
        <p:spPr>
          <a:xfrm>
            <a:off x="3708360" y="476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шшшшшш"/>
          <p:cNvPicPr/>
          <p:nvPr/>
        </p:nvPicPr>
        <p:blipFill>
          <a:blip r:embed="rId2"/>
          <a:stretch/>
        </p:blipFill>
        <p:spPr>
          <a:xfrm>
            <a:off x="2124000" y="476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шшшшшш"/>
          <p:cNvPicPr/>
          <p:nvPr/>
        </p:nvPicPr>
        <p:blipFill>
          <a:blip r:embed="rId3"/>
          <a:stretch/>
        </p:blipFill>
        <p:spPr>
          <a:xfrm>
            <a:off x="684360" y="476280"/>
            <a:ext cx="34858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402000"/>
                </a:solidFill>
                <a:latin typeface="Georgia"/>
              </a:rPr>
              <a:t>Биологический регресс -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5640" y="2349360"/>
            <a:ext cx="7488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Уменьшение численности особ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Уменьшение площади ареа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Постепенное исчезнов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ви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58920" y="148428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- снижение уровня приспособл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08c837d7d4c9"/>
          <p:cNvPicPr/>
          <p:nvPr/>
        </p:nvPicPr>
        <p:blipFill>
          <a:blip r:embed="rId1"/>
          <a:stretch/>
        </p:blipFill>
        <p:spPr>
          <a:xfrm>
            <a:off x="7596360" y="5300640"/>
            <a:ext cx="1293480" cy="1293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402000"/>
                </a:solidFill>
                <a:latin typeface="Georgia"/>
              </a:rPr>
              <a:t>Биологический прогресс -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560" y="2349360"/>
            <a:ext cx="7489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зна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1562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Возрастание численности особ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1562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Расширение ареа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1562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Образование новых популяци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подвидов и вид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12"/>
          <p:cNvPicPr/>
          <p:nvPr/>
        </p:nvPicPr>
        <p:blipFill>
          <a:blip r:embed="rId1"/>
          <a:stretch/>
        </p:blipFill>
        <p:spPr>
          <a:xfrm>
            <a:off x="7899480" y="544500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258920" y="1484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- повышение уровня приспособл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5"/>
          <p:cNvSpPr/>
          <p:nvPr/>
        </p:nvSpPr>
        <p:spPr>
          <a:xfrm>
            <a:off x="1763640" y="549360"/>
            <a:ext cx="6193080" cy="1366920"/>
          </a:xfrm>
          <a:prstGeom prst="roundRect">
            <a:avLst>
              <a:gd name="adj" fmla="val 50000"/>
            </a:avLst>
          </a:prstGeom>
          <a:solidFill>
            <a:srgbClr val="5b9bd5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ти дости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ологического прогрес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042920" y="3068640"/>
            <a:ext cx="3457800" cy="144000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роморфо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700360" y="4941720"/>
            <a:ext cx="4319640" cy="144000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Идиоадап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219640" y="3068640"/>
            <a:ext cx="3529080" cy="144000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щ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еген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4859280" y="1916280"/>
            <a:ext cx="0" cy="30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 flipH="1">
            <a:off x="2700000" y="1916280"/>
            <a:ext cx="93492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6156360" y="1916280"/>
            <a:ext cx="93672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536040"/>
            <a:ext cx="679932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Georgia"/>
              </a:rPr>
              <a:t>Ароморфоз(арогенез)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6920" y="2852280"/>
            <a:ext cx="69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клетк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явление многоклеточ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никновение цвет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явление фотосинтеза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00000" y="1482840"/>
            <a:ext cx="7705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крупное преобразование организмов, повышающее общий уровен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ёт возможность расширить использование условий внешней среды (новые источники пищи, новые места обит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679932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щая дегенераци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(катагенез)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258920" y="1628640"/>
            <a:ext cx="7416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упрощение организмов в строении и функционировании. (Общий уровень организации понижается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187280" y="2852640"/>
            <a:ext cx="748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3a1d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а паразитическими черв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3a1d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ход от кислородного дыхания 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кислородно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3a1d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а растениями-паразитами кор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листьев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6160" y="456840"/>
            <a:ext cx="65674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Направления эволюци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00040" y="15717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роморф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14200" y="235728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ложнение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ядра в клет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многоклето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цве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Прямая со стрелкой 6"/>
          <p:cNvCxnSpPr/>
          <p:nvPr/>
        </p:nvCxnSpPr>
        <p:spPr>
          <a:xfrm flipH="1">
            <a:off x="1285200" y="1070640"/>
            <a:ext cx="2858040" cy="5720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5" name="Прямая со стрелкой 7"/>
          <p:cNvCxnSpPr/>
          <p:nvPr/>
        </p:nvCxnSpPr>
        <p:spPr>
          <a:xfrm flipH="1">
            <a:off x="1212480" y="1928520"/>
            <a:ext cx="2160" cy="5007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3000240" y="428616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Деген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1785960" y="50720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Упрощение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рата ног у зм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чезновение глаз у кро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кращение волосяного покрова у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Прямая со стрелкой 12"/>
          <p:cNvCxnSpPr/>
          <p:nvPr/>
        </p:nvCxnSpPr>
        <p:spPr>
          <a:xfrm flipH="1">
            <a:off x="3999960" y="1142640"/>
            <a:ext cx="286200" cy="30726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9" name="Прямая со стрелкой 13"/>
          <p:cNvCxnSpPr/>
          <p:nvPr/>
        </p:nvCxnSpPr>
        <p:spPr>
          <a:xfrm flipH="1">
            <a:off x="3927240" y="4645080"/>
            <a:ext cx="2160" cy="4291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TextBox 14"/>
          <p:cNvSpPr/>
          <p:nvPr/>
        </p:nvSpPr>
        <p:spPr>
          <a:xfrm>
            <a:off x="5500800" y="1928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диоадап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4500720" y="2714760"/>
            <a:ext cx="43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риспособления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колючек у какту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плоского тела у камба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ая окраска 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Прямая со стрелкой 16"/>
          <p:cNvCxnSpPr/>
          <p:nvPr/>
        </p:nvCxnSpPr>
        <p:spPr>
          <a:xfrm>
            <a:off x="4642920" y="1142640"/>
            <a:ext cx="1644120" cy="8578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83" name="Прямая со стрелкой 17"/>
          <p:cNvCxnSpPr/>
          <p:nvPr/>
        </p:nvCxnSpPr>
        <p:spPr>
          <a:xfrm flipH="1">
            <a:off x="6214680" y="2285640"/>
            <a:ext cx="2160" cy="5007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p:transition spd="med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Типы эволюционных измен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2276640" y="2281320"/>
            <a:ext cx="459072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n</dc:creator>
  <dc:description/>
  <dc:language>en-US</dc:language>
  <cp:lastModifiedBy>Пользователь Windows</cp:lastModifiedBy>
  <dcterms:modified xsi:type="dcterms:W3CDTF">2023-05-16T09:44:16Z</dcterms:modified>
  <cp:revision>53</cp:revision>
  <dc:subject/>
  <dc:title>Виды защитных окрасок животных</dc:title>
</cp:coreProperties>
</file>