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85C-6C57-4D5D-B067-193E31E5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3D3-6DC1-4561-96C1-01307679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AE1-E7C7-4CBF-AC9C-95119C36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81B-D431-4E5F-9BA2-12E4BE81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730-0612-4F9A-A7B1-C85029D8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C96-D7B8-4B24-9A06-17C4C4A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357-379A-4C65-8982-16843AB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499-0098-46E5-A484-D209F1E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AF2-AD32-4203-AC9C-9036875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E74-DD7D-4122-A611-C859E02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81D-0BE8-4023-9819-34F9D99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1EB-C6D6-4557-9C3A-F4D7859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D88-6FED-4F86-9B92-444BF93F9F8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421000"/>
            <a:ext cx="50306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ема урока: 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сновные направления эволюционного процесса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0"/>
          <p:cNvSpPr/>
          <p:nvPr/>
        </p:nvSpPr>
        <p:spPr>
          <a:xfrm>
            <a:off x="2627280" y="1700280"/>
            <a:ext cx="4537080" cy="1728720"/>
          </a:xfrm>
          <a:prstGeom prst="roundRect">
            <a:avLst>
              <a:gd name="adj" fmla="val 50000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1187280" y="4437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олог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гр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5076720" y="4437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олог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3"/>
          <p:cNvSpPr/>
          <p:nvPr/>
        </p:nvSpPr>
        <p:spPr>
          <a:xfrm flipH="1">
            <a:off x="3058920" y="3429000"/>
            <a:ext cx="8650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5867280" y="3429000"/>
            <a:ext cx="10098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7" descr="шшшшшш"/>
          <p:cNvPicPr/>
          <p:nvPr/>
        </p:nvPicPr>
        <p:blipFill>
          <a:blip r:embed="rId1"/>
          <a:stretch/>
        </p:blipFill>
        <p:spPr>
          <a:xfrm>
            <a:off x="3708360" y="476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шшшшшш"/>
          <p:cNvPicPr/>
          <p:nvPr/>
        </p:nvPicPr>
        <p:blipFill>
          <a:blip r:embed="rId2"/>
          <a:stretch/>
        </p:blipFill>
        <p:spPr>
          <a:xfrm>
            <a:off x="2124000" y="476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шшшшшш"/>
          <p:cNvPicPr/>
          <p:nvPr/>
        </p:nvPicPr>
        <p:blipFill>
          <a:blip r:embed="rId3"/>
          <a:stretch/>
        </p:blipFill>
        <p:spPr>
          <a:xfrm>
            <a:off x="684360" y="476280"/>
            <a:ext cx="34858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402000"/>
                </a:solidFill>
                <a:latin typeface="Georgia"/>
              </a:rPr>
              <a:t>Биологический регресс -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5640" y="2349360"/>
            <a:ext cx="7488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изна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Уменьшение численности особ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Уменьшение площади аре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Постепенное исчезнов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ви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58920" y="148428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- снижение уровня приспособл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08c837d7d4c9"/>
          <p:cNvPicPr/>
          <p:nvPr/>
        </p:nvPicPr>
        <p:blipFill>
          <a:blip r:embed="rId1"/>
          <a:stretch/>
        </p:blipFill>
        <p:spPr>
          <a:xfrm>
            <a:off x="7596360" y="5300640"/>
            <a:ext cx="1293480" cy="1293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402000"/>
                </a:solidFill>
                <a:latin typeface="Georgia"/>
              </a:rPr>
              <a:t>Биологический прогресс -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560" y="2349360"/>
            <a:ext cx="7489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зна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Возрастание численности особ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Расширение аре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1562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Образование новых популяци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573a1d"/>
                </a:solidFill>
                <a:latin typeface="Calibri"/>
              </a:rPr>
              <a:t>подвидов и вид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12"/>
          <p:cNvPicPr/>
          <p:nvPr/>
        </p:nvPicPr>
        <p:blipFill>
          <a:blip r:embed="rId1"/>
          <a:stretch/>
        </p:blipFill>
        <p:spPr>
          <a:xfrm>
            <a:off x="7899480" y="544500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258920" y="1484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- повышение уровня приспособл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/>
          <p:cNvSpPr/>
          <p:nvPr/>
        </p:nvSpPr>
        <p:spPr>
          <a:xfrm>
            <a:off x="1763640" y="549360"/>
            <a:ext cx="6193080" cy="1366920"/>
          </a:xfrm>
          <a:prstGeom prst="roundRect">
            <a:avLst>
              <a:gd name="adj" fmla="val 50000"/>
            </a:avLst>
          </a:prstGeom>
          <a:solidFill>
            <a:srgbClr val="5b9bd5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ти дости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ологического прогрес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042920" y="3068640"/>
            <a:ext cx="345780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роморф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700360" y="4941720"/>
            <a:ext cx="431964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Идиоадап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219640" y="3068640"/>
            <a:ext cx="3529080" cy="1440000"/>
          </a:xfrm>
          <a:prstGeom prst="roundRect">
            <a:avLst>
              <a:gd name="adj" fmla="val 16667"/>
            </a:avLst>
          </a:prstGeom>
          <a:solidFill>
            <a:srgbClr val="5b9bd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щ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еген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859280" y="1916280"/>
            <a:ext cx="0" cy="30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 flipH="1">
            <a:off x="2700000" y="1916280"/>
            <a:ext cx="9349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6156360" y="1916280"/>
            <a:ext cx="9367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536040"/>
            <a:ext cx="679932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Georgia"/>
              </a:rPr>
              <a:t>Ароморфоз(арогенез)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2852280"/>
            <a:ext cx="69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клетк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ение многоклеточ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никновение цвет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73a1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ение фотосинтеза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1482840"/>
            <a:ext cx="7705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крупное преобразование организмов, повышающее общий уровен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ёт возможность расширить использование условий внешней среды (новые источники пищи, новые места обит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679932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щая дегенераци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(катагенез)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258920" y="1628640"/>
            <a:ext cx="7416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73a1d"/>
                </a:solidFill>
                <a:latin typeface="Times New Roman"/>
              </a:rPr>
              <a:t>упрощение организмов в строении и функционировании. (Общий уровень организации понижается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187280" y="2852640"/>
            <a:ext cx="748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а паразитическими черв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ход от кислородного дыхания 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кислородно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3a1d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рата растениями-паразитами кор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листьев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6160" y="456840"/>
            <a:ext cx="65674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Направления эволюци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00040" y="15717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роморф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14200" y="235728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ложнение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ядра в клет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многоклето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цве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Прямая со стрелкой 6"/>
          <p:cNvCxnSpPr/>
          <p:nvPr/>
        </p:nvCxnSpPr>
        <p:spPr>
          <a:xfrm flipH="1">
            <a:off x="1285200" y="1070640"/>
            <a:ext cx="2858040" cy="57204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5" name="Прямая со стрелкой 7"/>
          <p:cNvCxnSpPr/>
          <p:nvPr/>
        </p:nvCxnSpPr>
        <p:spPr>
          <a:xfrm flipH="1">
            <a:off x="1212480" y="1928520"/>
            <a:ext cx="2160" cy="500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3000240" y="428616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Деген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1785960" y="50720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Times New Roman"/>
              </a:rPr>
              <a:t>Упрощение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рата ног у зм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чезновение глаз у кро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кращение волосяного покрова у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Прямая со стрелкой 12"/>
          <p:cNvCxnSpPr/>
          <p:nvPr/>
        </p:nvCxnSpPr>
        <p:spPr>
          <a:xfrm flipH="1">
            <a:off x="3999960" y="1142640"/>
            <a:ext cx="286200" cy="30726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9" name="Прямая со стрелкой 13"/>
          <p:cNvCxnSpPr/>
          <p:nvPr/>
        </p:nvCxnSpPr>
        <p:spPr>
          <a:xfrm flipH="1">
            <a:off x="3927240" y="4645080"/>
            <a:ext cx="2160" cy="42912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80" name="TextBox 14"/>
          <p:cNvSpPr/>
          <p:nvPr/>
        </p:nvSpPr>
        <p:spPr>
          <a:xfrm>
            <a:off x="5500800" y="1928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диоадап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4500720" y="271476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риспособления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колючек у какту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плоского тела у камба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ая окраска 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Прямая со стрелкой 16"/>
          <p:cNvCxnSpPr/>
          <p:nvPr/>
        </p:nvCxnSpPr>
        <p:spPr>
          <a:xfrm>
            <a:off x="4642920" y="1142640"/>
            <a:ext cx="1644120" cy="85788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83" name="Прямая со стрелкой 17"/>
          <p:cNvCxnSpPr/>
          <p:nvPr/>
        </p:nvCxnSpPr>
        <p:spPr>
          <a:xfrm flipH="1">
            <a:off x="6214680" y="2285640"/>
            <a:ext cx="2160" cy="50076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Типы эволюционных измен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2276640" y="2281320"/>
            <a:ext cx="459072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n</dc:creator>
  <dc:description/>
  <dc:language>en-US</dc:language>
  <cp:lastModifiedBy>Пользователь Windows</cp:lastModifiedBy>
  <dcterms:modified xsi:type="dcterms:W3CDTF">2023-05-16T09:44:16Z</dcterms:modified>
  <cp:revision>53</cp:revision>
  <dc:subject/>
  <dc:title>Виды защитных окрасок животных</dc:title>
</cp:coreProperties>
</file>