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AC2F4-B457-4BA4-80C9-3006CAA8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F0FC-7E02-4DA4-B478-DF4EDB47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C9AA9-E20E-4057-B7DD-DD386CC0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F1A4F-27C0-4731-B07D-56F5AD7D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3122A-750E-442A-8F1A-4BF22BC2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72560-85E8-4FE7-AC84-2F5ECD9F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C88A9-A6B1-47B0-AE7E-820DE2CD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88462-0E14-4E92-A6A9-513183F3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C5C17-D972-4CC1-8CFC-5FF3611A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9C4B4-6D75-4CF5-A1B6-C8B2CCF6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192FF-A416-401C-9235-5D91CA71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C81A5-CEB4-412B-ACAC-2EB4A9CE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D513-ACBD-46A8-9F92-11E71CFF06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.М. Пришвин «Выскочка»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"/>
          <p:cNvSpPr/>
          <p:nvPr/>
        </p:nvSpPr>
        <p:spPr>
          <a:xfrm>
            <a:off x="5148360" y="3886200"/>
            <a:ext cx="3311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ходяева С.Б., учитель начальных классов, МБОУ ШР «СОШ № 4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429000" cy="2279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0920" y="3933720"/>
            <a:ext cx="2120760" cy="1752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rcRect l="40064" t="52780" r="37654" b="2780"/>
          <a:stretch/>
        </p:blipFill>
        <p:spPr>
          <a:xfrm>
            <a:off x="5364000" y="1413000"/>
            <a:ext cx="1324080" cy="1981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 rot="2040000">
            <a:off x="899640" y="1413000"/>
            <a:ext cx="1685880" cy="1393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 rot="1200000">
            <a:off x="6729480" y="3630600"/>
            <a:ext cx="1771560" cy="1114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 rot="19260000">
            <a:off x="3933720" y="394920"/>
            <a:ext cx="1643040" cy="1073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 rot="2340000">
            <a:off x="5041800" y="5013000"/>
            <a:ext cx="1811520" cy="1216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 rot="19680000">
            <a:off x="2797200" y="4920840"/>
            <a:ext cx="1685880" cy="13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79280" y="189000"/>
          <a:ext cx="8786520" cy="6592320"/>
        </p:xfrm>
        <a:graphic>
          <a:graphicData uri="http://schemas.openxmlformats.org/drawingml/2006/table">
            <a:tbl>
              <a:tblPr/>
              <a:tblGrid>
                <a:gridCol w="1224000"/>
                <a:gridCol w="1584720"/>
                <a:gridCol w="2808720"/>
                <a:gridCol w="3169080"/>
              </a:tblGrid>
              <a:tr h="1052280"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11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имер из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76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just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вод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770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just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какала дур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1619280" y="1700280"/>
            <a:ext cx="1081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1027080"/>
            <a:ext cx="266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Птенцы или детёныши млекопитающих, живущие ещё с матерью и держащиеся вместе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1027080"/>
            <a:ext cx="29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Держались они тут в семь штук, и от своих родителей постыли все тайны воровства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3933720"/>
            <a:ext cx="25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Не по порядку, как попала, не дума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3933720"/>
            <a:ext cx="3025800" cy="26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- Скачи назад, скачи как надо, как всему сорочьему обществу надо!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- Скачите, как надо, а я – как мне самой хочетс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79280" y="260280"/>
          <a:ext cx="8786520" cy="5748120"/>
        </p:xfrm>
        <a:graphic>
          <a:graphicData uri="http://schemas.openxmlformats.org/drawingml/2006/table">
            <a:tbl>
              <a:tblPr/>
              <a:tblGrid>
                <a:gridCol w="1103400"/>
                <a:gridCol w="1560960"/>
                <a:gridCol w="3026160"/>
                <a:gridCol w="3096000"/>
              </a:tblGrid>
              <a:tr h="280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just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учи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943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just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заскоком и пыльц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11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голов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2987640" y="333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Найти подходящее врем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"/>
          <p:cNvSpPr/>
          <p:nvPr/>
        </p:nvSpPr>
        <p:spPr>
          <a:xfrm>
            <a:off x="6012000" y="476280"/>
            <a:ext cx="28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Вот это мгновение, когда Вьюшка отвернула голову, Выскочка  выбрала время для своего нападени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"/>
          <p:cNvSpPr/>
          <p:nvPr/>
        </p:nvSpPr>
        <p:spPr>
          <a:xfrm>
            <a:off x="2987640" y="328464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Не умная, глуповат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3284640"/>
            <a:ext cx="280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В семье не без урода. Из семи сорок одна вышла не то чтобы совсем глупенькая…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79280" y="260280"/>
          <a:ext cx="8786520" cy="6265440"/>
        </p:xfrm>
        <a:graphic>
          <a:graphicData uri="http://schemas.openxmlformats.org/drawingml/2006/table">
            <a:tbl>
              <a:tblPr/>
              <a:tblGrid>
                <a:gridCol w="1368360"/>
                <a:gridCol w="5257440"/>
                <a:gridCol w="1008000"/>
                <a:gridCol w="1152720"/>
              </a:tblGrid>
              <a:tr h="1319400"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+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тверж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е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Неве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31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ичка собаки менялась так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ьюшка – Бия – Вьюш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31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я, описанные в произведении, происходили ранней весн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308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описании Вьюшки автор использует приём сравне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Ушки – как рожки, хвостик колечком, зубки остренькие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7956720" y="177336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"/>
          <p:cNvSpPr/>
          <p:nvPr/>
        </p:nvSpPr>
        <p:spPr>
          <a:xfrm>
            <a:off x="7956720" y="2997360"/>
            <a:ext cx="86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DejaVu Sans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"/>
          <p:cNvSpPr/>
          <p:nvPr/>
        </p:nvSpPr>
        <p:spPr>
          <a:xfrm>
            <a:off x="8101080" y="465300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DejaVu Sans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79280" y="260280"/>
          <a:ext cx="8786520" cy="6281280"/>
        </p:xfrm>
        <a:graphic>
          <a:graphicData uri="http://schemas.openxmlformats.org/drawingml/2006/table">
            <a:tbl>
              <a:tblPr/>
              <a:tblGrid>
                <a:gridCol w="1368360"/>
                <a:gridCol w="5257440"/>
                <a:gridCol w="1008000"/>
                <a:gridCol w="1152720"/>
              </a:tblGrid>
              <a:tr h="201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marL="216000" indent="-21600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мысел Выскочки был таков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16000" indent="-21600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скачет к Вьюшк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16000" indent="-21600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ьюшка бросится на Выскочк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16000" indent="-21600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ьюшка выбросит к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16000" indent="-21600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кочка унесет к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81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marL="216000" indent="-21600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едение Вьюшки в момент нападения сорок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16000" indent="-21600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яла замысел Выскоч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16000" indent="-21600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Выскочку не бросилас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16000" indent="-21600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едила взгляд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454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marL="216000" indent="-21600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рактеристика Выскочки по ходу произведения менялась так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16000" indent="-21600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алк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16000" indent="-21600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уверенн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16000" indent="-21600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ит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16000" indent="-21600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ипанная, как шарик с пестрой голов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7020000" y="404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DejaVu Sans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242100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DejaVu Sans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"/>
          <p:cNvSpPr/>
          <p:nvPr/>
        </p:nvSpPr>
        <p:spPr>
          <a:xfrm>
            <a:off x="8172360" y="429264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DejaVu Sans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Критерии 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се плюсы – «5»  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-3 минуса – «4»   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- 5 минусов – «3»  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олее 5 минусов – «!»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Главная мысль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Что хотел сказать автор?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324504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Буклет «Мудрые мысли»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Хорошо быть активным и деятельным, но в обществе нужно считаться с  мнением ___________ людей, уметь с ними _________________, соблюдать правила _______________ поведения.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Буклет «Мудрые мысли»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Хорошо быть активным и деятельным, но в обществе нужно считаться с  мнением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ругих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людей, уметь с ними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оговариваться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, соблюдать правила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культурного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поведения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8552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С.И. Ожегов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еловек, который выдвинулся слишком быстро или занял видное общественное положение не по заслугам. 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0"/>
          <a:ext cx="9145080" cy="6859080"/>
        </p:xfrm>
        <a:graphic>
          <a:graphicData uri="http://schemas.openxmlformats.org/drawingml/2006/table">
            <a:tbl>
              <a:tblPr/>
              <a:tblGrid>
                <a:gridCol w="3048480"/>
                <a:gridCol w="3048120"/>
                <a:gridCol w="3048480"/>
              </a:tblGrid>
              <a:tr h="211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начало уро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- 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нец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- 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61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понимаю содержание текс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61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умею находить информацию в текст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50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могу определить главную мыс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еловек, который выдвинулся слишком быстро или занял видное общественное положение не по заслугам. 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(Выскочка)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276640"/>
            <a:ext cx="20876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3068640"/>
            <a:ext cx="30956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3789360"/>
            <a:ext cx="18003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5300640"/>
            <a:ext cx="38880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Михаил Михайлович Пришвин (1873-1954)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240360" cy="453708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"/>
          <p:cNvSpPr/>
          <p:nvPr/>
        </p:nvSpPr>
        <p:spPr>
          <a:xfrm>
            <a:off x="3995640" y="292428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  <a:ea typeface="DejaVu Sans"/>
              </a:rPr>
              <a:t>«Выскочка»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Тема урока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«Качества присущие людям на примере произведения 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ctr">
              <a:lnSpc>
                <a:spcPct val="100000"/>
              </a:lnSpc>
              <a:spcBef>
                <a:spcPts val="13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.М. Пришвина «Выскочка»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9145080" cy="6859080"/>
        </p:xfrm>
        <a:graphic>
          <a:graphicData uri="http://schemas.openxmlformats.org/drawingml/2006/table">
            <a:tbl>
              <a:tblPr/>
              <a:tblGrid>
                <a:gridCol w="3048480"/>
                <a:gridCol w="3048120"/>
                <a:gridCol w="3048480"/>
              </a:tblGrid>
              <a:tr h="211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начало уро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- 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нец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- 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61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понимаю содержание текс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61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умею находить информацию в текст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50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могу определить главную мыс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49994" t="0" r="0" b="0"/>
          <a:stretch/>
        </p:blipFill>
        <p:spPr>
          <a:xfrm>
            <a:off x="4859280" y="549360"/>
            <a:ext cx="3773520" cy="5456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25400" y="907920"/>
            <a:ext cx="3570480" cy="491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08360" y="2637000"/>
            <a:ext cx="1511280" cy="14396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"/>
          <p:cNvSpPr/>
          <p:nvPr/>
        </p:nvSpPr>
        <p:spPr>
          <a:xfrm rot="8940000">
            <a:off x="5062320" y="1782000"/>
            <a:ext cx="2673360" cy="152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"/>
          <p:cNvSpPr/>
          <p:nvPr/>
        </p:nvSpPr>
        <p:spPr>
          <a:xfrm rot="13020000">
            <a:off x="4645080" y="4087800"/>
            <a:ext cx="2695680" cy="1496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"/>
          <p:cNvSpPr/>
          <p:nvPr/>
        </p:nvSpPr>
        <p:spPr>
          <a:xfrm rot="6600000">
            <a:off x="2316600" y="4528080"/>
            <a:ext cx="2703600" cy="157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1042920" y="2494080"/>
            <a:ext cx="2665440" cy="148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3178800" y="645120"/>
            <a:ext cx="2425680" cy="151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9079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Кто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2349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Какой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4508640"/>
            <a:ext cx="17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Откуда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"/>
          <p:cNvSpPr/>
          <p:nvPr/>
        </p:nvSpPr>
        <p:spPr>
          <a:xfrm>
            <a:off x="2916360" y="5084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Где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2997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Как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9036000" cy="7016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7T23:43:44Z</dcterms:created>
  <dc:creator>Школа</dc:creator>
  <dc:description/>
  <dc:language>en-US</dc:language>
  <cp:lastModifiedBy>PSB</cp:lastModifiedBy>
  <dcterms:modified xsi:type="dcterms:W3CDTF">2023-04-06T11:18:02Z</dcterms:modified>
  <cp:revision>39</cp:revision>
  <dc:subject/>
  <dc:title>С.И. Ожег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