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D2C4-B566-46D6-928B-9CCDB46A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7592-F673-4283-A2E0-03E6C99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4AAD-56A0-4368-AE36-A7F65055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2AC1-9E69-41B7-B0B2-05991FD5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BD29-AE9C-47BC-A0C1-48EDE1E6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AC37-EF03-4910-AEFA-4D92EB85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AA4F-1CAD-4E5A-9FF9-696D2AD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BBB5-BBFB-4049-B848-E99D3DE4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E117-BCF8-4098-AEA5-847AC35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02C7-669C-4524-9B95-55F0C13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8087-55BB-4694-A6DD-F00B1BA1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BAA2-30EC-4F25-87CB-4E5447F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888-60EF-46BF-8126-238DB5274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.М. Пришвин «Выскочка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3886200"/>
            <a:ext cx="331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ходяева С.Б., учитель начальных классов, МБОУ ШР «СОШ № 4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429000" cy="2279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120760" cy="1752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40064" t="52780" r="37654" b="2780"/>
          <a:stretch/>
        </p:blipFill>
        <p:spPr>
          <a:xfrm>
            <a:off x="5364000" y="1413000"/>
            <a:ext cx="13240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 rot="2040000">
            <a:off x="899640" y="1413000"/>
            <a:ext cx="1685880" cy="139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 rot="1200000">
            <a:off x="6729480" y="3630600"/>
            <a:ext cx="1771560" cy="111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 rot="19260000">
            <a:off x="3933720" y="394920"/>
            <a:ext cx="1643040" cy="107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 rot="2340000">
            <a:off x="5041800" y="5013000"/>
            <a:ext cx="1811520" cy="1216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 rot="19680000">
            <a:off x="2797200" y="4920840"/>
            <a:ext cx="168588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189000"/>
          <a:ext cx="8786520" cy="6592320"/>
        </p:xfrm>
        <a:graphic>
          <a:graphicData uri="http://schemas.openxmlformats.org/drawingml/2006/table">
            <a:tbl>
              <a:tblPr/>
              <a:tblGrid>
                <a:gridCol w="1224000"/>
                <a:gridCol w="1584720"/>
                <a:gridCol w="2808720"/>
                <a:gridCol w="3169080"/>
              </a:tblGrid>
              <a:tr h="1052280"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имер из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76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77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какала ду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619280" y="1700280"/>
            <a:ext cx="108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1027080"/>
            <a:ext cx="266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Птенцы или детёныши млекопитающих, живущие ещё с матерью и держащиеся вмест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102708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Держались они тут в семь штук, и от своих родителей постыли все тайны воровства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93372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Не по порядку, как попала, не дума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933720"/>
            <a:ext cx="302580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- Скачи назад, скачи как надо, как всему сорочьему обществу надо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- Скачите, как надо, а я – как мне самой хочетс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79280" y="260280"/>
          <a:ext cx="8786520" cy="5748120"/>
        </p:xfrm>
        <a:graphic>
          <a:graphicData uri="http://schemas.openxmlformats.org/drawingml/2006/table">
            <a:tbl>
              <a:tblPr/>
              <a:tblGrid>
                <a:gridCol w="1103400"/>
                <a:gridCol w="1560960"/>
                <a:gridCol w="3026160"/>
                <a:gridCol w="3096000"/>
              </a:tblGrid>
              <a:tr h="280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4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заскоком и пыльц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11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ло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987640" y="33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Найти подходящее врем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47628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Вот это мгновение, когда Вьюшка отвернула голову, Выскочка  выбрала время для своего напад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328464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Не умная, глуповат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328464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В семье не без урода. Из семи сорок одна вышла не то чтобы совсем глупенькая…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9280" y="260280"/>
          <a:ext cx="8786520" cy="6265440"/>
        </p:xfrm>
        <a:graphic>
          <a:graphicData uri="http://schemas.openxmlformats.org/drawingml/2006/table">
            <a:tbl>
              <a:tblPr/>
              <a:tblGrid>
                <a:gridCol w="1368360"/>
                <a:gridCol w="5257440"/>
                <a:gridCol w="1008000"/>
                <a:gridCol w="1152720"/>
              </a:tblGrid>
              <a:tr h="1319400"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твер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31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ичка собаки менялась так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ьюшка – Бия – Вьюш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1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, описанные в произведении, происходили ранней весн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308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описании Вьюшки автор использует приём сравн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Ушки – как рожки, хвостик колечком, зубки остренькие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7956720" y="177336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299736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810108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260280"/>
          <a:ext cx="8786520" cy="6281280"/>
        </p:xfrm>
        <a:graphic>
          <a:graphicData uri="http://schemas.openxmlformats.org/drawingml/2006/table">
            <a:tbl>
              <a:tblPr/>
              <a:tblGrid>
                <a:gridCol w="1368360"/>
                <a:gridCol w="5257440"/>
                <a:gridCol w="1008000"/>
                <a:gridCol w="1152720"/>
              </a:tblGrid>
              <a:tr h="201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marL="216000" indent="-21600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мысел Выскочки был так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скачет к Вьюш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ьюшка бросится на Выскоч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ьюшка выбросит к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кочка унесет к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81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marL="216000" indent="-21600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 Вьюшки в момент нападения сорок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яла замысел Выскоч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Выскочку не бросила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едила взгляд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45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marL="216000" indent="-21600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Выскочки по ходу произведения менялась так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лк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уверен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т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панная, как шарик с пестрой голов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020000" y="40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242100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4292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Критерии 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се плюсы – «5»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-3 минуса – «4» 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- 5 минусов – «3»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5 минусов – «!»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Главная мысль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Что хотел сказать автор?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24504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Буклет «Мудрые мысли»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орошо быть активным и деятельным, но в обществе нужно считаться с  мнением ___________ людей, уметь с ними _________________, соблюдать правила _______________ поведения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уклет «Мудрые мысли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рошо быть активным и деятельным, но в обществе нужно считаться с  мнением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ругих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людей, уметь с ними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говариватьс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, соблюдать правила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ультурного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поведения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52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.И. Ожегов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ловек, который выдвинулся слишком быстро или занял видное общественное положение не по заслугам.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3048480"/>
                <a:gridCol w="3048120"/>
                <a:gridCol w="3048480"/>
              </a:tblGrid>
              <a:tr h="211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ловек, который выдвинулся слишком быстро или занял видное общественное положение не по заслугам.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(Выскочка)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276640"/>
            <a:ext cx="2087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068640"/>
            <a:ext cx="3095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789360"/>
            <a:ext cx="1800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300640"/>
            <a:ext cx="3888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хаил Михайлович Пришвин (1873-1954)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453708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3995640" y="2924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DejaVu Sans"/>
              </a:rPr>
              <a:t>«Выскочка»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«Качества присущие людям на примере произведения 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.М. Пришвина «Выскочка»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3048480"/>
                <a:gridCol w="3048120"/>
                <a:gridCol w="3048480"/>
              </a:tblGrid>
              <a:tr h="211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9994" t="0" r="0" b="0"/>
          <a:stretch/>
        </p:blipFill>
        <p:spPr>
          <a:xfrm>
            <a:off x="4859280" y="549360"/>
            <a:ext cx="3773520" cy="545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25400" y="907920"/>
            <a:ext cx="3570480" cy="49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08360" y="2637000"/>
            <a:ext cx="1511280" cy="1439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 rot="8940000">
            <a:off x="5062320" y="1782000"/>
            <a:ext cx="2673360" cy="15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/>
          <p:cNvSpPr/>
          <p:nvPr/>
        </p:nvSpPr>
        <p:spPr>
          <a:xfrm rot="13020000">
            <a:off x="4645080" y="4087800"/>
            <a:ext cx="2695680" cy="149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 rot="6600000">
            <a:off x="2316600" y="4528080"/>
            <a:ext cx="2703600" cy="157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042920" y="2494080"/>
            <a:ext cx="2665440" cy="148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3178800" y="645120"/>
            <a:ext cx="242568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9079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23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450864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Откуд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508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Где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ак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9036000" cy="701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23:43:44Z</dcterms:created>
  <dc:creator>Школа</dc:creator>
  <dc:description/>
  <dc:language>en-US</dc:language>
  <cp:lastModifiedBy>PSB</cp:lastModifiedBy>
  <dcterms:modified xsi:type="dcterms:W3CDTF">2023-04-06T11:18:02Z</dcterms:modified>
  <cp:revision>39</cp:revision>
  <dc:subject/>
  <dc:title>С.И. Ожег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