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7777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1FFE-985B-432B-9113-9A45D314F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05B0-2041-443F-81CA-CFA858D05633}" type="slidenum">
              <a:rPr b="0" lang="en-US" sz="12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2CFC-F8C4-43A6-AC95-789C5E0E69D6}" type="slidenum">
              <a:rPr b="0" lang="en-US" sz="12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7777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777777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2286000" y="25146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 о деятельности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младшей группы № 3 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2019-2020 учебный год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1523880" y="685800"/>
            <a:ext cx="7086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образовательное учрежд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а Нижневартовска детский сад № 37  «Дружная семейка» 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42840" y="263520"/>
            <a:ext cx="1420920" cy="151128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4"/>
          <p:cNvSpPr/>
          <p:nvPr/>
        </p:nvSpPr>
        <p:spPr>
          <a:xfrm>
            <a:off x="6629400" y="541008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танова Л.М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ктарова Г.И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304920" y="1981080"/>
            <a:ext cx="8305560" cy="31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высшее педагогическое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квалификационная категория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самообразования: «Воспитание творческой направленности личности  дошкольников в условиях коллективной деятельности»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жковая работа для детей первой младшей группы по сенсорному развитию «Пирамидка»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квалификации: «Исследовательская и проектная деятельность педагога в условиях реализации ФГОС »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– сайт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nsportal.ru/sultanova-liliya-maganavievna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1447920" y="1143000"/>
            <a:ext cx="6324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лтанова Лилия Маганавиевна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2700360" y="1143000"/>
            <a:ext cx="3684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ие в конкурсах 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74680" y="1828800"/>
          <a:ext cx="8564400" cy="4740120"/>
        </p:xfrm>
        <a:graphic>
          <a:graphicData uri="http://schemas.openxmlformats.org/drawingml/2006/table">
            <a:tbl>
              <a:tblPr/>
              <a:tblGrid>
                <a:gridCol w="8564400"/>
              </a:tblGrid>
              <a:tr h="44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adb0"/>
                    </a:solidFill>
                  </a:tcPr>
                </a:tc>
              </a:tr>
              <a:tr h="4298760"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плом 1 место Регионального конкурса «Моя Югра»</a:t>
                      </a:r>
                      <a:endParaRPr b="0" lang="en-US" sz="20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плом 1 место Всероссийского конкурса «Педагоги России» Конкурсная работа: Копилка речевых, пальчиковых, подвижных игр, физкультминуток по правилам дорожного движения для детей младшего возраста</a:t>
                      </a:r>
                      <a:endParaRPr b="0" lang="en-US" sz="20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плом куратора за подготовку участников во Всероссийском дистанционном конкурсе детского творчества «Зимнее волшебство»</a:t>
                      </a:r>
                      <a:endParaRPr b="0" lang="en-US" sz="20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533520" y="390600"/>
            <a:ext cx="8001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ализация мероприятий, обеспечивающих взаимодействие с родителями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41120" y="1828800"/>
          <a:ext cx="8785440" cy="4811760"/>
        </p:xfrm>
        <a:graphic>
          <a:graphicData uri="http://schemas.openxmlformats.org/drawingml/2006/table">
            <a:tbl>
              <a:tblPr/>
              <a:tblGrid>
                <a:gridCol w="360360"/>
                <a:gridCol w="2160720"/>
                <a:gridCol w="626436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adb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 родительского собрания</a:t>
                      </a:r>
                      <a:endParaRPr b="0" lang="en-US" sz="18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adb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ль </a:t>
                      </a:r>
                      <a:endParaRPr b="0" lang="en-US" sz="18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adb0"/>
                    </a:solidFill>
                  </a:tcPr>
                </a:tc>
              </a:tr>
              <a:tr h="1325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1</a:t>
                      </a:r>
                      <a:endParaRPr b="0" lang="en-US" sz="18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622440"/>
                          <a:tab algn="l" pos="1244520"/>
                          <a:tab algn="l" pos="1866960"/>
                          <a:tab algn="l" pos="2489040"/>
                          <a:tab algn="l" pos="3111480"/>
                          <a:tab algn="l" pos="3733920"/>
                          <a:tab algn="l" pos="4356000"/>
                          <a:tab algn="l" pos="4978440"/>
                          <a:tab algn="l" pos="5600880"/>
                          <a:tab algn="l" pos="6222960"/>
                          <a:tab algn="l" pos="6845400"/>
                          <a:tab algn="l" pos="7467480"/>
                          <a:tab algn="l" pos="8089920"/>
                          <a:tab algn="l" pos="8712360"/>
                          <a:tab algn="l" pos="9334440"/>
                          <a:tab algn="l" pos="9956880"/>
                          <a:tab algn="l" pos="10578960"/>
                        </a:tabLst>
                      </a:pP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lvl="1"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622440"/>
                          <a:tab algn="l" pos="1244520"/>
                          <a:tab algn="l" pos="1866960"/>
                          <a:tab algn="l" pos="2489040"/>
                          <a:tab algn="l" pos="3111480"/>
                          <a:tab algn="l" pos="3733920"/>
                          <a:tab algn="l" pos="4356000"/>
                          <a:tab algn="l" pos="4978440"/>
                          <a:tab algn="l" pos="5600880"/>
                          <a:tab algn="l" pos="6222960"/>
                          <a:tab algn="l" pos="6845400"/>
                          <a:tab algn="l" pos="7467480"/>
                          <a:tab algn="l" pos="8089920"/>
                          <a:tab algn="l" pos="8712360"/>
                          <a:tab algn="l" pos="9334440"/>
                          <a:tab algn="l" pos="9956880"/>
                          <a:tab algn="l" pos="105789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Будем знаком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22440"/>
                          <a:tab algn="l" pos="1244520"/>
                          <a:tab algn="l" pos="1866960"/>
                          <a:tab algn="l" pos="2489040"/>
                          <a:tab algn="l" pos="3111480"/>
                          <a:tab algn="l" pos="3733920"/>
                          <a:tab algn="l" pos="4356000"/>
                          <a:tab algn="l" pos="4978440"/>
                          <a:tab algn="l" pos="5600880"/>
                          <a:tab algn="l" pos="6222960"/>
                          <a:tab algn="l" pos="6845400"/>
                          <a:tab algn="l" pos="7467480"/>
                          <a:tab algn="l" pos="8089920"/>
                          <a:tab algn="l" pos="8712360"/>
                          <a:tab algn="l" pos="9334440"/>
                          <a:tab algn="l" pos="9956880"/>
                          <a:tab algn="l" pos="10578960"/>
                        </a:tabLst>
                      </a:pP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622440"/>
                          <a:tab algn="l" pos="1244520"/>
                          <a:tab algn="l" pos="1866960"/>
                          <a:tab algn="l" pos="2489040"/>
                          <a:tab algn="l" pos="3111480"/>
                          <a:tab algn="l" pos="3733920"/>
                          <a:tab algn="l" pos="4356000"/>
                          <a:tab algn="l" pos="4978440"/>
                          <a:tab algn="l" pos="5600880"/>
                          <a:tab algn="l" pos="6222960"/>
                          <a:tab algn="l" pos="6845400"/>
                          <a:tab algn="l" pos="7467480"/>
                          <a:tab algn="l" pos="8089920"/>
                          <a:tab algn="l" pos="8712360"/>
                          <a:tab algn="l" pos="9334440"/>
                          <a:tab algn="l" pos="9956880"/>
                          <a:tab algn="l" pos="105789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ть условия для знакомства родителей друг с другом. Познакомить родителей с программой развития детей, задачами развития и воспитания детей.</a:t>
                      </a: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lvl="1" algn="just">
                        <a:lnSpc>
                          <a:spcPct val="90000"/>
                        </a:lnSpc>
                        <a:spcAft>
                          <a:spcPts val="224"/>
                        </a:spcAft>
                        <a:tabLst>
                          <a:tab algn="l" pos="0"/>
                          <a:tab algn="l" pos="622440"/>
                          <a:tab algn="l" pos="1244520"/>
                          <a:tab algn="l" pos="1866960"/>
                          <a:tab algn="l" pos="2489040"/>
                          <a:tab algn="l" pos="3111480"/>
                          <a:tab algn="l" pos="3733920"/>
                          <a:tab algn="l" pos="4356000"/>
                          <a:tab algn="l" pos="4978440"/>
                          <a:tab algn="l" pos="5600880"/>
                          <a:tab algn="l" pos="6222960"/>
                          <a:tab algn="l" pos="6845400"/>
                          <a:tab algn="l" pos="7467480"/>
                          <a:tab algn="l" pos="8089920"/>
                          <a:tab algn="l" pos="8712360"/>
                          <a:tab algn="l" pos="9334440"/>
                          <a:tab algn="l" pos="9956880"/>
                          <a:tab algn="l" pos="10578960"/>
                        </a:tabLst>
                      </a:pPr>
                      <a:endParaRPr b="0" lang="en-US" sz="12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22440"/>
                          <a:tab algn="l" pos="1244520"/>
                          <a:tab algn="l" pos="1866960"/>
                          <a:tab algn="l" pos="2489040"/>
                          <a:tab algn="l" pos="3111480"/>
                          <a:tab algn="l" pos="3733920"/>
                          <a:tab algn="l" pos="4356000"/>
                          <a:tab algn="l" pos="4978440"/>
                          <a:tab algn="l" pos="5600880"/>
                          <a:tab algn="l" pos="6222960"/>
                          <a:tab algn="l" pos="6845400"/>
                          <a:tab algn="l" pos="7467480"/>
                          <a:tab algn="l" pos="8089920"/>
                          <a:tab algn="l" pos="8712360"/>
                          <a:tab algn="l" pos="9334440"/>
                          <a:tab algn="l" pos="9956880"/>
                          <a:tab algn="l" pos="10578960"/>
                        </a:tabLst>
                      </a:pPr>
                      <a:endParaRPr b="0" lang="en-US" sz="12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e4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2</a:t>
                      </a:r>
                      <a:endParaRPr b="0" lang="en-US" sz="18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етская самостоятельность. Как ее развивать правильно?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algn="just">
                        <a:lnSpc>
                          <a:spcPct val="9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622440"/>
                          <a:tab algn="l" pos="1244520"/>
                          <a:tab algn="l" pos="1866960"/>
                          <a:tab algn="l" pos="2489040"/>
                          <a:tab algn="l" pos="3111480"/>
                          <a:tab algn="l" pos="3733920"/>
                          <a:tab algn="l" pos="4356000"/>
                          <a:tab algn="l" pos="4978440"/>
                          <a:tab algn="l" pos="5600880"/>
                          <a:tab algn="l" pos="6222960"/>
                          <a:tab algn="l" pos="6845400"/>
                          <a:tab algn="l" pos="7467480"/>
                          <a:tab algn="l" pos="8089920"/>
                          <a:tab algn="l" pos="8712360"/>
                          <a:tab algn="l" pos="9334440"/>
                          <a:tab algn="l" pos="9956880"/>
                          <a:tab algn="l" pos="105789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ь родителям знания о значении воспитания у детей самостоятельности и культурно-гигиенических навыков.</a:t>
                      </a: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22440"/>
                          <a:tab algn="l" pos="1244520"/>
                          <a:tab algn="l" pos="1866960"/>
                          <a:tab algn="l" pos="2489040"/>
                          <a:tab algn="l" pos="3111480"/>
                          <a:tab algn="l" pos="3733920"/>
                          <a:tab algn="l" pos="4356000"/>
                          <a:tab algn="l" pos="4978440"/>
                          <a:tab algn="l" pos="5600880"/>
                          <a:tab algn="l" pos="6222960"/>
                          <a:tab algn="l" pos="6845400"/>
                          <a:tab algn="l" pos="7467480"/>
                          <a:tab algn="l" pos="8089920"/>
                          <a:tab algn="l" pos="8712360"/>
                          <a:tab algn="l" pos="9334440"/>
                          <a:tab algn="l" pos="9956880"/>
                          <a:tab algn="l" pos="10578960"/>
                        </a:tabLst>
                      </a:pP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2"/>
                    </a:solidFill>
                  </a:tcPr>
                </a:tc>
              </a:tr>
              <a:tr h="113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3</a:t>
                      </a:r>
                      <a:endParaRPr b="0" lang="en-US" sz="18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algn="ctr">
                        <a:lnSpc>
                          <a:spcPct val="9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1778040"/>
                          <a:tab algn="l" pos="3556080"/>
                          <a:tab algn="l" pos="5334120"/>
                          <a:tab algn="l" pos="7112160"/>
                          <a:tab algn="l" pos="888984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lvl="1" algn="ctr">
                        <a:lnSpc>
                          <a:spcPct val="9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1778040"/>
                          <a:tab algn="l" pos="3556080"/>
                          <a:tab algn="l" pos="5334120"/>
                          <a:tab algn="l" pos="7112160"/>
                          <a:tab algn="l" pos="888984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акими мы стали»</a:t>
                      </a: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lvl="1" algn="ctr">
                        <a:lnSpc>
                          <a:spcPct val="9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1778040"/>
                          <a:tab algn="l" pos="3556080"/>
                          <a:tab algn="l" pos="5334120"/>
                          <a:tab algn="l" pos="7112160"/>
                          <a:tab algn="l" pos="888984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78040"/>
                          <a:tab algn="l" pos="3556080"/>
                          <a:tab algn="l" pos="5334120"/>
                          <a:tab algn="l" pos="7112160"/>
                          <a:tab algn="l" pos="888984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комить родителей с достижениями и успехами детей за учебный год; подвести итоги совместной деятельности педагогов, детей и их родителе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e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85800" y="533520"/>
          <a:ext cx="7924680" cy="601956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927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  консультации</a:t>
                      </a: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adb0"/>
                    </a:solidFill>
                  </a:tcPr>
                </a:tc>
              </a:tr>
              <a:tr h="5092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упная польза мелкой моторики рук»</a:t>
                      </a: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яч-полезная игрушка для развития ребёнка»</a:t>
                      </a: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ные особенности детей 3-4 лет»</a:t>
                      </a: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мятки по ОБЖ</a:t>
                      </a: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клет «Познавательные опыты для детей»</a:t>
                      </a: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тношение родителей к воспитанию патриотических чувств</a:t>
                      </a: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школьников»</a:t>
                      </a: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оль семьи в воспитании у детей любви к Родине»</a:t>
                      </a: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2"/>
          <p:cNvSpPr/>
          <p:nvPr/>
        </p:nvSpPr>
        <p:spPr>
          <a:xfrm>
            <a:off x="114480" y="1144440"/>
            <a:ext cx="78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ы осени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годние поделки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выставка «Мой папа-самый лучший»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ки на конкурс «Боярыня Масленица»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военной техники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«День космонавтики»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1219320" y="684360"/>
            <a:ext cx="6172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родителей в выставках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4" name="Прямоугольник 4"/>
          <p:cNvSpPr/>
          <p:nvPr/>
        </p:nvSpPr>
        <p:spPr>
          <a:xfrm>
            <a:off x="88920" y="4006800"/>
            <a:ext cx="891540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1953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5349"/>
                </a:solidFill>
                <a:latin typeface="Times New Roman"/>
                <a:ea typeface="Times New Roman"/>
              </a:rPr>
              <a:t>На протяжении всего учебного года проводилась планомерная работа с родителями. 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1953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5349"/>
                </a:solidFill>
                <a:latin typeface="Times New Roman"/>
                <a:ea typeface="Times New Roman"/>
              </a:rPr>
              <a:t>Периодически обновлялась информация в родительском уголке. 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1953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5349"/>
                </a:solidFill>
                <a:latin typeface="Times New Roman"/>
                <a:ea typeface="Times New Roman"/>
              </a:rPr>
              <a:t>Проводились дни открытых дверей. 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1953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5349"/>
                </a:solidFill>
                <a:latin typeface="Times New Roman"/>
                <a:ea typeface="Times New Roman"/>
              </a:rPr>
              <a:t>Родители принимали участие в совместных праздниках, проектной деятельности, обустройстве участков, оформлении групп к праздникам</a:t>
            </a:r>
            <a:r>
              <a:rPr b="1" lang="ru-RU" sz="2000" spc="-1" strike="noStrike">
                <a:solidFill>
                  <a:srgbClr val="195349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228600" y="914400"/>
            <a:ext cx="8686800" cy="558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ть над улучшением здоровья детей и снижением детской заболеваемости, через подвижные игры и упражнения на развитие двигательной активности детей и продолжая проводить весь комплекс профилактических мер, используя нетрадиционное физкультурное оборудование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е использование современных здоровьесберегающих технологий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мелкую моторику рук через шнуровку, лепку, аппликацию, пальчиковые игры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лекать родителей в воспитательно-образовательный процесс – составление проектов, участие в выставках совместных работ, в мероприятиях группы и детского сада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комплекс занятий для кружка «Цветные ладошки» детей 4-5 лет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ь предметно-развивающую среду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ть материал по разделам программы для работы с интерактивной доской для детей 4-5 лет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каталог игр по развитию речи детей младшего возраста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организации участия детей в конкурсах различного уровня: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х, всероссийских, международных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2362320" y="304920"/>
            <a:ext cx="40035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ы развития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173160" y="1447920"/>
            <a:ext cx="8762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ать работать над темой по самообразованию: «Воспитание творческой направленности личности  дошкольников в условиях коллективной деятельности»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ть профессиональную компетенцию через КПК, РМЦ и ГМО 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ать работу над краткосрочными проектами согласно программе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боте с родителями планируем более широкое вовлечение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ой общественности в жизнь детского сада через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конкурсных мероприятиях.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8" name="Прямоугольник 2"/>
          <p:cNvSpPr/>
          <p:nvPr/>
        </p:nvSpPr>
        <p:spPr>
          <a:xfrm>
            <a:off x="1728360" y="790560"/>
            <a:ext cx="5723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ы развития педагогов 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2"/>
          <p:cNvSpPr/>
          <p:nvPr/>
        </p:nvSpPr>
        <p:spPr>
          <a:xfrm>
            <a:off x="228600" y="2124000"/>
            <a:ext cx="632448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группе 29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нников:</a:t>
            </a:r>
            <a:endParaRPr b="0" lang="en-US" sz="36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льчиков – 12  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вочек – 17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0" y="1157400"/>
            <a:ext cx="9144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:  создание благоприятных условий для полноценного проживания ребёнком дошкольного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ства, формирование основ базовой культуры личности.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304920" y="1752480"/>
            <a:ext cx="8610480" cy="49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та о здоровье и эмоциональном благополучии ребёнка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стороннее развитие психических и физических качеств соответствии с возрастными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ндивидуальными возможностями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безопасности жизнедеятельности дошкольника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у детей патриотизма, уважения к традиционным ценностям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о подходов к воспитанию детей в условиях ДОУ и семьи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общей культуры личности воспитанников, развитие их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лектуальных, социальных, нравственных, интеллектуальных качеств,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редпосылок к учебной деятельности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сихолого-педагогической поддержки семьи и повышение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тности родителей в вопросах развития и образования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457200" y="533520"/>
            <a:ext cx="82296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воение общеобразовательной программы (разделы) в группе общеразвивающей направленности для детей 4 года жизни №2 на конец 2019-2020 учебного года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53" name="Диаграмма 2" descr=""/>
          <p:cNvPicPr/>
          <p:nvPr/>
        </p:nvPicPr>
        <p:blipFill>
          <a:blip r:embed="rId1"/>
          <a:stretch/>
        </p:blipFill>
        <p:spPr>
          <a:xfrm>
            <a:off x="189000" y="1908000"/>
            <a:ext cx="876600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210960" y="111240"/>
            <a:ext cx="8991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вень овладения воспитанниками необходимыми 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выками и умениями по основным образовательным областям ОП ДО в соответствии с требованиями ФГОС (диагностика) 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55" name="Диаграмма 2" descr=""/>
          <p:cNvPicPr/>
          <p:nvPr/>
        </p:nvPicPr>
        <p:blipFill>
          <a:blip r:embed="rId1"/>
          <a:stretch/>
        </p:blipFill>
        <p:spPr>
          <a:xfrm>
            <a:off x="2822400" y="3736800"/>
            <a:ext cx="6169320" cy="3121200"/>
          </a:xfrm>
          <a:prstGeom prst="rect">
            <a:avLst/>
          </a:prstGeom>
          <a:ln w="0">
            <a:noFill/>
          </a:ln>
        </p:spPr>
      </p:pic>
      <p:pic>
        <p:nvPicPr>
          <p:cNvPr id="56" name="Диаграмма 3" descr=""/>
          <p:cNvPicPr/>
          <p:nvPr/>
        </p:nvPicPr>
        <p:blipFill>
          <a:blip r:embed="rId2"/>
          <a:stretch/>
        </p:blipFill>
        <p:spPr>
          <a:xfrm>
            <a:off x="158760" y="993600"/>
            <a:ext cx="5613480" cy="27734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"/>
          <p:cNvSpPr/>
          <p:nvPr/>
        </p:nvSpPr>
        <p:spPr>
          <a:xfrm>
            <a:off x="5867280" y="1695600"/>
            <a:ext cx="1905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ачало года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1109520" y="5410080"/>
            <a:ext cx="1905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ц года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Диаграмма 1" descr=""/>
          <p:cNvPicPr/>
          <p:nvPr/>
        </p:nvPicPr>
        <p:blipFill>
          <a:blip r:embed="rId1"/>
          <a:stretch/>
        </p:blipFill>
        <p:spPr>
          <a:xfrm>
            <a:off x="152280" y="1603440"/>
            <a:ext cx="883944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Диаграмма 2" descr=""/>
          <p:cNvPicPr/>
          <p:nvPr/>
        </p:nvPicPr>
        <p:blipFill>
          <a:blip r:embed="rId1"/>
          <a:stretch/>
        </p:blipFill>
        <p:spPr>
          <a:xfrm>
            <a:off x="225360" y="1212840"/>
            <a:ext cx="869328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228600" y="0"/>
            <a:ext cx="84582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ие воспитанников 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онкурсах различного уровня 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28600" y="1171440"/>
          <a:ext cx="8915400" cy="5686560"/>
        </p:xfrm>
        <a:graphic>
          <a:graphicData uri="http://schemas.openxmlformats.org/drawingml/2006/table">
            <a:tbl>
              <a:tblPr/>
              <a:tblGrid>
                <a:gridCol w="2286000"/>
                <a:gridCol w="4343400"/>
                <a:gridCol w="228600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</a:t>
                      </a:r>
                      <a:endParaRPr b="0" lang="en-US" sz="20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овые места</a:t>
                      </a:r>
                      <a:endParaRPr b="0" lang="en-US" sz="20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</a:t>
                      </a:r>
                      <a:endParaRPr b="0" lang="en-US" sz="20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дународный 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Диплом 1 место 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ак прекрасен мир» в номинации «Мир в котором я живу»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онкурсе «Моя Родина»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российский 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плом 1 место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Игры, игрушки»  номинация «Моя любимая игрушка»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плом 1 место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Сказочный лес» в номинации «Декоративно-прикладное искусство»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егионы России :ХМАО Югра»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157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 1 мест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«Никогда не забудем! «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 1 место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доровье бережем смолоду» в номинации«Спортивный праздник»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Бессмертный полк»,посвященном Дню Победы  в ВОВ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уровне детского сада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плом 1 место 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плом 2 мест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плом 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степени в творческом конкурсе "Новогодняя игрушка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Математическая 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йка"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1082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конкурс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 1 место 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е чтецов  «Мой папа самый лучший»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рисунков «Мой папа самый лучший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1371600" y="752400"/>
            <a:ext cx="6553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ализация программ и проектов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609480" y="1600200"/>
            <a:ext cx="8077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ая рабочая программа по реализации основной общеобразовательной программы общеразвивающей направленности детей первой младшей группы на 2019-2020 год на основе ФГОС ДО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 кружковой работы для детей группы младшего дошкольного возраста по сенсорному развитию «Развивай-ка»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о-родительский клуб «Мамина школа»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1</cp:lastModifiedBy>
  <dcterms:modified xsi:type="dcterms:W3CDTF">2021-04-20T19:03:49Z</dcterms:modified>
  <cp:revision>312</cp:revision>
  <dc:subject/>
  <dc:title>Name of presentation</dc:title>
</cp:coreProperties>
</file>