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7D89-246C-4223-A8A8-A7F07EF5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0EE-26E7-47C1-A607-59E7809A232F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9DD-EB8F-4E79-95B1-944696D30D17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0" y="2514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 деятельност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младшей группы № 3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20-2021 учебный год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523880" y="685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Нижневартовска детский сад № 37  «Дружная семейка»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40" y="263520"/>
            <a:ext cx="142092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29400" y="54100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танова Л.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тарова Г.И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4920" y="1981080"/>
            <a:ext cx="8305560" cy="388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высшее педагогическое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амообразования: «Воспитание творческой направленности личности  дошкольников в условиях коллективной деятельности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для детей младшей группы по программе дополнительного  образования «Умный малыш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Особенности работы с детьми  ОВЗ в условиях реализации ФГОС ДО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Исследовательская и проектная деятельность педагога в условиях реализации ФГОС 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nsportal.ru/sultanova-liliya-maganavievn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лтанова Лилия Маганавиевн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14600" y="228600"/>
            <a:ext cx="387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5782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Регионального конкурса «Моя Югра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степени Всероссийского конкурса «Педагоги России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курсная работа: Копилка речевых, пальчиковых,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хигр,физкультминуток по правилам дорожного движения для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тей младшего возра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куратора за подготовку участников во Всероссийском дистанционном конкурсе детского творчества «Зимнее волшебство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место городского конкурса «Джалиловские чтения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Международного конкурса «Современный педагог-как новатор и хранитель педагогических традиций и ценностей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 1место Всероссийского конкурса «Физкультурно-оздоровительный проект  «Азбука здоровья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3520" y="390600"/>
            <a:ext cx="8001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1120" y="1828800"/>
          <a:ext cx="8785440" cy="4811760"/>
        </p:xfrm>
        <a:graphic>
          <a:graphicData uri="http://schemas.openxmlformats.org/drawingml/2006/table">
            <a:tbl>
              <a:tblPr/>
              <a:tblGrid>
                <a:gridCol w="360360"/>
                <a:gridCol w="2160720"/>
                <a:gridCol w="6264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родительского собрания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13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ем знаком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 для знакомства родителей и общения друг с другом. Познакомить родителей с программой развития детей, задачами развития и воспитания детей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9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ая самостоятельность. Как ее развивать правильно?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родителям знания о значении воспитания у детей самостоятельности и культурно-гигиенических навыков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  <a:tr h="11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3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ими мы стали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достижениями и успехами детей за учебный год; подвести итоги совместной деятельности педагогов, детей и их 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533520"/>
          <a:ext cx="7924680" cy="60195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92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консультации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09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пная польза мелкой моторики рук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яч-полезная игрушка для развития ребёнка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особенности детей 3-4 лет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и по ОБЖ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лет «Познавательные опыты для детей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ношение родителей к воспитанию патриотических чувств дошкольников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ль семьи в воспитании у детей любви к Родине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14480" y="11444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ы осен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поделк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й папа-самый лучший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на конкурс «Боярыня Масленица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военной техник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«День космонавтик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219320" y="68436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88920" y="4006800"/>
            <a:ext cx="8915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На протяжении всего учебного года проводилась планомерная работа с родителями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ериодически обновлялась информация в родительском уголке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роводились дни открытых дверей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Родители принимали участие в совместных праздниках, проектной деятельности, обустройстве участков, оформлении групп к праздникам</a:t>
            </a:r>
            <a:r>
              <a:rPr b="1" lang="ru-RU" sz="20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28600" y="914400"/>
            <a:ext cx="86868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д улучшением здоровья детей и снижением детской заболеваемости, через подвижные игры и упражнения на развитие двигательной активности детей и продолжая проводить весь комплекс профилактических мер, используя нетрадиционное физкультурное оборудован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использование современных здоровьесберегающих технологий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 через шнуровку, лепку, аппликацию, пальчиковые игры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кать родителей в воспитательно-образовательный процесс – составление проектов, участие в выставках совместных работ, в мероприятиях группы и детского сад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омплекс занятий для кружка «Цветные ладошки» детей 4-5 лет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едметно-развивающую среду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 по разделам программы для работы с интерактивной доской для детей 4-5 лет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талог игр по развитию речи детей младшего возраст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рганизации участия детей в конкурсах различного уровня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, всероссийских, международных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362320" y="304920"/>
            <a:ext cx="400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73160" y="1447920"/>
            <a:ext cx="876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ать над темой по самообразованию: «Воспитание творческой направленности личности  дошкольников в условиях коллективной деятельност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рофессиональную компетенцию через КПК, РМЦ и ГМО 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над краткосрочными проектами согласно программе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родителями планируем более широкое вовлечение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й общественности в жизнь детского сада через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онкурсных мероприятиях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728360" y="790560"/>
            <a:ext cx="572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 педагог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28600" y="2124000"/>
            <a:ext cx="63244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уппе 2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ов: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ов – 14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ек – 11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0" y="115740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 создание благоприятных условий для полноценного проживания ребёнком дошкольного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тва, формирование основ базовой культуры личност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04920" y="1752480"/>
            <a:ext cx="86104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и эмоциональном благополучии ребён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развитие психических и физических качеств соответствии с возрастны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дивидуальными возможностя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жизнедеятельности дошкольни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патриотизма, уважения к традиционным ценностям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ОУ и семь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воспитанников, развитие их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, социальных, нравственных, интеллектуальных качеств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посылок к учебной деятельност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родителей в вопросах развития и образования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" y="53352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общеобразовательной программы (разделы) в группе общеразвивающей направленности для детей 4 года жизни №3 на конец 2020-2021 учебног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189000" y="1908000"/>
            <a:ext cx="8766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0960" y="111240"/>
            <a:ext cx="8991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ами и умениями по основным образовательным областям ОП ДО в соответствии с требованиями ФГОС (диагностика)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Диаграмма 2" descr=""/>
          <p:cNvPicPr/>
          <p:nvPr/>
        </p:nvPicPr>
        <p:blipFill>
          <a:blip r:embed="rId1"/>
          <a:stretch/>
        </p:blipFill>
        <p:spPr>
          <a:xfrm>
            <a:off x="2822400" y="3736800"/>
            <a:ext cx="6169320" cy="31212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3" descr=""/>
          <p:cNvPicPr/>
          <p:nvPr/>
        </p:nvPicPr>
        <p:blipFill>
          <a:blip r:embed="rId2"/>
          <a:stretch/>
        </p:blipFill>
        <p:spPr>
          <a:xfrm>
            <a:off x="158760" y="993600"/>
            <a:ext cx="5613480" cy="277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67280" y="169560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109520" y="541008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152280" y="1603440"/>
            <a:ext cx="8839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2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9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0"/>
            <a:ext cx="8458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курсах различного уровня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066680"/>
          <a:ext cx="8763120" cy="5639040"/>
        </p:xfrm>
        <a:graphic>
          <a:graphicData uri="http://schemas.openxmlformats.org/drawingml/2006/table">
            <a:tbl>
              <a:tblPr/>
              <a:tblGrid>
                <a:gridCol w="2246400"/>
                <a:gridCol w="4270320"/>
                <a:gridCol w="2246400"/>
              </a:tblGrid>
              <a:tr h="4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овые ме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прекрасен мир» в номинации «Мир в котором я живу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курсе «Моя Родин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5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гры, игрушки»  номинация «Моя любимая игрушк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ый лес» в номинации «Декоративно-прикладное искусство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гионы России :ХМАО Югр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«Никогда не забудем! «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ье бережем смолоду» в номинации«Спортивный праздник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ссмертный полк»,посвященном Дню Победы  в ВОВ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детского сад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2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степени в творческом конкурсе "Новогодняя игрушк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Математическая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йка"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конкурс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е чтецов  «Мой папа самый лучший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Мой папа самый лучший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371600" y="752400"/>
            <a:ext cx="65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09480" y="16002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рабочая программа по реализации основной общеобразовательной программы общеразвивающей направленности детей первой младшей группы на 2019-2020 год на основе ФГОС ДО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кружковой работы для детей группы младшего дошкольного возраста по сенсорному развитию «Развивай-к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й клуб «Мамина школ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21-05-20T18:27:10Z</dcterms:modified>
  <cp:revision>319</cp:revision>
  <dc:subject/>
  <dc:title>Name of presentation</dc:title>
</cp:coreProperties>
</file>