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011-B32C-4EB9-B4A3-01F8A0E3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5593-AFEA-4D69-A8CE-2A1B4097C1CA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588-9D0D-42B5-9F53-D430F9EF739F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286000" y="2514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 деятельност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младшей группы № 3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20-2021 учебный год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523880" y="685800"/>
            <a:ext cx="7086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а Нижневартовска детский сад № 37  «Дружная семейка»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40" y="263520"/>
            <a:ext cx="142092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29400" y="54100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танова Л.М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тарова Г.И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4920" y="1981080"/>
            <a:ext cx="8305560" cy="388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высшее педагогическое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амообразования: «Воспитание творческой направленности личности  дошкольников в условиях коллективной деятельности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ковая работа для детей младшей группы по программе дополнительного  образования «Умный малыш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: «Особенности работы с детьми  ОВЗ в условиях реализации ФГОС ДО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валификации: «Исследовательская и проектная деятельность педагога в условиях реализации ФГОС »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nsportal.ru/sultanova-liliya-maganavievna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лтанова Лилия Маганавиевн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14600" y="228600"/>
            <a:ext cx="387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онкурсах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55782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Регионального конкурса «Моя Югра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степени Всероссийского конкурса «Педагоги России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нкурсная работа: Копилка речевых, пальчиковых,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ижныхигр,физкультминуток по правилам дорожного движения для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тей младшего возра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куратора за подготовку участников во Всероссийском дистанционном конкурсе детского творчества «Зимнее волшебство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место городского конкурса «Джалиловские чтения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1 место Международного конкурса «Современный педагог-как новатор и хранитель педагогических традиций и ценностей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плом  1место Всероссийского конкурса «Физкультурно-оздоровительный проект  «Азбука здоровья»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3520" y="390600"/>
            <a:ext cx="8001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1120" y="1828800"/>
          <a:ext cx="8785440" cy="4811760"/>
        </p:xfrm>
        <a:graphic>
          <a:graphicData uri="http://schemas.openxmlformats.org/drawingml/2006/table">
            <a:tbl>
              <a:tblPr/>
              <a:tblGrid>
                <a:gridCol w="360360"/>
                <a:gridCol w="2160720"/>
                <a:gridCol w="6264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родительского собрания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13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дем знаком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 для знакомства родителей и общения друг с другом. Познакомить родителей с программой развития детей, задачами развития и воспитания детей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9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2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2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тская самостоятельность. Как ее развивать правильно?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just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родителям знания о значении воспитания у детей самостоятельности и культурно-гигиенических навыков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22440"/>
                          <a:tab algn="l" pos="1244520"/>
                          <a:tab algn="l" pos="1866960"/>
                          <a:tab algn="l" pos="2489040"/>
                          <a:tab algn="l" pos="3111480"/>
                          <a:tab algn="l" pos="3733920"/>
                          <a:tab algn="l" pos="4356000"/>
                          <a:tab algn="l" pos="4978440"/>
                          <a:tab algn="l" pos="5600880"/>
                          <a:tab algn="l" pos="6222960"/>
                          <a:tab algn="l" pos="6845400"/>
                          <a:tab algn="l" pos="7467480"/>
                          <a:tab algn="l" pos="8089920"/>
                          <a:tab algn="l" pos="8712360"/>
                          <a:tab algn="l" pos="9334440"/>
                          <a:tab algn="l" pos="9956880"/>
                          <a:tab algn="l" pos="1057896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  <a:tr h="11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3</a:t>
                      </a:r>
                      <a:endParaRPr b="0" lang="en-US" sz="18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ими мы стали»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lvl="1" algn="ctr">
                        <a:lnSpc>
                          <a:spcPct val="9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778040"/>
                          <a:tab algn="l" pos="3556080"/>
                          <a:tab algn="l" pos="5334120"/>
                          <a:tab algn="l" pos="7112160"/>
                          <a:tab algn="l" pos="888984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 родителей с достижениями и успехами детей за учебный год; подвести итоги совместной деятельности педагогов, детей и их родител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533520"/>
          <a:ext cx="7924680" cy="60195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92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 консультации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adb0"/>
                    </a:solidFill>
                  </a:tcPr>
                </a:tc>
              </a:tr>
              <a:tr h="509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упная польза мелкой моторики рук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яч-полезная игрушка для развития ребёнка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особенности детей 3-4 лет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и по ОБЖ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лет «Познавательные опыты для детей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ношение родителей к воспитанию патриотических чувств дошкольников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ль семьи в воспитании у детей любви к Родине»</a:t>
                      </a:r>
                      <a:endParaRPr b="0" lang="en-US" sz="2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14480" y="11444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ы осен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годние поделки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а «Мой папа-самый лучший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на конкурс «Боярыня Масленица»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военной техники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«День космонавтик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219320" y="68436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88920" y="4006800"/>
            <a:ext cx="89154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На протяжении всего учебного года проводилась планомерная работа с родителями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ериодически обновлялась информация в родительском уголке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Проводились дни открытых дверей.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95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Родители принимали участие в совместных праздниках, проектной деятельности, обустройстве участков, оформлении групп к праздникам</a:t>
            </a:r>
            <a:r>
              <a:rPr b="1" lang="ru-RU" sz="2000" spc="-1" strike="noStrike">
                <a:solidFill>
                  <a:srgbClr val="19534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28600" y="914400"/>
            <a:ext cx="868680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над улучшением здоровья детей и снижением детской заболеваемости, через подвижные игры и упражнения на развитие двигательной активности детей и продолжая проводить весь комплекс профилактических мер, используя нетрадиционное физкультурное оборудование;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использование современных здоровьесберегающих технологий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 через шнуровку, лепку, аппликацию, пальчиковые игры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кать родителей в воспитательно-образовательный процесс – составление проектов, участие в выставках совместных работ, в мероприятиях группы и детского сад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омплекс занятий для кружка «Цветные ладошки» детей 4-5 лет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едметно-развивающую среду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атериал по разделам программы для работы с интерактивной доской для детей 4-5 лет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аталог игр по развитию речи детей младшего возраста;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организации участия детей в конкурсах различного уровня: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, всероссийских, международных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362320" y="304920"/>
            <a:ext cx="400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73160" y="1447920"/>
            <a:ext cx="876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ать над темой по самообразованию: «Воспитание творческой направленности личности  дошкольников в условиях коллективной деятельности»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профессиональную компетенцию через КПК, РМЦ и ГМО 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над краткосрочными проектами согласно программе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с родителями планируем более широкое вовлечение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й общественности в жизнь детского сада через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онкурсных мероприятиях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728360" y="790560"/>
            <a:ext cx="5723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 педагог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28600" y="2124000"/>
            <a:ext cx="63244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руппе 25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ников: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ов – 14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очек – 11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0" y="115740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 создание благоприятных условий для полноценного проживания ребёнком дошкольного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тва, формирование основ базовой культуры личности.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04920" y="1752480"/>
            <a:ext cx="86104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и эмоциональном благополучии ребён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развитие психических и физических качеств соответствии с возрастны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дивидуальными возможностям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жизнедеятельности дошкольника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 детей патриотизма, уважения к традиционным ценностям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подходов к воспитанию детей в условиях ДОУ и семь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воспитанников, развитие их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х, социальных, нравственных, интеллектуальных качеств,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посылок к учебной деятельности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 родителей в вопросах развития и образования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7200" y="533520"/>
            <a:ext cx="8229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оение общеобразовательной программы (разделы) в группе общеразвивающей направленности для детей 4 года жизни №3 на конец 2020-2021 учебног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3" name="Диаграмма 2" descr=""/>
          <p:cNvPicPr/>
          <p:nvPr/>
        </p:nvPicPr>
        <p:blipFill>
          <a:blip r:embed="rId1"/>
          <a:stretch/>
        </p:blipFill>
        <p:spPr>
          <a:xfrm>
            <a:off x="189000" y="1908000"/>
            <a:ext cx="8766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0960" y="111240"/>
            <a:ext cx="8991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вень овладения воспитанниками необходимыми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выками и умениями по основным образовательным областям ОП ДО в соответствии с требованиями ФГОС (диагностика) 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5" name="Диаграмма 2" descr=""/>
          <p:cNvPicPr/>
          <p:nvPr/>
        </p:nvPicPr>
        <p:blipFill>
          <a:blip r:embed="rId1"/>
          <a:stretch/>
        </p:blipFill>
        <p:spPr>
          <a:xfrm>
            <a:off x="2822400" y="3736800"/>
            <a:ext cx="6169320" cy="31212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3" descr=""/>
          <p:cNvPicPr/>
          <p:nvPr/>
        </p:nvPicPr>
        <p:blipFill>
          <a:blip r:embed="rId2"/>
          <a:stretch/>
        </p:blipFill>
        <p:spPr>
          <a:xfrm>
            <a:off x="158760" y="993600"/>
            <a:ext cx="5613480" cy="277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867280" y="169560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чало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109520" y="541008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ц года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Диаграмма 1" descr=""/>
          <p:cNvPicPr/>
          <p:nvPr/>
        </p:nvPicPr>
        <p:blipFill>
          <a:blip r:embed="rId1"/>
          <a:stretch/>
        </p:blipFill>
        <p:spPr>
          <a:xfrm>
            <a:off x="152280" y="1603440"/>
            <a:ext cx="8839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2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693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0"/>
            <a:ext cx="8458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оспитанников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курсах различного уровня 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066680"/>
          <a:ext cx="8763120" cy="5639040"/>
        </p:xfrm>
        <a:graphic>
          <a:graphicData uri="http://schemas.openxmlformats.org/drawingml/2006/table">
            <a:tbl>
              <a:tblPr/>
              <a:tblGrid>
                <a:gridCol w="2246400"/>
                <a:gridCol w="4270320"/>
                <a:gridCol w="2246400"/>
              </a:tblGrid>
              <a:tr h="4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овые места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</a:t>
                      </a:r>
                      <a:endParaRPr b="0" lang="en-US" sz="20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к прекрасен мир» в номинации «Мир в котором я живу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курсе «Моя Родин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5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российски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Игры, игрушки»  номинация «Моя любимая игрушк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казочный лес» в номинации «Декоративно-прикладное искусство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егионы России :ХМАО Югра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«Никогда не забудем! «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доровье бережем смолоду» в номинации«Спортивный праздник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ессмертный полк»,посвященном Дню Победы  в ВОВ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детского сад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2 мес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плом 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степени в творческом конкурсе "Новогодняя игрушк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Математическая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йка"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конкурс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1 место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е чтецов  «Мой папа самый лучший»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 «Мой папа самый лучший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371600" y="752400"/>
            <a:ext cx="65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609480" y="160020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рабочая программа по реализации основной общеобразовательной программы общеразвивающей направленности детей первой младшей группы на 2019-2020 год на основе ФГОС ДО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 кружковой работы для детей группы младшего дошкольного возраста по сенсорному развитию «Развивай-к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ий клуб «Мамина школа»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1</cp:lastModifiedBy>
  <dcterms:modified xsi:type="dcterms:W3CDTF">2021-05-20T18:27:10Z</dcterms:modified>
  <cp:revision>319</cp:revision>
  <dc:subject/>
  <dc:title>Name of presentation</dc:title>
</cp:coreProperties>
</file>