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2E9-106E-45D2-82D4-143173A5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709-1C80-42F2-99E4-C1816FC8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DE0-539C-406E-A6B9-76BE0B30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4A8-40BD-405F-9228-1EBBFA28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3D2-D471-45CB-84DC-7FAD4518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1CD-F0A6-4F62-8494-659CFE53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DFA-71C0-4ECB-B4FD-447C909D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643-A57A-4F62-BE2C-3C240872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11D-BBB9-4756-943F-26895A2C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FDD-4A87-4279-980E-450CEDCF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139-EA37-49B0-B85A-E007F5F1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E11-E63D-4016-A530-5DA85A73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F68D-14F1-4208-9EE0-651310999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27080" y="169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2781360"/>
            <a:ext cx="8715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ЖИЗНЬ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СЕРГЕЯ МИХАЙЛОВИЧА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МИХАЛ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95280" y="476280"/>
            <a:ext cx="83469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МБДОУ «Детский са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комбинированного вида №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«Светляч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146160" y="125280"/>
            <a:ext cx="8856720" cy="6553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577512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1962 по его инициативе (был одним из авторов и организаторов) начал выходить киножурнал «Фити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Фитиль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527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169920" y="13500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577512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ергей Михалков имеет множество государственных наград и премий России и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Награды"/>
          <p:cNvPicPr/>
          <p:nvPr/>
        </p:nvPicPr>
        <p:blipFill>
          <a:blip r:embed="rId1"/>
          <a:stretch/>
        </p:blipFill>
        <p:spPr>
          <a:xfrm>
            <a:off x="1763640" y="620640"/>
            <a:ext cx="573084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127080" y="13500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600" y="5557680"/>
            <a:ext cx="87091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2008 году С. Михалков за выдающийся вклад в развитие отечественной литературы, многолетнюю творческую и общественную деятельность был награжден орденом Святого апостола Андрея Первозванного. В 2013 году вышла почтовая марка России, посвященная этой награ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Марка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92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36440" y="13500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5600" y="5630760"/>
            <a:ext cx="87091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2009 году С. Михалков умер на 97 году жизни. 28 мая 2014 года в Москве на Поварской улице был открыт памятник С. В. Михалкову. В церемонии принял участие президент В. Пу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Памятник"/>
          <p:cNvPicPr/>
          <p:nvPr/>
        </p:nvPicPr>
        <p:blipFill>
          <a:blip r:embed="rId1"/>
          <a:stretch/>
        </p:blipFill>
        <p:spPr>
          <a:xfrm>
            <a:off x="684360" y="387360"/>
            <a:ext cx="783108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69920" y="125280"/>
            <a:ext cx="8856720" cy="6553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373360"/>
            <a:ext cx="72676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спасибо за внимание"/>
          <p:cNvPicPr/>
          <p:nvPr/>
        </p:nvPicPr>
        <p:blipFill>
          <a:blip r:embed="rId1"/>
          <a:stretch/>
        </p:blipFill>
        <p:spPr>
          <a:xfrm>
            <a:off x="2114640" y="620640"/>
            <a:ext cx="47527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79280" y="115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5373720"/>
            <a:ext cx="870876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ергей Михалков родился 13 марта 1913 года в Москве. Кроме Сергея в семье воспитывались еще два мальчика: Михаил, Александр. Мать поэта, Ольга Михайловна Михалкова, была сестрой милосердия, потом преподавала французский язык в школе, а затем полностью посвятила себя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Семья"/>
          <p:cNvPicPr/>
          <p:nvPr/>
        </p:nvPicPr>
        <p:blipFill>
          <a:blip r:embed="rId1"/>
          <a:stretch/>
        </p:blipFill>
        <p:spPr>
          <a:xfrm>
            <a:off x="1123920" y="404640"/>
            <a:ext cx="6912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179280" y="115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4997520"/>
            <a:ext cx="8708760" cy="16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емья Михалкова уехала в Ставропольский край, где будущий поэт окончил школу, а затем вернулся в столицу. Он работал в нескольких местах до тех пор, пока, наконец, не стал внештатным сотрудником газеты «Известия». В то время в биографии Сергея Михалкова его стихи печатались в самых известных газетах и журналах страны. Например, в «Огоньке», «Правде», «Комсомольской правде», «Известиях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Мих"/>
          <p:cNvPicPr/>
          <p:nvPr/>
        </p:nvPicPr>
        <p:blipFill>
          <a:blip r:embed="rId1"/>
          <a:stretch/>
        </p:blipFill>
        <p:spPr>
          <a:xfrm>
            <a:off x="1979640" y="330120"/>
            <a:ext cx="51847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9"/>
          <p:cNvSpPr/>
          <p:nvPr/>
        </p:nvSpPr>
        <p:spPr>
          <a:xfrm>
            <a:off x="179280" y="115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551628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Однако после печати поэмы «Дядя Степа» еще более прославился. 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1935 (год выхода поэмы) Михалков начинает учебу в Литературном инстит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Степа 3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2311560"/>
            <a:ext cx="4176720" cy="315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Степа 2"/>
          <p:cNvPicPr/>
          <p:nvPr/>
        </p:nvPicPr>
        <p:blipFill>
          <a:blip r:embed="rId2"/>
          <a:stretch/>
        </p:blipFill>
        <p:spPr>
          <a:xfrm>
            <a:off x="4716360" y="295200"/>
            <a:ext cx="403236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6"/>
          <p:cNvSpPr/>
          <p:nvPr/>
        </p:nvSpPr>
        <p:spPr>
          <a:xfrm>
            <a:off x="136440" y="160200"/>
            <a:ext cx="8856720" cy="6553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537336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о время Великой Отечественной Войны Сергей Михалков работает военным корреспондентом, а после ее окончания продолжает писать стихи дл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Стихи 9"/>
          <p:cNvPicPr/>
          <p:nvPr/>
        </p:nvPicPr>
        <p:blipFill>
          <a:blip r:embed="rId1"/>
          <a:stretch/>
        </p:blipFill>
        <p:spPr>
          <a:xfrm>
            <a:off x="3624120" y="1341360"/>
            <a:ext cx="2460600" cy="35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Стихи 5"/>
          <p:cNvPicPr/>
          <p:nvPr/>
        </p:nvPicPr>
        <p:blipFill>
          <a:blip r:embed="rId2"/>
          <a:stretch/>
        </p:blipFill>
        <p:spPr>
          <a:xfrm>
            <a:off x="6300720" y="1341360"/>
            <a:ext cx="2548080" cy="35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Стихи 7"/>
          <p:cNvPicPr/>
          <p:nvPr/>
        </p:nvPicPr>
        <p:blipFill>
          <a:blip r:embed="rId3"/>
          <a:stretch/>
        </p:blipFill>
        <p:spPr>
          <a:xfrm>
            <a:off x="322200" y="1341360"/>
            <a:ext cx="317016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9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537336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Также он создавал детские пьесы, писал сценарии к мультфиль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ульт 2"/>
          <p:cNvPicPr/>
          <p:nvPr/>
        </p:nvPicPr>
        <p:blipFill>
          <a:blip r:embed="rId1"/>
          <a:stretch/>
        </p:blipFill>
        <p:spPr>
          <a:xfrm>
            <a:off x="4743360" y="476280"/>
            <a:ext cx="3573720" cy="497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Мульт 4"/>
          <p:cNvPicPr/>
          <p:nvPr/>
        </p:nvPicPr>
        <p:blipFill>
          <a:blip r:embed="rId2"/>
          <a:stretch/>
        </p:blipFill>
        <p:spPr>
          <a:xfrm>
            <a:off x="765000" y="476280"/>
            <a:ext cx="369288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146160" y="13500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537336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ергей Михалков писал басни для детей в стихах и в прозе, такие, как: «Зеркало», «Две подруги», «Лиса и бобер», «Лев и муха», «Соловей и ворона», «Слон-живописец», «Чужая беда», «Два толстяка и заяц» и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Басни 2"/>
          <p:cNvPicPr/>
          <p:nvPr/>
        </p:nvPicPr>
        <p:blipFill>
          <a:blip r:embed="rId1"/>
          <a:stretch/>
        </p:blipFill>
        <p:spPr>
          <a:xfrm>
            <a:off x="385920" y="620640"/>
            <a:ext cx="842472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127080" y="115920"/>
            <a:ext cx="8856720" cy="65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373360"/>
            <a:ext cx="870876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Тогда же Михалков работал над сценарием фильмов, которые стали очень известными: «Три плюс два», «Большое космическое путешествие». Он также написал сценарий к более чем десятку других фильмов и 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мультфильму «Новые похождения кота в сап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космос"/>
          <p:cNvPicPr/>
          <p:nvPr/>
        </p:nvPicPr>
        <p:blipFill>
          <a:blip r:embed="rId1"/>
          <a:stretch/>
        </p:blipFill>
        <p:spPr>
          <a:xfrm>
            <a:off x="3751200" y="1557360"/>
            <a:ext cx="5085000" cy="2679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Новые_похождения_Кота_в_сапогах"/>
          <p:cNvPicPr/>
          <p:nvPr/>
        </p:nvPicPr>
        <p:blipFill>
          <a:blip r:embed="rId2"/>
          <a:stretch/>
        </p:blipFill>
        <p:spPr>
          <a:xfrm>
            <a:off x="324000" y="270000"/>
            <a:ext cx="32400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146160" y="125280"/>
            <a:ext cx="8856720" cy="6553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5557680"/>
            <a:ext cx="870876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1944 году после решения правительства сменить гимн, Михалков стал одним из авторов текста новой версии. Вторая редакция текста гимна вышла из-под пера Михалкова в 1977. Третья – в 2000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Гимн"/>
          <p:cNvPicPr/>
          <p:nvPr/>
        </p:nvPicPr>
        <p:blipFill>
          <a:blip r:embed="rId1"/>
          <a:stretch/>
        </p:blipFill>
        <p:spPr>
          <a:xfrm>
            <a:off x="1403280" y="476280"/>
            <a:ext cx="6481800" cy="48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0T13:44:19Z</dcterms:created>
  <dc:creator>Пользователь Windows</dc:creator>
  <dc:description/>
  <dc:language>en-US</dc:language>
  <cp:lastModifiedBy>Пользователь</cp:lastModifiedBy>
  <dcterms:modified xsi:type="dcterms:W3CDTF">2023-05-16T14:35:56Z</dcterms:modified>
  <cp:revision>18</cp:revision>
  <dc:subject/>
  <dc:title>Сергей Михалков родился 13 марта 1913 года в Москве. Его семья имела дворянские корни. Кроме Сергея в семье воспитывались еще два мальчика: Михаил, Александр</dc:title>
</cp:coreProperties>
</file>