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C8C5-EB71-47BB-AA49-8DA72854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50D6-A939-4F29-A7C9-2F11F1DD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FCFA-8BD4-4540-BB13-F8EECFF8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26C6-0154-4C0C-AFFE-E5ED1350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DEEC-1C61-41FD-8035-08A18634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8D5F-DE51-4943-8F73-2F806570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1BD6-583B-4F2C-95AE-ED648298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3A2B-C661-44A2-9657-F9D77089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FAF5-7B24-449E-A1D6-05199C06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A150-AB6B-4360-B6B2-BA4F6EC4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0FD8-3054-4D17-BADC-9CCFB88B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AF0C-A1CD-4AAC-B237-DF769ECA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1F22-FEDE-4137-A145-8A1161D2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7E34-E748-4B6D-878A-940A6E93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A06E-B47C-4CD0-BBD1-D94F5139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9553-DFE6-4700-8AF3-C24A52F1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D291-2501-40D7-AD0C-C122B98B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C670C-C1F7-4C61-8E39-9756C1E4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C5B7D-C43B-4CF7-B1EF-4A36A4E2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DB16B-62B0-4A33-849E-3D775C2A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2911A-1582-4F0F-A06B-F3606357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8D622-D3FE-4DFE-86B2-AB722261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B5F4-CC93-424B-B6E3-EDB715A7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DDA75-A134-4267-8AEE-5C5D85E9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CB2B8-DAAE-48CB-A9DB-8C9A5538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1C954-26A6-4056-AA22-BC6D90B6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49080-9E7F-4219-B597-B908EF8E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0FE94-47F1-43F7-A6C7-F43675ED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A86E5-3CD0-4B70-8A1E-ADBB0727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97030-D86E-4387-9001-EA494666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00A9-E6A0-467C-82C4-6DB6594C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F265-3D48-4A11-B9B2-DCECF2B2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A1E5-D5A7-4D17-AD3C-A68CD318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D960-A118-41F5-8EAB-24E67FFB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A9C6-7139-488C-9AAE-285E021E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00A3-4330-4A72-8141-24CB2F1C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1743-3A07-45BC-AF15-0F54F18A5C92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92A8-25EB-445A-8530-8E38B1715378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1BC6-EC8E-45BC-AD26-5B61F1992656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2349000"/>
            <a:ext cx="8064360" cy="21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Е НЕОБЫЧНЫЕ ЖИВОТНЫЕ ПЛАНЕТЫ</a:t>
            </a:r>
            <a:endParaRPr b="0" lang="en-US" sz="66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28480" y="620640"/>
            <a:ext cx="8229600" cy="61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СА.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7" name="Picture 7" descr="https://kartinkin.net/pics/uploads/posts/2022-07/1658250711_5-kartinkin-net-p-fossa-art-oboi-5.jpg"/>
          <p:cNvPicPr/>
          <p:nvPr/>
        </p:nvPicPr>
        <p:blipFill>
          <a:blip r:embed="rId1"/>
          <a:stretch/>
        </p:blipFill>
        <p:spPr>
          <a:xfrm>
            <a:off x="1403280" y="1484280"/>
            <a:ext cx="59770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ОР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9" name="Picture 6" descr="https://ferret-pet.ru/wp-content/uploads/b/3/a/b3a2681310dc1e108c9edd73a01a3a48.jpeg"/>
          <p:cNvPicPr/>
          <p:nvPr/>
        </p:nvPicPr>
        <p:blipFill>
          <a:blip r:embed="rId1"/>
          <a:stretch/>
        </p:blipFill>
        <p:spPr>
          <a:xfrm>
            <a:off x="1042920" y="1413000"/>
            <a:ext cx="69850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76000" y="907560"/>
            <a:ext cx="579132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А С КРАСНЫМИ ГУБАМИ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31" name="Picture 5" descr="https://avatars.dzeninfra.ru/get-zen_doc/2804475/pub_5eb33f7471749a0a4d1cdcec_5eb3400d4a86b34acfd5ea82/scale_1200"/>
          <p:cNvPicPr/>
          <p:nvPr/>
        </p:nvPicPr>
        <p:blipFill>
          <a:blip r:embed="rId1"/>
          <a:stretch/>
        </p:blipFill>
        <p:spPr>
          <a:xfrm>
            <a:off x="1619280" y="1989000"/>
            <a:ext cx="561672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76000" y="980640"/>
            <a:ext cx="5791320" cy="50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Б ЙЕТИ</a:t>
            </a:r>
            <a:endParaRPr b="0" lang="en-US" sz="25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04180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02920" y="436680"/>
            <a:ext cx="5791320" cy="104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СОЛОТЛЬ</a:t>
            </a:r>
            <a:br>
              <a:rPr sz="2800"/>
            </a:b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35" name="Picture 5" descr="https://zveryatnik.ru/wp-content/uploads/2019/10/vid-aksolotlya.jpg"/>
          <p:cNvPicPr/>
          <p:nvPr/>
        </p:nvPicPr>
        <p:blipFill>
          <a:blip r:embed="rId1"/>
          <a:stretch/>
        </p:blipFill>
        <p:spPr>
          <a:xfrm>
            <a:off x="1979640" y="1487520"/>
            <a:ext cx="482436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32000" y="1125000"/>
            <a:ext cx="579096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ОРСКИЙ КРОЛИК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37" name="Picture 5" descr="https://zooblog.ru/wp-content/uploads/2021/05/picture-177.jpeg"/>
          <p:cNvPicPr/>
          <p:nvPr/>
        </p:nvPicPr>
        <p:blipFill>
          <a:blip r:embed="rId1"/>
          <a:stretch/>
        </p:blipFill>
        <p:spPr>
          <a:xfrm>
            <a:off x="1476360" y="1849320"/>
            <a:ext cx="540072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2280" y="836280"/>
            <a:ext cx="8229600" cy="5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ОДАТАЯ СВИНЬЯ.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39" name="Picture 5" descr="https://celes.club/uploads/posts/2021-11/1638279551_7-celes-club-p-borodataya-svinya-zhivotnie-krasivo-foto-7.jpg"/>
          <p:cNvPicPr/>
          <p:nvPr/>
        </p:nvPicPr>
        <p:blipFill>
          <a:blip r:embed="rId1"/>
          <a:stretch/>
        </p:blipFill>
        <p:spPr>
          <a:xfrm>
            <a:off x="2050920" y="1455840"/>
            <a:ext cx="511344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61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ЛЕЗУБ.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1" name="Picture 5" descr="https://cherepah.ru/wp-content/uploads/5/e/3/5e39c01f9852acd82feb972b97ddebe2.jpeg"/>
          <p:cNvPicPr/>
          <p:nvPr/>
        </p:nvPicPr>
        <p:blipFill>
          <a:blip r:embed="rId1"/>
          <a:stretch/>
        </p:blipFill>
        <p:spPr>
          <a:xfrm>
            <a:off x="1763640" y="1689120"/>
            <a:ext cx="57438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92360" y="787320"/>
            <a:ext cx="5790960" cy="76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АГО.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3" name="Picture 7" descr="https://oir.mobi/uploads/posts/2021-05/1621687175_2-oir_mobi-p-ushastii-lemur-zhivotnie-krasivo-foto-2.jpg"/>
          <p:cNvPicPr/>
          <p:nvPr/>
        </p:nvPicPr>
        <p:blipFill>
          <a:blip r:embed="rId1"/>
          <a:stretch/>
        </p:blipFill>
        <p:spPr>
          <a:xfrm>
            <a:off x="1692360" y="1773360"/>
            <a:ext cx="583236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9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СМАНСКИЙ ДЬЯВОЛ.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5" name="Picture 7" descr="https://202x.metkere.com/2021/02/Tasmanian_Devil.jpg"/>
          <p:cNvPicPr/>
          <p:nvPr/>
        </p:nvPicPr>
        <p:blipFill>
          <a:blip r:embed="rId1"/>
          <a:stretch/>
        </p:blipFill>
        <p:spPr>
          <a:xfrm>
            <a:off x="1258920" y="1628640"/>
            <a:ext cx="612144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7T10:49:09Z</dcterms:created>
  <dc:creator>User</dc:creator>
  <dc:description/>
  <dc:language>en-US</dc:language>
  <cp:lastModifiedBy>user</cp:lastModifiedBy>
  <dcterms:modified xsi:type="dcterms:W3CDTF">2023-05-15T19:55:43Z</dcterms:modified>
  <cp:revision>23</cp:revision>
  <dc:subject/>
  <dc:title>Самые необычные животные планеты</dc:title>
</cp:coreProperties>
</file>