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5AA-7485-47A3-B8BD-BCAF0293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61E-0472-4638-A7D9-AD4861FE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AA6-086A-4D5F-8591-DE2CEE47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EEB-4717-4C49-A504-2AD0B2B2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B8FC-93AB-49D2-B1BA-3278E5C0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A895-F4ED-4E3D-B217-CCCCDC89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1705-C0BE-4E70-978A-87611823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3F5E-F206-4DBA-BC19-AF63FA5E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B654-4FF0-4BFC-B6B3-8A927AF7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78BD-19E8-41A3-B756-9E2A0BA9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88E3-01B8-4026-8419-9EDCA441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2AB-30AF-40A3-A8C3-3884CF4C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756F-CB92-4F5C-AFFE-BC28C22C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295A-A09D-41D4-BDAD-4C7B94FA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95A7-97FF-43F7-B3DF-9649939B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271A-3E27-420B-9F51-F5D47BFA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0072-8FF8-4FA1-B72E-3BEB393C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9DD6-A91A-42CE-A653-6F2BC4CE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37AD7-D550-4202-ABE9-936573B5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0749A-E784-4873-9B63-4DEB2AC5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D0FAF-0EFE-43AE-B9F2-FAEA45E4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63934-531E-4876-A18B-1426951B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383-EDFA-4E00-8BA1-326A87BA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D4FB8-7F35-4795-BB47-8F512B3C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BC777-AC0C-4EEC-9EC2-8313E405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B4017-9D6C-4E42-92BA-520D4DC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54049-C906-45AF-9765-B0D664E5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34B6-B8DB-4626-9615-581D1D8C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A80F-F06F-4B5B-8F7A-9B3CB038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BA6CD-911D-4F61-A2ED-402827A4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35E-4C6A-4705-8661-CC7A28D7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17E-EE8A-4BC0-9DE2-491C8DE0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3FC-5098-4779-BB04-DEA655AF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1CB-E416-4A5E-A5B2-8FB4115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008-AE01-4E33-839A-41D8057E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C7F-C31D-4BEB-87DE-54AA4C18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B003-035E-4B85-8D6C-458597CAC615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B8EC-5C20-4F76-84A3-258E3449EA0C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360E-6115-4B73-BE53-6120CF7A3BA3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349000"/>
            <a:ext cx="806436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Е НЕОБЫЧНЫЕ ЖИВОТНЫЕ ПЛАНЕТЫ</a:t>
            </a:r>
            <a:endParaRPr b="0" lang="en-US" sz="6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28480" y="62064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СА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7" name="Picture 7" descr="https://kartinkin.net/pics/uploads/posts/2022-07/1658250711_5-kartinkin-net-p-fossa-art-oboi-5.jpg"/>
          <p:cNvPicPr/>
          <p:nvPr/>
        </p:nvPicPr>
        <p:blipFill>
          <a:blip r:embed="rId1"/>
          <a:stretch/>
        </p:blipFill>
        <p:spPr>
          <a:xfrm>
            <a:off x="1403280" y="1484280"/>
            <a:ext cx="59770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ОР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9" name="Picture 6" descr="https://ferret-pet.ru/wp-content/uploads/b/3/a/b3a2681310dc1e108c9edd73a01a3a48.jpeg"/>
          <p:cNvPicPr/>
          <p:nvPr/>
        </p:nvPicPr>
        <p:blipFill>
          <a:blip r:embed="rId1"/>
          <a:stretch/>
        </p:blipFill>
        <p:spPr>
          <a:xfrm>
            <a:off x="1042920" y="1413000"/>
            <a:ext cx="6985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579132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А С КРАСНЫМИ ГУБАМИ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1" name="Picture 5" descr="https://avatars.dzeninfra.ru/get-zen_doc/2804475/pub_5eb33f7471749a0a4d1cdcec_5eb3400d4a86b34acfd5ea82/scale_1200"/>
          <p:cNvPicPr/>
          <p:nvPr/>
        </p:nvPicPr>
        <p:blipFill>
          <a:blip r:embed="rId1"/>
          <a:stretch/>
        </p:blipFill>
        <p:spPr>
          <a:xfrm>
            <a:off x="1619280" y="1989000"/>
            <a:ext cx="56167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980640"/>
            <a:ext cx="5791320" cy="50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Б ЙЕТИ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0418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2920" y="436680"/>
            <a:ext cx="5791320" cy="104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ОЛОТЛЬ</a:t>
            </a:r>
            <a:br>
              <a:rPr sz="2800"/>
            </a:b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5" name="Picture 5" descr="https://zveryatnik.ru/wp-content/uploads/2019/10/vid-aksolotlya.jpg"/>
          <p:cNvPicPr/>
          <p:nvPr/>
        </p:nvPicPr>
        <p:blipFill>
          <a:blip r:embed="rId1"/>
          <a:stretch/>
        </p:blipFill>
        <p:spPr>
          <a:xfrm>
            <a:off x="1979640" y="1487520"/>
            <a:ext cx="48243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579096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РСКИЙ КРОЛИК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7" name="Picture 5" descr="https://zooblog.ru/wp-content/uploads/2021/05/picture-177.jpeg"/>
          <p:cNvPicPr/>
          <p:nvPr/>
        </p:nvPicPr>
        <p:blipFill>
          <a:blip r:embed="rId1"/>
          <a:stretch/>
        </p:blipFill>
        <p:spPr>
          <a:xfrm>
            <a:off x="1476360" y="1849320"/>
            <a:ext cx="540072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2280" y="83628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АТАЯ СВИНЬЯ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9" name="Picture 5" descr="https://celes.club/uploads/posts/2021-11/1638279551_7-celes-club-p-borodataya-svinya-zhivotnie-krasivo-foto-7.jpg"/>
          <p:cNvPicPr/>
          <p:nvPr/>
        </p:nvPicPr>
        <p:blipFill>
          <a:blip r:embed="rId1"/>
          <a:stretch/>
        </p:blipFill>
        <p:spPr>
          <a:xfrm>
            <a:off x="2050920" y="1455840"/>
            <a:ext cx="51134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ЛЕЗУБ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1" name="Picture 5" descr="https://cherepah.ru/wp-content/uploads/5/e/3/5e39c01f9852acd82feb972b97ddebe2.jpeg"/>
          <p:cNvPicPr/>
          <p:nvPr/>
        </p:nvPicPr>
        <p:blipFill>
          <a:blip r:embed="rId1"/>
          <a:stretch/>
        </p:blipFill>
        <p:spPr>
          <a:xfrm>
            <a:off x="1763640" y="1689120"/>
            <a:ext cx="57438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92360" y="787320"/>
            <a:ext cx="579096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ГО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3" name="Picture 7" descr="https://oir.mobi/uploads/posts/2021-05/1621687175_2-oir_mobi-p-ushastii-lemur-zhivotnie-krasivo-foto-2.jpg"/>
          <p:cNvPicPr/>
          <p:nvPr/>
        </p:nvPicPr>
        <p:blipFill>
          <a:blip r:embed="rId1"/>
          <a:stretch/>
        </p:blipFill>
        <p:spPr>
          <a:xfrm>
            <a:off x="1692360" y="1773360"/>
            <a:ext cx="58323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9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СМАНСКИЙ ДЬЯВОЛ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5" name="Picture 7" descr="https://202x.metkere.com/2021/02/Tasmanian_Devil.jpg"/>
          <p:cNvPicPr/>
          <p:nvPr/>
        </p:nvPicPr>
        <p:blipFill>
          <a:blip r:embed="rId1"/>
          <a:stretch/>
        </p:blipFill>
        <p:spPr>
          <a:xfrm>
            <a:off x="1258920" y="1628640"/>
            <a:ext cx="612144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0:49:09Z</dcterms:created>
  <dc:creator>User</dc:creator>
  <dc:description/>
  <dc:language>en-US</dc:language>
  <cp:lastModifiedBy>user</cp:lastModifiedBy>
  <dcterms:modified xsi:type="dcterms:W3CDTF">2023-05-15T19:55:43Z</dcterms:modified>
  <cp:revision>23</cp:revision>
  <dc:subject/>
  <dc:title>Самые необычные животные планеты</dc:title>
</cp:coreProperties>
</file>