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BCDF-03E7-4ABD-AAB7-7CB5358CA0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одится со всем кла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бираем небольшой тек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читает, учащиеся внимательно слушают и осмысл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предлагает детям читать тот же рассказ самостоятельно в течение 1 минуты. Отметить до какого слова дочитал каждый ребё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ащиеся повторно читают тот же текст. Отмечают последнее прочитанное сл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авнивают результаты первого и повторного прочтения. Конечно, во второй раз слов будет больше в связи с увеличением тем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абатывает психологический момент: успех радует ребёнка и вызывает желание читать ещё. Однако не следует работать с одним и тем же текстом более 3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меним задание: читаем в темпе скороговорки. На том же тексте проведём тренировку артикуляционного аппарата. Он тоже немало влияет на скорость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ом упражнении не стоит читать выразительно. Выразительность  и скорость – задачи взаимоисключающ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лавное требование: чётко произносить окончания слов. Длительность упражнения не более 30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еходим к выразительному чт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предлагает ученику читать тот же текст, но чуть помедленнее и вырази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гда ребёнок прочитает знакомый отрывок до конца, учитель его не останавл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еник читает далее незнакомую часть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т нас ожидает маленькое чудо: несколько раз прочитав в повышенном темпе знакомую часть текста, ученик и незнакомую часть читает также в повышенном темпе. Правда, хватает его ненадолго. Но если упражняться ежедневно, то продолжительность чтения текста в повышенном темпе будет увеличи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стимулировать чтение. Обычно стимулирование понимается как награда чем-то. Но психологи предлагают самозамер скорости чт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одится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еник читает отрывок текста 1 мину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считывает и записывает в дневник количество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может поинтересоваться количеством слов неделю назад и сравнить с настоящим. Результат при систематической работе всегда положительный. Это вызывает положительное отношение к тренировкам. Именно это главная задача в упражнении. Взрослому надо так формулировать оценку, чтобы были именно положительные эмо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чего невозможного нет. Требуется только систематический труд. Конечно, темп и результаты у разных ребят будут разными. Но так и должно бы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желаем успехов Вам и Вашим ученика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ение – ключевой навык, открывающий ребёнку ворота в страну знаний. Благодаря этому навыку дети узнают о явлениях и событиях окружающего мира, знакомятся с характерами и поступками людей, встречаются с новыми проблемами и иде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умение помогает им расширять кругозор и представления о мире, развивает критическое мышление и тренирует когнитивные способности – внимание, воображение, память. Чтение - это фундамент дальнейшего успешн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ача начальной школы – освоить оптимальное чтение. Это чтение в темпе разговорной речи. Оптимальный темп разговорной речи человека 120-150 слов в минуту. Исследования показывают: понимание текста школьниками достигается именно в этом тем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огие ученики в школе в оптимальное чтение не укладываются. Чтение из удовольствия превращается в м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сихологи соотнесли успеваемость учеников 8 класса и их технику чтения в 4 классе.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ники читали в среднем 150 с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рошисты –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роечники – 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ое слабое звено в школе – начальные классы. Здесь теряются до 70% учеников, в том смысле, что они не могут в средней школе учиться на 4 и 5. В пятом классе объём информации резко возрастает, а низкая техника чтения не позволяет школьнику её  освоить. Поэтому именно в начальных классах необходимо работать над чт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лько к шестому классу базовые навыки (счёт, чтение, письмо, привычка учиться) автоматизируются, выходят на «плато» и больше не теря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ое возможно только, когда навык прошёл «точку невозврата». До этого момента продолжительная остановка приводит к «откату». Поэтому чтение обязательно должно быть систематическ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мять человеческая такова, что запоминается не постоянно находящееся перед глазами, а мелькающее: то есть, то нет. Мелькание создаёт раздражение и запоминается. Чтобы довести необходимые умения (умение читать, в том числе) до автоматизма (уровень навыка), проводите тренировку ежедневно (обязательное условие) через определённые промежутки. Причём упражнения должны быть небольшими по объё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истеме Федоренко имеются 3 типа полезных упраж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многократное чт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чтение в темпе скороговор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выразительное чтение с переходом на незнакомую часть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29B-E4E0-4FF4-87FE-55384B7C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BD1-D0AB-471A-8CFF-8E53F60F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ABD-1467-4795-8324-6CF536B7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1F3-D7AA-4641-9DCD-B6F65B51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89E3-9CEC-44E6-9F64-44939254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91DB-0C72-4178-9137-A5DECB02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7BDE-A627-4198-B3B1-B09F14B4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B00F-79CC-42F9-9F64-175AEFCA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9E4E-ED0F-4D0B-AAB7-50247259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E827-2F1C-45AA-A952-DC9F3AD3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AA34-D94D-4DE9-B9EA-8C0858F2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339-1FAF-4BAB-BB8C-5B91BBFC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2F51-0857-423C-9B13-1DAC237C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04B9-D4EA-41C0-B6AE-822BB90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BC05-765E-4A5A-9189-B6347F1D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D06C-E4D0-44FA-89E8-AD9CC3AB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ADF2-28A9-4C5E-B455-6692A7DE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715-BD1C-460E-AC5D-D972E8CA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12B-CD55-4B23-B39F-6646C6DD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6A8-1AFF-4607-A938-A1D68DA1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9EC-4922-4BD7-844D-1428A7B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E53-62CC-439A-97EC-AFE96DFB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E8C-9B88-4544-9933-1E4332D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9C9-FC3F-4871-9E45-BDA0930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05E8-ECD3-40B4-BF67-E7386200F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872-0D4A-41A8-81C5-32A157457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Читае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 удовольствие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трова Людмила Евген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33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КОУ Белоусовская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пражнение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бираем небольшой тек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 читает, учащиеся внимательно слушают и осмыслив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 предлагает детям читать тот же рассказ самостоятельно в течение 1 минуты. Отметить до какого слова дочитал каждый ребё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ащиеся повторно читают тот же текст. Отмечают последнее прочитанное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авнивают результаты первого и повторного прочтения. Конечно, во второй раз слов будет больше в связи с увеличением тем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пражнение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том же тексте проведём тренировку артикуляционного аппарата. В этом упражнении не стоит читать выразительно. Главное требование: чётко произносить окончания слов. Длительность упражнения не более 30 секун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пражнение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предлагает ученику читать тот же текст, но чуть помедленнее и выраз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гда ребёнок прочитает знакомый отрывок до конца, учитель его не останавлив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к читает далее незнакомую часть тек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67080" y="244440"/>
            <a:ext cx="40482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314280"/>
            <a:ext cx="83534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65120"/>
            <a:ext cx="8424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369720"/>
            <a:ext cx="8388360" cy="55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спехов Вам и Вашим ученикам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77840"/>
            <a:ext cx="81374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227160"/>
            <a:ext cx="85690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тимальное чтение – это чтение со скоростью разговорной речи, т.е. в темпе от 120 до 150 слов в мину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596880"/>
            <a:ext cx="8640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1012680"/>
            <a:ext cx="849600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701640"/>
            <a:ext cx="8280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293760"/>
            <a:ext cx="8496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стема Федоренк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чт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ение в темпе скорогово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зительное чтение с переходом на незнакомую часть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16:09:57Z</dcterms:created>
  <dc:creator>1</dc:creator>
  <dc:description/>
  <dc:language>en-US</dc:language>
  <cp:lastModifiedBy>1</cp:lastModifiedBy>
  <dcterms:modified xsi:type="dcterms:W3CDTF">2007-12-31T17:12:16Z</dcterms:modified>
  <cp:revision>5</cp:revision>
  <dc:subject/>
  <dc:title>Читаем  с удовольствием</dc:title>
</cp:coreProperties>
</file>