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DB15-08B1-49BE-B53C-A2B81ABF99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одится со всем кла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бираем небольшой тек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читает, учащиеся внимательно слушают и осмысл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предлагает детям читать тот же рассказ самостоятельно в течение 1 минуты. Отметить до какого слова дочитал каждый ребё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ащиеся повторно читают тот же текст. Отмечают последнее прочитанное сл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авнивают результаты первого и повторного прочтения. Конечно, во второй раз слов будет больше в связи с увеличением тем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абатывает психологический момент: успех радует ребёнка и вызывает желание читать ещё. Однако не следует работать с одним и тем же текстом более 3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меним задание: читаем в темпе скороговорки. На том же тексте проведём тренировку артикуляционного аппарата. Он тоже немало влияет на скорость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ом упражнении не стоит читать выразительно. Выразительность  и скорость – задачи взаимоисключающ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лавное требование: чётко произносить окончания слов. Длительность упражнения не более 30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еходим к выразительному чт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предлагает ученику читать тот же текст, но чуть помедленнее и вырази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гда ребёнок прочитает знакомый отрывок до конца, учитель его не останавл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еник читает далее незнакомую часть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т нас ожидает маленькое чудо: несколько раз прочитав в повышенном темпе знакомую часть текста, ученик и незнакомую часть читает также в повышенном темпе. Правда, хватает его ненадолго. Но если упражняться ежедневно, то продолжительность чтения текста в повышенном темпе будет увеличи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стимулировать чтение. Обычно стимулирование понимается как награда чем-то. Но психологи предлагают самозамер скорости чт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одится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еник читает отрывок текста 1 мину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считывает и записывает в дневник количество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может поинтересоваться количеством слов неделю назад и сравнить с настоящим. Результат при систематической работе всегда положительный. Это вызывает положительное отношение к тренировкам. Именно это главная задача в упражнении. Взрослому надо так формулировать оценку, чтобы были именно положительные эмо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чего невозможного нет. Требуется только систематический труд. Конечно, темп и результаты у разных ребят будут разными. Но так и должно бы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желаем успехов Вам и Вашим ученика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ение – ключевой навык, открывающий ребёнку ворота в страну знаний. Благодаря этому навыку дети узнают о явлениях и событиях окружающего мира, знакомятся с характерами и поступками людей, встречаются с новыми проблемами и иде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умение помогает им расширять кругозор и представления о мире, развивает критическое мышление и тренирует когнитивные способности – внимание, воображение, память. Чтение - это фундамент дальнейшего успешн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ача начальной школы – освоить оптимальное чтение. Это чтение в темпе разговорной речи. Оптимальный темп разговорной речи человека 120-150 слов в минуту. Исследования показывают: понимание текста школьниками достигается именно в этом тем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огие ученики в школе в оптимальное чтение не укладываются. Чтение из удовольствия превращается в м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сихологи соотнесли успеваемость учеников 8 класса и их технику чтения в 4 классе.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ники читали в среднем 150 с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рошисты –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роечники – 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ое слабое звено в школе – начальные классы. Здесь теряются до 70% учеников, в том смысле, что они не могут в средней школе учиться на 4 и 5. В пятом классе объём информации резко возрастает, а низкая техника чтения не позволяет школьнику её  освоить. Поэтому именно в начальных классах необходимо работать над чт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лько к шестому классу базовые навыки (счёт, чтение, письмо, привычка учиться) автоматизируются, выходят на «плато» и больше не теря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ое возможно только, когда навык прошёл «точку невозврата». До этого момента продолжительная остановка приводит к «откату». Поэтому чтение обязательно должно быть систематическ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мять человеческая такова, что запоминается не постоянно находящееся перед глазами, а мелькающее: то есть, то нет. Мелькание создаёт раздражение и запоминается. Чтобы довести необходимые умения (умение читать, в том числе) до автоматизма (уровень навыка), проводите тренировку ежедневно (обязательное условие) через определённые промежутки. Причём упражнения должны быть небольшими по объё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истеме Федоренко имеются 3 типа полезных упраж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многократное чт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чтение в темпе скороговор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выразительное чтение с переходом на незнакомую часть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02F-6829-4DF3-8B6A-71C96563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527-7162-4B96-B220-520FA03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AFE-7892-4AD1-AD17-3849909C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B6F-888F-4927-9FD0-202DA841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D46D-FAB6-4469-9554-ED4754D2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969E-5D8A-42F0-9481-C0DE70DD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F536-3E84-40BC-9A13-F37E31D5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8A41-7EB5-453C-A2C9-F88BB6FF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7DE-6C64-4398-B45A-3AA489FB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BE7D-D888-4E68-8A9E-6094FCAE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9D5-3B60-41D4-8954-F1E4D427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C61-C306-434E-A91A-E8225EBF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B496-51D4-4AF9-87F4-385FE99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A06E-62A1-4377-B6AB-47F0AF32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3360-587F-434F-8C77-E2C195B5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5859-5C89-4944-80DA-CEB639D6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D11C-8B6B-42E3-A33A-481CA284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8D7-C7C0-446D-819B-C7C75069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E8D-A1FF-4FF3-B66A-D6290B65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9B9-C3CF-4F39-9C47-830DA3E9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707-2527-4B74-89BD-F6150D30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86E-ACBD-4D5E-A65B-82212225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DA3-10F8-4760-A5C0-865EB5DB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097-FB6D-4047-AA75-D935FCF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C9E-90C1-4748-8609-3998DF286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D294-0168-440B-9560-420DFB16B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Читае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 удовольствие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трова Людмила Евген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33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КОУ Белоусовская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пражнение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бираем небольшой тек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 читает, учащиеся внимательно слушают и осмыслив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 предлагает детям читать тот же рассказ самостоятельно в течение 1 минуты. Отметить до какого слова дочитал каждый ребё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ащиеся повторно читают тот же текст. Отмечают последнее прочитанное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авнивают результаты первого и повторного прочтения. Конечно, во второй раз слов будет больше в связи с увеличением тем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пражнение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том же тексте проведём тренировку артикуляционного аппарата. В этом упражнении не стоит читать выразительно. Главное требование: чётко произносить окончания слов. Длительность упражнения не более 30 секун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пражнение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предлагает ученику читать тот же текст, но чуть помедленнее и выраз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гда ребёнок прочитает знакомый отрывок до конца, учитель его не останавлив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к читает далее незнакомую часть тек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67080" y="244440"/>
            <a:ext cx="40482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314280"/>
            <a:ext cx="83534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65120"/>
            <a:ext cx="8424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369720"/>
            <a:ext cx="8388360" cy="55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спехов Вам и Вашим ученикам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77840"/>
            <a:ext cx="81374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227160"/>
            <a:ext cx="85690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тимальное чтение – это чтение со скоростью разговорной речи, т.е. в темпе от 120 до 150 слов в мину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596880"/>
            <a:ext cx="8640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1012680"/>
            <a:ext cx="849600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701640"/>
            <a:ext cx="8280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293760"/>
            <a:ext cx="8496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стема Федоренк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ение в темпе скорогово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зительное чтение с переходом на незнакомую часть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16:09:57Z</dcterms:created>
  <dc:creator>1</dc:creator>
  <dc:description/>
  <dc:language>en-US</dc:language>
  <cp:lastModifiedBy>1</cp:lastModifiedBy>
  <dcterms:modified xsi:type="dcterms:W3CDTF">2007-12-31T17:12:16Z</dcterms:modified>
  <cp:revision>5</cp:revision>
  <dc:subject/>
  <dc:title>Читаем  с удовольствием</dc:title>
</cp:coreProperties>
</file>